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0FF-B26E-44C3-9682-D7EED927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710-DACF-4CD1-970D-0B473FFC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574-56B3-42CC-AA34-36100637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156-80E2-4E6D-BD04-54494101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A07-5AF4-46D5-ADA4-1482F85E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CF5-B5E4-4885-9FA0-D401529A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2DC-BA27-4035-854C-D2B78221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E73-5F4A-4C08-BBCC-B61CB821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3DD-2CBB-404D-9FF2-6457A608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7F3-5990-4C9E-837E-2A7BE0A0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631-08EF-47A6-875E-80367AEE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3F0-4943-4312-AEC0-8FA727C5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4655-7E16-4D3D-82FF-695CDA98A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Скачать maths картинки и фото на телефон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1219212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801800" y="615960"/>
            <a:ext cx="7213680" cy="906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1887480" y="1944720"/>
            <a:ext cx="7170840" cy="88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1825560" y="3186000"/>
            <a:ext cx="725796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1887480" y="4473720"/>
            <a:ext cx="7405920" cy="941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9"/>
          <p:cNvSpPr/>
          <p:nvPr/>
        </p:nvSpPr>
        <p:spPr>
          <a:xfrm>
            <a:off x="9258480" y="571680"/>
            <a:ext cx="215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872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9201240" y="1971720"/>
            <a:ext cx="22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697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9201240" y="3171960"/>
            <a:ext cx="217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358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9286920" y="4514760"/>
            <a:ext cx="196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925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7880" y="2158920"/>
          <a:ext cx="4737240" cy="1683000"/>
        </p:xfrm>
        <a:graphic>
          <a:graphicData uri="http://schemas.openxmlformats.org/drawingml/2006/table">
            <a:tbl>
              <a:tblPr/>
              <a:tblGrid>
                <a:gridCol w="1454040"/>
                <a:gridCol w="1197000"/>
                <a:gridCol w="1042920"/>
                <a:gridCol w="104328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"/>
          <p:cNvSpPr/>
          <p:nvPr/>
        </p:nvSpPr>
        <p:spPr>
          <a:xfrm>
            <a:off x="-79200" y="-441360"/>
            <a:ext cx="5047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343560" y="2228760"/>
          <a:ext cx="4471920" cy="1683000"/>
        </p:xfrm>
        <a:graphic>
          <a:graphicData uri="http://schemas.openxmlformats.org/drawingml/2006/table">
            <a:tbl>
              <a:tblPr/>
              <a:tblGrid>
                <a:gridCol w="1227240"/>
                <a:gridCol w="1046160"/>
                <a:gridCol w="1158840"/>
                <a:gridCol w="103968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"/>
          <p:cNvSpPr/>
          <p:nvPr/>
        </p:nvSpPr>
        <p:spPr>
          <a:xfrm>
            <a:off x="-79200" y="-463680"/>
            <a:ext cx="5047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357200" y="1085760"/>
            <a:ext cx="3272040" cy="8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Student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743880" y="1077840"/>
            <a:ext cx="36288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Student 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743040" y="4386240"/>
            <a:ext cx="1057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many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units/tens/hundreds/thousand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re ther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are …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units/tens/hundreds/thousand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938320" y="339840"/>
          <a:ext cx="6791400" cy="4360680"/>
        </p:xfrm>
        <a:graphic>
          <a:graphicData uri="http://schemas.openxmlformats.org/drawingml/2006/table">
            <a:tbl>
              <a:tblPr/>
              <a:tblGrid>
                <a:gridCol w="1460520"/>
                <a:gridCol w="1992600"/>
                <a:gridCol w="1846080"/>
                <a:gridCol w="1492200"/>
              </a:tblGrid>
              <a:tr h="21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21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662200" y="1163520"/>
          <a:ext cx="7410600" cy="4451400"/>
        </p:xfrm>
        <a:graphic>
          <a:graphicData uri="http://schemas.openxmlformats.org/drawingml/2006/table">
            <a:tbl>
              <a:tblPr/>
              <a:tblGrid>
                <a:gridCol w="1593720"/>
                <a:gridCol w="2173320"/>
                <a:gridCol w="2014560"/>
                <a:gridCol w="162900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sp>
        <p:nvSpPr>
          <p:cNvPr id="46" name="Плюс 3"/>
          <p:cNvSpPr/>
          <p:nvPr/>
        </p:nvSpPr>
        <p:spPr>
          <a:xfrm>
            <a:off x="1300320" y="442800"/>
            <a:ext cx="2000160" cy="1657440"/>
          </a:xfrm>
          <a:custGeom>
            <a:avLst/>
            <a:gdLst>
              <a:gd name="textAreaLeft" fmla="*/ 264960 w 2000160"/>
              <a:gd name="textAreaRight" fmla="*/ 1735200 w 2000160"/>
              <a:gd name="textAreaTop" fmla="*/ 633600 h 1657440"/>
              <a:gd name="textAreaBottom" fmla="*/ 1023840 h 1657440"/>
            </a:gdLst>
            <a:ahLst/>
            <a:rect l="textAreaLeft" t="textAreaTop" r="textAreaRight" b="textAreaBottom"/>
            <a:pathLst>
              <a:path w="2000250" h="1657351">
                <a:moveTo>
                  <a:pt x="265133" y="633771"/>
                </a:moveTo>
                <a:lnTo>
                  <a:pt x="805221" y="633771"/>
                </a:lnTo>
                <a:lnTo>
                  <a:pt x="805221" y="219682"/>
                </a:lnTo>
                <a:lnTo>
                  <a:pt x="1195029" y="219682"/>
                </a:lnTo>
                <a:lnTo>
                  <a:pt x="1195029" y="633771"/>
                </a:lnTo>
                <a:lnTo>
                  <a:pt x="1735117" y="633771"/>
                </a:lnTo>
                <a:lnTo>
                  <a:pt x="1735117" y="1023580"/>
                </a:lnTo>
                <a:lnTo>
                  <a:pt x="1195029" y="1023580"/>
                </a:lnTo>
                <a:lnTo>
                  <a:pt x="1195029" y="1437669"/>
                </a:lnTo>
                <a:lnTo>
                  <a:pt x="805221" y="1437669"/>
                </a:lnTo>
                <a:lnTo>
                  <a:pt x="805221" y="1023580"/>
                </a:lnTo>
                <a:lnTo>
                  <a:pt x="265133" y="1023580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Минус 4"/>
          <p:cNvSpPr/>
          <p:nvPr/>
        </p:nvSpPr>
        <p:spPr>
          <a:xfrm>
            <a:off x="1557360" y="2386080"/>
            <a:ext cx="1614600" cy="1643040"/>
          </a:xfrm>
          <a:custGeom>
            <a:avLst/>
            <a:gdLst>
              <a:gd name="textAreaLeft" fmla="*/ 213840 w 1614600"/>
              <a:gd name="textAreaRight" fmla="*/ 1400760 w 1614600"/>
              <a:gd name="textAreaTop" fmla="*/ 628200 h 1643040"/>
              <a:gd name="textAreaBottom" fmla="*/ 1014840 h 1643040"/>
            </a:gdLst>
            <a:ahLst/>
            <a:rect l="textAreaLeft" t="textAreaTop" r="textAreaRight" b="textAreaBottom"/>
            <a:pathLst>
              <a:path w="1614487" h="1643062">
                <a:moveTo>
                  <a:pt x="214000" y="628307"/>
                </a:moveTo>
                <a:lnTo>
                  <a:pt x="1400487" y="628307"/>
                </a:lnTo>
                <a:lnTo>
                  <a:pt x="1400487" y="1014755"/>
                </a:lnTo>
                <a:lnTo>
                  <a:pt x="214000" y="1014755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Равно 5"/>
          <p:cNvSpPr/>
          <p:nvPr/>
        </p:nvSpPr>
        <p:spPr>
          <a:xfrm>
            <a:off x="1514520" y="4172040"/>
            <a:ext cx="1857240" cy="1414440"/>
          </a:xfrm>
          <a:custGeom>
            <a:avLst/>
            <a:gdLst>
              <a:gd name="textAreaLeft" fmla="*/ 245880 w 1857240"/>
              <a:gd name="textAreaRight" fmla="*/ 1611360 w 1857240"/>
              <a:gd name="textAreaTop" fmla="*/ 291240 h 1414440"/>
              <a:gd name="textAreaBottom" fmla="*/ 1123200 h 1414440"/>
            </a:gdLst>
            <a:ahLst/>
            <a:rect l="textAreaLeft" t="textAreaTop" r="textAreaRight" b="textAreaBottom"/>
            <a:pathLst>
              <a:path w="1857375" h="1414462">
                <a:moveTo>
                  <a:pt x="246195" y="291379"/>
                </a:moveTo>
                <a:lnTo>
                  <a:pt x="1611180" y="291379"/>
                </a:lnTo>
                <a:lnTo>
                  <a:pt x="1611180" y="624061"/>
                </a:lnTo>
                <a:lnTo>
                  <a:pt x="246195" y="624061"/>
                </a:lnTo>
                <a:close/>
                <a:moveTo>
                  <a:pt x="246195" y="790401"/>
                </a:moveTo>
                <a:lnTo>
                  <a:pt x="1611180" y="790401"/>
                </a:lnTo>
                <a:lnTo>
                  <a:pt x="1611180" y="1123083"/>
                </a:lnTo>
                <a:lnTo>
                  <a:pt x="246195" y="1123083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13200" y="685800"/>
            <a:ext cx="26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-   plu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30840" y="2585880"/>
            <a:ext cx="33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-   minu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3936240" y="43434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-  i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Объект 4" descr=""/>
          <p:cNvPicPr/>
          <p:nvPr/>
        </p:nvPicPr>
        <p:blipFill>
          <a:blip r:embed="rId1"/>
          <a:stretch/>
        </p:blipFill>
        <p:spPr>
          <a:xfrm>
            <a:off x="477720" y="58680"/>
            <a:ext cx="5726160" cy="3176640"/>
          </a:xfrm>
          <a:prstGeom prst="rect">
            <a:avLst/>
          </a:prstGeom>
          <a:ln w="0">
            <a:noFill/>
          </a:ln>
        </p:spPr>
      </p:pic>
      <p:sp>
        <p:nvSpPr>
          <p:cNvPr id="54" name="Равно 5"/>
          <p:cNvSpPr/>
          <p:nvPr/>
        </p:nvSpPr>
        <p:spPr>
          <a:xfrm>
            <a:off x="6513480" y="1590840"/>
            <a:ext cx="1577880" cy="1014120"/>
          </a:xfrm>
          <a:custGeom>
            <a:avLst/>
            <a:gdLst>
              <a:gd name="textAreaLeft" fmla="*/ 209160 w 1577880"/>
              <a:gd name="textAreaRight" fmla="*/ 1368720 w 1577880"/>
              <a:gd name="textAreaTop" fmla="*/ 208800 h 1014120"/>
              <a:gd name="textAreaBottom" fmla="*/ 805320 h 1014120"/>
            </a:gdLst>
            <a:ahLst/>
            <a:rect l="textAreaLeft" t="textAreaTop" r="textAreaRight" b="textAreaBottom"/>
            <a:pathLst>
              <a:path w="1578280" h="1014609">
                <a:moveTo>
                  <a:pt x="209201" y="209009"/>
                </a:moveTo>
                <a:lnTo>
                  <a:pt x="1369079" y="209009"/>
                </a:lnTo>
                <a:lnTo>
                  <a:pt x="1369079" y="447645"/>
                </a:lnTo>
                <a:lnTo>
                  <a:pt x="209201" y="447645"/>
                </a:lnTo>
                <a:close/>
                <a:moveTo>
                  <a:pt x="209201" y="566964"/>
                </a:moveTo>
                <a:lnTo>
                  <a:pt x="1369079" y="566964"/>
                </a:lnTo>
                <a:lnTo>
                  <a:pt x="1369079" y="805600"/>
                </a:lnTo>
                <a:lnTo>
                  <a:pt x="209201" y="805600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6" descr=""/>
          <p:cNvPicPr/>
          <p:nvPr/>
        </p:nvPicPr>
        <p:blipFill>
          <a:blip r:embed="rId2"/>
          <a:srcRect l="0" t="0" r="27780" b="0"/>
          <a:stretch/>
        </p:blipFill>
        <p:spPr>
          <a:xfrm>
            <a:off x="1373040" y="3233880"/>
            <a:ext cx="3624480" cy="3354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"/>
          <p:cNvPicPr/>
          <p:nvPr/>
        </p:nvPicPr>
        <p:blipFill>
          <a:blip r:embed="rId3"/>
          <a:srcRect l="71887" t="0" r="498" b="0"/>
          <a:stretch/>
        </p:blipFill>
        <p:spPr>
          <a:xfrm>
            <a:off x="4971960" y="3233880"/>
            <a:ext cx="1387440" cy="3354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Users\Александра\Desktop\Новый рисунок (1).png"/>
          <p:cNvPicPr/>
          <p:nvPr/>
        </p:nvPicPr>
        <p:blipFill>
          <a:blip r:embed="rId4"/>
          <a:stretch/>
        </p:blipFill>
        <p:spPr>
          <a:xfrm>
            <a:off x="7896240" y="752400"/>
            <a:ext cx="2433600" cy="2587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Александра\Desktop\яблоко.png"/>
          <p:cNvPicPr/>
          <p:nvPr/>
        </p:nvPicPr>
        <p:blipFill>
          <a:blip r:embed="rId5"/>
          <a:srcRect l="13864" t="0" r="0" b="8469"/>
          <a:stretch/>
        </p:blipFill>
        <p:spPr>
          <a:xfrm>
            <a:off x="9772560" y="297000"/>
            <a:ext cx="12430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0" y="1116000"/>
            <a:ext cx="2579760" cy="4245120"/>
          </a:xfrm>
          <a:prstGeom prst="rect">
            <a:avLst/>
          </a:prstGeom>
          <a:ln w="0">
            <a:noFill/>
          </a:ln>
        </p:spPr>
      </p:pic>
      <p:sp>
        <p:nvSpPr>
          <p:cNvPr id="61" name="Плюс 5"/>
          <p:cNvSpPr/>
          <p:nvPr/>
        </p:nvSpPr>
        <p:spPr>
          <a:xfrm>
            <a:off x="2487600" y="2505240"/>
            <a:ext cx="1089000" cy="1358640"/>
          </a:xfrm>
          <a:custGeom>
            <a:avLst/>
            <a:gdLst>
              <a:gd name="textAreaLeft" fmla="*/ 144360 w 1089000"/>
              <a:gd name="textAreaRight" fmla="*/ 944640 w 1089000"/>
              <a:gd name="textAreaTop" fmla="*/ 551160 h 1358640"/>
              <a:gd name="textAreaBottom" fmla="*/ 807480 h 1358640"/>
            </a:gdLst>
            <a:ahLst/>
            <a:rect l="textAreaLeft" t="textAreaTop" r="textAreaRight" b="textAreaBottom"/>
            <a:pathLst>
              <a:path w="1088656" h="1358688">
                <a:moveTo>
                  <a:pt x="144301" y="551318"/>
                </a:moveTo>
                <a:lnTo>
                  <a:pt x="416302" y="551318"/>
                </a:lnTo>
                <a:lnTo>
                  <a:pt x="416302" y="180094"/>
                </a:lnTo>
                <a:lnTo>
                  <a:pt x="672354" y="180094"/>
                </a:lnTo>
                <a:lnTo>
                  <a:pt x="672354" y="551318"/>
                </a:lnTo>
                <a:lnTo>
                  <a:pt x="944355" y="551318"/>
                </a:lnTo>
                <a:lnTo>
                  <a:pt x="944355" y="807370"/>
                </a:lnTo>
                <a:lnTo>
                  <a:pt x="672354" y="807370"/>
                </a:lnTo>
                <a:lnTo>
                  <a:pt x="672354" y="1178594"/>
                </a:lnTo>
                <a:lnTo>
                  <a:pt x="416302" y="1178594"/>
                </a:lnTo>
                <a:lnTo>
                  <a:pt x="416302" y="807370"/>
                </a:lnTo>
                <a:lnTo>
                  <a:pt x="144301" y="807370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6" descr=""/>
          <p:cNvPicPr/>
          <p:nvPr/>
        </p:nvPicPr>
        <p:blipFill>
          <a:blip r:embed="rId2"/>
          <a:stretch/>
        </p:blipFill>
        <p:spPr>
          <a:xfrm>
            <a:off x="3643200" y="1471680"/>
            <a:ext cx="251640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Равно 7"/>
          <p:cNvSpPr/>
          <p:nvPr/>
        </p:nvSpPr>
        <p:spPr>
          <a:xfrm>
            <a:off x="6095880" y="2668680"/>
            <a:ext cx="997200" cy="979560"/>
          </a:xfrm>
          <a:custGeom>
            <a:avLst/>
            <a:gdLst>
              <a:gd name="textAreaLeft" fmla="*/ 132120 w 997200"/>
              <a:gd name="textAreaRight" fmla="*/ 865080 w 997200"/>
              <a:gd name="textAreaTop" fmla="*/ 201600 h 979560"/>
              <a:gd name="textAreaBottom" fmla="*/ 777960 h 979560"/>
            </a:gdLst>
            <a:ahLst/>
            <a:rect l="textAreaLeft" t="textAreaTop" r="textAreaRight" b="textAreaBottom"/>
            <a:pathLst>
              <a:path w="996374" h="979584">
                <a:moveTo>
                  <a:pt x="132069" y="201794"/>
                </a:moveTo>
                <a:lnTo>
                  <a:pt x="864305" y="201794"/>
                </a:lnTo>
                <a:lnTo>
                  <a:pt x="864305" y="432192"/>
                </a:lnTo>
                <a:lnTo>
                  <a:pt x="132069" y="432192"/>
                </a:lnTo>
                <a:close/>
                <a:moveTo>
                  <a:pt x="132069" y="547392"/>
                </a:moveTo>
                <a:lnTo>
                  <a:pt x="864305" y="547392"/>
                </a:lnTo>
                <a:lnTo>
                  <a:pt x="864305" y="777790"/>
                </a:lnTo>
                <a:lnTo>
                  <a:pt x="132069" y="777790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8" descr=""/>
          <p:cNvPicPr/>
          <p:nvPr/>
        </p:nvPicPr>
        <p:blipFill>
          <a:blip r:embed="rId3"/>
          <a:stretch/>
        </p:blipFill>
        <p:spPr>
          <a:xfrm>
            <a:off x="7121520" y="1471680"/>
            <a:ext cx="2516040" cy="3657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"/>
          <p:cNvPicPr/>
          <p:nvPr/>
        </p:nvPicPr>
        <p:blipFill>
          <a:blip r:embed="rId4"/>
          <a:stretch/>
        </p:blipFill>
        <p:spPr>
          <a:xfrm>
            <a:off x="9543960" y="1581120"/>
            <a:ext cx="251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rcRect l="4417" t="-544" r="46181" b="71877"/>
          <a:stretch/>
        </p:blipFill>
        <p:spPr>
          <a:xfrm>
            <a:off x="0" y="-28440"/>
            <a:ext cx="3708360" cy="1919160"/>
          </a:xfrm>
          <a:prstGeom prst="rect">
            <a:avLst/>
          </a:prstGeom>
          <a:ln w="0">
            <a:noFill/>
          </a:ln>
        </p:spPr>
      </p:pic>
      <p:sp>
        <p:nvSpPr>
          <p:cNvPr id="68" name="Минус 4"/>
          <p:cNvSpPr/>
          <p:nvPr/>
        </p:nvSpPr>
        <p:spPr>
          <a:xfrm>
            <a:off x="3708360" y="612720"/>
            <a:ext cx="901800" cy="638280"/>
          </a:xfrm>
          <a:custGeom>
            <a:avLst/>
            <a:gdLst>
              <a:gd name="textAreaLeft" fmla="*/ 119520 w 901800"/>
              <a:gd name="textAreaRight" fmla="*/ 782280 w 901800"/>
              <a:gd name="textAreaTop" fmla="*/ 244080 h 638280"/>
              <a:gd name="textAreaBottom" fmla="*/ 394200 h 638280"/>
            </a:gdLst>
            <a:ahLst/>
            <a:rect l="textAreaLeft" t="textAreaTop" r="textAreaRight" b="textAreaBottom"/>
            <a:pathLst>
              <a:path w="901874" h="638827">
                <a:moveTo>
                  <a:pt x="119543" y="244287"/>
                </a:moveTo>
                <a:lnTo>
                  <a:pt x="782331" y="244287"/>
                </a:lnTo>
                <a:lnTo>
                  <a:pt x="782331" y="394540"/>
                </a:lnTo>
                <a:lnTo>
                  <a:pt x="119543" y="394540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5" descr=""/>
          <p:cNvPicPr/>
          <p:nvPr/>
        </p:nvPicPr>
        <p:blipFill>
          <a:blip r:embed="rId2"/>
          <a:stretch/>
        </p:blipFill>
        <p:spPr>
          <a:xfrm>
            <a:off x="4610160" y="0"/>
            <a:ext cx="2728800" cy="1890720"/>
          </a:xfrm>
          <a:prstGeom prst="rect">
            <a:avLst/>
          </a:prstGeom>
          <a:ln w="0">
            <a:noFill/>
          </a:ln>
        </p:spPr>
      </p:pic>
      <p:sp>
        <p:nvSpPr>
          <p:cNvPr id="70" name="Равно 6"/>
          <p:cNvSpPr/>
          <p:nvPr/>
        </p:nvSpPr>
        <p:spPr>
          <a:xfrm>
            <a:off x="7369200" y="612720"/>
            <a:ext cx="871560" cy="638280"/>
          </a:xfrm>
          <a:custGeom>
            <a:avLst/>
            <a:gdLst>
              <a:gd name="textAreaLeft" fmla="*/ 115560 w 871560"/>
              <a:gd name="textAreaRight" fmla="*/ 756000 w 871560"/>
              <a:gd name="textAreaTop" fmla="*/ 131400 h 638280"/>
              <a:gd name="textAreaBottom" fmla="*/ 506880 h 638280"/>
            </a:gdLst>
            <a:ahLst/>
            <a:rect l="textAreaLeft" t="textAreaTop" r="textAreaRight" b="textAreaBottom"/>
            <a:pathLst>
              <a:path w="870559" h="638827">
                <a:moveTo>
                  <a:pt x="115393" y="131598"/>
                </a:moveTo>
                <a:lnTo>
                  <a:pt x="755166" y="131598"/>
                </a:lnTo>
                <a:lnTo>
                  <a:pt x="755166" y="281850"/>
                </a:lnTo>
                <a:lnTo>
                  <a:pt x="115393" y="281850"/>
                </a:lnTo>
                <a:close/>
                <a:moveTo>
                  <a:pt x="115393" y="356977"/>
                </a:moveTo>
                <a:lnTo>
                  <a:pt x="755166" y="356977"/>
                </a:lnTo>
                <a:lnTo>
                  <a:pt x="755166" y="507229"/>
                </a:lnTo>
                <a:lnTo>
                  <a:pt x="115393" y="507229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3"/>
          <a:srcRect l="3928" t="0" r="67227" b="68041"/>
          <a:stretch/>
        </p:blipFill>
        <p:spPr>
          <a:xfrm>
            <a:off x="8271000" y="36360"/>
            <a:ext cx="3189240" cy="1854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3557520" y="2568600"/>
            <a:ext cx="468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0 – 4 = 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9 – 3 = 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8 – 4 = 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3422520" cy="1803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4494240" y="0"/>
            <a:ext cx="3290760" cy="1841400"/>
          </a:xfrm>
          <a:prstGeom prst="rect">
            <a:avLst/>
          </a:prstGeom>
          <a:ln w="0">
            <a:noFill/>
          </a:ln>
        </p:spPr>
      </p:pic>
      <p:sp>
        <p:nvSpPr>
          <p:cNvPr id="77" name="Минус 5"/>
          <p:cNvSpPr/>
          <p:nvPr/>
        </p:nvSpPr>
        <p:spPr>
          <a:xfrm>
            <a:off x="3540240" y="457200"/>
            <a:ext cx="822240" cy="849240"/>
          </a:xfrm>
          <a:custGeom>
            <a:avLst/>
            <a:gdLst>
              <a:gd name="textAreaLeft" fmla="*/ 108720 w 822240"/>
              <a:gd name="textAreaRight" fmla="*/ 713520 w 822240"/>
              <a:gd name="textAreaTop" fmla="*/ 324720 h 849240"/>
              <a:gd name="textAreaBottom" fmla="*/ 524520 h 849240"/>
            </a:gdLst>
            <a:ahLst/>
            <a:rect l="textAreaLeft" t="textAreaTop" r="textAreaRight" b="textAreaBottom"/>
            <a:pathLst>
              <a:path w="822960" h="849085">
                <a:moveTo>
                  <a:pt x="109083" y="324690"/>
                </a:moveTo>
                <a:lnTo>
                  <a:pt x="713877" y="324690"/>
                </a:lnTo>
                <a:lnTo>
                  <a:pt x="713877" y="524395"/>
                </a:lnTo>
                <a:lnTo>
                  <a:pt x="109083" y="524395"/>
                </a:lnTo>
                <a:close/>
              </a:path>
            </a:pathLst>
          </a:custGeom>
          <a:solidFill>
            <a:srgbClr val="ed7d3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Равно 6"/>
          <p:cNvSpPr/>
          <p:nvPr/>
        </p:nvSpPr>
        <p:spPr>
          <a:xfrm>
            <a:off x="7902720" y="601560"/>
            <a:ext cx="914400" cy="652680"/>
          </a:xfrm>
          <a:custGeom>
            <a:avLst/>
            <a:gdLst>
              <a:gd name="textAreaLeft" fmla="*/ 120960 w 914400"/>
              <a:gd name="textAreaRight" fmla="*/ 793440 w 914400"/>
              <a:gd name="textAreaTop" fmla="*/ 134280 h 652680"/>
              <a:gd name="textAreaBottom" fmla="*/ 518400 h 652680"/>
            </a:gdLst>
            <a:ahLst/>
            <a:rect l="textAreaLeft" t="textAreaTop" r="textAreaRight" b="textAreaBottom"/>
            <a:pathLst>
              <a:path w="914398" h="653141">
                <a:moveTo>
                  <a:pt x="121203" y="134547"/>
                </a:moveTo>
                <a:lnTo>
                  <a:pt x="793195" y="134547"/>
                </a:lnTo>
                <a:lnTo>
                  <a:pt x="793195" y="288166"/>
                </a:lnTo>
                <a:lnTo>
                  <a:pt x="121203" y="288166"/>
                </a:lnTo>
                <a:close/>
                <a:moveTo>
                  <a:pt x="121203" y="364975"/>
                </a:moveTo>
                <a:lnTo>
                  <a:pt x="793195" y="364975"/>
                </a:lnTo>
                <a:lnTo>
                  <a:pt x="793195" y="518594"/>
                </a:lnTo>
                <a:lnTo>
                  <a:pt x="121203" y="518594"/>
                </a:lnTo>
                <a:close/>
              </a:path>
            </a:pathLst>
          </a:custGeom>
          <a:solidFill>
            <a:srgbClr val="ed7d3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4"/>
          <a:stretch/>
        </p:blipFill>
        <p:spPr>
          <a:xfrm>
            <a:off x="9093240" y="0"/>
            <a:ext cx="1600200" cy="1962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8"/>
          <p:cNvSpPr/>
          <p:nvPr/>
        </p:nvSpPr>
        <p:spPr>
          <a:xfrm>
            <a:off x="3487680" y="2273400"/>
            <a:ext cx="5734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8 – 4 = 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6 – 4 = 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8 – 6 = 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5133960" cy="1868400"/>
          </a:xfrm>
          <a:prstGeom prst="rect">
            <a:avLst/>
          </a:prstGeom>
          <a:ln w="0">
            <a:noFill/>
          </a:ln>
        </p:spPr>
      </p:pic>
      <p:sp>
        <p:nvSpPr>
          <p:cNvPr id="83" name="Минус 4"/>
          <p:cNvSpPr/>
          <p:nvPr/>
        </p:nvSpPr>
        <p:spPr>
          <a:xfrm>
            <a:off x="5068800" y="549360"/>
            <a:ext cx="809640" cy="730080"/>
          </a:xfrm>
          <a:custGeom>
            <a:avLst/>
            <a:gdLst>
              <a:gd name="textAreaLeft" fmla="*/ 107280 w 809640"/>
              <a:gd name="textAreaRight" fmla="*/ 702360 w 809640"/>
              <a:gd name="textAreaTop" fmla="*/ 279000 h 730080"/>
              <a:gd name="textAreaBottom" fmla="*/ 451080 h 730080"/>
            </a:gdLst>
            <a:ahLst/>
            <a:rect l="textAreaLeft" t="textAreaTop" r="textAreaRight" b="textAreaBottom"/>
            <a:pathLst>
              <a:path w="809898" h="731520">
                <a:moveTo>
                  <a:pt x="107352" y="279733"/>
                </a:moveTo>
                <a:lnTo>
                  <a:pt x="702546" y="279733"/>
                </a:lnTo>
                <a:lnTo>
                  <a:pt x="702546" y="451787"/>
                </a:lnTo>
                <a:lnTo>
                  <a:pt x="107352" y="451787"/>
                </a:lnTo>
                <a:close/>
              </a:path>
            </a:pathLst>
          </a:custGeom>
          <a:solidFill>
            <a:srgbClr val="ed7d3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5856120" y="0"/>
            <a:ext cx="4075200" cy="1849320"/>
          </a:xfrm>
          <a:prstGeom prst="rect">
            <a:avLst/>
          </a:prstGeom>
          <a:ln w="0">
            <a:noFill/>
          </a:ln>
        </p:spPr>
      </p:pic>
      <p:sp>
        <p:nvSpPr>
          <p:cNvPr id="85" name="Равно 6"/>
          <p:cNvSpPr/>
          <p:nvPr/>
        </p:nvSpPr>
        <p:spPr>
          <a:xfrm>
            <a:off x="10071000" y="692280"/>
            <a:ext cx="876240" cy="457200"/>
          </a:xfrm>
          <a:custGeom>
            <a:avLst/>
            <a:gdLst>
              <a:gd name="textAreaLeft" fmla="*/ 115920 w 876240"/>
              <a:gd name="textAreaRight" fmla="*/ 760320 w 876240"/>
              <a:gd name="textAreaTop" fmla="*/ 93960 h 457200"/>
              <a:gd name="textAreaBottom" fmla="*/ 363240 h 457200"/>
            </a:gdLst>
            <a:ahLst/>
            <a:rect l="textAreaLeft" t="textAreaTop" r="textAreaRight" b="textAreaBottom"/>
            <a:pathLst>
              <a:path w="875211" h="457201">
                <a:moveTo>
                  <a:pt x="116009" y="94183"/>
                </a:moveTo>
                <a:lnTo>
                  <a:pt x="759202" y="94183"/>
                </a:lnTo>
                <a:lnTo>
                  <a:pt x="759202" y="201717"/>
                </a:lnTo>
                <a:lnTo>
                  <a:pt x="116009" y="201717"/>
                </a:lnTo>
                <a:close/>
                <a:moveTo>
                  <a:pt x="116009" y="255484"/>
                </a:moveTo>
                <a:lnTo>
                  <a:pt x="759202" y="255484"/>
                </a:lnTo>
                <a:lnTo>
                  <a:pt x="759202" y="363018"/>
                </a:lnTo>
                <a:lnTo>
                  <a:pt x="116009" y="363018"/>
                </a:lnTo>
                <a:close/>
              </a:path>
            </a:pathLst>
          </a:custGeom>
          <a:solidFill>
            <a:srgbClr val="ed7d31"/>
          </a:solidFill>
          <a:ln w="12600">
            <a:solidFill>
              <a:srgbClr val="ae5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3697200" y="2286000"/>
            <a:ext cx="3210120" cy="1698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7367760" y="3083040"/>
            <a:ext cx="4375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7 – 4 = 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10 – 7 = 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9 – 6 = 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66720" y="0"/>
            <a:ext cx="595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200 + 300 =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926320" y="0"/>
            <a:ext cx="15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87520" y="1319040"/>
            <a:ext cx="627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b) 1000 + 2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712200" y="1279440"/>
            <a:ext cx="203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61960" y="2717640"/>
            <a:ext cx="676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c) 2000 + 1000 =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7144200" y="2743200"/>
            <a:ext cx="203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30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2647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71440" y="1825560"/>
          <a:ext cx="11744280" cy="2378160"/>
        </p:xfrm>
        <a:graphic>
          <a:graphicData uri="http://schemas.openxmlformats.org/drawingml/2006/table">
            <a:tbl>
              <a:tblPr/>
              <a:tblGrid>
                <a:gridCol w="2936880"/>
                <a:gridCol w="2935440"/>
                <a:gridCol w="2936880"/>
                <a:gridCol w="293508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ousands (Th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ndreds (H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ns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s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U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4:48:21Z</dcterms:created>
  <dc:creator>pc</dc:creator>
  <dc:description/>
  <dc:language>en-US</dc:language>
  <cp:lastModifiedBy>Александра</cp:lastModifiedBy>
  <dcterms:modified xsi:type="dcterms:W3CDTF">2014-12-18T00:54:06Z</dcterms:modified>
  <cp:revision>33</cp:revision>
  <dc:subject/>
  <dc:title>Презентация PowerPoint</dc:title>
</cp:coreProperties>
</file>