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CEA-E3BD-4671-843E-3B33AD56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307-2538-45EC-A8AE-D1C5E69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BB7-4CB1-4B6E-B35C-9A9381FF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064-C77B-44DB-916C-B93AB8E4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8C2-E28F-4AC6-85C4-43095D54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D88-E49F-48C5-9FD5-071308C9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48D6-C8B7-40E7-BA44-9271180B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CF30-8446-4098-8487-FE4C7E5E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70AC-F96B-4C81-9A64-C1C0DB0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C2EC-C430-4587-B8E0-5E8D1DB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B68B-D4A9-4397-A764-ABF8A5A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E14-E579-4AF0-B0F0-834DE83C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134-36AA-4598-8F44-F8387821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D1F6-C347-434F-B3F8-8CBC903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93CB-4B55-41F0-98A4-2E491D4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6953-897D-49C5-BAE1-FDE9C006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D312-84A9-4FDA-8F6F-4BF24F54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7FC-7439-4CEA-93B6-56BF8F2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78F-8B94-4ED0-B896-7B821748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D4B-076E-479F-BB7A-48753EC7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C06-FD3E-41DC-9F34-4580C24F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535-2AD7-4D52-8E5A-2148E5B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2DF-EB6D-4841-A6B8-E1F94569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3D9-FF41-4581-9BF9-12FA3C2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A080-D8FA-49A2-9310-351DCEC609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FB3-CC2E-4FC7-9DE9-1E4761F8F1F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77742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214200" y="1125360"/>
            <a:ext cx="85726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Animal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21004-133744-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Дьяк л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9445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56829617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13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дья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94071519-nekotorye-zhivotnye-krasnoj-knig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sosn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d4ea9c09ec8be2266cc9dddd617d02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012-018-Krasnaja-kniga-Saratovskoj-oblasti"/>
          <p:cNvPicPr/>
          <p:nvPr/>
        </p:nvPicPr>
        <p:blipFill>
          <a:blip r:embed="rId1"/>
          <a:stretch/>
        </p:blipFill>
        <p:spPr>
          <a:xfrm>
            <a:off x="1598760" y="189000"/>
            <a:ext cx="62863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167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90-2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166-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862a8ccf2e2b"/>
          <p:cNvPicPr/>
          <p:nvPr/>
        </p:nvPicPr>
        <p:blipFill>
          <a:blip r:embed="rId1"/>
          <a:stretch/>
        </p:blipFill>
        <p:spPr>
          <a:xfrm>
            <a:off x="395280" y="343080"/>
            <a:ext cx="828036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001-007-ZHivotnye-i-rastenija-zanesennye-v-Krasnuju-knigu-Saratovskoj-oblasti"/>
          <p:cNvPicPr/>
          <p:nvPr/>
        </p:nvPicPr>
        <p:blipFill>
          <a:blip r:embed="rId1"/>
          <a:stretch/>
        </p:blipFill>
        <p:spPr>
          <a:xfrm>
            <a:off x="-733320" y="-128520"/>
            <a:ext cx="1061064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rasteniya-iz-krasnoy-knigi-udmurtii-mogut-pogibnut-pri-ochistke-votkinskogo-prud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66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5:29:26Z</dcterms:created>
  <dc:creator>Пользователь</dc:creator>
  <dc:description/>
  <dc:language>en-US</dc:language>
  <cp:lastModifiedBy>школа</cp:lastModifiedBy>
  <dcterms:modified xsi:type="dcterms:W3CDTF">2012-12-07T05:30:56Z</dcterms:modified>
  <cp:revision>3</cp:revision>
  <dc:subject/>
  <dc:title> </dc:title>
</cp:coreProperties>
</file>