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7ED-0B39-4E77-B777-72D64DC0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A60-D14E-47CD-9A84-805C1B97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3DC-5232-4C05-BD02-38F42768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395-147C-40E4-BD88-70D25428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C229-B272-4256-A410-A7B37675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8EF9-B578-45EF-A016-AD04E574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F150-8A13-43C1-BBB2-02D6A06A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1E1B-877A-4806-961F-91CF39AA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49ED-C6B4-421F-AE1E-A746B7D3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D6A8-AF23-4FD6-93B0-24F2093C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88D2-42BC-4096-A495-77C1EE63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F82-E195-4DCB-AABE-4B56AB2F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083B-704F-440B-AD3D-07B6BBDF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CEFA-5702-4260-8B94-3302208F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B619-F35D-4B92-AEC2-1CDCC301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AD8C-992F-423E-8BF6-9FEEF45B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47C8-B0AC-40BF-B1BB-D21DEF52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AF4-C9B5-4346-8469-8CA82D3C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191-8D11-430B-A339-DB50E067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2D9-BF14-495A-9D84-B7818965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211-9BBE-474D-A94B-8FDBEDDA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EA2-937B-40BC-A3A5-7DC8962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48B-10DF-44BA-A602-12AE2AB9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CBC-D202-47E7-BDD3-67B42BB4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E029-2DDE-4E6B-AA12-8892BD0BED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F20B-63B5-4DEA-A95A-253202C6585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777420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214200" y="1125360"/>
            <a:ext cx="85726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Animal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21004-133744-513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Дьяк л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19445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56829617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13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дья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94071519-nekotorye-zhivotnye-krasnoj-knig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sosn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d4ea9c09ec8be2266cc9dddd617d02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012-018-Krasnaja-kniga-Saratovskoj-oblasti"/>
          <p:cNvPicPr/>
          <p:nvPr/>
        </p:nvPicPr>
        <p:blipFill>
          <a:blip r:embed="rId1"/>
          <a:stretch/>
        </p:blipFill>
        <p:spPr>
          <a:xfrm>
            <a:off x="1598760" y="189000"/>
            <a:ext cx="62863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167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90-2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166-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862a8ccf2e2b"/>
          <p:cNvPicPr/>
          <p:nvPr/>
        </p:nvPicPr>
        <p:blipFill>
          <a:blip r:embed="rId1"/>
          <a:stretch/>
        </p:blipFill>
        <p:spPr>
          <a:xfrm>
            <a:off x="395280" y="343080"/>
            <a:ext cx="828036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0001-007-ZHivotnye-i-rastenija-zanesennye-v-Krasnuju-knigu-Saratovskoj-oblasti"/>
          <p:cNvPicPr/>
          <p:nvPr/>
        </p:nvPicPr>
        <p:blipFill>
          <a:blip r:embed="rId1"/>
          <a:stretch/>
        </p:blipFill>
        <p:spPr>
          <a:xfrm>
            <a:off x="-733320" y="-128520"/>
            <a:ext cx="1061064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rasteniya-iz-krasnoy-knigi-udmurtii-mogut-pogibnut-pri-ochistke-votkinskogo-prud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166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5:29:26Z</dcterms:created>
  <dc:creator>Пользователь</dc:creator>
  <dc:description/>
  <dc:language>en-US</dc:language>
  <cp:lastModifiedBy>школа</cp:lastModifiedBy>
  <dcterms:modified xsi:type="dcterms:W3CDTF">2012-12-07T05:30:56Z</dcterms:modified>
  <cp:revision>3</cp:revision>
  <dc:subject/>
  <dc:title> </dc:title>
</cp:coreProperties>
</file>