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5.wmf" ContentType="image/x-wmf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16C3-D2F5-450B-8656-FDF9514B1F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7DB4-E785-470F-91BB-79EC7D2CA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D40-FD4A-4337-9D7A-7E13C004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EF4-4F12-4EEF-8505-9C05BDE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ADCF9-A614-460A-8CA3-1348B2BB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5EA77-CD78-418B-B540-AC826257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5E88A-5AAD-4427-AA86-0D3B0827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AF40F-33AD-48A8-8B97-CD61F10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DCDBB-FB08-4C71-999E-7F801A84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A88E3-2E97-43B6-BB04-9A9DAA4A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0ED5E-96D6-47D0-B79F-7329227E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16A47-DACB-44BA-BF6E-CAD3D395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6F88B-2BA1-40E2-AA0F-EF2DDEB8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1E779-CC7E-493A-ABC5-9E4FE6AE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8FA-95E7-4FCA-8121-799CBC7E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FD1A5-3452-4CA2-8F5D-3CE1009D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B82CA-EF5E-4BD3-B76B-049152FC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81684-A06E-48FC-82ED-77FAD36A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09C24-5F77-4D11-B66E-7808FD42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EF28B-B74A-4EA1-8B54-A94816F5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33108-830B-4CB7-8CF3-FD39428F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47C1A-63C7-4469-9448-5850ED54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3C5D3-43CE-4011-9362-3080C5A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B69AF-A140-421B-81FC-2B29F3F4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10A2D-9A53-44FC-A554-A3C7AAEC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CD9-E00F-41E6-A39C-0757C652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7A864-4AC4-4563-B461-51DEBA50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14A09-02C6-4E7B-8FE6-0511B00B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0773C-5043-4CA0-896F-A64A5A61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15260-02E7-4E71-ABE1-1939189E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6C408-B425-485E-A215-E398DF0F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7121B-79EC-4337-B2C8-3CE53FF8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1F67A-2667-4C39-8007-0FE16BF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FD304-8459-41B6-8CA0-961BBBF8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951C-7BF6-4FAF-97D2-8904749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41D5F-7A7C-4183-8C10-B2859D1E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3A0-AA0E-457F-94E8-30688BDB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EA45D-EDB7-429B-A07F-5B6D7708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3E6DD-3B1E-4455-9C2D-0B91EDD4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7865A-0FA8-45A8-ACCF-0FE75301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2AAFD-0BC3-4608-84B3-DCAD27E8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4F860-BDA9-45A3-AE65-B0CC1DA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22FF6-AE44-438A-BA34-513E702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5E7D3-0038-461B-96F3-74EFB42C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BECEC-CA60-4A80-B71E-D24A915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83940-42D3-4615-B98A-10DDEA2C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0644E-D469-4FED-85D2-39FE05AC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4622-F304-431F-9625-F14D70F5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6A944-2569-4442-921B-C951D52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EE0AF-B5B9-4749-A153-251F0B3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1D04E-995B-48C2-A7A4-BE9BB5F1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14C05-7A50-467B-ABBD-5F1A1407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294A5-93C1-4EAC-9F77-D06BA913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6FAE-2117-4EF7-8A15-99FFC0E5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6E91-B4D5-48AD-ADAF-59A3DD73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5F26-6ED4-4CBC-BCEE-5FDECEB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E5C9-D658-444C-BD11-54F37FD7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5055-96B6-439C-9275-FC8ED696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D51-CBAC-45B5-9731-11223BF6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9688-8790-4BCB-BEB8-F145CBA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CAA8-CC1F-44CD-9202-43BF3C1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39CE-4F54-450D-90B6-16F70546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3390-C2C6-44DC-85B9-03DD241C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ABF2-79BF-4AC9-BF32-17846708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7A83-4EC3-4183-A359-915ED896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9371-01BE-4F41-BFF2-301F8BC6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3DCF-549A-4028-847D-C560D5F2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22B9-964C-4350-8AB0-B1F140B5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B9ED-2BCD-44D0-BB2A-C73D8BFC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5EC-5CA7-4862-96D1-4DB99E64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B48A-291A-4B8B-AD86-807D2E74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F26D-E35F-4005-99C1-46646DF5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4322-EBF6-402C-AFBC-4820F7C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7223-1EDD-4BC9-8592-9D66362A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40D2-44BD-4EBE-B902-D40A18A9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F5D8-9EC3-4E4B-8F68-7378DA8A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D080F-837F-47E6-8952-FE394A23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CC901-EBE3-44D5-91FF-ADC9707B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8DEF-3174-4433-9248-780CCE2C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CE0A-7A56-4142-811E-2A150273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CA1-C7BE-46BB-99BE-83A476A6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3ED6F-B0FE-4636-B057-61D47069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B1BC-BB8E-49DD-9161-77BF743B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9471-DD78-48DB-9CEC-3E2A2382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07B8-8F46-4D4A-B2D2-4362824E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6FBF-9EF1-4323-9748-0F26D41F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8F27-B85A-4A84-9CF4-3B9D09A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C093-39E9-4957-B45A-F9329B92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11189-C9D7-4A53-8E60-2B8E0FF4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F376-E3D0-44DC-89A6-D8BEE4D3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BB027-6201-4BE9-B2E6-A4430B0F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C21-8AA0-443C-AE71-4A5BAAFC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E41B-9BE9-4BEF-9AEC-CBA07E12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D2192-F70C-46A8-85F0-45C088F3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93C6-FDF1-45E1-AFD0-5C28DAE6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F601-36A4-4361-9122-02823A58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DE6DB-1DF3-46C0-8F98-84C6E1F0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8E650-67A8-4CF1-84FC-BC57D4AB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97C0-FB02-4BB2-A8EA-F5CE2D6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163BE-B026-4730-871A-EAF7A0D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5A14F-9E0F-4BA0-9EE4-A3791FBC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42DCF-3F78-4F0A-A48E-FCE5167D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1B6-52C4-408C-A16B-6A3F549E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C717B-9FBE-47F1-84FA-49FD4E0B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D9723-4E3B-4496-AB39-1D638125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C862-BCCC-4B81-AF05-2C7E22BF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23047-C84A-46CD-A1F4-D7390B3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22AE-43A3-421B-8E91-53094EC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5EB08-AFA0-4FE4-93ED-BCE915D0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5EBB9-AC28-49A3-ABB8-C942F96E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C0C7D-1FD0-4F54-8BA0-B3D55E44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973A5-7FB3-45B8-B4DF-614E581D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BE020-1B18-4188-BF60-0E35B4C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5EC-67A0-4FEF-A23E-7832603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28EC-B4C5-44A8-9899-93BB17FF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AD615-DF19-4270-9CEC-2DAF9647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9FA34-568F-48CB-B964-C6475053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470AA-016C-4D00-B8F2-82A6B5C1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8957-0C32-48D7-9DDE-63FA79AB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C34D-BE3A-450D-8753-5764BA68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26D0B-206F-49CD-895C-0ABE6867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8123B-82AE-41BA-8466-05A8C218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1DA9-DAB4-4E48-A815-76171E01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6A6CE-3390-4A7A-BB47-4CCB510D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53A-300F-481C-B29F-86444034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55B43-4B5A-4096-950E-B82EC6B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5683D-86B5-4CE8-9F6F-455772E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AB85-B57A-480D-9764-4CFC56F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59B9B-2C2A-4F55-81B5-490C390F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03A33-B155-45D8-90E3-DF2E1CC3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1CF72-9ADD-4C06-A81F-513D73D8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578BA-A746-4615-83CE-8887D617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4E885-E573-4541-A7C0-75386703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3F6E3-7A74-4545-A786-BAB79803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35A0D-A6D4-4876-B702-D94A5E5F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C11-FAAA-4E24-9E03-328C8B4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C4F7-B48A-4FDF-BC92-682125B3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13358-C51D-42A4-8430-536B76FC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716F-8B50-4DA3-B5E1-88F8296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85608-D9D8-4A55-9C83-F4767AF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F14F4-A665-4EDD-9DE4-3BFC8F53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34C30-CC67-4345-AC94-E717C7BC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28BC8-78C2-46ED-A5A1-786D24A9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4DEAF-5502-4096-A850-E72CD3BB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CEBFB-FD1E-4569-B78A-E9ED6F74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60F65-135F-4CD5-AEB8-D18ECF73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B973-4768-462B-896F-95C57FEC36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72C4-75A4-46E6-BDBA-0343CE4C39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C56D-B978-425E-A6D2-87519F8204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D97F-2A69-402C-B20E-9864A65C21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4E1A-24CA-4680-9BA4-55CD564CF2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BDB3-912E-4224-A5DB-B7A0F1C78D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68FC-9E4F-4728-97C3-297C8B22CE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D21-A187-4565-ABEB-5E7FD53616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A3AD-09C5-4ED1-B589-ED1A1DC6E2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A7ED-F604-4188-A831-C1976E5B75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14D-4452-412E-A300-E598F795C8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40E7-599C-43C0-967D-89241DA020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"/>
          <p:cNvSpPr/>
          <p:nvPr/>
        </p:nvSpPr>
        <p:spPr>
          <a:xfrm>
            <a:off x="324000" y="404640"/>
            <a:ext cx="8280360" cy="75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ние и сотрудничество - средства   оптимизации формирования звуковой культуры речи до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опед: Будникова  Дин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ОУ №15 «Ска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Лермонтов  20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C:\Documents and Settings\Администратор\Рабочий стол\логопеды\8911195_3ca115f0.jpg"/>
          <p:cNvPicPr/>
          <p:nvPr/>
        </p:nvPicPr>
        <p:blipFill>
          <a:blip r:embed="rId1"/>
          <a:stretch/>
        </p:blipFill>
        <p:spPr>
          <a:xfrm>
            <a:off x="5867280" y="3789360"/>
            <a:ext cx="2903760" cy="256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ч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в формировании правильного звукопроиз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"/>
          <p:cNvSpPr/>
          <p:nvPr/>
        </p:nvSpPr>
        <p:spPr>
          <a:xfrm>
            <a:off x="428760" y="1428840"/>
            <a:ext cx="77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лементарные знания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зитивный наст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этапность введения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стематичность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занятий не более 15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ьзование   наглядности и иг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Рисунок 4" descr="montessori.jpg"/>
          <p:cNvPicPr/>
          <p:nvPr/>
        </p:nvPicPr>
        <p:blipFill>
          <a:blip r:embed="rId1"/>
          <a:stretch/>
        </p:blipFill>
        <p:spPr>
          <a:xfrm>
            <a:off x="4929120" y="4024440"/>
            <a:ext cx="4024440" cy="267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вреди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у в формировании правильного звукопроизнош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1"/>
          <p:cNvSpPr/>
          <p:nvPr/>
        </p:nvSpPr>
        <p:spPr>
          <a:xfrm>
            <a:off x="468360" y="98100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беждение что «перераст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отивированный натиск, форсирование звукового 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юсюканье» или  чрезмерные требования к ребе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регулярность  и объемность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3" descr="56478.jpg"/>
          <p:cNvPicPr/>
          <p:nvPr/>
        </p:nvPicPr>
        <p:blipFill>
          <a:blip r:embed="rId1"/>
          <a:stretch/>
        </p:blipFill>
        <p:spPr>
          <a:xfrm>
            <a:off x="5508720" y="4437000"/>
            <a:ext cx="3421080" cy="227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"/>
          <p:cNvSpPr/>
          <p:nvPr/>
        </p:nvSpPr>
        <p:spPr>
          <a:xfrm>
            <a:off x="395280" y="304920"/>
            <a:ext cx="82090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дители должны формировать правильное отношение к речевому нарушению у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угать ребенка за неправильную реч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навязчиво исправлять неправильное произн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острять внимание на запинках и повторах слогов и с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позитивный настрой ребенка на занятия с педаго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и должны научиться выполнять и показывать ребенку простые артикуляционные упражнения для подготовки речевого аппарата к правильному звукопроизнош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елять особое внимание выполнению домашних логопедически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собы оптимизации формирования звуковой культуры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"/>
          <p:cNvSpPr/>
          <p:nvPr/>
        </p:nvSpPr>
        <p:spPr>
          <a:xfrm>
            <a:off x="857160" y="1071720"/>
            <a:ext cx="7358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ьзование движений, сочетаемых с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ж ладо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на развитие силы кистей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ртикуляцион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ый язы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ие в Страну правильной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ыхатель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ая методика  Стрельник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ы на развитие правильного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жи  словеч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и – небы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отворные формы и расс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"/>
          <p:cNvSpPr/>
          <p:nvPr/>
        </p:nvSpPr>
        <p:spPr>
          <a:xfrm>
            <a:off x="571680" y="1071720"/>
            <a:ext cx="79610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айте вместе с ребенком в развивающие  игры, налаживайте речевой, эмоциональный конта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3"/>
          <p:cNvSpPr/>
          <p:nvPr/>
        </p:nvSpPr>
        <p:spPr>
          <a:xfrm>
            <a:off x="1928880" y="4287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ем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Рисунок 4" descr="omsk_b_40340.jpg"/>
          <p:cNvPicPr/>
          <p:nvPr/>
        </p:nvPicPr>
        <p:blipFill>
          <a:blip r:embed="rId1"/>
          <a:stretch/>
        </p:blipFill>
        <p:spPr>
          <a:xfrm>
            <a:off x="5651640" y="2637000"/>
            <a:ext cx="2449440" cy="373680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5"/>
          <p:cNvSpPr/>
          <p:nvPr/>
        </p:nvSpPr>
        <p:spPr>
          <a:xfrm>
            <a:off x="539640" y="26370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б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блик мы с тобой           слеп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вно губки округл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х теперь нельзя смык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блик надо удер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массаж с предметами</a:t>
            </a:r>
            <a:br>
              <a:rPr sz="4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ффективный метод  на всех этапах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вития реч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ает согласовывать работу понятийного и двигательного центров реч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азвивая силу кисти рук, повышает тонус коры головного мозга.</a:t>
            </a:r>
            <a:br>
              <a:rPr sz="2400"/>
            </a:b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367344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адь мои ладони, е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колючий, ну и что 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хочу тебя поглад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хочу с тобой пола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Рисунок 5" descr="pimg_1163_334.jpg"/>
          <p:cNvPicPr/>
          <p:nvPr/>
        </p:nvPicPr>
        <p:blipFill>
          <a:blip r:embed="rId1"/>
          <a:stretch/>
        </p:blipFill>
        <p:spPr>
          <a:xfrm>
            <a:off x="4859280" y="3933720"/>
            <a:ext cx="3643200" cy="27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тие чувства ритма и координации движен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61880" y="1484280"/>
            <a:ext cx="812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ффективный метод  на всех этапах развития реч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ывает движения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хватаюсь за вере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ой ловко, левой лов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узлы ее бе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 слова проговор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Рисунок 3" descr="corda-nodi.jpg"/>
          <p:cNvPicPr/>
          <p:nvPr/>
        </p:nvPicPr>
        <p:blipFill>
          <a:blip r:embed="rId1"/>
          <a:stretch/>
        </p:blipFill>
        <p:spPr>
          <a:xfrm>
            <a:off x="6357960" y="3500280"/>
            <a:ext cx="2238480" cy="293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«Немая» артикуляция и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накомство с букв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3" descr="94647.gif"/>
          <p:cNvPicPr/>
          <p:nvPr/>
        </p:nvPicPr>
        <p:blipFill>
          <a:blip r:embed="rId1"/>
          <a:stretch/>
        </p:blipFill>
        <p:spPr>
          <a:xfrm>
            <a:off x="500040" y="1557360"/>
            <a:ext cx="3857760" cy="478296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4" descr="77769595_1.png"/>
          <p:cNvPicPr/>
          <p:nvPr/>
        </p:nvPicPr>
        <p:blipFill>
          <a:blip r:embed="rId2"/>
          <a:stretch/>
        </p:blipFill>
        <p:spPr>
          <a:xfrm>
            <a:off x="5072040" y="135720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5" descr="0_68cdf_eb24c906_L.jpg"/>
          <p:cNvPicPr/>
          <p:nvPr/>
        </p:nvPicPr>
        <p:blipFill>
          <a:blip r:embed="rId3"/>
          <a:stretch/>
        </p:blipFill>
        <p:spPr>
          <a:xfrm>
            <a:off x="7000920" y="2714760"/>
            <a:ext cx="1857240" cy="193032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7" descr="i1.jpg"/>
          <p:cNvPicPr/>
          <p:nvPr/>
        </p:nvPicPr>
        <p:blipFill>
          <a:blip r:embed="rId4"/>
          <a:stretch/>
        </p:blipFill>
        <p:spPr>
          <a:xfrm>
            <a:off x="4643280" y="3500280"/>
            <a:ext cx="1704960" cy="142884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6" descr="3.jpg"/>
          <p:cNvPicPr/>
          <p:nvPr/>
        </p:nvPicPr>
        <p:blipFill>
          <a:blip r:embed="rId5"/>
          <a:stretch/>
        </p:blipFill>
        <p:spPr>
          <a:xfrm>
            <a:off x="6372360" y="5211720"/>
            <a:ext cx="164772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вук - буква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идактическая игра «Узнай звук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0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ям предлагается прослушать текст и назвать, какой звук чаще всего встречается в н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ут мышка. У мышки мышата. Мышка шумит. Мышата шурша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Рисунок 12" descr="BD07331_"/>
          <p:cNvPicPr/>
          <p:nvPr/>
        </p:nvPicPr>
        <p:blipFill>
          <a:blip r:embed="rId1"/>
          <a:stretch/>
        </p:blipFill>
        <p:spPr>
          <a:xfrm>
            <a:off x="684360" y="4653000"/>
            <a:ext cx="2544480" cy="15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1" name="Стрелка вправо 9"/>
          <p:cNvSpPr/>
          <p:nvPr/>
        </p:nvSpPr>
        <p:spPr>
          <a:xfrm>
            <a:off x="3635280" y="51721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4" descr="82370491_large_SH.png"/>
          <p:cNvPicPr/>
          <p:nvPr/>
        </p:nvPicPr>
        <p:blipFill>
          <a:blip r:embed="rId3"/>
          <a:stretch/>
        </p:blipFill>
        <p:spPr>
          <a:xfrm>
            <a:off x="5364000" y="4653000"/>
            <a:ext cx="2532240" cy="18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ртикуляционная гимнастик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еские  и динамическ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574668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ффективный метод на этапе постановки звуков для удерживания  артикуляционных поз и укрепления мышц речевого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2" descr="gimnastika1.jpg"/>
          <p:cNvPicPr/>
          <p:nvPr/>
        </p:nvPicPr>
        <p:blipFill>
          <a:blip r:embed="rId1"/>
          <a:stretch/>
        </p:blipFill>
        <p:spPr>
          <a:xfrm>
            <a:off x="971640" y="1341360"/>
            <a:ext cx="3024000" cy="4202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"/>
          <p:cNvPicPr/>
          <p:nvPr/>
        </p:nvPicPr>
        <p:blipFill>
          <a:blip r:embed="rId2"/>
          <a:stretch/>
        </p:blipFill>
        <p:spPr>
          <a:xfrm>
            <a:off x="4983120" y="1341360"/>
            <a:ext cx="3006720" cy="42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034480" cy="53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уальность темы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ч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е является врождённой способностью, а развивается параллельно с физическим и умственным развитием ребёнка ,служит показателем его общего развит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ннее выявление детей с нарушением звукопроизношения и оказание им специализированной помощи в специально организованных условиях помогает корригировать речевую функцию у дошкольников, предотвращая возникновение трудностей письма и чтения . 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Я НА ЗВУКОВОЙ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АНАЛИЗ И СИНТЕЗ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000" y="2972880"/>
            <a:ext cx="4241880" cy="465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«Собери букет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ить объединять звуки  в сло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ям предлагается изображение цветов, внутри которых написаны буквы. Дети должны соединить звуки вместе, чтобы получилось целое слов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Паровоз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«Где ты слышишь звук: в начале, середине, конце слова». Букву нужно поставить в соответствующий вагончик. Используются картинки с буквами и изображение паровоза с вагончи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2" descr="цветок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635800" y="920880"/>
            <a:ext cx="1466640" cy="1090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цветок3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7196040" y="1639800"/>
            <a:ext cx="1609920" cy="12034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4" descr="цветы2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5489640" y="2421000"/>
            <a:ext cx="1466640" cy="110484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4"/>
          <p:cNvSpPr/>
          <p:nvPr/>
        </p:nvSpPr>
        <p:spPr>
          <a:xfrm>
            <a:off x="5380200" y="1838160"/>
            <a:ext cx="5108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7327800" y="2611440"/>
            <a:ext cx="5112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732720" y="3344760"/>
            <a:ext cx="4633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Рисунок 3" descr="wagon2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4888080" y="4468680"/>
            <a:ext cx="2214360" cy="121464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2" descr="Паровозик"/>
          <p:cNvPicPr/>
          <p:nvPr/>
        </p:nvPicPr>
        <p:blipFill>
          <a:blip r:embed="rId5">
            <a:lum contrast="22000"/>
          </a:blip>
          <a:stretch/>
        </p:blipFill>
        <p:spPr>
          <a:xfrm>
            <a:off x="7102440" y="439740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м из важнейших направлений в деятельности логопеда ДОУ является работа с родителями, как одно из условий оптимизации педагогического процесса и социализации ребенка, имеющего речевые нарушения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важно сделать родителей активными участниками педагогического процесса, научить их адекватно оценивать и развивать своего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C:\Documents and Settings\Администратор\Рабочий стол\логопеды\8911195_3ca115f0.jpg"/>
          <p:cNvPicPr/>
          <p:nvPr/>
        </p:nvPicPr>
        <p:blipFill>
          <a:blip r:embed="rId1"/>
          <a:stretch/>
        </p:blipFill>
        <p:spPr>
          <a:xfrm>
            <a:off x="5715000" y="3857760"/>
            <a:ext cx="2903400" cy="256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WordArt 5"/>
          <p:cNvSpPr txBox="1"/>
          <p:nvPr/>
        </p:nvSpPr>
        <p:spPr>
          <a:xfrm>
            <a:off x="2484360" y="2205000"/>
            <a:ext cx="424836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50000">
                      <a:srgbClr val="9966ff"/>
                    </a:gs>
                    <a:gs pos="100000">
                      <a:srgbClr val="9900ff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50000">
                    <a:srgbClr val="9966ff"/>
                  </a:gs>
                  <a:gs pos="100000">
                    <a:srgbClr val="99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2643120" y="1785960"/>
            <a:ext cx="35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дошкольник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- 5 ле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500040" y="134928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легко общается и расширяет свой словар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ас до 2000 сл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пересказать простой рассказ по картинкам — с вступлением, серединой и конц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может описать картинку четырьмя-пятью предложениями, правильно употребляя большинство грамматически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 правильно произносит большинство звуков (хотя трудности могут вызывать звуки «р» и «л»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употребляет в своей речи много описательных слов, включая слова, обозначающие время, например, «вче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3" descr="1361285577_rechevoe_razvitie_rebenka.gif"/>
          <p:cNvPicPr/>
          <p:nvPr/>
        </p:nvPicPr>
        <p:blipFill>
          <a:blip r:embed="rId1"/>
          <a:stretch/>
        </p:blipFill>
        <p:spPr>
          <a:xfrm>
            <a:off x="5583240" y="4405320"/>
            <a:ext cx="332280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дошколь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- 7 ле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"/>
          <p:cNvSpPr/>
          <p:nvPr/>
        </p:nvSpPr>
        <p:spPr>
          <a:xfrm>
            <a:off x="785880" y="1428840"/>
            <a:ext cx="6643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орме должны быть сформированы все звуковые фонемы, должна быть четкая дифференциация звуков в свобод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может описывать, чем схожи и чем различаются два предмета, пересказывать истории или события  с и без помощи картинок, а также воспроизводить содержание прошлых бесед и собы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Рисунок 4" descr="ae986c778153c7a0581c0ce6bf7cedc3.jpg"/>
          <p:cNvPicPr/>
          <p:nvPr/>
        </p:nvPicPr>
        <p:blipFill>
          <a:blip r:embed="rId1"/>
          <a:stretch/>
        </p:blipFill>
        <p:spPr>
          <a:xfrm>
            <a:off x="6572160" y="3714840"/>
            <a:ext cx="2273400" cy="29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 родного язы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равильного звукопроизношения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общем развитии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"/>
          <p:cNvSpPr/>
          <p:nvPr/>
        </p:nvSpPr>
        <p:spPr>
          <a:xfrm>
            <a:off x="357120" y="1500120"/>
            <a:ext cx="77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ция, общение, возможность свободно рассуждать, делать выводы, отражать связи между предметами и яв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изация (передача опы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ственное развитие(внимание, память, мышление, лог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щение к общей культуре(художественная литера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личности (характер, эмоции, волевая сф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Рисунок 3" descr="deti_0.jpg"/>
          <p:cNvPicPr/>
          <p:nvPr/>
        </p:nvPicPr>
        <p:blipFill>
          <a:blip r:embed="rId1"/>
          <a:stretch/>
        </p:blipFill>
        <p:spPr>
          <a:xfrm>
            <a:off x="6156360" y="4389480"/>
            <a:ext cx="2844720" cy="228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2286000" y="1358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-х л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ёнок способен выделить звук на фоне сло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-ти л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делить ударный гласный в начале сло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-ти 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определить первый согласный звук в слове (дом, булка и др.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пределить последний звук в слове (сыр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еделить согласный в середин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определить последовательность звуков в слове (мак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определить количество звуков в слов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оценным фонематическим анализом ребёнок овладевает в процессе обучения грамоте.  К концу дошкольного возраста ребёнок правильно слышит каждую фонему языка. Не смешивает её с другими фонемами, овладевает их произношение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зношение звуков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68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чины нарушений звукопроизношени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ми причинами нарушений звукопроизношения у детей с нормальным интеллектом, без выраженных отклонений в поведении являются следующие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нарушения слуха и слуховой дифференциации звуков речи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*нарушение анатомического строения артикуляторного аппарата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*нарушение его нормального функционирования (недостаточная подвижность артикуляторных органов)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*неправильная речь окружающих ребенка людей или недостаточное с их стороны внимание к его ре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нарушений звукопроизнош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онус или астения органов артикуляц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зрелость речевых зон коры головного мозг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частые простудные заболевания , ЛОР-патолог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лабая моторика мелкой мускулатуры рук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доразвитие фонематического или физиологического слух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вуязычие в семье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формируется правильное произношени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* Управление органами артикуляции для внятности и чистоты зву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сприятие обращенной речи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бота над постановкой и закреплением зву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Звуковая культура речи в упражнениях и играх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обственно правильное произношени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амопроизвольный контроль за собственной реч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в грамотной языков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3:17:52Z</dcterms:created>
  <dc:creator>User</dc:creator>
  <dc:description/>
  <dc:language>en-US</dc:language>
  <cp:lastModifiedBy>user5</cp:lastModifiedBy>
  <dcterms:modified xsi:type="dcterms:W3CDTF">2014-10-15T09:01:41Z</dcterms:modified>
  <cp:revision>176</cp:revision>
  <dc:subject/>
  <dc:title>Слайд 1</dc:title>
</cp:coreProperties>
</file>