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15.wmf" ContentType="image/x-wmf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E643-31FA-41EE-BEB2-06FBA809BCA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4123-09B4-4CDE-9A43-98265DB0B0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C085-A54F-47BC-8A76-E35A9599D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5304-3708-41EE-B678-3812C99E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ADDFD1-B451-4B85-BF2B-8E6D63D8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EE062-9584-4766-BFEB-763CD87F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6EBADC-E2BD-4A04-8B53-1404AF65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A5537-85B8-4074-98BE-340A3162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CFCEB7-75F0-4400-81E4-02E4D9A6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265FB0-4588-4CF3-A2BE-C01AA1E2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8ECFE7-A024-4304-91D3-CF7BEE54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B76A0F-8441-447D-B321-EB866D39E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33B84-C3F8-4006-AC03-4A1595A11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B5EBAE-BE8E-40A7-BE35-6C6F5223B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2D52-1E55-4314-86C5-336C7B46B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E71154-8D2A-4EAB-8A28-F186F4EF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400AF5-A2B2-4EC6-B7C1-77B53477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DE14C2-4523-4625-908B-33942023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B1EA38-7EDA-4FA6-A670-084B0FC4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04AF1C-4626-4E4F-BAEC-9A760303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F20EEF-1E1B-438F-B69F-0010F746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7CF826-5466-4CFA-BD79-77B5E3DE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39D35E-EF6F-4452-A7E1-7802DA46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BBEC4-AFE1-4DB5-A11C-755F2A7E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3D0A00-8E41-4C7E-82F0-69DE7B9CE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9513-8D0B-4233-B4F9-6F5E29EBA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098641-F64B-480C-9E45-D1D6DE9E0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409E88-26EE-4AD0-BB3D-A84F7FE5C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DEB51-7213-4D21-A30B-4DC778F5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42900-6E8F-4DAE-ADF8-874673DC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4FCF0-B8A0-44F6-A81F-0F2967CD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804803-22DD-4678-83D8-C5657775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1EDA6-D48B-4FE3-A123-7E0C709D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F654D-33F1-4EE0-8144-DF5A5E33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6CC70-C016-4327-9DD8-284B1CD7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19D03-967D-4AB5-9256-3F4DDC72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A4D7-78DE-4C1A-A3C6-2565BD18E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191F0-2721-432A-81C8-568CD9FC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B28C6-F6EE-4DBB-888F-B9C466834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BAB25-8F35-41BA-90B0-59AD77C97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740038-3439-4752-93FA-21A86B51B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8220BA-C744-49CA-93E6-86655162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D0D680-A102-484E-8756-968ADC96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9F1753-DB5D-4364-9A96-732060E8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B274BB-E268-4679-AE37-D4D5A8EF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332201-0211-43E8-BCA3-4592AAAB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FFA73F-47C0-4D5A-BE73-C9F15B3F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AD60-A46B-409F-BAA9-183D1D1D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C66C84-E245-434F-AF22-031FD8E3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2563F1-68FC-4ABD-9D05-9063228C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641277-96D6-4A70-9327-3141D4EB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FD5C86-FBD9-47F6-BA2E-02FF4F637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2C00C2-215C-4F80-9CC5-FECE6E4A0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3BE2-6F8D-419B-9DF7-53BBB889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E061-7BD3-411F-B38D-431FC772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2F3E-F459-427E-9BEC-8E2BF7B6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446C-E8B1-4003-8F9D-D788913B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FE4A-4D99-4E55-9A27-070FAC35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BACF-B5DA-4AA3-90CB-E6CCA6BA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83A8-AF2A-4FC3-98C6-CD861DD7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8C98-983C-40CC-9ABF-A3ADCF04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58C9-3DCC-4CFA-8146-9433C14A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5E15-CA6E-4A29-93A8-C6ED00AB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5A7C-5287-4CCD-9711-8596E9CBA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9FBCD-D25F-4AD3-8A28-C8F298D85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C7751-10B4-4938-B396-F6D882ED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49267-7A64-43E8-9C54-FF3AAF36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404FE-CE15-432A-B12D-0A9EA2F1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643CE-5E24-41F2-94AB-D06B9020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AFFD-B66F-46F2-BF3A-C9DED937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CC8B8-79CF-4EE2-BD10-9BFD293A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6387F-E157-48D5-842B-D418FE30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A4C2A-F5A3-4D6D-8A1F-84FD5FDE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70656-B3A7-4580-B726-0EA25CE8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A5527-7E52-4CC8-917D-9C4AF701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295E1-8AF9-471C-8420-EF01D7CC2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3F84D-6920-4139-ABFA-D9E2A4170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4DFD9-74BE-49E2-944B-36DC383E9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030E2-8BEE-4558-AB6B-D7CC2AC4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EE9D8-ED0E-4A33-ACD1-594EA3AD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5F14-2AC1-4C27-9039-9A0BE774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89478-66CA-4BF2-9652-D40C784F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A180C-AB42-48EB-B3EF-76B2B72C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4E098-A5A9-469C-9908-3E574A16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719C2-0B67-4C29-8C9A-A1863C62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AE148-868A-4179-AC30-C46AEA92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15E8A-166E-400F-83B7-1E236BA8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F94B6-0D70-4C24-AD74-1C0EFF68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EDA4C-0E86-460B-BAB2-F38465BF8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A9A09-238C-42ED-8365-E8992601B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F4F98-C859-47C2-B5B1-3FE73D371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D3CB-EF3D-4AFC-B4AD-ED010599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47DCD-5E4B-4362-8BD2-1E1093DE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BF474-C359-41B3-B08C-67EDA730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C6234-E886-4A8F-B5E6-4A57FCB3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34F4E-9DDE-4E33-BFDA-C5563EFC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CF9A1-7079-4CDC-BA8B-81A6FC11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56BEB-F2E4-4F2B-9337-94F25EE0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7B2A5-65A4-47ED-991E-2509DE1E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19892-156F-4E1E-8533-535A3C24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F2C58-A17F-4F2E-873C-BED2283F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7EF63-B405-48E4-B673-423F7FBDA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E449-822A-4481-9BBB-5C203702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11B72-A989-4BCB-A240-15351B097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94320-047E-43B9-B77A-613906350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3976A-BBA5-4EC2-BF76-4B7AF035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7062A-4E8D-4E75-A6BF-23962B5D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B101B-3302-46C8-9E47-57221B4D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D3070-F31F-4422-9D08-018E12CB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DACF2-7DAE-45C9-B526-43C46E5D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C26D4-68C1-4DCB-91A8-2F6A5A54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3354C-FC4D-491E-981F-E0A19281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D5B04-8E85-4052-A0B5-1641AFFE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BC2E-E683-4A0B-8AE9-4CCF022E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69585-AB8F-4FFD-ACD5-AD055BDB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CE821-7009-4E63-81B3-51B720C93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8DEA0-9904-4649-B91D-1078251AC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ECD72-42D3-4D80-ADA0-07CC6055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A1863-0C8D-40CA-85A2-8528A227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01772-714E-4692-BC8F-CDB24EA6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4FE16-0B02-4483-AE1C-8CE80D68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41FC7-3820-4955-AFC1-6F168BEC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A9155-BB56-4311-A78C-053ABC54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EF83C-BEF7-4C73-9AF9-1494C018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CBE5-4D8B-4A7E-9D4E-43986D85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942BE-B765-4AC1-834D-EEF6833C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BB59B-A823-4361-9192-41F9F327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39B42-07A2-40AC-BE93-09BB2935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B77A6-A0EC-4BBE-B92B-6618FD254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48F05-2BD7-4EAB-BF3D-DDD156818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3D543-0F68-4A8E-A15F-4CBFA8A53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80E83-1D51-41DF-A2A7-A58405CC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2AE8B-B402-408D-B3DF-10128030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74DE4-EDC5-4DD9-8B48-69563A71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0AE93-0F5F-41D3-B808-4F3640E8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D7BF-FFA7-47F1-BDCE-02C4B1D7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CDA66-D7CC-46D5-9599-7371A91E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7E95B-F280-4077-ADB7-E1838F45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E6FEA-DBEA-42EA-B198-C51BF9E8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737F2-23D7-4A66-AA8D-2D67DA7E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691C8-4AC6-4035-96E6-85F39BBB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F6459-1146-4177-B80A-115C8A060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5DDC8-60A0-439F-B971-52EFD527B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3968AC-617A-44A4-987B-498959771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6CDDB-EFAE-4F4D-9C5A-32F14BF4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21ED2-723C-43F7-846B-FA686609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ffff00"/>
            </a:gs>
            <a:gs pos="100000">
              <a:srgbClr val="3333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3E9A-B831-49AE-A5D8-CDD9901D9C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ffff00"/>
            </a:gs>
            <a:gs pos="100000">
              <a:srgbClr val="3333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05CA-8C66-4C23-BF70-8C5109D7AD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ffff00"/>
            </a:gs>
            <a:gs pos="100000">
              <a:srgbClr val="3333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B11E-B858-4AA2-B47E-7E0505A814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ffff00"/>
            </a:gs>
            <a:gs pos="100000">
              <a:srgbClr val="3333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2386-5EB7-4D94-AE91-F82FD5EB17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ffff00"/>
            </a:gs>
            <a:gs pos="100000">
              <a:srgbClr val="3333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57DD-7687-485A-8825-DB3BFB3CCB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ffff00"/>
            </a:gs>
            <a:gs pos="100000">
              <a:srgbClr val="3333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EE4B-2D4E-411A-A504-281EBA0ACA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ffff00"/>
            </a:gs>
            <a:gs pos="100000">
              <a:srgbClr val="3333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3F31-D961-4A0A-ABD9-764BF73DA9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ffff00"/>
            </a:gs>
            <a:gs pos="100000">
              <a:srgbClr val="3333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DBF5-9EBF-4B3F-AC18-B90CC8999D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ffff00"/>
            </a:gs>
            <a:gs pos="100000">
              <a:srgbClr val="3333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4752-57EB-4C21-8497-623EE66257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ffff00"/>
            </a:gs>
            <a:gs pos="100000">
              <a:srgbClr val="3333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5B62-9B35-4E6D-8C11-6802C103E5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ffff00"/>
            </a:gs>
            <a:gs pos="100000">
              <a:srgbClr val="3333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6AFD-A95F-46F7-9F69-25A9743000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ffff00"/>
            </a:gs>
            <a:gs pos="100000">
              <a:srgbClr val="3333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CEFA-3700-4DB6-83F3-86774398A7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4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оугольник 1"/>
          <p:cNvSpPr/>
          <p:nvPr/>
        </p:nvSpPr>
        <p:spPr>
          <a:xfrm>
            <a:off x="324000" y="404640"/>
            <a:ext cx="8280360" cy="75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ние и сотрудничество - средства   оптимизации формирования звуковой культуры речи дошколь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огопед: Будникова  Динар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ДОУ №15 «Сказк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 Лермонтов  2014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5" descr="C:\Documents and Settings\Администратор\Рабочий стол\логопеды\8911195_3ca115f0.jpg"/>
          <p:cNvPicPr/>
          <p:nvPr/>
        </p:nvPicPr>
        <p:blipFill>
          <a:blip r:embed="rId1"/>
          <a:stretch/>
        </p:blipFill>
        <p:spPr>
          <a:xfrm>
            <a:off x="5867280" y="3789360"/>
            <a:ext cx="2903760" cy="2568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ожет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мочь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ку в формировании правильного звукопроизно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рямоугольник 1"/>
          <p:cNvSpPr/>
          <p:nvPr/>
        </p:nvSpPr>
        <p:spPr>
          <a:xfrm>
            <a:off x="428760" y="1428840"/>
            <a:ext cx="7786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лементарные знания род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зитивный настр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этапность введения матери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истематичность зан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должительность занятий не более 15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спользование   наглядности и иг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Рисунок 4" descr="montessori.jpg"/>
          <p:cNvPicPr/>
          <p:nvPr/>
        </p:nvPicPr>
        <p:blipFill>
          <a:blip r:embed="rId1"/>
          <a:stretch/>
        </p:blipFill>
        <p:spPr>
          <a:xfrm>
            <a:off x="4929120" y="4024440"/>
            <a:ext cx="4024440" cy="2676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ожет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вреди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бенку в формировании правильного звукопроизношен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Прямоугольник 1"/>
          <p:cNvSpPr/>
          <p:nvPr/>
        </p:nvSpPr>
        <p:spPr>
          <a:xfrm>
            <a:off x="468360" y="981000"/>
            <a:ext cx="7786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беждение что «перерасте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мотивированный натиск, форсирование звукового 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сюсюканье» или  чрезмерные требования к ребен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регулярность  и объемность зан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Рисунок 3" descr="56478.jpg"/>
          <p:cNvPicPr/>
          <p:nvPr/>
        </p:nvPicPr>
        <p:blipFill>
          <a:blip r:embed="rId1"/>
          <a:stretch/>
        </p:blipFill>
        <p:spPr>
          <a:xfrm>
            <a:off x="5508720" y="4437000"/>
            <a:ext cx="3421080" cy="227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4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Прямоугольник 1"/>
          <p:cNvSpPr/>
          <p:nvPr/>
        </p:nvSpPr>
        <p:spPr>
          <a:xfrm>
            <a:off x="395280" y="304920"/>
            <a:ext cx="8209080" cy="57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одители должны формировать правильное отношение к речевому нарушению у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ругать ребенка за неправильную реч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навязчиво исправлять неправильное произнош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заострять внимание на запинках и повторах слогов и сл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лять позитивный настрой ребенка на занятия с педагог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и должны научиться выполнять и показывать ребенку простые артикуляционные упражнения для подготовки речевого аппарата к правильному звукопроизнош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делять особое внимание выполнению домашних логопедических зад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пособы оптимизации формирования звуковой культуры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Прямоугольник 1"/>
          <p:cNvSpPr/>
          <p:nvPr/>
        </p:nvSpPr>
        <p:spPr>
          <a:xfrm>
            <a:off x="857160" y="1071720"/>
            <a:ext cx="73580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спользование движений, сочетаемых с реч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е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льчиковая гимна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саж ладо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жнение на развитие силы кистей р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ртикуляционная гимна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селый языч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тешествие в Страну правильной реч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ыхательная гимна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ская методика  Стрельник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гры на развитие правильного звукопроизно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кажи  словеч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ихи – небыл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тоговор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говор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ихотворные формы и расск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4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Прямоугольник 1"/>
          <p:cNvSpPr/>
          <p:nvPr/>
        </p:nvSpPr>
        <p:spPr>
          <a:xfrm>
            <a:off x="571680" y="1071720"/>
            <a:ext cx="796104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грайте вместе с ребенком в развивающие  игры, налаживайте речевой, эмоциональный контак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Прямоугольник 3"/>
          <p:cNvSpPr/>
          <p:nvPr/>
        </p:nvSpPr>
        <p:spPr>
          <a:xfrm>
            <a:off x="1928880" y="42876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граем с деть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Рисунок 4" descr="omsk_b_40340.jpg"/>
          <p:cNvPicPr/>
          <p:nvPr/>
        </p:nvPicPr>
        <p:blipFill>
          <a:blip r:embed="rId1"/>
          <a:stretch/>
        </p:blipFill>
        <p:spPr>
          <a:xfrm>
            <a:off x="5651640" y="2637000"/>
            <a:ext cx="2449440" cy="3736800"/>
          </a:xfrm>
          <a:prstGeom prst="rect">
            <a:avLst/>
          </a:prstGeom>
          <a:ln w="0">
            <a:noFill/>
          </a:ln>
        </p:spPr>
      </p:pic>
      <p:sp>
        <p:nvSpPr>
          <p:cNvPr id="535" name="Прямоугольник 5"/>
          <p:cNvSpPr/>
          <p:nvPr/>
        </p:nvSpPr>
        <p:spPr>
          <a:xfrm>
            <a:off x="539640" y="263700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убл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ублик мы с тобой           слепил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лавно губки округли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х теперь нельзя смыка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ублик надо удержа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8424720" cy="36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момассаж с предметами</a:t>
            </a:r>
            <a:br>
              <a:rPr sz="4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Эффективный метод  на всех этапах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звития речи.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могает согласовывать работу понятийного и двигательного центров реч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развивая силу кисти рук, повышает тонус коры головного мозга.</a:t>
            </a:r>
            <a:br>
              <a:rPr sz="2400"/>
            </a:br>
            <a:br>
              <a:rPr sz="2800"/>
            </a:b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11280" y="3886200"/>
            <a:ext cx="3673440" cy="24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ладь мои ладони, еж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ы колючий, ну и что ж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Я хочу тебя поглади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Я хочу с тобой полад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Рисунок 5" descr="pimg_1163_334.jpg"/>
          <p:cNvPicPr/>
          <p:nvPr/>
        </p:nvPicPr>
        <p:blipFill>
          <a:blip r:embed="rId1"/>
          <a:stretch/>
        </p:blipFill>
        <p:spPr>
          <a:xfrm>
            <a:off x="4859280" y="3933720"/>
            <a:ext cx="3643200" cy="2748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витие чувства ритма и координации движений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61880" y="1484280"/>
            <a:ext cx="8129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ффективный метод  на всех этапах развития речи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овывает движения и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Я хватаюсь за верев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авой ловко, левой лов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 узлы ее бер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се слова проговор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Рисунок 3" descr="corda-nodi.jpg"/>
          <p:cNvPicPr/>
          <p:nvPr/>
        </p:nvPicPr>
        <p:blipFill>
          <a:blip r:embed="rId1"/>
          <a:stretch/>
        </p:blipFill>
        <p:spPr>
          <a:xfrm>
            <a:off x="6357960" y="3500280"/>
            <a:ext cx="2238480" cy="2932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«Немая» артикуляция и</a:t>
            </a:r>
            <a:br>
              <a:rPr sz="3600"/>
            </a:b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знакомство с букв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Рисунок 3" descr="94647.gif"/>
          <p:cNvPicPr/>
          <p:nvPr/>
        </p:nvPicPr>
        <p:blipFill>
          <a:blip r:embed="rId1"/>
          <a:stretch/>
        </p:blipFill>
        <p:spPr>
          <a:xfrm>
            <a:off x="500040" y="1557360"/>
            <a:ext cx="3857760" cy="4782960"/>
          </a:xfrm>
          <a:prstGeom prst="rect">
            <a:avLst/>
          </a:prstGeom>
          <a:ln w="0">
            <a:noFill/>
          </a:ln>
        </p:spPr>
      </p:pic>
      <p:pic>
        <p:nvPicPr>
          <p:cNvPr id="544" name="Рисунок 4" descr="77769595_1.png"/>
          <p:cNvPicPr/>
          <p:nvPr/>
        </p:nvPicPr>
        <p:blipFill>
          <a:blip r:embed="rId2"/>
          <a:stretch/>
        </p:blipFill>
        <p:spPr>
          <a:xfrm>
            <a:off x="5072040" y="135720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545" name="Рисунок 5" descr="0_68cdf_eb24c906_L.jpg"/>
          <p:cNvPicPr/>
          <p:nvPr/>
        </p:nvPicPr>
        <p:blipFill>
          <a:blip r:embed="rId3"/>
          <a:stretch/>
        </p:blipFill>
        <p:spPr>
          <a:xfrm>
            <a:off x="7000920" y="2714760"/>
            <a:ext cx="1857240" cy="1930320"/>
          </a:xfrm>
          <a:prstGeom prst="rect">
            <a:avLst/>
          </a:prstGeom>
          <a:ln w="0">
            <a:noFill/>
          </a:ln>
        </p:spPr>
      </p:pic>
      <p:pic>
        <p:nvPicPr>
          <p:cNvPr id="546" name="Рисунок 7" descr="i1.jpg"/>
          <p:cNvPicPr/>
          <p:nvPr/>
        </p:nvPicPr>
        <p:blipFill>
          <a:blip r:embed="rId4"/>
          <a:stretch/>
        </p:blipFill>
        <p:spPr>
          <a:xfrm>
            <a:off x="4643280" y="3500280"/>
            <a:ext cx="1704960" cy="1428840"/>
          </a:xfrm>
          <a:prstGeom prst="rect">
            <a:avLst/>
          </a:prstGeom>
          <a:ln w="0">
            <a:noFill/>
          </a:ln>
        </p:spPr>
      </p:pic>
      <p:pic>
        <p:nvPicPr>
          <p:cNvPr id="547" name="Рисунок 6" descr="3.jpg"/>
          <p:cNvPicPr/>
          <p:nvPr/>
        </p:nvPicPr>
        <p:blipFill>
          <a:blip r:embed="rId5"/>
          <a:stretch/>
        </p:blipFill>
        <p:spPr>
          <a:xfrm>
            <a:off x="6372360" y="5211720"/>
            <a:ext cx="1647720" cy="1428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Звук - буква</a:t>
            </a:r>
            <a:br>
              <a:rPr sz="3600"/>
            </a:b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Дидактическая игра «Узнай звук»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0" y="2133720"/>
            <a:ext cx="9036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ям предлагается прослушать текст и назвать, какой звук чаще всего встречается в н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ут мышка. У мышки мышата. Мышка шумит. Мышата шуршат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Рисунок 12" descr="BD07331_"/>
          <p:cNvPicPr/>
          <p:nvPr/>
        </p:nvPicPr>
        <p:blipFill>
          <a:blip r:embed="rId1"/>
          <a:stretch/>
        </p:blipFill>
        <p:spPr>
          <a:xfrm>
            <a:off x="684360" y="4653000"/>
            <a:ext cx="2544480" cy="1500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51" name="Стрелка вправо 9"/>
          <p:cNvSpPr/>
          <p:nvPr/>
        </p:nvSpPr>
        <p:spPr>
          <a:xfrm>
            <a:off x="3635280" y="517212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Рисунок 4" descr="82370491_large_SH.png"/>
          <p:cNvPicPr/>
          <p:nvPr/>
        </p:nvPicPr>
        <p:blipFill>
          <a:blip r:embed="rId3"/>
          <a:stretch/>
        </p:blipFill>
        <p:spPr>
          <a:xfrm>
            <a:off x="5364000" y="4653000"/>
            <a:ext cx="2532240" cy="1820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85694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ртикуляционная гимнастика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ические  и динамические упраж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6840" y="574668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ффективный метод на этапе постановки звуков для удерживания  артикуляционных поз и укрепления мышц речевого аппар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Рисунок 2" descr="gimnastika1.jpg"/>
          <p:cNvPicPr/>
          <p:nvPr/>
        </p:nvPicPr>
        <p:blipFill>
          <a:blip r:embed="rId1"/>
          <a:stretch/>
        </p:blipFill>
        <p:spPr>
          <a:xfrm>
            <a:off x="971640" y="1341360"/>
            <a:ext cx="3024000" cy="42022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2" descr=""/>
          <p:cNvPicPr/>
          <p:nvPr/>
        </p:nvPicPr>
        <p:blipFill>
          <a:blip r:embed="rId2"/>
          <a:stretch/>
        </p:blipFill>
        <p:spPr>
          <a:xfrm>
            <a:off x="4983120" y="1341360"/>
            <a:ext cx="3006720" cy="4202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4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034480" cy="531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Актуальность темы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еч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не является врождённой способностью, а развивается параллельно с физическим и умственным развитием ребёнка ,служит показателем его общего развити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ннее выявление детей с нарушением звукопроизношения и оказание им специализированной помощи в специально организованных условиях помогает корригировать речевую функцию у дошкольников, предотвращая возникновение трудностей письма и чтения . </a:t>
            </a:r>
            <a:br>
              <a:rPr sz="2800"/>
            </a:br>
            <a:br>
              <a:rPr sz="1800"/>
            </a:b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ЗАДАНИЯ НА ЗВУКОВОЙ</a:t>
            </a:r>
            <a:br>
              <a:rPr sz="3600"/>
            </a:b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 АНАЛИЗ И СИНТЕЗ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68000" y="2972880"/>
            <a:ext cx="4241880" cy="465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гра «Собери букет»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чить объединять звуки  в слово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ям предлагается изображение цветов, внутри которых написаны буквы. Дети должны соединить звуки вместе, чтобы получилось целое слово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дактическая игра «Паровоз»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«Где ты слышишь звук: в начале, середине, конце слова». Букву нужно поставить в соответствующий вагончик. Используются картинки с буквами и изображение паровоза с вагончикам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Рисунок 2" descr="цветок5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635800" y="920880"/>
            <a:ext cx="1466640" cy="1090440"/>
          </a:xfrm>
          <a:prstGeom prst="rect">
            <a:avLst/>
          </a:prstGeom>
          <a:ln w="0">
            <a:noFill/>
          </a:ln>
        </p:spPr>
      </p:pic>
      <p:pic>
        <p:nvPicPr>
          <p:cNvPr id="560" name="Рисунок 3" descr="цветок3"/>
          <p:cNvPicPr/>
          <p:nvPr/>
        </p:nvPicPr>
        <p:blipFill>
          <a:blip r:embed="rId2">
            <a:lum contrast="4000"/>
          </a:blip>
          <a:stretch/>
        </p:blipFill>
        <p:spPr>
          <a:xfrm>
            <a:off x="7196040" y="1639800"/>
            <a:ext cx="1609920" cy="1203480"/>
          </a:xfrm>
          <a:prstGeom prst="rect">
            <a:avLst/>
          </a:prstGeom>
          <a:ln w="0">
            <a:noFill/>
          </a:ln>
        </p:spPr>
      </p:pic>
      <p:pic>
        <p:nvPicPr>
          <p:cNvPr id="561" name="Рисунок 4" descr="цветы2"/>
          <p:cNvPicPr/>
          <p:nvPr/>
        </p:nvPicPr>
        <p:blipFill>
          <a:blip r:embed="rId3">
            <a:lum contrast="4000"/>
          </a:blip>
          <a:stretch/>
        </p:blipFill>
        <p:spPr>
          <a:xfrm>
            <a:off x="5489640" y="2421000"/>
            <a:ext cx="1466640" cy="1104840"/>
          </a:xfrm>
          <a:prstGeom prst="rect">
            <a:avLst/>
          </a:prstGeom>
          <a:ln w="0">
            <a:noFill/>
          </a:ln>
        </p:spPr>
      </p:pic>
      <p:sp>
        <p:nvSpPr>
          <p:cNvPr id="562" name="Text Box 4"/>
          <p:cNvSpPr/>
          <p:nvPr/>
        </p:nvSpPr>
        <p:spPr>
          <a:xfrm>
            <a:off x="5380200" y="1838160"/>
            <a:ext cx="510840" cy="3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7327800" y="2611440"/>
            <a:ext cx="511200" cy="3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6732720" y="3344760"/>
            <a:ext cx="463320" cy="3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Рисунок 3" descr="wagon2"/>
          <p:cNvPicPr/>
          <p:nvPr/>
        </p:nvPicPr>
        <p:blipFill>
          <a:blip r:embed="rId4">
            <a:lum contrast="10000"/>
          </a:blip>
          <a:stretch/>
        </p:blipFill>
        <p:spPr>
          <a:xfrm>
            <a:off x="4888080" y="4468680"/>
            <a:ext cx="2214360" cy="1214640"/>
          </a:xfrm>
          <a:prstGeom prst="rect">
            <a:avLst/>
          </a:prstGeom>
          <a:ln w="0">
            <a:noFill/>
          </a:ln>
        </p:spPr>
      </p:pic>
      <p:pic>
        <p:nvPicPr>
          <p:cNvPr id="566" name="Рисунок 2" descr="Паровозик"/>
          <p:cNvPicPr/>
          <p:nvPr/>
        </p:nvPicPr>
        <p:blipFill>
          <a:blip r:embed="rId5">
            <a:lum contrast="22000"/>
          </a:blip>
          <a:stretch/>
        </p:blipFill>
        <p:spPr>
          <a:xfrm>
            <a:off x="7102440" y="4397400"/>
            <a:ext cx="1857240" cy="128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4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им из важнейших направлений в деятельности логопеда ДОУ является работа с родителями, как одно из условий оптимизации педагогического процесса и социализации ребенка, имеющего речевые нарушения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чень важно сделать родителей активными участниками педагогического процесса, научить их адекватно оценивать и развивать своего ребе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5" descr="C:\Documents and Settings\Администратор\Рабочий стол\логопеды\8911195_3ca115f0.jpg"/>
          <p:cNvPicPr/>
          <p:nvPr/>
        </p:nvPicPr>
        <p:blipFill>
          <a:blip r:embed="rId1"/>
          <a:stretch/>
        </p:blipFill>
        <p:spPr>
          <a:xfrm>
            <a:off x="5715000" y="3857760"/>
            <a:ext cx="2903400" cy="2568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4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WordArt 5"/>
          <p:cNvSpPr txBox="1"/>
          <p:nvPr/>
        </p:nvSpPr>
        <p:spPr>
          <a:xfrm>
            <a:off x="2484360" y="2205000"/>
            <a:ext cx="4248360" cy="22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ff"/>
                    </a:gs>
                    <a:gs pos="50000">
                      <a:srgbClr val="9966ff"/>
                    </a:gs>
                    <a:gs pos="100000">
                      <a:srgbClr val="9900ff"/>
                    </a:gs>
                  </a:gsLst>
                  <a:lin ang="5400000"/>
                </a:gradFill>
                <a:latin typeface="Times New Roman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ff"/>
                  </a:gs>
                  <a:gs pos="50000">
                    <a:srgbClr val="9966ff"/>
                  </a:gs>
                  <a:gs pos="100000">
                    <a:srgbClr val="9900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2643120" y="1785960"/>
            <a:ext cx="3527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amond(in)" transition="out">
                                      <p:cBhvr additive="repl">
                                        <p:cTn id="6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ечи дошкольников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- 5 лет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оугольник 2"/>
          <p:cNvSpPr/>
          <p:nvPr/>
        </p:nvSpPr>
        <p:spPr>
          <a:xfrm>
            <a:off x="500040" y="134928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бенок легко общается и расширяет свой словарный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пас до 2000 слов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может пересказать простой рассказ по картинкам — с вступлением, серединой и конц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бенок может описать картинку четырьмя-пятью предложениями, правильно употребляя большинство грамматических элем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бенок правильно произносит большинство звуков (хотя трудности могут вызывать звуки «р» и «л»)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употребляет в своей речи много описательных слов, включая слова, обозначающие время, например, «вчер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Рисунок 3" descr="1361285577_rechevoe_razvitie_rebenka.gif"/>
          <p:cNvPicPr/>
          <p:nvPr/>
        </p:nvPicPr>
        <p:blipFill>
          <a:blip r:embed="rId1"/>
          <a:stretch/>
        </p:blipFill>
        <p:spPr>
          <a:xfrm>
            <a:off x="5583240" y="4405320"/>
            <a:ext cx="3322800" cy="221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ечи дошкольников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 - 7 ле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2"/>
          <p:cNvSpPr/>
          <p:nvPr/>
        </p:nvSpPr>
        <p:spPr>
          <a:xfrm>
            <a:off x="785880" y="1428840"/>
            <a:ext cx="6643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норме должны быть сформированы все звуковые фонемы, должна быть четкая дифференциация звуков в свободной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бенок может описывать, чем схожи и чем различаются два предмета, пересказывать истории или события  с и без помощи картинок, а также воспроизводить содержание прошлых бесед и событ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Рисунок 4" descr="ae986c778153c7a0581c0ce6bf7cedc3.jpg"/>
          <p:cNvPicPr/>
          <p:nvPr/>
        </p:nvPicPr>
        <p:blipFill>
          <a:blip r:embed="rId1"/>
          <a:stretch/>
        </p:blipFill>
        <p:spPr>
          <a:xfrm>
            <a:off x="6572160" y="3714840"/>
            <a:ext cx="2273400" cy="2963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начение родного язык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равильного звукопроизношения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 общем развитии ребе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1"/>
          <p:cNvSpPr/>
          <p:nvPr/>
        </p:nvSpPr>
        <p:spPr>
          <a:xfrm>
            <a:off x="357120" y="1500120"/>
            <a:ext cx="7786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муникация, общение, возможность свободно рассуждать, делать выводы, отражать связи между предметами и явле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ализация (передача опы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мственное развитие(внимание, память, мышление, логи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общение к общей культуре(художественная литерату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тие личности (характер, эмоции, волевая сфе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Рисунок 3" descr="deti_0.jpg"/>
          <p:cNvPicPr/>
          <p:nvPr/>
        </p:nvPicPr>
        <p:blipFill>
          <a:blip r:embed="rId1"/>
          <a:stretch/>
        </p:blipFill>
        <p:spPr>
          <a:xfrm>
            <a:off x="6156360" y="4389480"/>
            <a:ext cx="2844720" cy="2287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4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3"/>
          <p:cNvSpPr/>
          <p:nvPr/>
        </p:nvSpPr>
        <p:spPr>
          <a:xfrm>
            <a:off x="2286000" y="135828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00040" y="271440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-х ле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бёнок способен выделить звук на фоне слов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-ти ле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выделить ударный гласный в начале слов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-ти л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определить первый согласный звук в слове (дом, булка и др.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определить последний звук в слове (сыр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определить согласный в середине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определить последовательность звуков в слове (мак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) определить количество звуков в слов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лноценным фонематическим анализом ребёнок овладевает в процессе обучения грамоте.  К концу дошкольного возраста ребёнок правильно слышит каждую фонему языка. Не смешивает её с другими фонемами, овладевает их произношением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Заголовок 1"/>
          <p:cNvSpPr/>
          <p:nvPr/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изношение звуков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7168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чины нарушений звукопроизношения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br>
              <a:rPr sz="2000"/>
            </a:br>
            <a:br>
              <a:rPr sz="20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ыми причинами нарушений звукопроизношения у детей с нормальным интеллектом, без выраженных отклонений в поведении являются следующие:</a:t>
            </a:r>
            <a:br>
              <a:rPr sz="1800"/>
            </a:b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нарушения слуха и слуховой дифференциации звуков речи;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*нарушение анатомического строения артикуляторного аппарата;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*нарушение его нормального функционирования (недостаточная подвижность артикуляторных органов);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*неправильная речь окружающих ребенка людей или недостаточное с их стороны внимание к его реч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нарушений звукопроизношени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400"/>
            </a:br>
            <a:br>
              <a:rPr sz="24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тонус или астения органов артикуляции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незрелость речевых зон коры головного мозга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частые простудные заболевания , ЛОР-патология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слабая моторика мелкой мускулатуры рук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недоразвитие фонематического или физиологического слуха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двуязычие в семье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ак формируется правильное произношение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* Управление органами артикуляции для внятности и чистоты звука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Восприятие обращенной речи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Работа над постановкой и закреплением звука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Звуковая культура речи в упражнениях и играх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Собственно правильное произношение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Самопроизвольный контроль за собственной речь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ние в грамотной языков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3:17:52Z</dcterms:created>
  <dc:creator>User</dc:creator>
  <dc:description/>
  <dc:language>en-US</dc:language>
  <cp:lastModifiedBy>user5</cp:lastModifiedBy>
  <dcterms:modified xsi:type="dcterms:W3CDTF">2014-10-15T09:01:41Z</dcterms:modified>
  <cp:revision>176</cp:revision>
  <dc:subject/>
  <dc:title>Слайд 1</dc:title>
</cp:coreProperties>
</file>