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533-109C-41D3-8CE1-AF866558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37E-3E04-4A4F-B1B4-6C4FD4DE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AC4-09CF-4CFB-BB36-45865C65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6E2-74C6-4AF3-9CE5-ABAAF911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C1EE5-F0A7-4BD1-869C-D2717843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E6795-FE51-42E1-960C-4CE04A2C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34434-7D44-433F-9F26-16D503CF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2C8F9-574F-424B-9F57-7AEA7106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81DA1-ECA6-4E8C-92C7-CB91C83A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18D93-80AC-47F8-8D5D-999CAE0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EFF82-8EB0-4370-95B0-72FDC604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0A1-F24B-47B4-A1B5-3960608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471E9-5F24-4A41-8747-DCE5E72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05B18-FBB0-490F-975F-830F5357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A5449-F72B-47B7-9CC1-1CDCD26C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CBE08-D5ED-459E-B995-BBD082EA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5B9E2-C482-4315-A419-91AE2A47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1933-AB09-4E41-AFBD-9962B9F8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26ABB-6EC6-44D1-929E-4CB966AA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51C5-8D3E-4308-906C-F01E56E7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9D6A-F245-47CA-8109-2B3EF659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A516-8957-4B8F-B731-AD40A7D6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BEC-9E69-489D-9EEF-86C47F02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D9C3-261B-49AB-B6CA-7A945047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1049-D985-4355-A84A-49836D9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4A280-A9E0-46A5-BF28-D146284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B4A2-C12A-4216-BEB5-105886F2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A1C1-C505-490B-8487-73FB1A6F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F95E-8384-4757-8D42-5C84C06E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F739-6BCC-40A9-867B-25E6C0DF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C9EDF-7A9B-4626-99D4-2A1C9533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82DE-C282-4DDE-998E-E975787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4E8AD-63C9-49FD-933E-658B83BE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25D-80CB-461F-AF60-0FE2FBFB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8A40-913D-406D-B732-CA15CE5A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FEBE-8690-4D1C-92F8-C1F46196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90528-CB57-44E4-A0AB-860062DF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D0DE-BD7B-4362-80B5-CC841B9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FB62-8577-4D29-8B36-0DC4884D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24719-21D6-4CC7-BE1D-526123D8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49DAE-7ED5-4AB1-904A-2E5F0A6B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08AA-0715-4BFD-B0DE-083252C9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7580-11C6-43AB-B4AB-5398FF6D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9AD-A498-4228-9D03-257F0AFB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2E4-8F5D-4ED1-822A-8F8E35E7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C34-F4FF-49CF-80FB-BD220876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783-F658-4B40-BF2C-389391D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DD3-D329-4E82-BB79-9FED959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CB8F-F1AA-4881-8B16-66B0EEBA92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8A3A-34AC-4C41-9173-E81FF4E5F0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1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1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2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29E9-A681-41C5-8090-730A8C94D4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0976-71E2-4B84-85E1-326173BB7E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9139-7F30-4278-B2EB-A156DD32B0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ПРЕЗЕНТАЦИЯ К УРОКУ ПО ТЕМЕ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«Алюминий: физические и химические свойства. Применение алюминия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                9 класс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Выполнила учитель химии и биологии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МБОУ «Вечерняя(сменная) средняя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общеобразовательная школа»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 г.Бологое Тверской области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мирнова Елена Николаевна</a:t>
            </a:r>
            <a:br>
              <a:rPr sz="24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CD15-7407-4958-84E3-3C752E8CE0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D43A-3A8D-4835-90C8-A38A3AFC2F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44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2F19-25BD-4689-99C2-773B976BCE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257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012-572E-40FF-A058-C9E0A3FBB8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E699-38F0-47F8-8EC3-98A33ED3C9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449360" y="2209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DA02-24E2-44F0-B569-5AE3038416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E327-03AC-4FA9-8AE9-0F1F228F4D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люминий ….. металл, реагирует с ….., …… и ….. Благодаря оксидной плёнке широко применяется в … и  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AFD3-0E54-4197-9FB9-7E6D898785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Ответы на проверочный тест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–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–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–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–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–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F914-00F9-457F-8CFE-DBBDD90B53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Домашняя рабо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учить параграф 13( до соединений алюминия), повторить материал об амфотерных соедин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«5» решить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+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uS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«4» реши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«3» решить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С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+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NaO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533412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54864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4343400" y="4648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6324480" y="5638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7620120" y="1066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99072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E99E-4F0B-4B4B-8E25-DF18370A8F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62120" y="4572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WordArt 19"/>
          <p:cNvSpPr txBox="1"/>
          <p:nvPr/>
        </p:nvSpPr>
        <p:spPr>
          <a:xfrm>
            <a:off x="914400" y="609480"/>
            <a:ext cx="70102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ята, спасибо за урок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 ! ! 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8CBE-94A8-4507-B34A-7A8BD05EAD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976320" y="728640"/>
            <a:ext cx="778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Я – металл, серебристый и лёгкий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зовусь «самолётный металл»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покрыт я оксидною плёнкой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б меня кислород не доста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54FD-2CC4-4EFF-AE67-1E0FF901D4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57200" y="12193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Тема урока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юминий, физические и химические свойства. Применение алюми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0C34-D671-4DAF-BCAD-B17B97D0F7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Задачи урока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-дать характеристику алюминию как химическому элементу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- охарактеризовать физические свойства алюминия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-охарактеризовать химические свойства алюминия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- на основании физико – химических свойст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выяснить области применения алюминия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AAA9-EEF0-41E2-B6E8-7D15760DFD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            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Самостоятельная рабо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колонка: дайте характеристику алюминию как химическому элементу по ПСХ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колонка: сопоставьте строение атомов натрия, магния и алюминия, сделайте вывод об относительной химической активности этих метал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колонка: указать состав ядра алюминия и строение электронных оболочек, тип химической связи и тип кристаллической решетки алюми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6CE2-0A98-402A-BA9F-A6732A1089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роверка самостоятельной работы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(2 колонка)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+13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А 1 ) ) )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 8 3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+11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Na ) ) )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         2 8 1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+12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Mg ) ) )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         2 8 2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ывод: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6899-7B79-42C8-B934-24C01E6557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Рисунок 6" descr="боксит.jpg"/>
          <p:cNvPicPr/>
          <p:nvPr/>
        </p:nvPicPr>
        <p:blipFill>
          <a:blip r:embed="rId1"/>
          <a:stretch/>
        </p:blipFill>
        <p:spPr>
          <a:xfrm>
            <a:off x="5410080" y="1371600"/>
            <a:ext cx="2960640" cy="2714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7391160" cy="48006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            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Нахождение в природе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85C4-8585-4D66-8D03-844C5BC373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Физические свойства алюми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5" name="Рисунок 6" descr="алюм12.jpg"/>
          <p:cNvPicPr/>
          <p:nvPr/>
        </p:nvPicPr>
        <p:blipFill>
          <a:blip r:embed="rId1"/>
          <a:stretch/>
        </p:blipFill>
        <p:spPr>
          <a:xfrm>
            <a:off x="609480" y="1752480"/>
            <a:ext cx="392904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3" descr="алюм6.jpg"/>
          <p:cNvPicPr/>
          <p:nvPr/>
        </p:nvPicPr>
        <p:blipFill>
          <a:blip r:embed="rId2"/>
          <a:stretch/>
        </p:blipFill>
        <p:spPr>
          <a:xfrm>
            <a:off x="4648320" y="1828800"/>
            <a:ext cx="40669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5FC8-1C33-4E62-A5E0-51EF5789B9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866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5-01-18T17:58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