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BDC-A9FD-411C-869D-037E759C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617-F1C3-4C5F-AD10-FFCFCC2C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B604-EBFB-42EE-B24A-3216E8A6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8B9-DD6A-4269-8F27-4EEDCF3D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1ACD9-E572-422F-9360-C887FBA4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7FF9C-561E-4B25-8589-49E3F312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75A7A-F9AB-4E6B-98A4-4F8A4F3E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9BED3-3E30-4018-AED5-C41E1BE9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064B8-A364-445B-9C3F-A1BCCA7B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30324-51F3-4988-BA75-50F16300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03F22-1648-4AD6-AAED-2F568040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5AC3-1901-4510-997B-E7BA470D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229B6-1F2F-438F-BFCD-983FF9B1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3D0F6-F60D-4ABD-B7C8-C9460911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DC83A-8AF4-44A6-9919-5D595DD5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EBADA-BA25-4F08-B81C-DBF191CC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C299E-90D9-423A-B141-325C1746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4C0F1-0F18-47D3-BA3C-623D787A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38043-99BC-4BD1-8265-CF2DEAEB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20264-369C-4094-A016-3A6F442D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ED916-8817-4982-A431-9C510A9F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F80A3-AEF5-4F68-9475-8D60DC89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4D6-523C-40E3-8874-BA10DC18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4A8C2-6BDC-4DD2-97D9-19D88593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52A37-C449-4EB5-845D-1960C3FB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09FE6-61A7-467B-93D6-A1A2CFF2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B7CE3-BB4A-4559-82D7-A6A6D37C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89101-D420-48E4-9AF0-7347A151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758D9-FA3A-46D1-AC06-DB339BD9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8BD94-BFF4-4A2E-AF98-939C1750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AC2D9-3E76-4085-BDDC-6829D2B5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F5ED4-80C8-4E6D-A740-2A963A5E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119DF-EEC5-40C2-B8B0-B216EFFA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A3E-D768-46FE-BD26-D198F7DA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FDA96-F010-4BE2-BC7F-D971C089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F1AF2-14C7-4B15-BA76-B50EC35E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86D35-981B-466C-B7A2-BFFD1D24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E91B4-9A8D-494B-92C1-0B478309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15163-4B76-4338-854A-99359530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522BC-07BE-4BB0-B0C8-C943434B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2AFB8-CDB6-4D42-AE79-8120450C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6CEB2-FAEA-4321-92D4-123DFFE7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E7F84-3971-4CD0-8B76-0F43D467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45D1-00C1-4B66-86F9-9F2CE8DF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4DE-66CF-4DEB-BEC3-D13A1141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FE7E-D252-417B-AE3B-74738ECC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BA0-F441-44D9-AFAC-420388BC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9A9-421A-4ED5-B09A-BBEFE07C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F507-8729-4EC3-95D1-B691E3C1D6A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6000-CE20-43E4-B87D-FE4C4C39343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18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19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1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4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25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0FC6-8119-494D-B09D-9757559F1FC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7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5F3B-ED71-4F2E-BC40-7685E66722F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E0B2-C1A1-406D-9602-4E23CA6CC50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ПРЕЗЕНТАЦИЯ К УРОКУ ПО ТЕМЕ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«Алюминий: физические и химические свойства. Применение алюминия»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                        9 класс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  Выполнила учитель химии и биологии 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    МБОУ «Вечерняя(сменная) средняя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       общеобразовательная школа»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         г.Бологое Тверской области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Смирнова Елена Николаевна</a:t>
            </a:r>
            <a:br>
              <a:rPr sz="24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244E-2F8A-4F53-B614-8F7657CD9E5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F665-DD00-46FF-8C9B-96856CFB138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01000" cy="5448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0C32-1F6C-408D-8600-043EDEEBB5C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467480" cy="5257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DEBB-A1CE-495A-8E7F-E844D76FD88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3668-B35F-49BF-B4C6-7C4BD5AC40D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449360" y="2209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6A92-00EB-4062-A486-90A89B3609C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5DB4-B2F8-41FF-8DF3-2F22DD6D32D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5438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Выводы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люминий ….. металл, реагирует с ….., …… и ….. Благодаря оксидной плёнке широко применяется в … и  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7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36576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6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E53E-14A7-4A99-B054-0A57F882782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Ответы на проверочный тест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 вариа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–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– 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–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–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 – 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370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2 вариа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– 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–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– 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EF16-1F20-4E55-AEB3-0B6611C49A9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                 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Домашняя работ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учить параграф 13( до соединений алюминия), повторить материал об амфотерных соединен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«5» решить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+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A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Al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CuS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«4» решит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Al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Al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+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«3» решить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AlС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 +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NaO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Line 5"/>
          <p:cNvSpPr/>
          <p:nvPr/>
        </p:nvSpPr>
        <p:spPr>
          <a:xfrm>
            <a:off x="533412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548640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Line 8"/>
          <p:cNvSpPr/>
          <p:nvPr/>
        </p:nvSpPr>
        <p:spPr>
          <a:xfrm>
            <a:off x="4343400" y="4648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Line 9"/>
          <p:cNvSpPr/>
          <p:nvPr/>
        </p:nvSpPr>
        <p:spPr>
          <a:xfrm>
            <a:off x="6324480" y="56386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7620120" y="10666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990720" y="19051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76B9-7C40-43E0-800B-E9144FF16C7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762120" y="4572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WordArt 19"/>
          <p:cNvSpPr txBox="1"/>
          <p:nvPr/>
        </p:nvSpPr>
        <p:spPr>
          <a:xfrm>
            <a:off x="914400" y="609480"/>
            <a:ext cx="70102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ята, спасибо за урок!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 ! ! !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367F-2394-4FF5-8981-FA4724539B2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976320" y="728640"/>
            <a:ext cx="7785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Я – металл, серебристый и лёгкий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 зовусь «самолётный металл»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 покрыт я оксидною плёнкой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б меня кислород не доста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BFBA-0208-46C4-B3D0-C363076A5FF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457200" y="12193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Тема урока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Алюминий, физические и химические свойства. Применение алюминия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A85D-D8AB-44C8-8BCC-ECBB62E91AC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Задачи урока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-дать характеристику алюминию как химическому элементу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- охарактеризовать физические свойства алюминия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-охарактеризовать химические свойства алюминия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- на основании физико – химических свойст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выяснить области применения алюминия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BBBC-D33C-4EEB-A687-AFB5F7ACE24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            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Самостоятельная работ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колонка: дайте характеристику алюминию как химическому элементу по ПСХ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колонка: сопоставьте строение атомов натрия, магния и алюминия, сделайте вывод об относительной химической активности этих металл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 колонка: указать состав ядра алюминия и строение электронных оболочек, тип химической связи и тип кристаллической решетки алюми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Номер слайда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2F83-9377-4A9D-AE79-49FC07C4513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Проверка самостоятельной работы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(2 колонка)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+13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А 1 ) ) )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      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2 8 3</a:t>
            </a: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+11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 Na ) ) )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               2 8 1</a:t>
            </a: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+12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  Mg ) ) )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               2 8 2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Вывод: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CDE8-BEEC-446F-8045-001B57E6001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Рисунок 6" descr="боксит.jpg"/>
          <p:cNvPicPr/>
          <p:nvPr/>
        </p:nvPicPr>
        <p:blipFill>
          <a:blip r:embed="rId1"/>
          <a:stretch/>
        </p:blipFill>
        <p:spPr>
          <a:xfrm>
            <a:off x="5410080" y="1371600"/>
            <a:ext cx="2960640" cy="2714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7391160" cy="48006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            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Нахождение в природе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051D-F2E8-4424-92B0-FA0E06066CD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Физические свойства алюми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5" name="Рисунок 6" descr="алюм12.jpg"/>
          <p:cNvPicPr/>
          <p:nvPr/>
        </p:nvPicPr>
        <p:blipFill>
          <a:blip r:embed="rId1"/>
          <a:stretch/>
        </p:blipFill>
        <p:spPr>
          <a:xfrm>
            <a:off x="609480" y="1752480"/>
            <a:ext cx="3929040" cy="396252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3" descr="алюм6.jpg"/>
          <p:cNvPicPr/>
          <p:nvPr/>
        </p:nvPicPr>
        <p:blipFill>
          <a:blip r:embed="rId2"/>
          <a:stretch/>
        </p:blipFill>
        <p:spPr>
          <a:xfrm>
            <a:off x="4648320" y="1828800"/>
            <a:ext cx="406692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Номер слайда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1A73-EFC0-447A-A927-97AA3149D1B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08660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5-01-18T17:58:1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