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4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723D70-280A-44EC-A683-25EDCF30EC6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464FEA-6540-4171-9D19-A3BD2D8FF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FD15F6-17A4-43EE-A53A-2C20E5DCA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D46C88-B79F-45AF-A367-04A54690842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CA5548-6A62-4D67-B87D-FEDECBE7F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78707C-C2C1-4D50-9B9D-B11722E99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BAE009-FA58-42C4-B339-64498674D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446A1D-91D2-4911-B11C-BCA65D1A7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07D59E-F64B-4ABF-808F-DF93E3809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9BA0C9-6C35-4A7B-9A3E-BA8CF1D17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F265B2-EF16-427E-B4F0-965346A1B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CB04A3-BDCC-40B0-B756-26B9A27B5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C512159-3BCD-4732-9194-5BD93A9E8410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3c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936720"/>
            <a:ext cx="7772400" cy="26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Тема проекта: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Человек природе - друг или враг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431640" y="3886200"/>
            <a:ext cx="7340760" cy="22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Младшая групп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Воспитатель: Шуклина Е.Г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г. Санкт-Петербург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2015г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457200" y="274680"/>
            <a:ext cx="8229600" cy="635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Calibri"/>
              </a:rPr>
              <a:t>Есть одна планета-сад</a:t>
            </a:r>
            <a:br>
              <a:rPr sz="3200"/>
            </a:br>
            <a:r>
              <a:rPr b="0" lang="ru-RU" sz="3200" spc="-1" strike="noStrike">
                <a:solidFill>
                  <a:srgbClr val="ffff00"/>
                </a:solidFill>
                <a:latin typeface="Calibri"/>
              </a:rPr>
              <a:t>В этом космосе холодном. </a:t>
            </a:r>
            <a:br>
              <a:rPr sz="3200"/>
            </a:br>
            <a:r>
              <a:rPr b="0" lang="ru-RU" sz="3200" spc="-1" strike="noStrike">
                <a:solidFill>
                  <a:srgbClr val="ffff00"/>
                </a:solidFill>
                <a:latin typeface="Calibri"/>
              </a:rPr>
              <a:t>Только здесь леса шумят, </a:t>
            </a:r>
            <a:br>
              <a:rPr sz="3200"/>
            </a:br>
            <a:r>
              <a:rPr b="0" lang="ru-RU" sz="3200" spc="-1" strike="noStrike">
                <a:solidFill>
                  <a:srgbClr val="ffff00"/>
                </a:solidFill>
                <a:latin typeface="Calibri"/>
              </a:rPr>
              <a:t>Птиц скликая перелётных, </a:t>
            </a:r>
            <a:br>
              <a:rPr sz="3200"/>
            </a:br>
            <a:r>
              <a:rPr b="0" lang="ru-RU" sz="3200" spc="-1" strike="noStrike">
                <a:solidFill>
                  <a:srgbClr val="ffff00"/>
                </a:solidFill>
                <a:latin typeface="Calibri"/>
              </a:rPr>
              <a:t>Лишь на ней одной цветут, </a:t>
            </a:r>
            <a:br>
              <a:rPr sz="3200"/>
            </a:br>
            <a:r>
              <a:rPr b="0" lang="ru-RU" sz="3200" spc="-1" strike="noStrike">
                <a:solidFill>
                  <a:srgbClr val="ffff00"/>
                </a:solidFill>
                <a:latin typeface="Calibri"/>
              </a:rPr>
              <a:t>Ландыши в траве зелёной, </a:t>
            </a:r>
            <a:br>
              <a:rPr sz="3200"/>
            </a:br>
            <a:r>
              <a:rPr b="0" lang="ru-RU" sz="3200" spc="-1" strike="noStrike">
                <a:solidFill>
                  <a:srgbClr val="ffff00"/>
                </a:solidFill>
                <a:latin typeface="Calibri"/>
              </a:rPr>
              <a:t>И стрекозы только тут</a:t>
            </a:r>
            <a:br>
              <a:rPr sz="3200"/>
            </a:br>
            <a:r>
              <a:rPr b="0" lang="ru-RU" sz="3200" spc="-1" strike="noStrike">
                <a:solidFill>
                  <a:srgbClr val="ffff00"/>
                </a:solidFill>
                <a:latin typeface="Calibri"/>
              </a:rPr>
              <a:t>В речку смотрят удивлённо. </a:t>
            </a:r>
            <a:br>
              <a:rPr sz="3200"/>
            </a:br>
            <a:r>
              <a:rPr b="0" lang="ru-RU" sz="3200" spc="-1" strike="noStrike">
                <a:solidFill>
                  <a:srgbClr val="ffff00"/>
                </a:solidFill>
                <a:latin typeface="Calibri"/>
              </a:rPr>
              <a:t>Береги свою планету –</a:t>
            </a:r>
            <a:br>
              <a:rPr sz="3200"/>
            </a:br>
            <a:r>
              <a:rPr b="0" lang="ru-RU" sz="3200" spc="-1" strike="noStrike">
                <a:solidFill>
                  <a:srgbClr val="ffff00"/>
                </a:solidFill>
                <a:latin typeface="Calibri"/>
              </a:rPr>
              <a:t>Ведь другой, похожей, нету! </a:t>
            </a:r>
            <a:br>
              <a:rPr sz="3200"/>
            </a:br>
            <a:r>
              <a:rPr b="0" lang="ru-RU" sz="3200" spc="-1" strike="noStrike">
                <a:solidFill>
                  <a:srgbClr val="ffff00"/>
                </a:solidFill>
                <a:latin typeface="Calibri"/>
              </a:rPr>
              <a:t>(Я. Аким) 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457200" y="128520"/>
            <a:ext cx="822960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Задачи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/>
          <p:nvPr/>
        </p:nvSpPr>
        <p:spPr>
          <a:xfrm>
            <a:off x="1143000" y="1676520"/>
            <a:ext cx="7543800" cy="29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асширять кругозор детей на основе материала доступного их пониманию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оспитывать любовь и бережное отношение к природе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Формировать у детей представления о необходимости бережного отношения к природе через различные виды деятельност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128520"/>
            <a:ext cx="822960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2183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rcRect l="23675" t="0" r="33875" b="0"/>
          <a:stretch/>
        </p:blipFill>
        <p:spPr>
          <a:xfrm>
            <a:off x="2987640" y="1338120"/>
            <a:ext cx="3013200" cy="5519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30240" y="4645080"/>
            <a:ext cx="8448480" cy="116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886200" y="4572000"/>
            <a:ext cx="510552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omic Sans MS"/>
              </a:rPr>
              <a:t>Мусор Землю</a:t>
            </a:r>
            <a:br>
              <a:rPr sz="2800"/>
            </a:br>
            <a:r>
              <a:rPr b="1" lang="ru-RU" sz="2800" spc="-1" strike="noStrike">
                <a:solidFill>
                  <a:srgbClr val="000066"/>
                </a:solidFill>
                <a:latin typeface="Comic Sans MS"/>
              </a:rPr>
              <a:t>захламляет,</a:t>
            </a:r>
            <a:br>
              <a:rPr sz="2800"/>
            </a:br>
            <a:r>
              <a:rPr b="1" lang="ru-RU" sz="2800" spc="-1" strike="noStrike">
                <a:solidFill>
                  <a:srgbClr val="000066"/>
                </a:solidFill>
                <a:latin typeface="Comic Sans MS"/>
              </a:rPr>
              <a:t>всему живому</a:t>
            </a:r>
            <a:br>
              <a:rPr sz="2800"/>
            </a:br>
            <a:r>
              <a:rPr b="1" lang="ru-RU" sz="2800" spc="-1" strike="noStrike">
                <a:solidFill>
                  <a:srgbClr val="000066"/>
                </a:solidFill>
                <a:latin typeface="Comic Sans MS"/>
              </a:rPr>
              <a:t>угрожает!</a:t>
            </a: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429000" y="152280"/>
            <a:ext cx="5715000" cy="42865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304920" y="1523880"/>
            <a:ext cx="3781440" cy="2524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304920" y="4038480"/>
            <a:ext cx="3520800" cy="281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914400" y="54100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А мы хотим жить так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28600" y="0"/>
            <a:ext cx="8115480" cy="541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96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Calibri"/>
              </a:rPr>
              <a:t>Наши добрые дел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572000" y="2536920"/>
            <a:ext cx="4572000" cy="43210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04920" y="1066680"/>
            <a:ext cx="4267080" cy="335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96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477120" cy="48578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0" y="4876920"/>
            <a:ext cx="44956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e46c0a"/>
                </a:solidFill>
                <a:latin typeface="Calibri"/>
              </a:rPr>
              <a:t>Наши наблюден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4572000" y="342900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e46c0a"/>
                </a:solidFill>
                <a:latin typeface="Calibri"/>
              </a:rPr>
              <a:t>Опыт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5753160" y="0"/>
            <a:ext cx="3390840" cy="45212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3276720" y="3543480"/>
            <a:ext cx="4419360" cy="3314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609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860640" cy="28954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3124080" y="2666880"/>
            <a:ext cx="3098880" cy="41911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0" y="2666880"/>
            <a:ext cx="3143160" cy="41911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3886200" y="0"/>
            <a:ext cx="525780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ирода в нашей групп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" descr=""/>
          <p:cNvPicPr/>
          <p:nvPr/>
        </p:nvPicPr>
        <p:blipFill>
          <a:blip r:embed="rId4"/>
          <a:stretch/>
        </p:blipFill>
        <p:spPr>
          <a:xfrm>
            <a:off x="6172200" y="2666880"/>
            <a:ext cx="2971800" cy="41911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9T17:04:34Z</dcterms:created>
  <dc:creator>ВАЛЕНТИН</dc:creator>
  <dc:description/>
  <dc:language>en-US</dc:language>
  <cp:lastModifiedBy>ВАЛЕНТИН</cp:lastModifiedBy>
  <dcterms:modified xsi:type="dcterms:W3CDTF">2014-01-29T18:14:53Z</dcterms:modified>
  <cp:revision>7</cp:revision>
  <dc:subject/>
  <dc:title>Человек природе - друг или враг?</dc:title>
</cp:coreProperties>
</file>