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85F6-FA6A-4B1B-B0AC-0912443AB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C1FB-0F2F-4084-A8E3-32A480B9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43DF-72F8-4153-B2D5-CA9B12B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211E-72A5-4A65-92A4-8CF6AFE86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414B-B181-4290-B95F-BC3F7D48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8E33-F8F7-44D7-90A9-EF11920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09A1-7C37-498E-BCB2-C361307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AF85-A7FF-433D-804A-7D1378E0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361D-65C3-43D9-8E59-393DA6D3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4809-867D-4DC4-8903-E8BE8C6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7908-6313-4782-B468-BCC7D99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B843-C2A8-4B45-8023-81877CA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FFFC0F-2235-4461-A4B2-6C0AB77DF4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36720"/>
            <a:ext cx="7772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оект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ловек природе - друг или вра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31640" y="3886200"/>
            <a:ext cx="734076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спитатель: Шуклина Е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. 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5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Есть одна планета-сад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этом космосе холодном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Только здесь леса шумят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тиц скликая перелётн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шь на ней одной цветут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андыши в траве зелёной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 стрекозы только тут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речку смотрят удивлённо.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ереги свою планету –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едь другой, похожей, нету!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(Я. Аким)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676520"/>
            <a:ext cx="754380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ять кругозор детей на основе материала доступного их пониман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любовь и бережное отношение к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 детей представления о необходимости бережного отношения к природе через различные вид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23675" t="0" r="33875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240" y="4645080"/>
            <a:ext cx="844848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86200" y="4572000"/>
            <a:ext cx="5105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Мусор Землю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ахламляет,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сему живому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угрожает!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81440" cy="252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520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мы хотим жить та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1154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ши добр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536920"/>
            <a:ext cx="4572000" cy="432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769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Calibri"/>
              </a:rPr>
              <a:t>Наши наблю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libri"/>
              </a:rPr>
              <a:t>Опы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452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76720" y="354348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098880" cy="419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86200" y="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а в нашей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7:04:34Z</dcterms:created>
  <dc:creator>ВАЛЕНТИН</dc:creator>
  <dc:description/>
  <dc:language>en-US</dc:language>
  <cp:lastModifiedBy>ВАЛЕНТИН</cp:lastModifiedBy>
  <dcterms:modified xsi:type="dcterms:W3CDTF">2014-01-29T18:14:53Z</dcterms:modified>
  <cp:revision>7</cp:revision>
  <dc:subject/>
  <dc:title>Человек природе - друг или враг?</dc:title>
</cp:coreProperties>
</file>