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D2D-46D2-4FCA-888F-CA092906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02D-F224-4427-83D7-1340FC4F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F8B-F26A-4618-AE94-1180E841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7AC-3C90-415B-83AB-64BDE2FE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12C-41BA-4D6F-9F6A-878BA6BC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A82-ABA0-4D7A-820A-C85F083F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275-16DA-4866-9CD7-8F789DD0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3E2-2D03-4F2C-8E5A-8F07A744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8F8-6287-4D32-9A5C-DE479FC0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E28-E9C4-4A11-B48A-25693347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5EC-911C-493D-9997-134C5256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B27-F069-4B6D-BD52-7CBE7F2F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4DD7-D186-4A0B-AD59-4C6C7A72E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ddt.toropec@mail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219320" y="347760"/>
            <a:ext cx="67816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Муниципальное образовательное учреждение дополнительного образования дет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172840 г. Торопец, Тверской области, ул. Советская, д. 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Телефоны: 8(48268)2-19-73, тел/факс 8(48268)2-15-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ddt.toropec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Дерево моего детства – ёл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тор:          Васильева Анна Сергее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ница 1 «А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У Торопецкая СОШ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ководитель:   Панова Людмила Анато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дагог дополни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УДОД  Торопецкий  ДД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. Тороп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3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2981160" cy="3819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29433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990720" y="691920"/>
            <a:ext cx="69339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асто бываю в гостях у моей бабушки, и каждый раз, идя к ней, мы проходим мимо соседнего дома, у которого  растут четыре огромных пушистых ели. Мне казалось, что они росли здесь всегда. Но, гуляя как-то с бабушкой, я поинтересовалась у нее, откуда же все-таки взялись эти красавицы. Бабушка рассказала мне удивительную истор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е жила очень дружная семья Ковалевых. Борис Петрович – глава семьи - был большим любителем леса и часто гулял по тропкам, наслаждаясь запахом свежих еловых и сосновых ветвей. Да и Антонина Ивановна – его жена – часто сопровождала мужа. В одну из таких прогулок им и пришла в голову мысль о том, чтобы маленькую частичку любимой  природы перенести поближе к себе. Руководствуясь этой идеей, Борис Петрович  бережно выкопал пять небольших елочек и посадил у своего дома.  Кроме того, этим деревцам  предназначалась роль защитников дома от снежных заносов зимой. Елочки очень легко прижились на новом месте и стали дружно подрастать. Дети Бориса Петровича и Антонины Ивановны Саша и Рита  выбрали себе по любимице, так их и назвали – ель Саша и елочка Рита. Так и решили, пусть одна из елочек будет символом их крепкой семьи, а другие четыре  символизируют каждого из ее чле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ех пор прошло много лет. Рита и Саша давным-давно уехали из родительского дома и живут в других городах, куда забрали, после смерти Бориса Петровича,  Антонину Ивановну. В их доме поселились другие жильцы. Но елочки, крепко прижавшись друг к другу, по сей день напоминают о такой замечательной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кто-то срубил одну из елок. Но все люди, живущие на бабушкиной улице, помнят, что их было пятеро: Борис Петрович, Антонина Ивановна, Рита, Саша и… символ их крепкой, примерной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ая исто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2238480" cy="304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1143000" y="914400"/>
            <a:ext cx="2260440" cy="308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190512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3657600" y="11430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абушкины Ёлки» часто вдохновляют меня на творческую работ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3-05-27T12:16:0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