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8EC-4D93-4CFC-9DE1-F972538F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57F-8585-4A26-BC2C-7E30257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3D0-E9EB-4951-9F28-72261AF9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6BB-C4F5-48BD-ADE0-7EA46203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9F8C-306C-44B7-AFEB-54848B4F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B040-3658-4F05-B43F-A2AD3363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6054-6F06-41ED-864C-32B7194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75C8-0013-43F9-B87F-03AE8EE6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04CC-6797-481F-BF01-1B290C89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48B8-E697-48D5-8AD8-3824449C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376E-460E-44E5-9105-C57EA53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CD8-6FDF-44E9-B109-40BAE3FC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F176-D477-4915-BC76-0387BBE1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CA56-8288-4AD4-83E7-2FC645A8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0961-0174-4320-99A9-E2DD6D8D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D496-DA7A-4A58-B45F-960936BF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7C3C-DD0D-4DAD-9C07-F90454B1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015-A582-414B-AA6A-712E43B6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384-39C1-4E1D-A146-8F2235FE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26A-1EC2-4099-AAAC-D19F8186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2A2-E903-4A3C-BDF9-81B82228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64F-4527-42BC-B25A-66A365D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893-DF1B-4113-A1D2-B21A4E6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641-BD74-41C8-814D-492CF49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6CF0-81CF-4667-BDC1-32FE909747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F5C-C6A4-47CF-90F2-0F9EA82396F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76564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d47d"/>
                </a:solidFill>
                <a:latin typeface="Arial"/>
              </a:rPr>
              <a:t>Модальный глагол «</a:t>
            </a:r>
            <a:r>
              <a:rPr b="0" lang="en-GB" sz="6000" spc="-1" strike="noStrike">
                <a:solidFill>
                  <a:srgbClr val="f7d47d"/>
                </a:solidFill>
                <a:latin typeface="Arial"/>
              </a:rPr>
              <a:t>MUST</a:t>
            </a:r>
            <a:r>
              <a:rPr b="0" lang="ru-RU" sz="6000" spc="-1" strike="noStrike">
                <a:solidFill>
                  <a:srgbClr val="f7d47d"/>
                </a:solidFill>
                <a:latin typeface="Arial"/>
              </a:rPr>
              <a:t>»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сладости"/>
          <p:cNvPicPr/>
          <p:nvPr/>
        </p:nvPicPr>
        <p:blipFill>
          <a:blip r:embed="rId1"/>
          <a:stretch/>
        </p:blipFill>
        <p:spPr>
          <a:xfrm>
            <a:off x="0" y="260280"/>
            <a:ext cx="766764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пры"/>
          <p:cNvPicPr/>
          <p:nvPr/>
        </p:nvPicPr>
        <p:blipFill>
          <a:blip r:embed="rId1"/>
          <a:stretch/>
        </p:blipFill>
        <p:spPr>
          <a:xfrm>
            <a:off x="0" y="115920"/>
            <a:ext cx="1847880" cy="2305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плавание"/>
          <p:cNvPicPr/>
          <p:nvPr/>
        </p:nvPicPr>
        <p:blipFill>
          <a:blip r:embed="rId2"/>
          <a:stretch/>
        </p:blipFill>
        <p:spPr>
          <a:xfrm>
            <a:off x="1908000" y="208080"/>
            <a:ext cx="3384720" cy="218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лыжи1"/>
          <p:cNvPicPr/>
          <p:nvPr/>
        </p:nvPicPr>
        <p:blipFill>
          <a:blip r:embed="rId3"/>
          <a:stretch/>
        </p:blipFill>
        <p:spPr>
          <a:xfrm>
            <a:off x="0" y="2421000"/>
            <a:ext cx="2411280" cy="23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коньки"/>
          <p:cNvPicPr/>
          <p:nvPr/>
        </p:nvPicPr>
        <p:blipFill>
          <a:blip r:embed="rId4"/>
          <a:stretch/>
        </p:blipFill>
        <p:spPr>
          <a:xfrm>
            <a:off x="2556000" y="2421000"/>
            <a:ext cx="2373120" cy="2325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бан"/>
          <p:cNvPicPr/>
          <p:nvPr/>
        </p:nvPicPr>
        <p:blipFill>
          <a:blip r:embed="rId5"/>
          <a:stretch/>
        </p:blipFill>
        <p:spPr>
          <a:xfrm>
            <a:off x="5364000" y="0"/>
            <a:ext cx="2225880" cy="2590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морковка"/>
          <p:cNvPicPr/>
          <p:nvPr/>
        </p:nvPicPr>
        <p:blipFill>
          <a:blip r:embed="rId6"/>
          <a:stretch/>
        </p:blipFill>
        <p:spPr>
          <a:xfrm>
            <a:off x="5076720" y="2492280"/>
            <a:ext cx="2030400" cy="2436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яблок"/>
          <p:cNvPicPr/>
          <p:nvPr/>
        </p:nvPicPr>
        <p:blipFill>
          <a:blip r:embed="rId7"/>
          <a:stretch/>
        </p:blipFill>
        <p:spPr>
          <a:xfrm>
            <a:off x="108000" y="4797360"/>
            <a:ext cx="3159000" cy="2060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апельси"/>
          <p:cNvPicPr/>
          <p:nvPr/>
        </p:nvPicPr>
        <p:blipFill>
          <a:blip r:embed="rId8"/>
          <a:stretch/>
        </p:blipFill>
        <p:spPr>
          <a:xfrm>
            <a:off x="3780000" y="4724280"/>
            <a:ext cx="1906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AG00130_"/>
          <p:cNvPicPr/>
          <p:nvPr/>
        </p:nvPicPr>
        <p:blipFill>
          <a:blip r:embed="rId2"/>
          <a:stretch/>
        </p:blipFill>
        <p:spPr>
          <a:xfrm>
            <a:off x="2484360" y="981000"/>
            <a:ext cx="863640" cy="743040"/>
          </a:xfrm>
          <a:prstGeom prst="rect">
            <a:avLst/>
          </a:prstGeom>
          <a:ln w="0">
            <a:noFill/>
          </a:ln>
        </p:spPr>
      </p:pic>
      <p:pic>
        <p:nvPicPr>
          <p:cNvPr id="217" name="Птицы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L -0.04722 0.74537 E">
                                      <p:cBhvr>
                                        <p:cTn id="10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74538 C -0.01875 0.49306 0.0099 0.24075 0.04966 0.11737 C 0.08941 -0.00601 0.16164 -0.02268 0.1915 0.00556 C 0.22136 0.0338 0.22709 0.1625 0.22865 0.28727 C 0.23021 0.41204 0.19879 0.7794 0.20122 0.75394 C 0.20365 0.72848 0.2099 0.25996 0.24323 0.1345 C 0.27657 0.00903000000000001 0.36424 -0.02685 0.40122 0.00116 C 0.4382 0.02917 0.45591 0.18843 0.4658 0.30232 C 0.4757 0.41621 0.4382 0.62755 0.46094 0.68496 C 0.48368 0.74237 0.54323 0.69422 0.60278 0.6463 E">
                                      <p:cBhvr>
                                        <p:cTn id="13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AG00130_"/>
          <p:cNvPicPr/>
          <p:nvPr/>
        </p:nvPicPr>
        <p:blipFill>
          <a:blip r:embed="rId2"/>
          <a:stretch/>
        </p:blipFill>
        <p:spPr>
          <a:xfrm>
            <a:off x="3059280" y="0"/>
            <a:ext cx="863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-0.07882 0.89236 E">
                                      <p:cBhvr>
                                        <p:cTn id="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C 0.0967 0.01458 0.1934 0.0294 0.24201 0.10324 C 0.29062 0.17708 0.31718 0.36273 0.29201 0.44306 C 0.26684 0.52338 0.14791 0.56343 0.09045 0.58495 C 0.03298 0.60648 -0.01007 0.58912 -0.05313 0.57199 E">
                                      <p:cBhvr>
                                        <p:cTn id="2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AG00130_"/>
          <p:cNvPicPr/>
          <p:nvPr/>
        </p:nvPicPr>
        <p:blipFill>
          <a:blip r:embed="rId2"/>
          <a:stretch/>
        </p:blipFill>
        <p:spPr>
          <a:xfrm>
            <a:off x="2050920" y="1052640"/>
            <a:ext cx="8636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4.81481E-006 L -0.03942 0.74561 E">
                                      <p:cBhvr>
                                        <p:cTn id="2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2 0.7456 C -0.01772 0.48842 0.004 0.23125 0.06233 0.10254 C 0.12066 -0.02616 0.2507 -0.08797 0.31059 -0.02639 C 0.37049 0.03518 0.39723 0.34583 0.42188 0.47245 C 0.44653 0.59907 0.43264 0.70139 0.45903 0.73264 C 0.48542 0.76389 0.55799 0.67338 0.58004 0.65972 C 0.60209 0.64606 0.5967 0.64838 0.59132 0.65092 E">
                                      <p:cBhvr>
                                        <p:cTn id="3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AG00130_"/>
          <p:cNvPicPr/>
          <p:nvPr/>
        </p:nvPicPr>
        <p:blipFill>
          <a:blip r:embed="rId2"/>
          <a:stretch/>
        </p:blipFill>
        <p:spPr>
          <a:xfrm>
            <a:off x="3419640" y="404640"/>
            <a:ext cx="863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51852E-006 L -0.06302 0.86112 E">
                                      <p:cBhvr>
                                        <p:cTn id="3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0.3213 C 0.01024 0.19653 0.04809 0.07176 0.09653 0.01366 C 0.14497 -0.04444 0.22188 -0.05902 0.26267 -0.02708 C 0.30347 0.00487 0.32899 0.12385 0.34167 0.2051 C 0.35434 0.28635 0.31545 0.42639 0.33854 0.46112 C 0.36163 0.49584 0.42101 0.45463 0.48038 0.41366 E">
                                      <p:cBhvr>
                                        <p:cTn id="4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AG00130_"/>
          <p:cNvPicPr/>
          <p:nvPr/>
        </p:nvPicPr>
        <p:blipFill>
          <a:blip r:embed="rId2"/>
          <a:stretch/>
        </p:blipFill>
        <p:spPr>
          <a:xfrm>
            <a:off x="3059280" y="0"/>
            <a:ext cx="863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67052E-007 L -0.03941 0.90174 E">
                                      <p:cBhvr>
                                        <p:cTn id="4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90173 L 0.29132 0.90173 E">
                                      <p:cBhvr>
                                        <p:cTn id="49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AG00130_"/>
          <p:cNvPicPr/>
          <p:nvPr/>
        </p:nvPicPr>
        <p:blipFill>
          <a:blip r:embed="rId2"/>
          <a:stretch/>
        </p:blipFill>
        <p:spPr>
          <a:xfrm>
            <a:off x="1763640" y="5805360"/>
            <a:ext cx="8636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8.88889E-006 L 0.09445 -0.81898 E">
                                      <p:cBhvr>
                                        <p:cTn id="55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-0.81897 L 0.29132 -0.01041 E">
                                      <p:cBhvr>
                                        <p:cTn id="5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01041 L 0.4882 -0.81875 E">
                                      <p:cBhvr>
                                        <p:cTn id="61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76374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eat apples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eat carrots and cabbage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run and play in the park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clean teeth in the morning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sleep well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d47d"/>
                </a:solidFill>
                <a:latin typeface="Arial"/>
              </a:rPr>
              <a:t>Question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What must you do to be health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Do you eat carrots, apples, cabbage every da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Do you drink milk every da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Do you drink juice every da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Do you eat many sweet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Must you clean your teeth in the morning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Must you drink coca – cola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 том, что ты или твой друг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долже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елать, говори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к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You               must   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u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 том, что ты или твой дру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е</a:t>
            </a: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долже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елать, говори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к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You               must    not   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u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492280"/>
            <a:ext cx="72072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2843280" y="249228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2f131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4859280" y="249228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4788000" y="486900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2843280" y="486900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2f131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755640" y="4869000"/>
            <a:ext cx="72072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7d47d"/>
                </a:solidFill>
                <a:latin typeface="Arial"/>
              </a:rPr>
              <a:t>Give English equivalents</a:t>
            </a:r>
            <a:endParaRPr b="0" lang="en-US" sz="5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1)Ешь морковь, яблоки и капусту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2)Пей сок каждый день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3)Ты должен чистить зубы каждый день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4)Не ленись!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)Не ешь много бутербродов, конфет и тортов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)Ты должен кататься на коньках и лыжах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Correct the sentences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1) You mustn’t wash your face in the morn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2) You must eat many sweet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3) You mustn’t clean your teeth every da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4) You must be lazy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5) You mustn’t skip and jump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6) You mustn’t eat many carrots and appl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77058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7d47d"/>
                </a:solidFill>
                <a:latin typeface="Arial"/>
              </a:rPr>
              <a:t>Be healthy and happy!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бег"/>
          <p:cNvPicPr/>
          <p:nvPr/>
        </p:nvPicPr>
        <p:blipFill>
          <a:blip r:embed="rId1"/>
          <a:stretch/>
        </p:blipFill>
        <p:spPr>
          <a:xfrm>
            <a:off x="1042920" y="115920"/>
            <a:ext cx="612000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плавание1"/>
          <p:cNvPicPr/>
          <p:nvPr/>
        </p:nvPicPr>
        <p:blipFill>
          <a:blip r:embed="rId1"/>
          <a:stretch/>
        </p:blipFill>
        <p:spPr>
          <a:xfrm>
            <a:off x="826920" y="189000"/>
            <a:ext cx="6193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кока клоа"/>
          <p:cNvPicPr/>
          <p:nvPr/>
        </p:nvPicPr>
        <p:blipFill>
          <a:blip r:embed="rId1"/>
          <a:stretch/>
        </p:blipFill>
        <p:spPr>
          <a:xfrm>
            <a:off x="1042920" y="692280"/>
            <a:ext cx="60501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фиг катание"/>
          <p:cNvPicPr/>
          <p:nvPr/>
        </p:nvPicPr>
        <p:blipFill>
          <a:blip r:embed="rId1"/>
          <a:stretch/>
        </p:blipFill>
        <p:spPr>
          <a:xfrm>
            <a:off x="539640" y="189000"/>
            <a:ext cx="6734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кнф"/>
          <p:cNvPicPr/>
          <p:nvPr/>
        </p:nvPicPr>
        <p:blipFill>
          <a:blip r:embed="rId1"/>
          <a:stretch/>
        </p:blipFill>
        <p:spPr>
          <a:xfrm>
            <a:off x="250920" y="210960"/>
            <a:ext cx="741672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яблоки"/>
          <p:cNvPicPr/>
          <p:nvPr/>
        </p:nvPicPr>
        <p:blipFill>
          <a:blip r:embed="rId1"/>
          <a:stretch/>
        </p:blipFill>
        <p:spPr>
          <a:xfrm>
            <a:off x="250920" y="260280"/>
            <a:ext cx="741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мор"/>
          <p:cNvPicPr/>
          <p:nvPr/>
        </p:nvPicPr>
        <p:blipFill>
          <a:blip r:embed="rId1"/>
          <a:stretch/>
        </p:blipFill>
        <p:spPr>
          <a:xfrm>
            <a:off x="108000" y="115920"/>
            <a:ext cx="75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4:17:59Z</dcterms:created>
  <dc:creator>Пользователь</dc:creator>
  <dc:description/>
  <dc:language>en-US</dc:language>
  <cp:lastModifiedBy>школа</cp:lastModifiedBy>
  <dcterms:modified xsi:type="dcterms:W3CDTF">2012-12-07T05:59:17Z</dcterms:modified>
  <cp:revision>3</cp:revision>
  <dc:subject/>
  <dc:title>Модальный глагол «MUST»</dc:title>
</cp:coreProperties>
</file>