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B09-42D8-4B50-A000-4AF470DE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218-E15A-41C0-86A5-7EEDE2D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E79-6C08-489A-924C-E9EC11DA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EA8-F0B8-4059-A124-DC00D4D7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B66-022F-4932-A1C8-F9DAE020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AC4-2731-4487-9EAA-BD67AF1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4DF7-77D0-4500-BA1B-78F3FDB9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0644-1DB7-4276-9EA4-9C72D0B1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C3BD-9944-491B-B9F4-3BCA790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C21B-0159-4F67-A525-B64F3CC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8A81-8CC9-4B11-BC53-5E4C236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DF8-3004-455C-8432-B7970E7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41F-2B35-4D73-9FE2-C47797E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18CF-43BB-44A2-BD1A-BD0B9A1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81F-8FD6-4586-8D62-EA69B7B7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1F2F-5CB0-40AF-AA60-7E14A894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3CA-F4EF-475F-82E4-B5E4CC4C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1AD-61AD-4E2B-8659-EC6D1F80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68D-68B9-4566-A4ED-800BD87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89D-02CE-4B8A-B558-43551D9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0A2-50FD-49B6-8BB2-A97A41E1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9F3-AC1D-423C-98A2-76F24CB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DE3-D787-4DCE-B96C-3E96B6B8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975-85A3-4840-9C14-F23F258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759-2CDD-4927-A474-004F20C5B5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AE84-1EEF-419E-93E7-D4FB5D895C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Муниципальное бюджетное образовательное учреждение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«Средняя общеобразовательная школа №13»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города Дзержинска Нижегородской област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Социальный проек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29718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Граффити в Дзержинске: «за» и «против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ыполнили учащиеся 8 «Б» кла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Классный руководитель: Ермакова Э.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Октябрь, 2014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Этапы и сроки выполнения проект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143000"/>
          <a:ext cx="8686800" cy="5562720"/>
        </p:xfrm>
        <a:graphic>
          <a:graphicData uri="http://schemas.openxmlformats.org/drawingml/2006/table">
            <a:tbl>
              <a:tblPr/>
              <a:tblGrid>
                <a:gridCol w="738360"/>
                <a:gridCol w="6119640"/>
                <a:gridCol w="182880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этап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роки выпол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суждение общей темы, распределение по группа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суждение предварительных результатов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ъединение полученного материала групп Социологов, Историков и Художников; оформление проекта (создание презентаций)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3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щита проекта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5 мин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Материалы проекта: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. Папка документов: описание учебного проекта и материалов к нему; презентация проект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. Примеры работ учащихся, отражающие результаты их самостоятельных исследований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Социологический опрос группы «Социолог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Сбор и анализ информации (Интернет, СМИ) «История возникновения граффити»;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группы «Историки» – «История граффит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«Граффити на улицах Дзержинска» (фоторепортаж)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Презентация группы «Художники»;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 Эскиз граффити для веранды детского сада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3. Программа действий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Вопросы направляющие проек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Основополагающий вопрос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Граффити–искусство или вандализм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Проблемные вопросы учебной темы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В каких случаях граффити считается искусством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В каких случаях граффити считается вандализмом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Откуда появилось понятие «граффити»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Чем граффити привлекает молодежь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Учебные вопросы: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Что такое граффити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Когда появилось граффити?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 Какие направления граффити существуют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Участники: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учащиеся 8 «Б» класс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"/>
              </a:rPr>
              <a:t>Цель проекта:</a:t>
            </a:r>
            <a:br>
              <a:rPr sz="4000"/>
            </a:b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Ознакомлени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учащихся с таким проявлением субкультуры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к граффити, </a:t>
            </a:r>
            <a:br>
              <a:rPr sz="4000"/>
            </a:b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формировани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своего собственного мнения и отношения к данной проблем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15364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Задачи проекта: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роследить развитие граффити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как искусства на протяжении нескольких десятков лет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определи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сто граффити на сегодняшний день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созда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галерею граффити (фотографии граффити в нашем городе);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ровести опро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среди горожан и учащихся (граффити – хорошо это или плохо?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9172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одические цели проекта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 учащихся умения находить нужную, достоверную и актуальную информацию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Использовать компьютерные технологии для поставленных целей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мения самостоятельно работать с большими объёмами информации, проводить её анализ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Развитие умения работать в группах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Развитие коммуникативных навыков учащихся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умения намечать пути решения проблемы;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 Формирование навыков исследований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Дидактические цели проекта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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Формирование общей культуры и грамотности учащихся;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 Развитие критического мышления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сследование проблемы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о трём направлениям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828800"/>
            <a:ext cx="8228880" cy="4722480"/>
            <a:chOff x="457200" y="1828800"/>
            <a:chExt cx="8228880" cy="4722480"/>
          </a:xfrm>
        </p:grpSpPr>
        <p:cxnSp>
          <p:nvCxnSpPr>
            <p:cNvPr id="123" name="_s3175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38960" y="2748960"/>
              <a:ext cx="945000" cy="288072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6" name="_s31756"/>
            <p:cNvCxnSpPr>
              <a:stCxn id="127" idx="0"/>
              <a:endCxn id="125" idx="2"/>
            </p:cNvCxnSpPr>
            <p:nvPr/>
          </p:nvCxnSpPr>
          <p:spPr>
            <a:xfrm flipV="1">
              <a:off x="4571280" y="3717000"/>
              <a:ext cx="3240" cy="94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8" name="_s31755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60400" y="2750400"/>
              <a:ext cx="945000" cy="287820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5" name="_s31751"/>
            <p:cNvSpPr/>
            <p:nvPr/>
          </p:nvSpPr>
          <p:spPr>
            <a:xfrm>
              <a:off x="3337200" y="182880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Verdana"/>
                </a:rPr>
                <a:t>Участники 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aeaea"/>
                  </a:solidFill>
                  <a:latin typeface="Verdana"/>
                </a:rPr>
                <a:t>проекта </a:t>
              </a:r>
              <a:endParaRPr b="0" lang="en-US" sz="2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_s31752"/>
            <p:cNvSpPr/>
            <p:nvPr/>
          </p:nvSpPr>
          <p:spPr>
            <a:xfrm>
              <a:off x="45720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Социолог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_s31753"/>
            <p:cNvSpPr/>
            <p:nvPr/>
          </p:nvSpPr>
          <p:spPr>
            <a:xfrm>
              <a:off x="333720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Историк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_s31754"/>
            <p:cNvSpPr/>
            <p:nvPr/>
          </p:nvSpPr>
          <p:spPr>
            <a:xfrm>
              <a:off x="6217560" y="4662360"/>
              <a:ext cx="2468520" cy="18889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Группа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«Художники»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1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Историки»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были выдвинуты следующие задачи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◦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рассмотреть историю появления граффити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проследить развитие граффити как искусства на протяжении нескольких десятков лет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определить место граффити на сегодняшний день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◦ создать галерею граффити (фотографирование граффити в нашем городе)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Социологи»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были выделена следующая задача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ровести опрос среди горожан (граффити –хорошо это или плохо?).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Для группы «Художники»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дано задание: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зработать эскиз граффити  для веранды детского сада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inUser</cp:lastModifiedBy>
  <dcterms:modified xsi:type="dcterms:W3CDTF">2014-10-19T06:21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