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418D-4102-4FC2-8B2E-1CB8EE32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2670-99F2-4EB0-BAA8-E7F4296B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5BB6-F03F-4966-8637-DD6D33C9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80FA-FA04-46BC-A767-EB8CC6D5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FAC2-EDA8-4714-A3D7-9A4C50B1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A309-53B5-44BB-879C-5B22FE31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2B52-D48B-409D-96FE-D532B241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8B6B-FF7F-4A31-878C-D842D84C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D94C-84D5-425A-BADF-3BFE2AC3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DBED-47F2-4569-BBB4-88514D33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6F0D-647F-4739-AE34-3664EE10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8F8D-3E8A-4553-9074-09978A85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ABD0-58F1-412C-85AC-7B970431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C040-8FA9-4A03-8B15-F1D42B74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D3C4-C633-4A99-918B-EA98DCCF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72CE-9268-4ACF-9305-3BE0E6BD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9FCE-78A3-496D-A345-C392D945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7EEC-FBBB-473C-AF62-078767FF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922C-CE21-4641-9056-09E9A8DD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5F33-2DA0-412A-9186-4439C002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A354-130B-45F7-ACC2-0520DB63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1BD6-3FFB-4A65-9870-6B834F91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43C2-0AF9-4E44-8961-330DAF1B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3C94-F1F9-4653-AD57-1C22F03F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5D28-A776-4A31-A309-1BB7F54A72F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E60C-73BD-466B-B597-89A97DF275E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Муниципальное бюджетное образовательное учреждение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«Средняя общеобразовательная школа №13»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города Дзержинска Нижегородской области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Социальный проек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28600" y="297180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Verdana"/>
              </a:rPr>
              <a:t>Граффити в Дзержинске: «за» и «против»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Выполнили учащиеся 8 «Б» класс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Классный руководитель: Ермакова Э.Ю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Октябрь, 2014 год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Этапы и сроки выполнения проекта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8600" y="1143000"/>
          <a:ext cx="8686800" cy="5562720"/>
        </p:xfrm>
        <a:graphic>
          <a:graphicData uri="http://schemas.openxmlformats.org/drawingml/2006/table">
            <a:tbl>
              <a:tblPr/>
              <a:tblGrid>
                <a:gridCol w="738360"/>
                <a:gridCol w="6119640"/>
                <a:gridCol w="182880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№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Название этапов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роки выполнени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бсуждение общей темы, распределение по группам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5 мин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0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бсуждение предварительных результатов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5 мин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бъединение полученного материала групп Социологов, Историков и Художников; оформление проекта (создание презентаций)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35 мин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Защита проекта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5 мин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61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Материалы проекта:</a:t>
            </a:r>
            <a:br>
              <a:rPr sz="3600"/>
            </a:br>
            <a:br>
              <a:rPr sz="36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1. Папка документов: описание учебного проекта и материалов к нему; презентация проекта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2. Примеры работ учащихся, отражающие результаты их самостоятельных исследований: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 Социологический опрос группы «Социологи»;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 Сбор и анализ информации (Интернет, СМИ) «История возникновения граффити»;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 Презентация группы «Историки» – «История граффити»;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 Презентация «Граффити на улицах Дзержинска» (фоторепортаж);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 Презентация группы «Художники»;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 Эскиз граффити для веранды детского сада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3. Программа действий.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Вопросы направляющие проект.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Основополагающий вопрос: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 Граффити–искусство или вандализм?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Проблемные вопросы учебной темы: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 В каких случаях граффити считается искусством?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 В каких случаях граффити считается вандализмом?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 Откуда появилось понятие «граффити»?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 Чем граффити привлекает молодежь?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Учебные вопросы: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 Что такое граффити?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 Когда появилось граффити?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 Какие направления граффити существуют?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Участники: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учащиеся 8 «Б» класс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0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cc"/>
                </a:solidFill>
                <a:uFillTx/>
                <a:latin typeface="Arial"/>
              </a:rPr>
              <a:t>Цель проекта:</a:t>
            </a:r>
            <a:br>
              <a:rPr sz="4000"/>
            </a:br>
            <a:r>
              <a:rPr b="0" i="1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Ознакомление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учащихся с таким проявлением субкультуры,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ак граффити, </a:t>
            </a:r>
            <a:br>
              <a:rPr sz="4000"/>
            </a:br>
            <a:r>
              <a:rPr b="0" i="1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формирование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своего собственного мнения и отношения к данной проблеме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15364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Arial"/>
              </a:rPr>
              <a:t>Задачи проекта: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проследить развитие граффити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как искусства на протяжении нескольких десятков лет;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определить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место граффити на сегодняшний день;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создать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галерею граффити (фотографии граффити в нашем городе);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провести опрос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среди горожан и учащихся (граффити – хорошо это или плохо?)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277560"/>
            <a:ext cx="8991720" cy="642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Методические цели проекта: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 Формирование у учащихся умения находить нужную, достоверную и актуальную информацию;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 Использовать компьютерные технологии для поставленных целей;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 Формирование умения самостоятельно работать с большими объёмами информации, проводить её анализ;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 Развитие умения работать в группах;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 Развитие коммуникативных навыков учащихся;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 Формирование умения намечать пути решения проблемы;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 Формирование навыков исследований.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277920"/>
            <a:ext cx="8991720" cy="61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Arial"/>
              </a:rPr>
              <a:t>Дидактические цели проекта: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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Формирование общей культуры и грамотности учащихся;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 Развитие критического мышления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Исследование проблемы 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по трём направлениям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1828800"/>
            <a:ext cx="8228880" cy="4722480"/>
            <a:chOff x="457200" y="1828800"/>
            <a:chExt cx="8228880" cy="4722480"/>
          </a:xfrm>
        </p:grpSpPr>
        <p:cxnSp>
          <p:nvCxnSpPr>
            <p:cNvPr id="123" name="_s31757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5538960" y="2748960"/>
              <a:ext cx="945000" cy="288072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26" name="_s31756"/>
            <p:cNvCxnSpPr>
              <a:stCxn id="127" idx="0"/>
              <a:endCxn id="125" idx="2"/>
            </p:cNvCxnSpPr>
            <p:nvPr/>
          </p:nvCxnSpPr>
          <p:spPr>
            <a:xfrm flipV="1">
              <a:off x="4571280" y="3717000"/>
              <a:ext cx="3240" cy="9450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28" name="_s31755"/>
            <p:cNvCxnSpPr>
              <a:stCxn id="129" idx="0"/>
              <a:endCxn id="125" idx="2"/>
            </p:cNvCxnSpPr>
            <p:nvPr/>
          </p:nvCxnSpPr>
          <p:spPr>
            <a:xfrm flipH="1" flipV="1" rot="5400000">
              <a:off x="2660400" y="2750400"/>
              <a:ext cx="945000" cy="287820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25" name="_s31751"/>
            <p:cNvSpPr/>
            <p:nvPr/>
          </p:nvSpPr>
          <p:spPr>
            <a:xfrm>
              <a:off x="3337200" y="1828800"/>
              <a:ext cx="2468520" cy="18889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eaeaea"/>
                  </a:solidFill>
                  <a:latin typeface="Verdana"/>
                </a:rPr>
                <a:t>Участники </a:t>
              </a:r>
              <a:endParaRPr b="0" lang="en-US" sz="2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eaeaea"/>
                  </a:solidFill>
                  <a:latin typeface="Verdana"/>
                </a:rPr>
                <a:t>проекта </a:t>
              </a:r>
              <a:endParaRPr b="0" lang="en-US" sz="2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9" name="_s31752"/>
            <p:cNvSpPr/>
            <p:nvPr/>
          </p:nvSpPr>
          <p:spPr>
            <a:xfrm>
              <a:off x="457200" y="4662360"/>
              <a:ext cx="2468520" cy="18889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eaeaea"/>
                  </a:solidFill>
                  <a:latin typeface="Verdana"/>
                </a:rPr>
                <a:t>Группа </a:t>
              </a:r>
              <a:endParaRPr b="0" lang="en-US" sz="2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eaeaea"/>
                  </a:solidFill>
                  <a:latin typeface="Verdana"/>
                </a:rPr>
                <a:t>«Социологи»</a:t>
              </a:r>
              <a:endParaRPr b="0" lang="en-US" sz="2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" name="_s31753"/>
            <p:cNvSpPr/>
            <p:nvPr/>
          </p:nvSpPr>
          <p:spPr>
            <a:xfrm>
              <a:off x="3337200" y="4662360"/>
              <a:ext cx="2468520" cy="18889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eaeaea"/>
                  </a:solidFill>
                  <a:latin typeface="Verdana"/>
                </a:rPr>
                <a:t>Группа </a:t>
              </a:r>
              <a:endParaRPr b="0" lang="en-US" sz="2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eaeaea"/>
                  </a:solidFill>
                  <a:latin typeface="Verdana"/>
                </a:rPr>
                <a:t>«Историки»</a:t>
              </a:r>
              <a:endParaRPr b="0" lang="en-US" sz="2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" name="_s31754"/>
            <p:cNvSpPr/>
            <p:nvPr/>
          </p:nvSpPr>
          <p:spPr>
            <a:xfrm>
              <a:off x="6217560" y="4662360"/>
              <a:ext cx="2468520" cy="18889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eaeaea"/>
                  </a:solidFill>
                  <a:latin typeface="Verdana"/>
                </a:rPr>
                <a:t>Группа </a:t>
              </a:r>
              <a:endParaRPr b="0" lang="en-US" sz="2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eaeaea"/>
                  </a:solidFill>
                  <a:latin typeface="Verdana"/>
                </a:rPr>
                <a:t>«Художники»</a:t>
              </a:r>
              <a:endParaRPr b="0" lang="en-US" sz="21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61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Для группы «Историки»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были выдвинуты следующие задачи: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◦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рассмотреть историю появления граффити;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◦ проследить развитие граффити как искусства на протяжении нескольких десятков лет;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◦ определить место граффити на сегодняшний день;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◦ создать галерею граффити (фотографирование граффити в нашем городе).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534520" cy="62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Для группы «Социологи»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были выделена следующая задача: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провести опрос среди горожан (граффити –хорошо это или плохо?).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Для группы «Художники»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дано задание: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разработать эскиз граффити  для веранды детского сада.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inUser</cp:lastModifiedBy>
  <dcterms:modified xsi:type="dcterms:W3CDTF">2014-10-19T06:21:08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