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13FE-ED84-4FC4-9F5F-A3D39469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F977-63EF-4858-AD31-476F57BF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C763-90DB-4F35-8D83-4A68E1F9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2291-7981-406D-8935-3FB9C8AE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0E3F-F12A-4F14-A6E9-AF8C662B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54DA-3194-4F88-B147-0531EF41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990A-6401-4DD2-A540-7910E9F9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852B-6EBB-4731-921C-78F00F8A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5412-CD02-4935-B77A-3DB14826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C615-772A-437C-B5EE-0AC61419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3171-179C-4840-BD20-5B573A4F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2885-3CA4-4937-B1FA-82941947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6344-63C0-4616-9570-FCBC2ED3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B6F4-098D-4AB0-B5DF-E546466B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75A4-C389-460C-8305-0E379D3E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3041-A714-4C2B-ABE0-1FB44E65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4B2A-766A-4C7B-A75A-762D64AE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D158-5CA1-4C08-ADED-3851E981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BCCC-9136-4463-B16E-898CB92B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E545-075F-40F3-A930-51A608D2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E70C-594B-4EF9-8CE1-F670A274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B2D1-1C7E-49D8-BD5A-482F248A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78C-C5BB-440C-8FEA-E2565F73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3049-15DC-4EBC-A2CB-F2C47CA9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65A3-C8E0-4BA9-A995-1548D026799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C71B-A871-45F5-815E-E2E27C3E349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«Профессия – ПОЖАРНЫЙ»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95" name="" descr="Профессия пожарный"/>
          <p:cNvPicPr/>
          <p:nvPr/>
        </p:nvPicPr>
        <p:blipFill>
          <a:blip r:embed="rId1"/>
          <a:stretch/>
        </p:blipFill>
        <p:spPr>
          <a:xfrm>
            <a:off x="1908000" y="2349360"/>
            <a:ext cx="72360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31640" y="-36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Одежда пожарного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97" name="" descr="Профессия пожарный"/>
          <p:cNvPicPr/>
          <p:nvPr/>
        </p:nvPicPr>
        <p:blipFill>
          <a:blip r:embed="rId1"/>
          <a:stretch/>
        </p:blipFill>
        <p:spPr>
          <a:xfrm>
            <a:off x="826920" y="692280"/>
            <a:ext cx="277668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420360" y="72000"/>
            <a:ext cx="51228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Пожарное депо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19482" r="0" b="19482"/>
          <a:stretch/>
        </p:blipFill>
        <p:spPr>
          <a:xfrm>
            <a:off x="755640" y="1268280"/>
            <a:ext cx="4113360" cy="1881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03640" y="2997360"/>
            <a:ext cx="574992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76360" y="-360"/>
            <a:ext cx="54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ПОЖАРНЫЕ МАШИНЫ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2" name="" descr="Профессия пожарный"/>
          <p:cNvPicPr/>
          <p:nvPr/>
        </p:nvPicPr>
        <p:blipFill>
          <a:blip r:embed="rId1"/>
          <a:stretch/>
        </p:blipFill>
        <p:spPr>
          <a:xfrm>
            <a:off x="0" y="1052640"/>
            <a:ext cx="3809880" cy="2009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03640" y="981000"/>
            <a:ext cx="3384720" cy="2746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3133800"/>
            <a:ext cx="30592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тоцистер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84720" y="4221000"/>
            <a:ext cx="2741760" cy="2062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511600" y="6381720"/>
            <a:ext cx="3661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осная ст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3419640" cy="2560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Автомобиль пожарно-спасательный с медицинским модулем на шасси автомобиля Mercedes Benz Sprinter 515 CDI ПСА-ММ"/>
          <p:cNvPicPr/>
          <p:nvPr/>
        </p:nvPicPr>
        <p:blipFill>
          <a:blip r:embed="rId5"/>
          <a:stretch/>
        </p:blipFill>
        <p:spPr>
          <a:xfrm>
            <a:off x="2987640" y="2924280"/>
            <a:ext cx="3168720" cy="2252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47920" y="4797360"/>
            <a:ext cx="2813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иц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32000" y="-36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НАГРАДА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1" name="" descr="Профессия пожарный"/>
          <p:cNvPicPr/>
          <p:nvPr/>
        </p:nvPicPr>
        <p:blipFill>
          <a:blip r:embed="rId1"/>
          <a:stretch/>
        </p:blipFill>
        <p:spPr>
          <a:xfrm>
            <a:off x="826920" y="836640"/>
            <a:ext cx="31514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1T07:55:29Z</dcterms:created>
  <dc:creator>Таня</dc:creator>
  <dc:description/>
  <dc:language>en-US</dc:language>
  <cp:lastModifiedBy>Таня</cp:lastModifiedBy>
  <dcterms:modified xsi:type="dcterms:W3CDTF">2014-05-11T16:20:46Z</dcterms:modified>
  <cp:revision>2</cp:revision>
  <dc:subject/>
  <dc:title>«Профессия – ПОЖАРНЫЙ»</dc:title>
</cp:coreProperties>
</file>