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E2A-A076-4D9D-9CDA-2FD40EFA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A1B9-EABC-4264-8F8B-D66952D8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72E-6554-4AB9-8154-16EA500A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1A3-53FA-49E6-A003-8E108BB0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4A3E-1D68-48F6-B2B5-5542B420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2B70-84D0-4AEB-8320-5E59D6D0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FFB4-76C6-4D19-8CCE-0D654152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E16E-4550-436C-9AE4-0579E2A4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C81D-32C5-47CD-8265-DB7A20C4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8A87-F5D9-4F50-9354-B2FB3C05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04E8-AFF4-471E-8C41-5B0E350B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1E96-B4F6-4071-8EC2-8BEA9616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5F5D-3A66-49C6-85E8-3756F7F6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7DAD-B8A5-4F38-85DF-EBA97848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E31E-DB80-46E5-89A6-041E9E0E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4C71-D7BC-40FF-A00E-38916AFB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037A-BF29-4D84-A35D-59CAB446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9786-5145-4E06-A6C3-E4255C1E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98FD-08E9-44C9-8FF4-A758150C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4C8-CBF0-4791-B049-6E011B31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3DC0-526B-41F1-B376-FDD3AA41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C53E-7DC7-4EBA-9B0A-496A523A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22B0-D7C0-4874-A9BD-81113B26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237-BA9A-408F-9184-B4F52925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960A-69DA-42A2-84AB-73379156760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C492-B701-4EE1-A3CB-36E8990B3B1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«Профессия – ПОЖАРНЫЙ»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95" name="" descr="Профессия пожарный"/>
          <p:cNvPicPr/>
          <p:nvPr/>
        </p:nvPicPr>
        <p:blipFill>
          <a:blip r:embed="rId1"/>
          <a:stretch/>
        </p:blipFill>
        <p:spPr>
          <a:xfrm>
            <a:off x="1908000" y="2349360"/>
            <a:ext cx="72360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31640" y="-36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Одежда пожарного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97" name="" descr="Профессия пожарный"/>
          <p:cNvPicPr/>
          <p:nvPr/>
        </p:nvPicPr>
        <p:blipFill>
          <a:blip r:embed="rId1"/>
          <a:stretch/>
        </p:blipFill>
        <p:spPr>
          <a:xfrm>
            <a:off x="826920" y="692280"/>
            <a:ext cx="277668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420360" y="72000"/>
            <a:ext cx="51228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Пожарное депо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19482" r="0" b="19482"/>
          <a:stretch/>
        </p:blipFill>
        <p:spPr>
          <a:xfrm>
            <a:off x="755640" y="1268280"/>
            <a:ext cx="4113360" cy="1881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03640" y="2997360"/>
            <a:ext cx="574992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76360" y="-36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ПОЖАРНЫЕ МАШИНЫ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2" name="" descr="Профессия пожарный"/>
          <p:cNvPicPr/>
          <p:nvPr/>
        </p:nvPicPr>
        <p:blipFill>
          <a:blip r:embed="rId1"/>
          <a:stretch/>
        </p:blipFill>
        <p:spPr>
          <a:xfrm>
            <a:off x="0" y="1052640"/>
            <a:ext cx="3809880" cy="2009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03640" y="981000"/>
            <a:ext cx="3384720" cy="2746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3133800"/>
            <a:ext cx="30592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тоцистер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84720" y="4221000"/>
            <a:ext cx="2741760" cy="2062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511600" y="6381720"/>
            <a:ext cx="3661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осная 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3419640" cy="2560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Автомобиль пожарно-спасательный с медицинским модулем на шасси автомобиля Mercedes Benz Sprinter 515 CDI ПСА-ММ"/>
          <p:cNvPicPr/>
          <p:nvPr/>
        </p:nvPicPr>
        <p:blipFill>
          <a:blip r:embed="rId5"/>
          <a:stretch/>
        </p:blipFill>
        <p:spPr>
          <a:xfrm>
            <a:off x="2987640" y="292428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47920" y="4797360"/>
            <a:ext cx="2813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32000" y="-36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НАГРАДА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1" name="" descr="Профессия пожарный"/>
          <p:cNvPicPr/>
          <p:nvPr/>
        </p:nvPicPr>
        <p:blipFill>
          <a:blip r:embed="rId1"/>
          <a:stretch/>
        </p:blipFill>
        <p:spPr>
          <a:xfrm>
            <a:off x="826920" y="836640"/>
            <a:ext cx="3151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1T07:55:29Z</dcterms:created>
  <dc:creator>Таня</dc:creator>
  <dc:description/>
  <dc:language>en-US</dc:language>
  <cp:lastModifiedBy>Таня</cp:lastModifiedBy>
  <dcterms:modified xsi:type="dcterms:W3CDTF">2014-05-11T16:20:46Z</dcterms:modified>
  <cp:revision>2</cp:revision>
  <dc:subject/>
  <dc:title>«Профессия – ПОЖАРНЫЙ»</dc:title>
</cp:coreProperties>
</file>