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4A0-3365-48BD-AA4D-275B5F12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1FD-ECCC-4D52-85B0-456F6D8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C11-D969-4E8A-A280-C4941E9E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B19-A623-4363-AF76-7D51BF0F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6398A-096A-41A5-B50F-9FAD14B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FA407-5146-40A4-9D03-8913EDE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9565-4932-457A-A16D-0B0831B6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F7F5C-24B8-4170-9A52-4D1CD1D8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913E4-43C4-4B7A-8E89-823DA24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AAC4-8FF2-434C-911F-F66C713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DB4BF-F672-4185-BD76-4349959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36A-AE63-425C-B953-737D798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D89C6-441B-486A-9D3A-1CFEB29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1457-BFD8-4EBC-9904-023FAD88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E5253-BF90-4AF0-894D-A563919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8A982-0E37-4306-A0C1-4DD848BF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5C2E2-711C-44F4-9A47-C25D5C1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5A73-FADD-49CF-8F35-809F1C26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8F0C-3EAF-47D6-9DCD-4C5CA17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81B5-78EA-4706-9D21-8CA49B5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5B07-0E29-4B10-A3C0-AC71E769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7E12-3C86-44E3-A1B1-3872511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809-2715-4840-AA60-1D4E97B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7A61-D2D1-41C6-8434-468DE83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1AA8-04C6-45BB-AEFE-FA1A1F2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1910-07D8-44F0-B784-1C7AC17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F0E7-4726-4CB2-B001-D58133F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4E5F-56CF-48F9-96C7-FEA742A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94F1-DCDF-4A4E-A3F9-E1DCCDA3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BBD1-E078-4374-B432-750B1755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0F0AD-C063-4666-8D38-B4815AF8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952E2-F047-40AD-AE69-187D2381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5346F-C549-4FBC-9449-CF5EEA46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352-B449-403F-A793-5C8E01A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AA1FD-A280-437E-8CB7-6F44ECE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22273-DBFF-4646-9D10-B85C4F0B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65019-55A6-4D90-96D5-1F53BA3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CC3BF-EF66-4E39-BB19-7235245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51D06-BF11-42E0-9A43-C328A04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C034B-7609-4DD3-A826-0D30EF2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060D0-9F8C-405A-ADBE-A66BFA1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2991C-883F-4DFC-A360-22396DBA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A3D15-7DD8-4FFB-A21C-658B696C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D407B-1F44-4D1F-AEEE-C86421E5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462-E70A-436E-8553-25292B2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D8946-3749-4E1D-B995-70B12E2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F8F10-685E-4DE3-A41E-C5FF1D82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8BB4E-31A9-4229-A5F8-7F4878B9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F9EE4-82AA-4CD0-8D08-7566B16D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CE70D-FAAD-46A0-9CB1-E8F2E9F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FC459-DB63-4812-B512-8C0EA57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1DB5A-376B-4E9D-A43B-5E59D6A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47300-7CCC-43BD-8CBE-BD9E5DC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69F33-0FC4-4D0C-8C24-D164339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780F5-0CCE-4C8E-ABD9-65A416E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F4A-0C6A-4BA0-AB52-4F71899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4B32C-E837-4247-BC42-42A9ADD9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4C6C6-2A0B-4355-A94B-A8D408A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D3EF7-FCA6-4BA1-B1C1-B473EFC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BC8D0-2DD8-40AF-9C23-1E4CFA7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3D2AB-51A9-4523-954C-7A46D22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3A9DC-182E-4DDA-B394-0A519B5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21F69-997C-404A-84BD-F728BB0C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60038-9FBD-450C-A651-16365A1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8DE3D-35D3-40AE-8819-C5CE780D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DD74D-174A-4CB9-9793-1948431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CAE-165A-40A8-AC61-4449B1E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A1812-63E9-46F8-ACD4-B3BE2FC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E8D16-725A-4938-81B1-4241107F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741FC-E9B9-4F29-BD44-17BDE07B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113-6FD9-4F17-B68E-2945474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916-4B0B-4443-99E3-BC033BE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74B2-40B6-46DE-957E-52E7142EBE1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11B-D568-48F5-9C9F-2A7BD884765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C09E-1B03-4786-814B-0E333048731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FE9-5503-4683-9CBA-E6CDE31F657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E0D-4CD0-4DAF-A961-8C2F74070E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29E-A708-4AA4-A512-85D03F9FCD7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" descr="DSC03833.JPG"/>
          <p:cNvPicPr/>
          <p:nvPr/>
        </p:nvPicPr>
        <p:blipFill>
          <a:blip r:embed="rId2"/>
          <a:stretch/>
        </p:blipFill>
        <p:spPr>
          <a:xfrm>
            <a:off x="6667560" y="5105520"/>
            <a:ext cx="1852560" cy="1139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DSC03878.JPG"/>
          <p:cNvPicPr/>
          <p:nvPr/>
        </p:nvPicPr>
        <p:blipFill>
          <a:blip r:embed="rId3"/>
          <a:stretch/>
        </p:blipFill>
        <p:spPr>
          <a:xfrm>
            <a:off x="990720" y="4648320"/>
            <a:ext cx="2743200" cy="15904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DSC03917.JPG"/>
          <p:cNvPicPr/>
          <p:nvPr/>
        </p:nvPicPr>
        <p:blipFill>
          <a:blip r:embed="rId4"/>
          <a:stretch/>
        </p:blipFill>
        <p:spPr>
          <a:xfrm>
            <a:off x="4191120" y="4800600"/>
            <a:ext cx="2057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товность принять всех дете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ffffff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8388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 rot="10800000">
            <a:off x="1369440" y="5942160"/>
            <a:ext cx="73134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1133640" y="1901880"/>
            <a:ext cx="75531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редство отбора педагогических кадров в учреждения образ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ветствовать структуре профессиональной деятельност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 регламентировать деятельность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Избавить педагога от несвойственных функций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обуждать к поиску нестандартных решений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ветствовать международным нормам и регламентам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носиться с требованиями профильных министерств и ведомств, от которых зависят исчисление трудового стажа, и т.д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  нем определяются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требования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к квалификаци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ожет дополняться региональными требованиями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ожет быть дополнен внутренним стандартом образовательного учреждения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тражает структуру профессиональной деятельност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ыдвигает требования к личностным качествам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одоление технократического подхода в оценке труда педагог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вание координированного роста свободы и ответственности педагога за результаты тру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тивация педагога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стоянно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овышение квалифик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328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меть высшее образование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программы обучения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 и анализировать работу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спользовать специальные подходы, чтобы охватить всех дете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ладеть формами 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етодами воспитательной рабо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ладеть организационными формами и метод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ть общаться с детьми, защищать их интересы и достоин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TOV</dc:creator>
  <dc:description/>
  <dc:language>en-US</dc:language>
  <cp:lastModifiedBy>BUTOV</cp:lastModifiedBy>
  <dcterms:modified xsi:type="dcterms:W3CDTF">2014-11-10T18:04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