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055-11CF-4C41-A386-AE086563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747-808F-4C37-A392-B566509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9FE-4F0A-4002-AFE8-E2EBCA15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7D2-E18B-44FF-8DB4-9731A62C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EFA0-24CD-4795-B204-D53A9EF3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0E57-68F2-47C3-94FB-55D94AF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362D9-861B-4076-9328-CCB2E74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45C16-4A53-47C0-A038-89E4A1C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2B01-B45A-4278-90AF-F6DB712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C2E9-37FC-4C46-9546-04298A25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D89C-D389-4312-BDE1-9FEDD36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D5F-A2C0-4E72-9AE0-474C6917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78D30-E6BE-451E-A93E-657BC1D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3ED1B-E107-4D8A-BB3F-B387D34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9E394-724D-4CE4-BDE0-0F96C03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9B550-D221-49C5-B3EF-955A098E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780D5-4A0C-48B0-A7A6-5E0019B4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4600-BAB3-4DFD-81F1-1AE3831E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DC99-F052-44F7-B973-64D79F0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0770-4520-40A3-8403-3F03D6E0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7A24-3C4D-4773-8D0C-2D5CB18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8CD1-45E8-4C6F-A617-76B2FDD9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96F-2A78-4310-AC22-8E9A144E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E4BD-DB10-4050-8E24-03B91C53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3285-96CB-43F3-BD13-1F29D9E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35D5-8CBB-4E83-90C5-A72FAAFB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2711-6D23-456B-B21C-8FBE1DA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EC51-8630-4D0D-8FF2-5D93236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0348-83DD-4BC6-BC46-FEBCC53D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7CFF-48D3-4439-9C66-7DE98D12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8A0D9-4CF4-48B6-B404-2192E71F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1B545-C4A9-4425-8791-4B3549C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BE3AD-775A-4D96-91A0-007CDC6C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5E3-72DC-4A61-A981-4D8E32A5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6F83E-76A0-4D44-AAE3-BB60BFF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29224-45B6-40E4-B816-85DD4666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72C60-B324-440B-B97E-4A7E8D4D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718DA-111A-4363-A275-FE97C29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75352-65EB-4E08-A503-5FD1002F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16C45-46C0-4A2C-B399-3F2D7B19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F6137-7E58-4F91-ACA5-FD7BF46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692B8-ED21-4A56-8644-0CF0A410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C5A40-16E8-4BCE-BBE5-E53B2BF0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1699F-3AEA-46D4-90DB-872C85FF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61D-9392-4240-BC61-70734E2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C2E36-F7C6-43DC-B2E1-A389ED5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9D495-F7A9-405D-BEB2-8A2E229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D6595-ADD3-4657-BFFE-7AB621C6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51B67-10CF-4E98-AF5A-10921277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572D1-9348-4FDD-9250-B4481CE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5FAFC-3D7D-40F7-A44F-CBDDDB8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809CC-0D14-4B5C-B867-A46F356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8BF42-B9CE-4895-8E7E-48E02A9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E5AC3-B9F7-453A-B3A8-3F58B961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7F11C-2E08-489D-90A4-01155FA6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47B-1E2D-4B9B-A69B-A1EE141A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EBCEB-D35C-42AE-956F-AD69697B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92932-C3FB-4AE4-B515-15BA27AE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AEA7C-FFEF-41FC-B9BA-C245F8FE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E6111-6B74-44A9-A237-82B532B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3CFB5-220D-4360-81A6-F243DD66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F19BF-705E-4328-99CE-285FE5F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00732-45A0-499E-9183-B5BB6C7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6472B-2BDC-46AF-BE24-C743BAC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E7FC5-1B75-49EF-B863-173BC95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06C19-34CE-4B08-A534-C9E7CEB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97C-2F96-4055-9574-C5CA68F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0E7CC-36E0-4EB8-AB78-6F8594E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CF8C0-0B95-4109-90E6-BBFF509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05C2E-35FF-4055-8CA7-4413450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9FF-799A-464B-8DE2-BB89998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C06-CFD9-4055-94D2-0779CAA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D2C0-D6DA-4AB6-9B9A-8735E190908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695D-9321-48D5-A8BD-CFC6C18BDD0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66A-B353-4635-81D4-43B4C18B0E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03C5-4FB7-4918-B418-21A638D163D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1DE1-1532-4A57-A8F5-94E4FE3E27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EA78-86D5-4281-B373-659276896DA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" descr="DSC03833.JPG"/>
          <p:cNvPicPr/>
          <p:nvPr/>
        </p:nvPicPr>
        <p:blipFill>
          <a:blip r:embed="rId2"/>
          <a:stretch/>
        </p:blipFill>
        <p:spPr>
          <a:xfrm>
            <a:off x="6667560" y="5105520"/>
            <a:ext cx="1852560" cy="11397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DSC03878.JPG"/>
          <p:cNvPicPr/>
          <p:nvPr/>
        </p:nvPicPr>
        <p:blipFill>
          <a:blip r:embed="rId3"/>
          <a:stretch/>
        </p:blipFill>
        <p:spPr>
          <a:xfrm>
            <a:off x="990720" y="4648320"/>
            <a:ext cx="2743200" cy="15904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DSC03917.JPG"/>
          <p:cNvPicPr/>
          <p:nvPr/>
        </p:nvPicPr>
        <p:blipFill>
          <a:blip r:embed="rId4"/>
          <a:stretch/>
        </p:blipFill>
        <p:spPr>
          <a:xfrm>
            <a:off x="4191120" y="4800600"/>
            <a:ext cx="2057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товность принять всех дете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ffffff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8388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91440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фессиональная деятельность воспитателя оценивается только комплексно. Высокая оценка включает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четание показателей динамики развития интегративных качеств ребен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ожительное отношение к детскому са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ысокой степени активности и вовлеченности родителей  в жизнь детского са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 rot="10800000">
            <a:off x="1369440" y="5942160"/>
            <a:ext cx="73134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1133640" y="1901880"/>
            <a:ext cx="75531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бъективный измеритель квалификации педагог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редство отбора педагогических кадров в учреждения образ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fac9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ветствовать структуре профессиональной деятельност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 регламентировать деятельность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Избавить педагога от несвойственных функций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обуждать к поиску нестандартных решений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ветствовать международным нормам и регламентам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Соотноситься с требованиями профильных министерств и ведомств, от которых зависят исчисление трудового стажа, и т.д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  нем определяются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ые требования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к квалификаци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ожет дополняться региональными требованиями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Может быть дополнен внутренним стандартом образовательного учреждения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тражает структуру профессиональной деятельности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ыдвигает требования к личностным качествам педагог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одоление технократического подхода в оценке труда педагог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вание координированного роста свободы и ответственности педагога за результаты тру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тивация педагога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стоянно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овышение квалифик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328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меть высшее образование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Знать программы обучения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планировать и анализировать работу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Использовать специальные подходы, чтобы охватить всех дете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ладеть формами 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етодами воспитательной рабо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ладеть организационными формами и метода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ть общаться с детьми, защищать их интересы и достоин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38120" y="146160"/>
            <a:ext cx="8340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TOV</dc:creator>
  <dc:description/>
  <dc:language>en-US</dc:language>
  <cp:lastModifiedBy>BUTOV</cp:lastModifiedBy>
  <dcterms:modified xsi:type="dcterms:W3CDTF">2014-11-10T18:04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