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29C-42B2-4D4C-AFCA-32733506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D04-7429-4249-83C1-3D0B4ACD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449-E4FE-46FE-AB4C-ED123089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DBF-8CEE-432A-A319-4C7E5C8A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804-39E9-48F2-8918-B1F292AE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9BA-7077-4A2F-B356-E16613F1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A4B-E557-4624-8154-9A630323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E76-9B6E-4BCF-8A41-96A204C2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748-BF94-4271-8BE3-FD2FF863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00B-2384-4872-98BB-EDBC7151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AE6-AC68-4DE3-8DE8-4A1AEBA5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D46-B82B-4C7A-9F08-A315B80F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859B-D19E-45C8-9D00-DD71E1FFA2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Геометрия  9 клас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Задача 3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606600" y="1811160"/>
                <a:ext cx="3784320" cy="12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5076720" y="1700280"/>
                <a:ext cx="32734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1258920" y="3789360"/>
                <a:ext cx="32734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Задача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"/>
              <p:cNvSpPr txBox="1"/>
              <p:nvPr/>
            </p:nvSpPr>
            <p:spPr>
              <a:xfrm>
                <a:off x="1135080" y="1878120"/>
                <a:ext cx="2725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4646520" y="1882800"/>
                <a:ext cx="29257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1460520" y="3056040"/>
                <a:ext cx="33336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d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5"/>
              <p:cNvSpPr txBox="1"/>
              <p:nvPr/>
            </p:nvSpPr>
            <p:spPr>
              <a:xfrm>
                <a:off x="3228840" y="4581360"/>
                <a:ext cx="416412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Задача 5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2"/>
              <p:cNvSpPr txBox="1"/>
              <p:nvPr/>
            </p:nvSpPr>
            <p:spPr>
              <a:xfrm>
                <a:off x="1136520" y="1878120"/>
                <a:ext cx="27241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4284720" y="1844640"/>
                <a:ext cx="41749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;</m:t>
                    </m:r>
                    <m:r>
                      <m:t xml:space="preserve">у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1168560" y="3097080"/>
                <a:ext cx="391788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3005280" y="4848120"/>
                <a:ext cx="3419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                      </a:t>
            </a: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Задача 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395280" y="765000"/>
                <a:ext cx="27367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468360" y="1989000"/>
                <a:ext cx="7456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середина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836640" y="3220920"/>
                <a:ext cx="45846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;</m:t>
                    </m:r>
                    <m:r>
                      <m:t xml:space="preserve">у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5"/>
              <p:cNvSpPr txBox="1"/>
              <p:nvPr/>
            </p:nvSpPr>
            <p:spPr>
              <a:xfrm>
                <a:off x="2239920" y="4848120"/>
                <a:ext cx="33354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Подведем итог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i="1" lang="ru-RU" sz="6600" spc="-1" strike="noStrike">
                <a:solidFill>
                  <a:srgbClr val="002060"/>
                </a:solidFill>
                <a:latin typeface="Calibri"/>
              </a:rPr>
              <a:t>Решение задач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1)  Найдите </a:t>
            </a: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периметр </a:t>
            </a: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треугольника АВС, если </a:t>
            </a:r>
            <a:br>
              <a:rPr sz="5400"/>
            </a:b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А(3;-1),  В(2;4), С(-5;3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2) Найдите медиану </a:t>
            </a: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АМ</a:t>
            </a: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 треугольника АВС, если А(-1;2),  В(3;-4),  С (5;-2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Calibri"/>
              </a:rPr>
              <a:t>3) Найдите </a:t>
            </a: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площадь </a:t>
            </a:r>
            <a:r>
              <a:rPr b="1" i="1" lang="ru-RU" sz="6600" spc="-1" strike="noStrike">
                <a:solidFill>
                  <a:srgbClr val="002060"/>
                </a:solidFill>
                <a:latin typeface="Calibri"/>
              </a:rPr>
              <a:t>треугольника АВС, если АВ =ВС, А(2; 1), В(5;-5), С(8;1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Подведем итог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i="1" lang="ru-RU" sz="6600" spc="-1" strike="noStrike">
                <a:solidFill>
                  <a:srgbClr val="008000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1уровень : № 936(6,8)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                     № </a:t>
            </a: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935(5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2 уровень: № 947(а), 950(а),  949(а)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Дополнительная задач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№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948(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Простейшие задачи в координатах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Координаты вектор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1"/>
              <p:cNvSpPr txBox="1"/>
              <p:nvPr/>
            </p:nvSpPr>
            <p:spPr>
              <a:xfrm>
                <a:off x="971640" y="1844640"/>
                <a:ext cx="30556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4568760" y="1882800"/>
                <a:ext cx="30812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585720" y="3097080"/>
                <a:ext cx="508500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х</m:t>
                        </m:r>
                        <m:r>
                          <m:t xml:space="preserve">;</m:t>
                        </m:r>
                        <m:r>
                          <m:t xml:space="preserve">у</m:t>
                        </m:r>
                      </m:e>
                    </m:d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755640" y="4724280"/>
                <a:ext cx="792000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Длина  вектор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1336680" y="1844640"/>
                <a:ext cx="2324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х</m:t>
                        </m:r>
                        <m:r>
                          <m:t xml:space="preserve">;</m:t>
                        </m:r>
                        <m:r>
                          <m:t xml:space="preserve">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395280" y="3160800"/>
                <a:ext cx="7284960" cy="21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Координаты середины отрезк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324000" y="1700280"/>
                <a:ext cx="381924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4932360" y="1844640"/>
                <a:ext cx="374652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763640" y="2997360"/>
                <a:ext cx="524376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179280" y="4365720"/>
                <a:ext cx="429444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4572000" y="4365720"/>
                <a:ext cx="4438800" cy="22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Расстояние между двумя точками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971640" y="1844640"/>
                <a:ext cx="30556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4568760" y="1882800"/>
                <a:ext cx="30812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1460520" y="3056040"/>
                <a:ext cx="33336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d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179280" y="4869000"/>
                <a:ext cx="866484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2060"/>
                </a:solidFill>
                <a:latin typeface="Calibri"/>
              </a:rPr>
              <a:t>Решите устно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Задача 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1004760" y="1878120"/>
                <a:ext cx="29894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4568760" y="1936800"/>
                <a:ext cx="30812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36600" y="3097080"/>
                <a:ext cx="558468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М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х</m:t>
                        </m:r>
                        <m:r>
                          <m:t xml:space="preserve">;</m:t>
                        </m:r>
                        <m:r>
                          <m:t xml:space="preserve">у</m:t>
                        </m:r>
                      </m:e>
                    </m:d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990800" y="4724280"/>
                <a:ext cx="38336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М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Задача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1004760" y="1878120"/>
                <a:ext cx="29894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4568760" y="1936800"/>
                <a:ext cx="30812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170000" y="3138480"/>
                <a:ext cx="391788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5"/>
              <p:cNvSpPr txBox="1"/>
              <p:nvPr/>
            </p:nvSpPr>
            <p:spPr>
              <a:xfrm>
                <a:off x="1949400" y="4848120"/>
                <a:ext cx="39178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16:30:05Z</dcterms:created>
  <dc:creator>Elena</dc:creator>
  <dc:description/>
  <dc:language>en-US</dc:language>
  <cp:lastModifiedBy>Elena</cp:lastModifiedBy>
  <dcterms:modified xsi:type="dcterms:W3CDTF">2014-11-12T17:38:34Z</dcterms:modified>
  <cp:revision>2</cp:revision>
  <dc:subject/>
  <dc:title>Геометрия  9 класс</dc:title>
</cp:coreProperties>
</file>