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18.jpeg" ContentType="image/jpeg"/>
  <Override PartName="/ppt/media/image15.jpeg" ContentType="image/jpeg"/>
  <Override PartName="/ppt/media/image13.png" ContentType="image/png"/>
  <Override PartName="/ppt/media/image1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chimes.wav" ContentType="audio/x-wav"/>
  <Override PartName="/ppt/media/image1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64C-F657-4BB1-9B34-B29907FC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BF7-49C5-48B7-9CD3-39B8345B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585-09E0-4AE4-B4FD-43E9A47A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44E-6464-424E-BF4B-B01C822F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A0B6-D7E3-47A7-AE0F-A061D4F1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969E-B02C-480C-AF65-AE8874D4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3306-5108-42DC-B5A5-0330D725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EC36-FAAB-4B81-9B0A-1D815DB9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07FA-F5FE-43C1-ABCA-3E89347B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B59D-9FB4-43F2-82B8-76779D53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0D30-8C2A-4335-9924-0B6E75D2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BE1-1B64-472F-85BB-83C9CD8B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4BFC-03CE-4ED5-82F3-F4AE2DBE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1033-E757-4AFB-95B5-18C2F967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C06A-6EEF-44CD-84B4-98EAEE4B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2EB0-D50A-47BD-8C6F-4CA43C19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6E38-161F-4C0C-8D05-5E82EEA0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0317D-C80F-4692-B594-90D83917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0D353-D7D9-4403-866C-83AD82A9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F3E46-073F-4E30-874D-4FE9DCC1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24D5B-28F0-411B-896F-BA8D402E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74A1C-84C7-4E5E-963D-E755C83E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698F-1FE2-44BF-A9D1-A7EAA7E9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E08EE-A7CF-4904-A631-EBB5EEC9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BDFE2-CE21-4B09-B53D-B73B3C6D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6A2DC-FAF8-4A03-A63B-6E862F8B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62AA3-27DF-4D89-9C59-5223602D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ADA49-B732-4112-BDA2-C6CAEB49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6DBC2-8921-4382-ADB1-96C75C67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ED639-25A8-4BD4-B5B1-414B2480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6916A-A185-412D-8B92-31E36F3B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864D7-07DA-45A4-AE33-169D9A3E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AF783-9367-4589-99AB-87EEF1F0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81FE-7B5C-4E18-9344-71A5B90C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2BD01-71C5-4BC0-9EC5-0011CBEE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742FF-81DB-411D-A874-2E68BBE6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5B256-F39D-40F3-A30A-7F1E3CD2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7E333-1BF2-4885-A103-8B7EBC6A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11116-AA2B-4475-B3AE-75B412DD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BDBF4-BAD1-4355-BC74-00D097FE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B0374-9F96-4B85-84AD-E55B7024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0CE4F-8C06-47BA-BD38-F5E48E71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C4736-DE6E-4B53-9853-E3E3CD86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942D2-FF7B-45EA-8835-2752CFB7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4B0D-E8A2-4E0B-85ED-39ED8932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7CED8-FABF-472B-BECB-4D116C11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E4BED-4649-4EB2-8226-9F8DCCF9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A76FC-9E67-40D7-9004-54F63B95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36383-F243-409F-9AC4-C60C9FE8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C828D-2B74-4A45-A74A-86029CB4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AF296-6932-4227-8358-C3BC6F88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3D947-3EE5-4A7C-93FF-7667095F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A54FB-E748-443A-89DB-D12CC041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A9B6C-65C9-4189-BAF5-2FECE48A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D9189-9539-4AE7-BC84-D2EC555F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695D-316C-48ED-84A7-CB3296A8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92B69-5DF4-4ABA-A42A-4308C977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65D-17C3-4D4A-9D56-3929BB9D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D27F-639B-4F63-B16C-9C55A733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623-5B1E-429D-80A3-042FFD42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017D-3F1B-4A9E-963A-1976050D53A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E1B9-8EB0-497E-B83B-2A94C550696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4CFA-D5A3-4E2F-BDAF-3F541DB37BF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630F-3798-4A0E-A0C9-119FE6AAAED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5D8E-7052-4065-97A5-21BD1507593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WordArt 6"/>
          <p:cNvSpPr txBox="1"/>
          <p:nvPr/>
        </p:nvSpPr>
        <p:spPr>
          <a:xfrm>
            <a:off x="838080" y="-457200"/>
            <a:ext cx="76201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26b02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заботимся о птицах</a:t>
            </a:r>
            <a:endParaRPr b="0" lang="en-US" sz="1800" spc="1" strike="noStrike">
              <a:ln w="9360">
                <a:solidFill>
                  <a:srgbClr val="b26b02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2" name="WordArt 8"/>
          <p:cNvSpPr txBox="1"/>
          <p:nvPr/>
        </p:nvSpPr>
        <p:spPr>
          <a:xfrm>
            <a:off x="2438280" y="-304920"/>
            <a:ext cx="6039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3" name="WordArt 9"/>
          <p:cNvSpPr txBox="1"/>
          <p:nvPr/>
        </p:nvSpPr>
        <p:spPr>
          <a:xfrm>
            <a:off x="-3809880" y="6172200"/>
            <a:ext cx="15239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66"/>
                </a:solidFill>
                <a:latin typeface="Verdana"/>
              </a:rPr>
              <a:t>1 конкурс «Птичья страничка»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жите о птицах, зимующих в нашей мест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вы помогаете им перенести сложный зимний период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66"/>
                </a:solidFill>
                <a:latin typeface="Verdana"/>
              </a:rPr>
              <a:t>2 конкурс «Узнай птицу»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1" name="Изображение 1" descr=""/>
          <p:cNvPicPr/>
          <p:nvPr/>
        </p:nvPicPr>
        <p:blipFill>
          <a:blip r:embed="rId1"/>
          <a:stretch/>
        </p:blipFill>
        <p:spPr>
          <a:xfrm>
            <a:off x="2052720" y="938160"/>
            <a:ext cx="5086440" cy="33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Изображение 1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10552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Изображение 2" descr="Снимок экрана 2012-10-21 в 22.31.57.png"/>
          <p:cNvPicPr/>
          <p:nvPr/>
        </p:nvPicPr>
        <p:blipFill>
          <a:blip r:embed="rId1"/>
          <a:stretch/>
        </p:blipFill>
        <p:spPr>
          <a:xfrm>
            <a:off x="2209680" y="533520"/>
            <a:ext cx="46483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8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800600" cy="601992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split dir="out" orient="vert"/>
    <p:sndAc>
      <p:stSnd>
        <p:snd r:embed="rId2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4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Объект 10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495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Изображение 1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Изображение 1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61722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Изображение 1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4864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7124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А СЕГОДНЯ ПРИЛЕТЕЛ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525780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Verdana"/>
              </a:rPr>
              <a:t>ДРУЖНОЙ СТАЙКОЙ…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Рисунок 3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473440" cy="36003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split dir="out" orient="vert"/>
    <p:sndAc>
      <p:stSnd>
        <p:snd r:embed="rId2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3" descr=""/>
          <p:cNvPicPr/>
          <p:nvPr/>
        </p:nvPicPr>
        <p:blipFill>
          <a:blip r:embed="rId1"/>
          <a:stretch/>
        </p:blipFill>
        <p:spPr>
          <a:xfrm>
            <a:off x="220968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split dir="out" orient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1" descr="0_2275f_f578765c_XL.jpeg"/>
          <p:cNvPicPr/>
          <p:nvPr/>
        </p:nvPicPr>
        <p:blipFill>
          <a:blip r:embed="rId1"/>
          <a:stretch/>
        </p:blipFill>
        <p:spPr>
          <a:xfrm>
            <a:off x="1905120" y="152280"/>
            <a:ext cx="548640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1" descr="SDC12359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19320" y="609480"/>
            <a:ext cx="69339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66"/>
                </a:solidFill>
                <a:latin typeface="Verdana"/>
              </a:rPr>
              <a:t>3 конкурс «Про птиц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7720" y="1219320"/>
            <a:ext cx="8007480" cy="5410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ая птица выводит птенцов зимой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тица, которая прилетает к нам с первым снего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птицы перекочевывают на зиму к жилью человек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какой зимующей птицы созвучно с названием танц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овите зимующих птиц, на голове которых есть хохол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холодную погоду воробьи взъерошенные, поче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птицы строят гнезда в январе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гда температура тела воробья ниже — зимой или летом?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называются птицы, которые живут с нами постоянно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5800" y="9140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есты, зимород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егир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ница большая, сорока, ворона, гал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чет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виристель, чечетка, хохлатая синиц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гко сохранять тепл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ес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 тела воробья всегда одинаков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едл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3124080" y="304920"/>
            <a:ext cx="2819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66"/>
                </a:solidFill>
                <a:latin typeface="Verdana"/>
              </a:rPr>
              <a:t>Физическая мину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4479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беди летя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ыльями машу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нулись над вод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ают голов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ямо и горд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ют держаться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очень бесшумн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место садят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66"/>
                </a:solidFill>
                <a:latin typeface="Verdana"/>
              </a:rPr>
              <a:t>4 конкурс «О ком это?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ую птицу называют лесным доктором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ая птица ходит по стволу вниз головой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кой зимующей птицы самый длинный язы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ая зимующая птица имеет очень длинный хвос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а птица – труженик, зимой имеет свою кузниц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этой птицы клюв необычный, крестообразный, чтобы шишки легко расклёвы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) Народные названия какой птицы — сизак, сизарь. В разговорной речи часто употребляются слова «гуля», «гулька»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) Эта небольшая птичка – настоящая красавица. Её ярко-жёлтое брюшко не спутаешь ни с какой другой птицей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) Птица с хохолком на голове, прилетающая к нам зимо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яте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ползен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яте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ро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яте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кле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зый голуб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ьшая синиц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вирист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WordArt 6"/>
          <p:cNvSpPr txBox="1"/>
          <p:nvPr/>
        </p:nvSpPr>
        <p:spPr>
          <a:xfrm>
            <a:off x="3581280" y="304920"/>
            <a:ext cx="2362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66"/>
                </a:solidFill>
                <a:latin typeface="Verdana"/>
              </a:rPr>
              <a:t>5 конкурс «Ночлег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 Как вороны и галки ночуют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Где дятлы и синицы спят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 Какие птицы ночуют, зарывшись в снег?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Утки с удовольствием залезают в воду в самый сильный мороз.  Почему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) Чем питается большая синица зимой, когда все насекомые спят?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858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ями, прижавшись друг к друг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дупл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терева, рябч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мороз вода теплее, чем возду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ыскивает в щелях и скважинах насекомых, яйца, личин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3429000" y="457200"/>
            <a:ext cx="2438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66"/>
                </a:solidFill>
                <a:latin typeface="Verdana"/>
              </a:rPr>
              <a:t>6 конкурс «Столовая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ля какой птицы зимой семена репейника являются любимым кормом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ем любит лакомиться зимой клёст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то птицам страшнее голод или холод зимой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4) Назовите корма для зимней подкормки птиц.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5)  Семена какого сорного растения едят только снегири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6) Какая птица зимой питается личинками насекомых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7) Чем можно объяснить, что ласточки, стрижи, мухоловки на зиму улетают на юг, а синицы, дятлы и поползни остаются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8) Какая птица за сутки съедает столько корма, сколько весит сама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9) Снегири –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  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олуби, воробьи –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  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инички -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4114800" cy="685800"/>
          </a:xfrm>
          <a:prstGeom prst="rect">
            <a:avLst/>
          </a:prstGeom>
          <a:noFill/>
          <a:ln w="9360">
            <a:solidFill>
              <a:srgbClr val="6b9f25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Цель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37720" y="1447560"/>
            <a:ext cx="8007480" cy="4190760"/>
          </a:xfrm>
          <a:prstGeom prst="rect">
            <a:avLst/>
          </a:prstGeom>
          <a:noFill/>
          <a:ln w="9360">
            <a:solidFill>
              <a:srgbClr val="6b9f25"/>
            </a:solidFill>
            <a:miter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ширить знания о птицах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репить знания о птицах, зимующих в наших краях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спитывать заботливое отношение к ни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знакомить с птицами, занесенными в Красную книг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ВЕТЫ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10666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щег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енами ели, сос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ло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ена подсолнуха, конопли, арбуза, дыни, тыквы, лебеды, крапивы, репейника, конского щавеля, ягоды рябины, бузины, клюквы, хлебные крошки, сырое сало и мяс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ского щавел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ятел, большая син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ухоловки, стрижи и ласточки ловят насекомых в воздухе, а осенью насекомые забираются в убежища, т.е. становятся для этих птиц недоступными. Синицы, дятлы и поползни приспосабливаются к добыванию насекомых, их личинок, куколок и яиц из зимних убежи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ольшая син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ечки арбуза, тыкв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упу, хлеб, зер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соленое сал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71247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ТИЦАМ ГОЛОДНО ЗИМОЙ.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3" name="Объект 3" descr=""/>
          <p:cNvPicPr/>
          <p:nvPr/>
        </p:nvPicPr>
        <p:blipFill>
          <a:blip r:embed="rId1"/>
          <a:stretch/>
        </p:blipFill>
        <p:spPr>
          <a:xfrm>
            <a:off x="0" y="1268280"/>
            <a:ext cx="3887640" cy="395316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1042920" y="580068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ОРМИТЕ ПТИЦ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3000">
    <p:split dir="out" orient="vert"/>
    <p:sndAc>
      <p:stSnd>
        <p:snd r:embed="rId2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иницы----------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Клесты----------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негири--------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оробьи----------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Голуби--------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99"/>
                </a:solidFill>
                <a:latin typeface="Verdana"/>
              </a:rPr>
              <a:t>Необходимо разложить корм, соответствующий птица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 flipV="1">
            <a:off x="0" y="53316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WordArt 10"/>
          <p:cNvSpPr txBox="1"/>
          <p:nvPr/>
        </p:nvSpPr>
        <p:spPr>
          <a:xfrm>
            <a:off x="1371600" y="1600200"/>
            <a:ext cx="6477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годы рябины, пшено, семе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дсолнечника. кусочек са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9" name="WordArt 11"/>
          <p:cNvSpPr txBox="1"/>
          <p:nvPr/>
        </p:nvSpPr>
        <p:spPr>
          <a:xfrm>
            <a:off x="2819520" y="2514600"/>
            <a:ext cx="3457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едровые орех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ОГО УГОСТИМ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1" name="Объект 13" descr=""/>
          <p:cNvPicPr/>
          <p:nvPr/>
        </p:nvPicPr>
        <p:blipFill>
          <a:blip r:embed="rId1"/>
          <a:stretch/>
        </p:blipFill>
        <p:spPr>
          <a:xfrm>
            <a:off x="0" y="1523880"/>
            <a:ext cx="2089080" cy="19051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4" descr=""/>
          <p:cNvPicPr/>
          <p:nvPr/>
        </p:nvPicPr>
        <p:blipFill>
          <a:blip r:embed="rId2"/>
          <a:stretch/>
        </p:blipFill>
        <p:spPr>
          <a:xfrm>
            <a:off x="3200400" y="1523880"/>
            <a:ext cx="2305080" cy="190512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5" descr=""/>
          <p:cNvPicPr/>
          <p:nvPr/>
        </p:nvPicPr>
        <p:blipFill>
          <a:blip r:embed="rId3"/>
          <a:stretch/>
        </p:blipFill>
        <p:spPr>
          <a:xfrm>
            <a:off x="5867280" y="2209680"/>
            <a:ext cx="2233800" cy="167652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9"/>
          <p:cNvSpPr/>
          <p:nvPr/>
        </p:nvSpPr>
        <p:spPr>
          <a:xfrm>
            <a:off x="1828800" y="411192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иницы----------кусочек сал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лесты----------кедровые орех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негири--------ягоды рябин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робьи----------пше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олуби---------семена подсолнечник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WordArt 10"/>
          <p:cNvSpPr txBox="1"/>
          <p:nvPr/>
        </p:nvSpPr>
        <p:spPr>
          <a:xfrm>
            <a:off x="609480" y="3657600"/>
            <a:ext cx="2057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 advTm="30000">
    <p:split dir="out" orient="vert"/>
    <p:sndAc>
      <p:stSnd>
        <p:snd r:embed="rId4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66"/>
                </a:solidFill>
                <a:latin typeface="Verdana"/>
              </a:rPr>
              <a:t>7 конкурс «Кормушка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ой команде изготовить кормушки для птиц из подручного материа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ить защиту своей рабо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99"/>
                </a:solidFill>
                <a:latin typeface="Verdana"/>
              </a:rPr>
              <a:t>8 конкурс «Продолжи пословицу о птицах»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учше синица в руках, чем 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сорока хвостом, так болтун 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енью и у воробья 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сова своих детей 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тицы сильны крыльями, а люди – 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якая пташка хлопочет – своего гнезда 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тице даны крылья, а человеку- 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ВЕТЫ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учше синица в руках, чем журавль в неб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сорока хвостом, так болтун язык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енью и у воробья пи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сова своих детей хвал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тицы сильны крыльями, а люди – дружб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якая пташка хлопочет – своего гнезда хоч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тице даны крылья, а человеку- разу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99"/>
                </a:solidFill>
                <a:latin typeface="Verdana"/>
              </a:rPr>
              <a:t>Прим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Синичка с утра начинает пищать – ожидай ночью мороз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Воробьи дружно расчирикались – к оттепел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. Ворона под крыло клюв прячет – к холод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. Перед метелью воробьи чирикаю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. Перед сильным ветром воробьи стайками перелетают с места на мест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. Синицы порхают под окном – к холод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. В марте птички щебечут к хорошей погод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. Снегирь зимой поёт на снег, вьюгу и сляко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. Если сядет тебе на руку синица, нужно загадать желание. Если вещая птаха подаёт голос – загаданному сбыть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66"/>
                </a:solidFill>
                <a:latin typeface="Verdana"/>
              </a:rPr>
              <a:t>9 конкурс «Музыкальный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манды по очереди исполняют песни связанные с птицами, побеждает та команда, которая исполнит больше всего песен о птицах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66"/>
                </a:solidFill>
                <a:latin typeface="Verdana"/>
              </a:rPr>
              <a:t>10 конкурс «Их надо охранять»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овите птиц нашей области, занесенных в Красную книг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99"/>
                </a:solidFill>
                <a:latin typeface="Verdana"/>
              </a:rPr>
              <a:t>Что мы знаем о кормушках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37720" y="137124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Кормушки для птиц должны быть скромными, лучше не ярки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При закреплении кормушек на деревья не обламывайте ветки, не повреждайте ство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Во время подкормки птиц не оставляйте газеты, бумагу, полиэтиленовые пакеты, жестяные банки и коробоч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Постоянно следите, чтобы не было снега в кормушк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Вовремя, желательно в один и тот же час, подсыпайте кор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Verdana"/>
              </a:rPr>
              <a:t>Домашнее задание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готовить скворечники, кормушки. Развесить их в местах частого прилета зимующих птиц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е вести наблюдение за поведением зимующих птиц в нашей мест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оставлять птиц без корма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99"/>
                </a:solidFill>
                <a:latin typeface="Verdana"/>
              </a:rPr>
              <a:t>МЫ ОБЕЩАЕМ 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5238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ы обещаем!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ы будем, будем, птицы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 вами дружит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 мире, согласии жить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Будем помнить всегда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Что вы с нами верные друзья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Verdana"/>
              </a:rPr>
              <a:t>Корм зимующих птиц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7720" y="9903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9000"/>
          </a:bodyPr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мена подсолнечника едят почти все птицы и, в первую очередь, синицы и поползн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мена дыни и тыквы едят почти все птицы, кроме синицы и поползн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вес, если нет ничего лучше, едят овсянки, воробьи, синиц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шено и просо – любимая еда овсянок и воробье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мена репейника – основной корм щегл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мена лебеды, полыни, конопли, конского щавеля, крапивы, охотно едят все зерноядные птиц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7720" y="9140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годы рябины и калины – любимая пища снегирей и свиристеле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Хлебные крошки едят синицы и воробь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ыро (несоленое) сало – превосходный корм для синиц, поползней и дятл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ырое мясо – хорошая пища для синиц и поползней, а так же для ворон, галок и сорок. Сало и мясо подвешивают на ниточка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Verdana"/>
              </a:rPr>
              <a:t>Правила подкормки птиц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37720" y="1447560"/>
            <a:ext cx="8007480" cy="5181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 время подкормки птиц не сорите в лесу, парке, саду: не оставляйте там газеты, бумажные и полиэтиленовые пакеты, жестяные банки и коробоч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рмушки для птиц должны быть очень скромными, лучше не раскрашенным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7720" y="533160"/>
            <a:ext cx="8007480" cy="6095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рма в кормушках должно быть немного и только нужного птицам: семена дикорастущих трав, крошки хлеба, подсолнухи, кусочки несоленого сал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рмите птиц регулярно. Птиц нельзя подкармливать время от времени: именно зимой им очень нужна ваша поддержка, именно в морозы и метели гибнет большая часть птиц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Verdana"/>
              </a:rPr>
              <a:t>Это интересн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37720" y="9140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Самыми морозостойкими считаются утки и гуси. Опыты, проводившиеся норвежскими учеными, показали, что они выносят температуру до минус 110 градусов, в то время, как белые медведи и тюлени выдерживают только до 80 градусов. Большинство же других животных не переносят температуру минус 45 градусов. Температура тела птиц-40-42 граду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4" descr="images"/>
          <p:cNvPicPr/>
          <p:nvPr/>
        </p:nvPicPr>
        <p:blipFill>
          <a:blip r:embed="rId1"/>
          <a:stretch/>
        </p:blipFill>
        <p:spPr>
          <a:xfrm>
            <a:off x="2590920" y="4572000"/>
            <a:ext cx="37335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1T16:27:45Z</dcterms:created>
  <dc:creator>6758645</dc:creator>
  <dc:description/>
  <dc:language>en-US</dc:language>
  <cp:lastModifiedBy>User</cp:lastModifiedBy>
  <dcterms:modified xsi:type="dcterms:W3CDTF">2015-01-27T15:53:0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