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3.png" ContentType="image/png"/>
  <Override PartName="/ppt/media/image1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chimes.wav" ContentType="audio/x-wav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F28-4CC1-4418-BE86-D9385921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5E6-ADA2-43F4-849E-46C68272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B42-7D78-43E7-996B-98087BB5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8A7-E2F6-4A42-988B-48EE2B18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CDDD-DBCB-4C61-8AC9-0449B0AE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FC56-A9B3-4850-A86F-6B2C3E2C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220E-E9A1-4364-961F-269F23D7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98F3-A84C-467C-BACB-B2AD854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1123-134B-4FF5-BFBC-E253563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F786-E309-4918-BDBF-0A906A13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816-3DDE-4B46-9F17-039214E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B52-D822-4427-A6E7-577C4D58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B2F5-9315-44A8-ACB9-EADA41C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5503-2DA5-4F40-9686-80AD04E9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1FD9-A951-4DED-8F49-DE4152D6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B185-CD31-48B5-AAF4-C914F0DD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50CD-3BC0-4618-805D-81639B1E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F8BB-863D-4F65-AE97-28DD9DF3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580E-6740-4A7D-95BE-47B48D2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E92D-F5AC-47FB-BA0B-F8AFE55D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4330-CBE9-47E2-9141-09D618BE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85E3-F977-434F-BF54-8AEB749D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BB8-B40A-4D1B-8447-93E98F6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4C39-AE83-4590-8685-5FEF3A11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4348-F6B3-4330-9008-831C84F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7A98-ABF6-4C5B-A9AC-02F30DF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8D5B-F83D-4072-B227-FDB2927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C33B-EF6F-4F4F-8B68-036E7854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A9C1-DF6A-4068-8975-7ED2E51A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4695-2F61-4AFF-BBDE-BD74352F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21F3-829A-480A-864A-07952A90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304D-4856-49BB-BDB5-0B3C800D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00C7-EDD5-41C9-B735-B2236597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B09-7DA6-41E3-B4F5-7327AB8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C2BE1-209E-459A-A9EE-13F7D6D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54C0-F215-43EF-A950-9BF5A73D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9EB5-A094-4491-B403-510163E6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374B-A40B-4EA8-B914-E30C812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A374E-97A5-4D04-8A0A-064F7FE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FC3C-3FDB-4FBA-A3C3-F47016A8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72C6-D222-40F9-88B4-80FC979C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D6FA-C613-41BE-9B6B-B47C7313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6117-3448-4798-B352-994C1DD6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EECC-057B-4FDD-AD33-A0A34DA1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889-5D54-4157-9688-EBB0C0EF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3018-0C40-4467-986E-42B2BE36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EDA8-2AF0-4714-88E6-DD5D1E27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34E0-E6FF-4989-AFA4-DEDF57C9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D4B9-6E87-4A3E-97D6-396DBD0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B7BF-2ED6-45D3-A1B2-0CC51125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A3FD7-BE6A-4F25-8144-DC0D900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3F4B1-78D0-4560-8CCF-A1C9F33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5B61-6C15-491F-BD8B-78956552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035F8-6AD4-44CD-B1F7-E5FDE52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6E27A-95C4-4819-9F93-363DBA27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D96-6F54-4AF6-A90D-E9D61DAB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1A3D-4D6F-4330-A422-FEA04C61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559-E31B-48C6-A702-6B93803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936-3EEF-4614-B640-6FAA377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A48-D515-4A64-9E77-6EC4726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DD96-1870-4804-9323-A48D41CD770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437-7D8A-49D0-9F6A-DEED49C297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3BA0-6087-47AD-9EA8-7F2F509AFF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A1F1-1189-4D7A-83E4-1E44D70B61B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3102-8832-476E-B485-3AA676ABF5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838080" y="-457200"/>
            <a:ext cx="7620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26b02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заботимся о птицах</a:t>
            </a:r>
            <a:endParaRPr b="0" lang="en-US" sz="1800" spc="1" strike="noStrike">
              <a:ln w="9360">
                <a:solidFill>
                  <a:srgbClr val="b26b02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2438280" y="-304920"/>
            <a:ext cx="6039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-3809880" y="6172200"/>
            <a:ext cx="15239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Verdana"/>
              </a:rPr>
              <a:t>1 конкурс «Птичья страничка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жите о птицах, зимующих в нашей мест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вы помогаете им перенести сложный зимний период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Verdana"/>
              </a:rPr>
              <a:t>2 конкурс «Узнай птицу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Изображение 1" descr=""/>
          <p:cNvPicPr/>
          <p:nvPr/>
        </p:nvPicPr>
        <p:blipFill>
          <a:blip r:embed="rId1"/>
          <a:stretch/>
        </p:blipFill>
        <p:spPr>
          <a:xfrm>
            <a:off x="2052720" y="938160"/>
            <a:ext cx="508644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05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209680" y="53352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8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split dir="out" orient="vert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4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Объект 10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95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Изображение 1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486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124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 СЕГОДНЯ ПРИЛЕТЕЛ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525780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ДРУЖНОЙ СТАЙКОЙ…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Рисунок 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7344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22096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0_2275f_f578765c_XL.jpeg"/>
          <p:cNvPicPr/>
          <p:nvPr/>
        </p:nvPicPr>
        <p:blipFill>
          <a:blip r:embed="rId1"/>
          <a:stretch/>
        </p:blipFill>
        <p:spPr>
          <a:xfrm>
            <a:off x="1905120" y="152280"/>
            <a:ext cx="54864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SDC1235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609480"/>
            <a:ext cx="69339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3 конкурс «Про птиц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7720" y="121932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ая птица выводит птенцов зимо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тица, которая прилетает к нам с первым снег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птицы перекочевывают на зиму к жилью человек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какой зимующей птицы созвучно с названием танц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овите зимующих птиц, на голове которых есть хохол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холодную погоду воробьи взъерошенные, 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птицы строят гнезда в январе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гда температура тела воробья ниже — зимой или летом?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называются птицы, которые живут с нами постоянно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есты, зимород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егир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ица большая, сорока, ворона, гал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чет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иристель, чечетка, хохлатая сини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гко сохранять тепл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е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 тела воробья всегда одинако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едл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3124080" y="304920"/>
            <a:ext cx="2819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Физическая 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беди летя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ыльями машу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улись над вод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ают голов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ямо и горд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ют держаться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очень бесшумн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место садя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4 конкурс «О ком это?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ую птицу называют лесным доктором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ая птица ходит по стволу вниз голово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кой зимующей птицы самый длинный язы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ая зимующая птица имеет очень длинный хво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а птица – труженик, зимой имеет свою кузниц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этой птицы клюв необычный, крестообразный, чтобы шишки легко расклёвы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) Народные названия какой птицы — сизак, сизарь. В разговорной речи часто употребляются слова «гуля», «гулька»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) Эта небольшая птичка – настоящая красавица. Её ярко-жёлтое брюшко не спутаешь ни с какой другой птицей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) Птица с хохолком на голове, прилетающая к нам зим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полз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ро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кле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зый голуб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ая сини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ирис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WordArt 6"/>
          <p:cNvSpPr txBox="1"/>
          <p:nvPr/>
        </p:nvSpPr>
        <p:spPr>
          <a:xfrm>
            <a:off x="3581280" y="3049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5 конкурс «Ночлег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Как вороны и галки ночуют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Где дятлы и синицы спят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 Какие птицы ночуют, зарывшись в снег?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Утки с удовольствием залезают в воду в самый сильный мороз.  Почему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 Чем питается большая синица зимой, когда все насекомые спят?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ями, прижавшись друг к друг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упл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терева, рябч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мороз вода теплее, чем возду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ыскивает в щелях и скважинах насекомых, яйца, личин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3429000" y="4572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6 конкурс «Столовая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ля какой птицы зимой семена репейника являются любимым кормом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м любит лакомиться зимой клёст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то птицам страшнее голод или холод зимой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) Назовите корма для зимней подкормки птиц.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)  Семена какого сорного растения едят только снегири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) Какая птица зимой питается личинками насекомых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) Чем можно объяснить, что ласточки, стрижи, мухоловки на зиму улетают на юг, а синицы, дятлы и поползни остаются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8) Какая птица за сутки съедает столько корма, сколько весит сама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9) Снегири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  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олуби, воробьи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  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инички -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4114800" cy="685800"/>
          </a:xfrm>
          <a:prstGeom prst="rect">
            <a:avLst/>
          </a:prstGeom>
          <a:noFill/>
          <a:ln w="9360">
            <a:solidFill>
              <a:srgbClr val="6b9f2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9360">
            <a:solidFill>
              <a:srgbClr val="6b9f25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ить знания о птица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епить знания о птицах, зимующих в наших края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питывать заботливое отношение к ни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накомить с птицами, занесенными в Красную книг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0666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щег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енами ели, сос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ена подсолнуха, конопли, арбуза, дыни, тыквы, лебеды, крапивы, репейника, конского щавеля, ягоды рябины, бузины, клюквы, хлебные крошки, сырое сало и мяс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кого щаве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ятел, большая син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ухоловки, стрижи и ласточки ловят насекомых в воздухе, а осенью насекомые забираются в убежища, т.е. становятся для этих птиц недоступными. Синицы, дятлы и поползни приспосабливаются к добыванию насекомых, их личинок, куколок и яиц из зимних убежи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ьшая син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ечки арбуза, тык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пу, хлеб, зе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оленое са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124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ТИЦАМ ГОЛОДНО ЗИМОЙ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Объект 3" descr=""/>
          <p:cNvPicPr/>
          <p:nvPr/>
        </p:nvPicPr>
        <p:blipFill>
          <a:blip r:embed="rId1"/>
          <a:stretch/>
        </p:blipFill>
        <p:spPr>
          <a:xfrm>
            <a:off x="0" y="1268280"/>
            <a:ext cx="3887640" cy="39531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1042920" y="5800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ОРМИТЕ ПТИЦ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3000">
    <p:split dir="out" orient="vert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иницы--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лесты--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негири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робьи--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Голуби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99"/>
                </a:solidFill>
                <a:latin typeface="Verdana"/>
              </a:rPr>
              <a:t>Необходимо разложить корм, соответствующий птица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 flipV="1">
            <a:off x="0" y="53316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WordArt 10"/>
          <p:cNvSpPr txBox="1"/>
          <p:nvPr/>
        </p:nvSpPr>
        <p:spPr>
          <a:xfrm>
            <a:off x="1371600" y="16002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годы рябины, пшено, сем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солнечника. кусочек с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9" name="WordArt 11"/>
          <p:cNvSpPr txBox="1"/>
          <p:nvPr/>
        </p:nvSpPr>
        <p:spPr>
          <a:xfrm>
            <a:off x="2819520" y="2514600"/>
            <a:ext cx="3457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дровые оре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ОГО УГОСТИМ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Объект 13" descr=""/>
          <p:cNvPicPr/>
          <p:nvPr/>
        </p:nvPicPr>
        <p:blipFill>
          <a:blip r:embed="rId1"/>
          <a:stretch/>
        </p:blipFill>
        <p:spPr>
          <a:xfrm>
            <a:off x="0" y="1523880"/>
            <a:ext cx="208908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4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305080" cy="19051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5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23380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9"/>
          <p:cNvSpPr/>
          <p:nvPr/>
        </p:nvSpPr>
        <p:spPr>
          <a:xfrm>
            <a:off x="1828800" y="41119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ицы----------кусочек с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лесты----------кедровые орех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негири--------ягоды ряби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робьи----------пше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луби---------семена подсолнечни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WordArt 10"/>
          <p:cNvSpPr txBox="1"/>
          <p:nvPr/>
        </p:nvSpPr>
        <p:spPr>
          <a:xfrm>
            <a:off x="609480" y="3657600"/>
            <a:ext cx="2057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30000">
    <p:split dir="out" orient="vert"/>
    <p:sndAc>
      <p:stSnd>
        <p:snd r:embed="rId4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7 конкурс «Кормушк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ой команде изготовить кормушки для птиц из подручного материа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ить защиту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99"/>
                </a:solidFill>
                <a:latin typeface="Verdana"/>
              </a:rPr>
              <a:t>8 конкурс «Продолжи пословицу о птицах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учше синица в руках, чем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сорока хвостом, так болтун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енью и у воробья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сова своих детей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ы сильны крыльями, а люди –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якая пташка хлопочет – своего гнезда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е даны крылья, а человеку-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учше синица в руках, чем журавль в не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сорока хвостом, так болтун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енью и у воробья пи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сова своих детей хвал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ы сильны крыльями, а люди – дружб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якая пташка хлопочет – своего гнезда хоч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е даны крылья, а человеку- разу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Verdana"/>
              </a:rPr>
              <a:t>Прим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Синичка с утра начинает пищать – ожидай ночью моро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Воробьи дружно расчирикались – к оттепе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Ворона под крыло клюв прячет – к холо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Перед метелью воробьи чирик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Перед сильным ветром воробьи стайками перелетают с места на мес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Синицы порхают под окном – к хол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. В марте птички щебечут к хорошей погод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. Снегирь зимой поёт на снег, вьюгу и сляко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. Если сядет тебе на руку синица, нужно загадать желание. Если вещая птаха подаёт голос – загаданному сбы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9 конкурс «Музыкальный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анды по очереди исполняют песни связанные с птицами, побеждает та команда, которая исполнит больше всего песен о птиц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Verdana"/>
              </a:rPr>
              <a:t>10 конкурс «Их надо охранять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овите птиц нашей области, занесенных в Красную книг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Verdana"/>
              </a:rPr>
              <a:t>Что мы знаем о кормушках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37720" y="13712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рмушки для птиц должны быть скромными, лучше не ярки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ри закреплении кормушек на деревья не обламывайте ветки, не повреждайте ство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Во время подкормки птиц не оставляйте газеты, бумагу, полиэтиленовые пакеты, жестяные банки и коробоч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стоянно следите, чтобы не было снега в кормушк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Вовремя, желательно в один и тот же час, подсыпайте кор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Verdana"/>
              </a:rPr>
              <a:t>Домашнее задан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готовить скворечники, кормушки. Развесить их в местах частого прилета зимующих птиц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е вести наблюдение за поведением зимующих птиц в нашей мест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оставлять птиц без корм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Verdana"/>
              </a:rPr>
              <a:t>МЫ ОБЕЩАЕМ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ы обещаем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ы будем, будем, птиц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 вами дружи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 мире, согласии жи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Будем помнить всегд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то вы с нами верные друзья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Verdana"/>
              </a:rPr>
              <a:t>Корм зимующих птиц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772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подсолнечника едят почти все птицы и, в первую очередь, синицы и попол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дыни и тыквы едят почти все птицы, кроме синицы и поползн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вес, если нет ничего лучше, едят овсянки, воробьи, синиц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шено и просо – любимая еда овсянок и воробье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репейника – основной корм щегл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лебеды, полыни, конопли, конского щавеля, крапивы, охотно едят все зерноядные птиц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7720" y="9140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годы рябины и калины – любимая пища снегирей и свиристел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Хлебные крошки едят синицы и воробь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ыро (несоленое) сало – превосходный корм для синиц, поползней и дят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ырое мясо – хорошая пища для синиц и поползней, а так же для ворон, галок и сорок. Сало и мясо подвешивают на ниточка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Verdana"/>
              </a:rPr>
              <a:t>Правила подкормки птиц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 время подкормки птиц не сорите в лесу, парке, саду: не оставляйте там газеты, бумажные и полиэтиленовые пакеты, жестяные банки и короб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мушки для птиц должны быть очень скромными, лучше не раскрашенны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7720" y="533160"/>
            <a:ext cx="8007480" cy="6095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ма в кормушках должно быть немного и только нужного птицам: семена дикорастущих трав, крошки хлеба, подсолнухи, кусочки несоленого сал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мите птиц регулярно. Птиц нельзя подкармливать время от времени: именно зимой им очень нужна ваша поддержка, именно в морозы и метели гибнет большая часть пт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Verdana"/>
              </a:rPr>
              <a:t>Это интересн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7720" y="9140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Самыми морозостойкими считаются утки и гуси. Опыты, проводившиеся норвежскими учеными, показали, что они выносят температуру до минус 110 градусов, в то время, как белые медведи и тюлени выдерживают только до 80 градусов. Большинство же других животных не переносят температуру минус 45 градусов. Температура тела птиц-40-42 граду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4" descr="images"/>
          <p:cNvPicPr/>
          <p:nvPr/>
        </p:nvPicPr>
        <p:blipFill>
          <a:blip r:embed="rId1"/>
          <a:stretch/>
        </p:blipFill>
        <p:spPr>
          <a:xfrm>
            <a:off x="2590920" y="4572000"/>
            <a:ext cx="3733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6:27:45Z</dcterms:created>
  <dc:creator>6758645</dc:creator>
  <dc:description/>
  <dc:language>en-US</dc:language>
  <cp:lastModifiedBy>User</cp:lastModifiedBy>
  <dcterms:modified xsi:type="dcterms:W3CDTF">2015-01-27T15:53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