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6EF-767D-4AE6-A50B-020F88B69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6AA8-247B-4C69-B97E-185B7DECAD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5F4-1B04-42D0-A00A-53981622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5F0-A537-49D3-B70A-F89EFD7A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7EF-A758-4DCD-87D1-A330AEBD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0D3-4772-4B52-A7B6-D435A842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7785-939C-401A-A397-10A8DFCD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866AB-CADB-4A9A-8185-75FF3DD2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C55C0-C554-40F3-90B1-AACDD3B1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0F70-5BD3-485F-AF71-47A05A4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2A91A-9670-4B77-ABA3-2F631BC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E448-892E-4A44-A0F9-FDBABDD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C814-429C-4EBB-8F2D-C39911A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39E-739E-4108-8EDC-1CCC898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A7B57-9366-4341-B8E5-EC51A79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CE872-423C-4CBA-9536-351327B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13051-E1B2-4AC4-A0F2-D522AD8A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38F2-E47E-4C8D-8D79-B196AFC6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FE75F-3F4E-4958-86A0-DE22ED9C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87A1-93EF-4632-B1FD-9A877397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55CF-2199-4F55-B520-CD09343F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6C1D-AE0C-4D8B-A4FE-985BB73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F427-7F28-43DE-8CB1-072FEC8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9D63-811D-457C-98FE-309C3238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2AD-F0B1-43D6-8816-94808E0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4655-7096-40B4-ADB1-5A4F63BC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5FAE-E090-48EA-BC46-C00D371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C4B6-9BC7-478B-A743-3582473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EDB9-F80D-4891-A12F-F637975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1250-617F-4633-B622-515A74B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3AA5-999C-431C-9776-81DB04A9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24C7-A9E8-4275-8716-47A4D2C9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B5074-86EC-4960-AA58-06E86862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1212F-6E27-4B0D-B838-3737A4C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C88B4-DD40-4EED-93A3-04D2C9DF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AF4-680B-47AA-B15F-ACC1413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2509A-3586-43F5-8351-3265AC3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EB2F6-97D6-48EC-A7C0-05845FC1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34181-08E8-4878-85BC-993FEF9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5D78D-2031-464E-BF4C-4543367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47645-ACB8-411A-83EA-2B9439F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108C4-42E0-4233-A889-292E62E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F68FB-7672-47DE-A0C5-5A90105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9F225-0334-4F34-8E79-16CB7300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59B79-3658-4950-B68C-A42783C6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CB09A-3024-4DD2-99B0-01924E0B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80D-1F8C-4636-A864-8571E4C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3F8B4-0236-4CC1-845C-5438DBF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08711-05EB-49E1-B597-67E5C1BD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F745B-B6E9-4749-BF11-5B18F36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83348-87FC-466A-843E-10B23C12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70DBE-9F98-4281-B9D2-DB57504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283FC-8964-4418-A193-A2C2E05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4D93E-4A46-4500-AD98-D12CBB4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8740F-B368-48F2-93CC-C2823BEB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77805-4FED-4974-902E-1881B80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8076F-9D76-497C-8A11-DA8B6D0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6E3-2D2D-4D62-9213-DF2B2454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DFE2C-60CB-4555-851D-18E2C173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50E7C-BA42-413D-A682-9CC6D93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A02C6-2A92-4C06-B1D4-9A93477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E1989-C97F-4007-A49C-C13AA60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6FC9B-C414-4055-9A3D-A203CF8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B8327-D1EB-42F0-8156-54FAE8E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049A5-1313-4323-AA6D-4BD8794F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A158C-8956-469F-8AF3-6420A60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E6ADE-9665-4B6C-B5C0-832DB437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32FE5-8B89-40DF-A1CD-B4A7A9C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C27-403E-4882-9810-5B7981D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94B4D-5D0F-4F72-B9F8-C572EAC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F139E-1110-471B-92CD-FBFA241F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236EA-D754-4BF5-B0AA-57649001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E07-2545-49A0-94F3-B3B0EB6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F4F-25FB-42B4-B699-1BA4B16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D8C-8E57-48E6-93E6-1BCA5E42799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FDD3-4A60-4791-97A7-7B4E779702F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8A06-DB72-4E45-887B-C52B8CB021A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AF3-F9FB-43C5-B62F-EA0547B5C08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8439-F64B-421F-953D-C5DE5BAA834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8682-5E02-4354-A736-2A986882773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epetitor.1c.ru/online/repdisp.asp?sid=2&amp;go=20260000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2083400P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2143080" y="21420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ласс ракообраз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0" y="504180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езентацию выполнил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ченик 7 класса «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ежачев Ник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2643120" y="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ыделительн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0" y="1643040"/>
            <a:ext cx="9144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ракообразных представлена двумя парами железистых органов - видоизмененных </a:t>
            </a:r>
            <a:r>
              <a:rPr b="1" i="1" lang="ru-RU" sz="3200" spc="-1" strike="noStrike">
                <a:solidFill>
                  <a:srgbClr val="dfcf04"/>
                </a:solidFill>
                <a:latin typeface="Calibri"/>
              </a:rPr>
              <a:t>целомодуктов</a:t>
            </a: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. Чаще всего одна пара функционирует на личиночной стадии, а потом редуцируется и заменяется во взрослом состоянии другой. Кроме того почти все раки во взрослом состоянии имеют </a:t>
            </a:r>
            <a:r>
              <a:rPr b="1" i="1" lang="ru-RU" sz="3200" spc="-1" strike="noStrike">
                <a:solidFill>
                  <a:srgbClr val="dfcf04"/>
                </a:solidFill>
                <a:latin typeface="Calibri"/>
              </a:rPr>
              <a:t>максиллярные</a:t>
            </a:r>
            <a:r>
              <a:rPr b="0" i="1" lang="ru-RU" sz="3200" spc="-1" strike="noStrike">
                <a:solidFill>
                  <a:srgbClr val="dfcf04"/>
                </a:solidFill>
                <a:latin typeface="Calibri"/>
              </a:rPr>
              <a:t> желез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1928880" y="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обенности жизне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857160"/>
            <a:ext cx="91440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 ракообразных хорошо развит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рган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онян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язан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чувствительности к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химическому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воздействию (волоски на антеннулах), имеется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атоцис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выполняющий вместе с содержащимися в нем песчинками роль «слуховых камешк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у раков сложные, или фасеточные: каждый такой глаз содержит множество мелких глазков, и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мматидиев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(у речного рака их больше 3 000), расположенных очень близко; нередко имеется непарный лобный глаз, называемый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уплиальным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глазом потому, что его наличие характерно для личинки науплиуса, хотя встречается и у взрослых ра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0" y="2000160"/>
            <a:ext cx="9144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Раки-отшельники и крабы нередко сожительствуют со жгучими актиниями, получая обоюдную пользу: актинии защищают своих хозяев от врагов, получая взамен остатки пищи после трапезы десятиног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Такой симбиоз называется мутуализмом. Некоторые крабы маскируют себя, покрывая свою спинную сторону морскими беспозвоночными, которые продолжают там расти. Другие прикрываются створками раков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2357280" y="214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имбиоз и маскир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5" descr="2083400P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2" descr=""/>
          <p:cNvPicPr/>
          <p:nvPr/>
        </p:nvPicPr>
        <p:blipFill>
          <a:blip r:embed="rId2"/>
          <a:stretch/>
        </p:blipFill>
        <p:spPr>
          <a:xfrm>
            <a:off x="2146320" y="-195120"/>
            <a:ext cx="41385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Цель: Изучить строения и особенности ракообраз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0" y="714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Рассмотреть класс ракообраз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Строение (внешнее и внутренн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Особенности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0" y="1839960"/>
            <a:ext cx="914400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составляет существенную часть водной фауны. Число видов в классе - не менее 20 000. Встречаются как планктонные, так и бентосные формы животных, в некоторых группах раков произошел переход от водной к наземной форме жизни. От других членистоногих их отлич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Наличие двух пар усиков - антеннул и видоизмененных конечностей 1-го сегмента тела - антенн (усики обозначают часто антенны 1 и антенны 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Только у ракообразных ножки во многих случаях сохраняют примитивное двуветвистое стро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alibri"/>
              </a:rPr>
              <a:t>Дыхание осуществляется с помощью жаб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428920" y="214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ласс рако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и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3143160" y="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нешнее строения р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тьб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речного рака передняя кишка образует большое расширение - желудок, подразделяющийся на два отдела -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кардиальный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, или жевательный, и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пилор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большинства раков средняя кишка наиболее длинная.   крупная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двулопастная печень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У некоторых паразитических раков кишечник </a:t>
            </a:r>
            <a:r>
              <a:rPr b="1" i="1" lang="ru-RU" sz="2400" spc="-1" strike="noStrike">
                <a:solidFill>
                  <a:srgbClr val="92d050"/>
                </a:solidFill>
                <a:latin typeface="Calibri"/>
              </a:rPr>
              <a:t>атрофирован</a:t>
            </a: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. Пищей ракам служат более мелкие животные или разлагающиеся животные и растительные остат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2d050"/>
                </a:solidFill>
                <a:latin typeface="Calibri"/>
              </a:rPr>
              <a:t>Состоит из передней, средней и задней кишки,   порошицей на брюшной стороне тельс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857680" y="0"/>
            <a:ext cx="32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ищеваритель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тол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3143160" y="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ыхатель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3664080"/>
            <a:ext cx="9144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 многих низших раков осуществляется через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верхность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тела, поскольку специальные органы дыхания отсутств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абры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чаще всего находятся на грудных конечностях (например, у бокоплавов), а у десятиногих раков жабры располагаются сначала на грудных ножках, а затем при развитии частично переходят на боковую стенку тела, но у некоторых могут быть на брюшных ножк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жабрах продолжается полость тела, в которую попада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емолимфа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; кутикула жабр очень нежна, и через нее легко осуществляет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зообме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тол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368928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baf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Ракообразных незамкнута,, но у тех животных, у которых дыхание совершается через покровы тела, от нее остается только сердце или же она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исчезает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 целиком. Примером хорошо развитой кровеносной системы может служить кровеносная система речного рака, у которого от сердца, лежащего в перикардии, отходит несколько крупных сосудов. Гемолимфа ракообразных обычно бесцветна, но у многих окрашена в красный цвет (содержится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гемоглобин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), а у части десятиногих раков (у некоторых крабов, омаров) в гемолимфе присутствует </a:t>
            </a:r>
            <a:r>
              <a:rPr b="1" lang="ru-RU" sz="2300" spc="-1" strike="noStrike">
                <a:solidFill>
                  <a:srgbClr val="baf0c8"/>
                </a:solidFill>
                <a:latin typeface="Calibri"/>
              </a:rPr>
              <a:t>гемоцианин</a:t>
            </a:r>
            <a:r>
              <a:rPr b="0" lang="ru-RU" sz="2300" spc="-1" strike="noStrike">
                <a:solidFill>
                  <a:srgbClr val="baf0c8"/>
                </a:solidFill>
                <a:latin typeface="Calibri"/>
              </a:rPr>
              <a:t>, придающий синеватый оттенок на воздухе (гемоцианин содержит медь, а не железо, которое есть в гемоглобине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3286080" y="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ровенос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тьб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500280" y="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рвн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368928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Ракообразных напоминает нервную систему </a:t>
            </a:r>
            <a:r>
              <a:rPr b="0" lang="ru-RU" sz="2300" spc="-1" strike="noStrike" u="sng">
                <a:solidFill>
                  <a:srgbClr val="8e58b6"/>
                </a:solidFill>
                <a:uFillTx/>
                <a:latin typeface="Calibri"/>
                <a:hlinkClick r:id="rId2"/>
              </a:rPr>
              <a:t>кольчатых червей</a:t>
            </a: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. Она состоит из парного головного мозга, окологлоточных коннективов и пары брюшных нервных стволов с ганглиями в каждом сегменте. Однако у ракообразных при слиянии отдельных сегментов произошло слияние ганглиев и их укрупнение, развилась симпатическая нервная система, иннервирующая кишечник. Кроме того, их нервная система обладает способностью выделять особые гормоны - нейросекреты, влияющие на деятельность отдельных органов, процессы линьки и др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ласс ракообразных весьма обширен и разнообразен, он делится на пять подклас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786040" y="0"/>
            <a:ext cx="35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стема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0" y="3357720"/>
            <a:ext cx="1728720" cy="9363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абро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1357200" y="4000680"/>
            <a:ext cx="1944720" cy="9363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твистоус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3000240" y="3357720"/>
            <a:ext cx="2521080" cy="100008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сло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929120" y="4143240"/>
            <a:ext cx="2376720" cy="86544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сятино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643800" y="3429000"/>
            <a:ext cx="2232000" cy="8571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ксиллоп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8" name="Прямая со стрелкой 9"/>
          <p:cNvCxnSpPr/>
          <p:nvPr/>
        </p:nvCxnSpPr>
        <p:spPr>
          <a:xfrm flipH="1">
            <a:off x="1571400" y="2856600"/>
            <a:ext cx="2715120" cy="57204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89" name="Прямая со стрелкой 11"/>
          <p:cNvCxnSpPr/>
          <p:nvPr/>
        </p:nvCxnSpPr>
        <p:spPr>
          <a:xfrm flipH="1">
            <a:off x="2285640" y="2857680"/>
            <a:ext cx="2000880" cy="1072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0" name="Прямая со стрелкой 14"/>
          <p:cNvCxnSpPr/>
          <p:nvPr/>
        </p:nvCxnSpPr>
        <p:spPr>
          <a:xfrm>
            <a:off x="4286160" y="2857320"/>
            <a:ext cx="3144240" cy="50076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1" name="Прямая со стрелкой 16"/>
          <p:cNvCxnSpPr/>
          <p:nvPr/>
        </p:nvCxnSpPr>
        <p:spPr>
          <a:xfrm>
            <a:off x="4285800" y="2857320"/>
            <a:ext cx="2072520" cy="121500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292" name="Прямая со стрелкой 18"/>
          <p:cNvCxnSpPr/>
          <p:nvPr/>
        </p:nvCxnSpPr>
        <p:spPr>
          <a:xfrm flipH="1">
            <a:off x="4284360" y="2857680"/>
            <a:ext cx="2160" cy="4291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8:37:57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60000000000010243100207f6000400038000</vt:lpwstr>
  </property>
</Properties>
</file>