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5BBB-0E70-4681-B3E8-B014185CE9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57DB-A7AB-47EA-966A-8F3B276477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B346-0D21-41FB-AAFE-F832FC19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7599-9C15-4CD3-AD1E-EED0E102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F47A-5054-4A6D-9322-175FD5C7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3543-4104-44BE-B092-320C1270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F829A-E904-46F1-8CE2-35FD648D6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0A2DA-5DBA-412E-8903-68346227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FB904-B44B-407C-AE9E-9B23F15F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64BC4-6ABD-4FCB-9C2B-8722B7D6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4BAA1-8561-4490-B7CC-95356A9B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D3DC5-2151-4010-A64B-E04EF41B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F55E3-8533-4F67-A8C5-FD54FA15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2564-A009-46EF-A66A-6C2877B3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F704E-BB02-455E-8254-5B18F971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CF466-A7B7-4F6F-956B-2BFB85BA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90AD6-A590-4377-94D8-75262FEE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D2DBD-EE09-4E78-A565-411CAD56D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EADD4-BF84-4B2E-9AAF-D712FA6E8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73EEA-7D77-4664-BA73-948BFFC3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DBFF9-6434-4817-A2BB-E26B16A9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2C09C-C601-490C-A041-A32D91B2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AF610-0236-40B0-B551-4BE87DD6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68246-1E40-41DA-9A5C-BB5450BD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A07E-8044-44A2-B405-3D1397D3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F5E1B-EE4F-4E67-96FE-772E4074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762CB-8FBF-4C57-AE2E-BD3C93F6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0EF50-2C9F-48EB-B685-BEE9A64E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3B09C-BF44-4714-889A-91D16A11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1D473-E630-4AA9-8CB6-723258D2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DC7DB-8CA5-4679-9799-6F62CECDE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E276D-D0DB-4494-8A8A-6DC481FA9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A5CD4E-F861-455A-8A34-123703EEC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5B1EF3-26F6-4CF0-94A7-11D66CFC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0723B9-8A94-4F62-B69C-108499E7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C7D8-85B4-409B-BE12-BA2845E7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9CDB00-822B-457F-82BC-6163118D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3DCCED-B79C-44BE-BE1D-380463C0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B9469A-B700-4795-8FFD-148EDA94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C3F22D-59EF-467B-BC8B-DD60A3BC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7C0C43-ECB8-4AC2-8A0A-A3FB31BD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DF15C8-97CA-4A4E-9F8F-F3DC8135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0EC78C-D394-40AF-A1FA-25276EB6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2EC77E-CE4D-4AC4-B573-46F2CD0C6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5D45CE-6B32-4B34-93D6-F120553B5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5706BB-22BB-4EAA-8F90-F39A99330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FE73-2846-425B-BC73-CFBC413B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C9E1C6-15A1-4997-89C4-C52A881A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1D499C-5271-4C90-AC90-5DC2F32F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01DC1B-E7D3-4B53-9107-61FF665B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B56A6E-9F15-4EE0-AE85-1BC45A4F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9BE3EC-506F-44DC-A32A-BFB87774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290654-5526-49CA-BE96-F05DCC72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0E2761-F699-4EF1-A9C3-AD59AEE8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BC7AA8-E437-4407-9580-76D29CAB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7663EB-C072-49FA-89CE-88A15114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CE2EEA-48E0-49AC-96FA-87B232477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ED91-1708-4C7C-8E14-D02698E2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F29CBA-6D29-4F69-8C7F-532F3820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190552-3BCD-48DB-BB38-E8179332D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88609B-42E8-40A8-8607-807A670F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AD2102-83EB-4053-BFA4-84141B2A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EB5809-0B98-41C1-9075-BEC0565E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0EBAD1-394D-4380-AFE0-B71B22EA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BAB95D-F5C2-4FF9-81F8-A1FF66FC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E7C7F8-917C-463B-9537-CD3F5280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0E7839-A060-4B82-9FBB-749B0ECF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8C0BA8-0464-4BCA-AFBF-BD8FACD8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5B15-E9F2-451B-8973-7E2326BA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DD5343-B627-419D-AB75-FD7DA15C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4EF111-AED9-4959-8028-E97DA9521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EC8D37-63E3-4AD2-9B4F-D8E7AF9B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816A-F01D-4FCF-8138-9654DB9C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CF89-8133-4CA0-9418-298179A5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3541-1D2F-4831-9192-5F6449C68E99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9FA2-794E-4EA8-A340-D95F54FA34C2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BCB6-E699-447A-8E03-EFE54B65DD42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E853-8219-42DD-B4D8-A90CC8C4C33E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017C-D7A6-462C-8DD6-6212AAB31BFC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7884-B489-416E-96C2-B6EAF2278230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repetitor.1c.ru/online/repdisp.asp?sid=2&amp;go=20260000.ht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5" descr="2083400P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60" name="TextBox 4"/>
          <p:cNvSpPr/>
          <p:nvPr/>
        </p:nvSpPr>
        <p:spPr>
          <a:xfrm>
            <a:off x="2143080" y="214200"/>
            <a:ext cx="521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Класс ракообразн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Box 5"/>
          <p:cNvSpPr/>
          <p:nvPr/>
        </p:nvSpPr>
        <p:spPr>
          <a:xfrm>
            <a:off x="0" y="5041800"/>
            <a:ext cx="464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резентацию выполнил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Ученик 7 класса «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Лежачев Ники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1"/>
          <p:cNvSpPr/>
          <p:nvPr/>
        </p:nvSpPr>
        <p:spPr>
          <a:xfrm>
            <a:off x="2643120" y="0"/>
            <a:ext cx="385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Выделительная систе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0" y="1643040"/>
            <a:ext cx="914400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fcf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fcf04"/>
                </a:solidFill>
                <a:latin typeface="Calibri"/>
              </a:rPr>
              <a:t>ракообразных представлена двумя парами железистых органов - видоизмененных </a:t>
            </a:r>
            <a:r>
              <a:rPr b="1" i="1" lang="ru-RU" sz="3200" spc="-1" strike="noStrike">
                <a:solidFill>
                  <a:srgbClr val="dfcf04"/>
                </a:solidFill>
                <a:latin typeface="Calibri"/>
              </a:rPr>
              <a:t>целомодуктов</a:t>
            </a:r>
            <a:r>
              <a:rPr b="0" i="1" lang="ru-RU" sz="3200" spc="-1" strike="noStrike">
                <a:solidFill>
                  <a:srgbClr val="dfcf04"/>
                </a:solidFill>
                <a:latin typeface="Calibri"/>
              </a:rPr>
              <a:t>. Чаще всего одна пара функционирует на личиночной стадии, а потом редуцируется и заменяется во взрослом состоянии другой. Кроме того почти все раки во взрослом состоянии имеют </a:t>
            </a:r>
            <a:r>
              <a:rPr b="1" i="1" lang="ru-RU" sz="3200" spc="-1" strike="noStrike">
                <a:solidFill>
                  <a:srgbClr val="dfcf04"/>
                </a:solidFill>
                <a:latin typeface="Calibri"/>
              </a:rPr>
              <a:t>максиллярные</a:t>
            </a:r>
            <a:r>
              <a:rPr b="0" i="1" lang="ru-RU" sz="3200" spc="-1" strike="noStrike">
                <a:solidFill>
                  <a:srgbClr val="dfcf04"/>
                </a:solidFill>
                <a:latin typeface="Calibri"/>
              </a:rPr>
              <a:t> желез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fcf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1"/>
          <p:cNvSpPr/>
          <p:nvPr/>
        </p:nvSpPr>
        <p:spPr>
          <a:xfrm>
            <a:off x="1928880" y="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Особенности жизнедея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0" y="857160"/>
            <a:ext cx="9144000" cy="54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У ракообразных хорошо развит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рган.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боняния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сязания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, чувствительности к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химическому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воздействию (волоски на антеннулах), имеется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татоцист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, выполняющий вместе с содержащимися в нем песчинками роль «слуховых камешков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Глаза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у раков сложные, или фасеточные: каждый такой глаз содержит множество мелких глазков, или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мматидиев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(у речного рака их больше 3 000), расположенных очень близко; нередко имеется непарный лобный глаз, называемый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ауплиальным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глазом потому, что его наличие характерно для личинки науплиуса, хотя встречается и у взрослых ра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3"/>
          <p:cNvSpPr/>
          <p:nvPr/>
        </p:nvSpPr>
        <p:spPr>
          <a:xfrm>
            <a:off x="0" y="2000160"/>
            <a:ext cx="914400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Calibri"/>
              </a:rPr>
              <a:t>Раки-отшельники и крабы нередко сожительствуют со жгучими актиниями, получая обоюдную пользу: актинии защищают своих хозяев от врагов, получая взамен остатки пищи после трапезы десятиноги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Calibri"/>
              </a:rPr>
              <a:t>Такой симбиоз называется мутуализмом. Некоторые крабы маскируют себя, покрывая свою спинную сторону морскими беспозвоночными, которые продолжают там расти. Другие прикрываются створками ракови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Box 2"/>
          <p:cNvSpPr/>
          <p:nvPr/>
        </p:nvSpPr>
        <p:spPr>
          <a:xfrm>
            <a:off x="2357280" y="214200"/>
            <a:ext cx="47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Симбиоз и маскиров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5" descr="2083400P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300" name="Прямоугольник 2" descr=""/>
          <p:cNvPicPr/>
          <p:nvPr/>
        </p:nvPicPr>
        <p:blipFill>
          <a:blip r:embed="rId2"/>
          <a:stretch/>
        </p:blipFill>
        <p:spPr>
          <a:xfrm>
            <a:off x="2146320" y="-195120"/>
            <a:ext cx="413856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TextBox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Цель: Изучить строения и особенности ракообраз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Box 3"/>
          <p:cNvSpPr/>
          <p:nvPr/>
        </p:nvSpPr>
        <p:spPr>
          <a:xfrm>
            <a:off x="0" y="7142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Задач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Рассмотреть класс ракообраз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Строение (внешнее и внутренне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Особенности жизне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0" y="1839960"/>
            <a:ext cx="9144000" cy="50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f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cf059"/>
                </a:solidFill>
                <a:latin typeface="Calibri"/>
              </a:rPr>
              <a:t>составляет существенную часть водной фауны. Число видов в классе - не менее 20 000. Встречаются как планктонные, так и бентосные формы животных, в некоторых группах раков произошел переход от водной к наземной форме жизни. От других членистоногих их отлича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f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cf059"/>
                </a:solidFill>
                <a:latin typeface="Calibri"/>
              </a:rPr>
              <a:t>Наличие двух пар усиков - антеннул и видоизмененных конечностей 1-го сегмента тела - антенн (усики обозначают часто антенны 1 и антенны 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f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cf059"/>
                </a:solidFill>
                <a:latin typeface="Calibri"/>
              </a:rPr>
              <a:t>Только у ракообразных ножки во многих случаях сохраняют примитивное двуветвистое стро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f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cf059"/>
                </a:solidFill>
                <a:latin typeface="Calibri"/>
              </a:rPr>
              <a:t>Дыхание осуществляется с помощью жабр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f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Box 3"/>
          <p:cNvSpPr/>
          <p:nvPr/>
        </p:nvSpPr>
        <p:spPr>
          <a:xfrm>
            <a:off x="2428920" y="21420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Класс ракообраз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6" descr="ит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TextBox 2"/>
          <p:cNvSpPr/>
          <p:nvPr/>
        </p:nvSpPr>
        <p:spPr>
          <a:xfrm>
            <a:off x="3143160" y="0"/>
            <a:ext cx="27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Внешнее строения ра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5" descr="тьб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32148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3"/>
          <p:cNvSpPr/>
          <p:nvPr/>
        </p:nvSpPr>
        <p:spPr>
          <a:xfrm>
            <a:off x="0" y="3500280"/>
            <a:ext cx="914400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2d050"/>
                </a:solidFill>
                <a:latin typeface="Calibri"/>
              </a:rPr>
              <a:t>У речного рака передняя кишка образует большое расширение - желудок, подразделяющийся на два отдела - </a:t>
            </a:r>
            <a:r>
              <a:rPr b="1" i="1" lang="ru-RU" sz="2400" spc="-1" strike="noStrike">
                <a:solidFill>
                  <a:srgbClr val="92d050"/>
                </a:solidFill>
                <a:latin typeface="Calibri"/>
              </a:rPr>
              <a:t>кардиальный</a:t>
            </a:r>
            <a:r>
              <a:rPr b="0" i="1" lang="ru-RU" sz="2400" spc="-1" strike="noStrike">
                <a:solidFill>
                  <a:srgbClr val="92d050"/>
                </a:solidFill>
                <a:latin typeface="Calibri"/>
              </a:rPr>
              <a:t>, или жевательный, и </a:t>
            </a:r>
            <a:r>
              <a:rPr b="1" i="1" lang="ru-RU" sz="2400" spc="-1" strike="noStrike">
                <a:solidFill>
                  <a:srgbClr val="92d050"/>
                </a:solidFill>
                <a:latin typeface="Calibri"/>
              </a:rPr>
              <a:t>пилорическ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2d050"/>
                </a:solidFill>
                <a:latin typeface="Calibri"/>
              </a:rPr>
              <a:t>У большинства раков средняя кишка наиболее длинная.   крупная </a:t>
            </a:r>
            <a:r>
              <a:rPr b="1" i="1" lang="ru-RU" sz="2400" spc="-1" strike="noStrike">
                <a:solidFill>
                  <a:srgbClr val="92d050"/>
                </a:solidFill>
                <a:latin typeface="Calibri"/>
              </a:rPr>
              <a:t>двулопастная печень</a:t>
            </a:r>
            <a:r>
              <a:rPr b="0" i="1" lang="ru-RU" sz="2400" spc="-1" strike="noStrike">
                <a:solidFill>
                  <a:srgbClr val="92d05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2d050"/>
                </a:solidFill>
                <a:latin typeface="Calibri"/>
              </a:rPr>
              <a:t>У некоторых паразитических раков кишечник </a:t>
            </a:r>
            <a:r>
              <a:rPr b="1" i="1" lang="ru-RU" sz="2400" spc="-1" strike="noStrike">
                <a:solidFill>
                  <a:srgbClr val="92d050"/>
                </a:solidFill>
                <a:latin typeface="Calibri"/>
              </a:rPr>
              <a:t>атрофирован</a:t>
            </a:r>
            <a:r>
              <a:rPr b="0" i="1" lang="ru-RU" sz="2400" spc="-1" strike="noStrike">
                <a:solidFill>
                  <a:srgbClr val="92d050"/>
                </a:solidFill>
                <a:latin typeface="Calibri"/>
              </a:rPr>
              <a:t>. Пищей ракам служат более мелкие животные или разлагающиеся животные и растительные остат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2d050"/>
                </a:solidFill>
                <a:latin typeface="Calibri"/>
              </a:rPr>
              <a:t>Состоит из передней, средней и задней кишки,   порошицей на брюшной стороне тельсо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Box 3"/>
          <p:cNvSpPr/>
          <p:nvPr/>
        </p:nvSpPr>
        <p:spPr>
          <a:xfrm>
            <a:off x="2857680" y="0"/>
            <a:ext cx="32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ищеварительная систе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5" descr="тол"/>
          <p:cNvPicPr/>
          <p:nvPr/>
        </p:nvPicPr>
        <p:blipFill>
          <a:blip r:embed="rId1"/>
          <a:stretch/>
        </p:blipFill>
        <p:spPr>
          <a:xfrm>
            <a:off x="0" y="428760"/>
            <a:ext cx="9144000" cy="3143160"/>
          </a:xfrm>
          <a:prstGeom prst="rect">
            <a:avLst/>
          </a:prstGeom>
          <a:ln w="0">
            <a:noFill/>
          </a:ln>
        </p:spPr>
      </p:pic>
      <p:sp>
        <p:nvSpPr>
          <p:cNvPr id="273" name="TextBox 2"/>
          <p:cNvSpPr/>
          <p:nvPr/>
        </p:nvSpPr>
        <p:spPr>
          <a:xfrm>
            <a:off x="3143160" y="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Дыхательная систе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0" y="3664080"/>
            <a:ext cx="9144000" cy="31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У многих низших раков осуществляется через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оверхность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тела, поскольку специальные органы дыхания отсутствую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Жабры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чаще всего находятся на грудных конечностях (например, у бокоплавов), а у десятиногих раков жабры располагаются сначала на грудных ножках, а затем при развитии частично переходят на боковую стенку тела, но у некоторых могут быть на брюшных ножка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В жабрах продолжается полость тела, в которую попадает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гемолимфа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; кутикула жабр очень нежна, и через нее легко осуществляется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газообмен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5" descr="тол"/>
          <p:cNvPicPr/>
          <p:nvPr/>
        </p:nvPicPr>
        <p:blipFill>
          <a:blip r:embed="rId1"/>
          <a:stretch/>
        </p:blipFill>
        <p:spPr>
          <a:xfrm>
            <a:off x="0" y="428760"/>
            <a:ext cx="9144000" cy="314316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3"/>
          <p:cNvSpPr/>
          <p:nvPr/>
        </p:nvSpPr>
        <p:spPr>
          <a:xfrm>
            <a:off x="0" y="3689280"/>
            <a:ext cx="9144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baf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baf0c8"/>
                </a:solidFill>
                <a:latin typeface="Calibri"/>
              </a:rPr>
              <a:t>Ракообразных незамкнута,, но у тех животных, у которых дыхание совершается через покровы тела, от нее остается только сердце или же она </a:t>
            </a:r>
            <a:r>
              <a:rPr b="1" lang="ru-RU" sz="2300" spc="-1" strike="noStrike">
                <a:solidFill>
                  <a:srgbClr val="baf0c8"/>
                </a:solidFill>
                <a:latin typeface="Calibri"/>
              </a:rPr>
              <a:t>исчезает</a:t>
            </a:r>
            <a:r>
              <a:rPr b="0" lang="ru-RU" sz="2300" spc="-1" strike="noStrike">
                <a:solidFill>
                  <a:srgbClr val="baf0c8"/>
                </a:solidFill>
                <a:latin typeface="Calibri"/>
              </a:rPr>
              <a:t> целиком. Примером хорошо развитой кровеносной системы может служить кровеносная система речного рака, у которого от сердца, лежащего в перикардии, отходит несколько крупных сосудов. Гемолимфа ракообразных обычно бесцветна, но у многих окрашена в красный цвет (содержится </a:t>
            </a:r>
            <a:r>
              <a:rPr b="1" lang="ru-RU" sz="2300" spc="-1" strike="noStrike">
                <a:solidFill>
                  <a:srgbClr val="baf0c8"/>
                </a:solidFill>
                <a:latin typeface="Calibri"/>
              </a:rPr>
              <a:t>гемоглобин</a:t>
            </a:r>
            <a:r>
              <a:rPr b="0" lang="ru-RU" sz="2300" spc="-1" strike="noStrike">
                <a:solidFill>
                  <a:srgbClr val="baf0c8"/>
                </a:solidFill>
                <a:latin typeface="Calibri"/>
              </a:rPr>
              <a:t>), а у части десятиногих раков (у некоторых крабов, омаров) в гемолимфе присутствует </a:t>
            </a:r>
            <a:r>
              <a:rPr b="1" lang="ru-RU" sz="2300" spc="-1" strike="noStrike">
                <a:solidFill>
                  <a:srgbClr val="baf0c8"/>
                </a:solidFill>
                <a:latin typeface="Calibri"/>
              </a:rPr>
              <a:t>гемоцианин</a:t>
            </a:r>
            <a:r>
              <a:rPr b="0" lang="ru-RU" sz="2300" spc="-1" strike="noStrike">
                <a:solidFill>
                  <a:srgbClr val="baf0c8"/>
                </a:solidFill>
                <a:latin typeface="Calibri"/>
              </a:rPr>
              <a:t>, придающий синеватый оттенок на воздухе (гемоцианин содержит медь, а не железо, которое есть в гемоглобине)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Box 3"/>
          <p:cNvSpPr/>
          <p:nvPr/>
        </p:nvSpPr>
        <p:spPr>
          <a:xfrm>
            <a:off x="3286080" y="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Кровеносная систе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5" descr="тьб"/>
          <p:cNvPicPr/>
          <p:nvPr/>
        </p:nvPicPr>
        <p:blipFill>
          <a:blip r:embed="rId1"/>
          <a:stretch/>
        </p:blipFill>
        <p:spPr>
          <a:xfrm>
            <a:off x="0" y="428760"/>
            <a:ext cx="9144000" cy="3143160"/>
          </a:xfrm>
          <a:prstGeom prst="rect">
            <a:avLst/>
          </a:prstGeom>
          <a:ln w="0">
            <a:noFill/>
          </a:ln>
        </p:spPr>
      </p:pic>
      <p:sp>
        <p:nvSpPr>
          <p:cNvPr id="279" name="TextBox 2"/>
          <p:cNvSpPr/>
          <p:nvPr/>
        </p:nvSpPr>
        <p:spPr>
          <a:xfrm>
            <a:off x="3500280" y="0"/>
            <a:ext cx="20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Нервная систе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0" y="3689280"/>
            <a:ext cx="9144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00"/>
                </a:solidFill>
                <a:latin typeface="Calibri"/>
              </a:rPr>
              <a:t>Ракообразных напоминает нервную систему </a:t>
            </a:r>
            <a:r>
              <a:rPr b="0" lang="ru-RU" sz="2300" spc="-1" strike="noStrike" u="sng">
                <a:solidFill>
                  <a:srgbClr val="8e58b6"/>
                </a:solidFill>
                <a:uFillTx/>
                <a:latin typeface="Calibri"/>
                <a:hlinkClick r:id="rId2"/>
              </a:rPr>
              <a:t>кольчатых червей</a:t>
            </a:r>
            <a:r>
              <a:rPr b="0" lang="ru-RU" sz="2300" spc="-1" strike="noStrike">
                <a:solidFill>
                  <a:srgbClr val="ffff00"/>
                </a:solidFill>
                <a:latin typeface="Calibri"/>
              </a:rPr>
              <a:t>. Она состоит из парного головного мозга, окологлоточных коннективов и пары брюшных нервных стволов с ганглиями в каждом сегменте. Однако у ракообразных при слиянии отдельных сегментов произошло слияние ганглиев и их укрупнение, развилась симпатическая нервная система, иннервирующая кишечник. Кроме того, их нервная система обладает способностью выделять особые гормоны - нейросекреты, влияющие на деятельность отдельных органов, процессы линьки и др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0" y="1857240"/>
            <a:ext cx="91440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Класс ракообразных весьма обширен и разнообразен, он делится на пять подкласс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Box 2"/>
          <p:cNvSpPr/>
          <p:nvPr/>
        </p:nvSpPr>
        <p:spPr>
          <a:xfrm>
            <a:off x="2786040" y="0"/>
            <a:ext cx="350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истемати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Oval 13"/>
          <p:cNvSpPr/>
          <p:nvPr/>
        </p:nvSpPr>
        <p:spPr>
          <a:xfrm>
            <a:off x="0" y="3357720"/>
            <a:ext cx="1728720" cy="936360"/>
          </a:xfrm>
          <a:prstGeom prst="ellipse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жаброног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Oval 12"/>
          <p:cNvSpPr/>
          <p:nvPr/>
        </p:nvSpPr>
        <p:spPr>
          <a:xfrm>
            <a:off x="1357200" y="4000680"/>
            <a:ext cx="1944720" cy="936360"/>
          </a:xfrm>
          <a:prstGeom prst="ellipse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етвистоус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Oval 11"/>
          <p:cNvSpPr/>
          <p:nvPr/>
        </p:nvSpPr>
        <p:spPr>
          <a:xfrm>
            <a:off x="3000240" y="3357720"/>
            <a:ext cx="2521080" cy="1000080"/>
          </a:xfrm>
          <a:prstGeom prst="ellipse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еслоног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4929120" y="4143240"/>
            <a:ext cx="2376720" cy="865440"/>
          </a:xfrm>
          <a:prstGeom prst="ellipse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есятиног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Oval 9"/>
          <p:cNvSpPr/>
          <p:nvPr/>
        </p:nvSpPr>
        <p:spPr>
          <a:xfrm>
            <a:off x="6643800" y="3429000"/>
            <a:ext cx="2232000" cy="857160"/>
          </a:xfrm>
          <a:prstGeom prst="ellipse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аксиллоп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8" name="Прямая со стрелкой 9"/>
          <p:cNvCxnSpPr/>
          <p:nvPr/>
        </p:nvCxnSpPr>
        <p:spPr>
          <a:xfrm flipH="1">
            <a:off x="1571400" y="2856600"/>
            <a:ext cx="2715120" cy="572040"/>
          </a:xfrm>
          <a:prstGeom prst="straightConnector1">
            <a:avLst/>
          </a:prstGeom>
          <a:ln w="12600">
            <a:solidFill>
              <a:srgbClr val="a5b592"/>
            </a:solidFill>
            <a:miter/>
            <a:tailEnd len="med" type="arrow" w="med"/>
          </a:ln>
        </p:spPr>
      </p:cxnSp>
      <p:cxnSp>
        <p:nvCxnSpPr>
          <p:cNvPr id="289" name="Прямая со стрелкой 11"/>
          <p:cNvCxnSpPr/>
          <p:nvPr/>
        </p:nvCxnSpPr>
        <p:spPr>
          <a:xfrm flipH="1">
            <a:off x="2285640" y="2857680"/>
            <a:ext cx="2000880" cy="1072080"/>
          </a:xfrm>
          <a:prstGeom prst="straightConnector1">
            <a:avLst/>
          </a:prstGeom>
          <a:ln w="12600">
            <a:solidFill>
              <a:srgbClr val="a5b592"/>
            </a:solidFill>
            <a:miter/>
            <a:tailEnd len="med" type="arrow" w="med"/>
          </a:ln>
        </p:spPr>
      </p:cxnSp>
      <p:cxnSp>
        <p:nvCxnSpPr>
          <p:cNvPr id="290" name="Прямая со стрелкой 14"/>
          <p:cNvCxnSpPr/>
          <p:nvPr/>
        </p:nvCxnSpPr>
        <p:spPr>
          <a:xfrm>
            <a:off x="4286160" y="2857320"/>
            <a:ext cx="3144240" cy="500760"/>
          </a:xfrm>
          <a:prstGeom prst="straightConnector1">
            <a:avLst/>
          </a:prstGeom>
          <a:ln w="12600">
            <a:solidFill>
              <a:srgbClr val="a5b592"/>
            </a:solidFill>
            <a:miter/>
            <a:tailEnd len="med" type="arrow" w="med"/>
          </a:ln>
        </p:spPr>
      </p:cxnSp>
      <p:cxnSp>
        <p:nvCxnSpPr>
          <p:cNvPr id="291" name="Прямая со стрелкой 16"/>
          <p:cNvCxnSpPr/>
          <p:nvPr/>
        </p:nvCxnSpPr>
        <p:spPr>
          <a:xfrm>
            <a:off x="4285800" y="2857320"/>
            <a:ext cx="2072520" cy="1215000"/>
          </a:xfrm>
          <a:prstGeom prst="straightConnector1">
            <a:avLst/>
          </a:prstGeom>
          <a:ln w="12600">
            <a:solidFill>
              <a:srgbClr val="a5b592"/>
            </a:solidFill>
            <a:miter/>
            <a:tailEnd len="med" type="arrow" w="med"/>
          </a:ln>
        </p:spPr>
      </p:cxnSp>
      <p:cxnSp>
        <p:nvCxnSpPr>
          <p:cNvPr id="292" name="Прямая со стрелкой 18"/>
          <p:cNvCxnSpPr/>
          <p:nvPr/>
        </p:nvCxnSpPr>
        <p:spPr>
          <a:xfrm flipH="1">
            <a:off x="4284360" y="2857680"/>
            <a:ext cx="2160" cy="429120"/>
          </a:xfrm>
          <a:prstGeom prst="straightConnector1">
            <a:avLst/>
          </a:prstGeom>
          <a:ln w="12600">
            <a:solidFill>
              <a:srgbClr val="a5b59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3-12T18:37:57Z</dcterms:modified>
  <cp:revision>1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060000000000010243100207f6000400038000</vt:lpwstr>
  </property>
</Properties>
</file>