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4.png" ContentType="image/png"/>
  <Override PartName="/ppt/media/image8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19.jpeg" ContentType="image/jpeg"/>
  <Override PartName="/ppt/media/image2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9.gif" ContentType="image/gi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EB2-D36E-4D5B-B55E-80B2DCCB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9CA-11B2-48D3-B045-6BD405BB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4F6-33E5-40D2-9032-D62D90E4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6D0-B640-48B7-A7E5-417A2E2C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105-EEBD-4C57-91FF-26B6E588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6113-C81B-45F0-A7FE-8D77564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FDE5-F18F-4577-84DB-466D15F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CC4B-A712-4000-ABF7-814F9734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0721-B654-4C17-A8A8-A586D8D6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C2CE-63C1-42A6-A185-ADF6C1BA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E758-36B0-4E59-93CB-9F956C0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96D-0BA2-449B-9B02-EC044DA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3133-6579-47D5-AB74-9EBC94A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3F1D-FE76-4712-A436-1369A95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3CA2-13A3-4AAD-95FD-0D761EC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D6DD-B563-41E0-9E68-F68B2EF1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598C-C8FC-4526-A602-F2B4B6B8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76F-7C25-400B-99F4-596D351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AF4-4177-4863-8745-FFAE454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4BA-42FA-46E6-B943-849FC958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535-2EE2-48EC-8091-62E406A9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E91-2D69-4589-8FB1-90CF200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801-8FBA-444B-9995-091AEE2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28B-54AA-402B-B431-0F15A39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5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D1C-FEF1-472F-9D22-B5457415A69D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5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C508-9AEF-49B8-9F76-1037C19F94B3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archive.kremlin.ru/articles/state_insignia_03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chive.kremlin.ru/articles/state_insignia_01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chive.kremlin.ru/articles/state_insignia_02_3.s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9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Наша Родина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Речевая конференци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6  класс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30560" y="749160"/>
            <a:ext cx="4286160" cy="9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андрейка\Desktop\Россия\federation_medv1.gif"/>
          <p:cNvPicPr/>
          <p:nvPr/>
        </p:nvPicPr>
        <p:blipFill>
          <a:blip r:embed="rId2"/>
          <a:stretch/>
        </p:blipFill>
        <p:spPr>
          <a:xfrm>
            <a:off x="0" y="285840"/>
            <a:ext cx="1643040" cy="1990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214280" y="2071800"/>
            <a:ext cx="750096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У России величавой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На гербе орёл двуглавый,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Чтоб на запад на восто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Он смотреть бы сразу мог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Сильный, мудрый он и гордый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Он – России дух свободный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1928880" y="714240"/>
            <a:ext cx="6143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0303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30303"/>
                </a:solidFill>
                <a:latin typeface="Arial"/>
              </a:rPr>
              <a:t>Герб России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i"/>
          <p:cNvPicPr/>
          <p:nvPr/>
        </p:nvPicPr>
        <p:blipFill>
          <a:blip r:embed="rId1"/>
          <a:stretch/>
        </p:blipFill>
        <p:spPr>
          <a:xfrm>
            <a:off x="0" y="0"/>
            <a:ext cx="1778040" cy="2000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"/>
          <p:cNvSpPr/>
          <p:nvPr/>
        </p:nvSpPr>
        <p:spPr>
          <a:xfrm>
            <a:off x="2214720" y="1071720"/>
            <a:ext cx="65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Г͞осуда́рственный гер͞б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428840" y="1714680"/>
            <a:ext cx="7500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Гер͞б Р͞осси́йской Федера́ции -   си́мв͞ол Р͞оссии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Г͞осуда́рствен͞ный гер͞б Р͞осси́йской Федера́ции представля́ет с͞обо́й щит с͜ з͞ол͞оты́м двугла́вым ͞орло́м, п͞одня́вшим вверх распу́щен͞ные кры́лья. Орёл уве́нчан двумя́ ма́лыми к͞оро́нами и - над ними - ͞одно́й б͞ольшо́й к͞оро́н͞ой, с͞оединенными ле́нт͞ой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Users\андрейка\Desktop\Россия\rfgfl.gif"/>
          <p:cNvPicPr/>
          <p:nvPr/>
        </p:nvPicPr>
        <p:blipFill>
          <a:blip r:embed="rId1"/>
          <a:stretch/>
        </p:blipFill>
        <p:spPr>
          <a:xfrm>
            <a:off x="357120" y="35712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2286000" y="2305080"/>
            <a:ext cx="6143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Белый цвет – берёзка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иний - неба цвет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Красная полоска-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олнечный рассвет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3071880" y="107172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0303"/>
                </a:solidFill>
                <a:latin typeface="Arial"/>
              </a:rPr>
              <a:t>Флаг России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357720" y="100008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Г͞осуда́рствен͞ный     фла͞г</a:t>
            </a: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5" name="Picture 2" descr="F_032"/>
          <p:cNvPicPr/>
          <p:nvPr/>
        </p:nvPicPr>
        <p:blipFill>
          <a:blip r:embed="rId2"/>
          <a:srcRect l="10040" t="5692" r="6767" b="13799"/>
          <a:stretch/>
        </p:blipFill>
        <p:spPr>
          <a:xfrm>
            <a:off x="142920" y="142920"/>
            <a:ext cx="2581200" cy="16668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1428840" y="1785960"/>
            <a:ext cx="73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Госуда́рственный флаг Росси́йской Федера́ции явля́ет͞ся  си́мв͞ол͞ом России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Российский флаг представля́ет с͞обо́й прям͞оуго́льн͞ое п͞оло́тнище из͜ трёх  г͞ориз͞онта́льных п͞оло́с: ве́рхней – бе́ло͞го, сре́дней – си́не͞го и ни́жней – кра́сно͞го цве́та.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C:\Users\андрейка\Desktop\Россия\gimn.jpg"/>
          <p:cNvPicPr/>
          <p:nvPr/>
        </p:nvPicPr>
        <p:blipFill>
          <a:blip r:embed="rId1"/>
          <a:stretch/>
        </p:blipFill>
        <p:spPr>
          <a:xfrm>
            <a:off x="1538280" y="1143000"/>
            <a:ext cx="4622760" cy="557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андрейка\Desktop\Россия\3679.jpg"/>
          <p:cNvPicPr/>
          <p:nvPr/>
        </p:nvPicPr>
        <p:blipFill>
          <a:blip r:embed="rId2"/>
          <a:stretch/>
        </p:blipFill>
        <p:spPr>
          <a:xfrm>
            <a:off x="6283440" y="3000240"/>
            <a:ext cx="2173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͞осуда́рствен͞ный гимн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8920" y="1413000"/>
            <a:ext cx="77709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Государственный гимн – торжественное музыкально-поэтическое произведение, принятое как символ государственного единства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Текст гимна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 отражает чувства патриотизма, уважения к истории страны, ее государственному строю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87280" y="907560"/>
            <a:ext cx="7956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При официальном исполнении Государственного гимна Российской Федерации присутствующие выслушивают его стоя, мужчины – без головных уборов.  Когда  исполнение Государственного гимна России сопровождается поднятием Государственного флага России,  все  поворачиваются к нему лицом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Мои документы\Карта-Кемеровской-области-478x700.jpg"/>
          <p:cNvPicPr/>
          <p:nvPr/>
        </p:nvPicPr>
        <p:blipFill>
          <a:blip r:embed="rId1"/>
          <a:stretch/>
        </p:blipFill>
        <p:spPr>
          <a:xfrm>
            <a:off x="1428840" y="1071720"/>
            <a:ext cx="4919400" cy="557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Admin\Мои документы\12.jpeg"/>
          <p:cNvPicPr/>
          <p:nvPr/>
        </p:nvPicPr>
        <p:blipFill>
          <a:blip r:embed="rId2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571760" y="1000080"/>
            <a:ext cx="87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емеровская област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511680" y="1857240"/>
            <a:ext cx="21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йди свой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город н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Карте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Documents and Settings\Admin\Мои документы\c27f30e7d900ac2c254a5f14cd2ffb8f.jpg"/>
          <p:cNvPicPr/>
          <p:nvPr/>
        </p:nvPicPr>
        <p:blipFill>
          <a:blip r:embed="rId1"/>
          <a:stretch/>
        </p:blipFill>
        <p:spPr>
          <a:xfrm>
            <a:off x="1928880" y="1000080"/>
            <a:ext cx="6667560" cy="43052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736280" y="5786280"/>
            <a:ext cx="72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зови губернатора Кемеровской области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C:\Documents and Settings\Admin\Мои документы\8.jpeg"/>
          <p:cNvPicPr/>
          <p:nvPr/>
        </p:nvPicPr>
        <p:blipFill>
          <a:blip r:embed="rId1"/>
          <a:stretch/>
        </p:blipFill>
        <p:spPr>
          <a:xfrm>
            <a:off x="1214280" y="1000080"/>
            <a:ext cx="4929480" cy="3286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Admin\Мои документы\222.jpeg"/>
          <p:cNvPicPr/>
          <p:nvPr/>
        </p:nvPicPr>
        <p:blipFill>
          <a:blip r:embed="rId2"/>
          <a:stretch/>
        </p:blipFill>
        <p:spPr>
          <a:xfrm>
            <a:off x="5987880" y="1000080"/>
            <a:ext cx="2982960" cy="2143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1668960" y="4786200"/>
            <a:ext cx="59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зови мэра города Новокузнецк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Цель 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формирование  основных речевых компетенций (восприятие и воспроизведение речи) посредством использования речевого материала на тему «</a:t>
            </a: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аша Родина</a:t>
            </a: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Admin\Мои документы\1.jpeg"/>
          <p:cNvPicPr/>
          <p:nvPr/>
        </p:nvPicPr>
        <p:blipFill>
          <a:blip r:embed="rId1"/>
          <a:stretch/>
        </p:blipFill>
        <p:spPr>
          <a:xfrm>
            <a:off x="1285920" y="1714680"/>
            <a:ext cx="3340080" cy="2352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Admin\Мои документы\2.jpeg"/>
          <p:cNvPicPr/>
          <p:nvPr/>
        </p:nvPicPr>
        <p:blipFill>
          <a:blip r:embed="rId2"/>
          <a:stretch/>
        </p:blipFill>
        <p:spPr>
          <a:xfrm>
            <a:off x="5715000" y="17319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Мои документы\6.jpeg"/>
          <p:cNvPicPr/>
          <p:nvPr/>
        </p:nvPicPr>
        <p:blipFill>
          <a:blip r:embed="rId3"/>
          <a:stretch/>
        </p:blipFill>
        <p:spPr>
          <a:xfrm>
            <a:off x="1285920" y="412596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C:\Documents and Settings\Admin\Мои документы\9.jpeg"/>
          <p:cNvPicPr/>
          <p:nvPr/>
        </p:nvPicPr>
        <p:blipFill>
          <a:blip r:embed="rId4"/>
          <a:stretch/>
        </p:blipFill>
        <p:spPr>
          <a:xfrm>
            <a:off x="5857920" y="4357800"/>
            <a:ext cx="3119400" cy="2340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1448640" y="1143000"/>
            <a:ext cx="75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Назови  достопримечательные места Новокузнецк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Documents and Settings\Admin\Мои документы\13.jpeg"/>
          <p:cNvPicPr/>
          <p:nvPr/>
        </p:nvPicPr>
        <p:blipFill>
          <a:blip r:embed="rId1"/>
          <a:stretch/>
        </p:blipFill>
        <p:spPr>
          <a:xfrm>
            <a:off x="1357200" y="1643040"/>
            <a:ext cx="302112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Мои документы\14.jpeg"/>
          <p:cNvPicPr/>
          <p:nvPr/>
        </p:nvPicPr>
        <p:blipFill>
          <a:blip r:embed="rId2"/>
          <a:stretch/>
        </p:blipFill>
        <p:spPr>
          <a:xfrm>
            <a:off x="0" y="0"/>
            <a:ext cx="971640" cy="1428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285920" y="1143000"/>
            <a:ext cx="100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Назови  достопримечательные места Новокузнецк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9" name="Picture 8" descr="C:\Documents and Settings\Admin\Мои документы\7.jpeg"/>
          <p:cNvPicPr/>
          <p:nvPr/>
        </p:nvPicPr>
        <p:blipFill>
          <a:blip r:embed="rId3"/>
          <a:stretch/>
        </p:blipFill>
        <p:spPr>
          <a:xfrm>
            <a:off x="1263600" y="4140360"/>
            <a:ext cx="3308400" cy="250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Admin\Мои документы\3.jpeg"/>
          <p:cNvPicPr/>
          <p:nvPr/>
        </p:nvPicPr>
        <p:blipFill>
          <a:blip r:embed="rId4"/>
          <a:stretch/>
        </p:blipFill>
        <p:spPr>
          <a:xfrm>
            <a:off x="5357880" y="1614600"/>
            <a:ext cx="339084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Documents and Settings\Admin\Мои документы\5.jpeg"/>
          <p:cNvPicPr/>
          <p:nvPr/>
        </p:nvPicPr>
        <p:blipFill>
          <a:blip r:embed="rId5"/>
          <a:stretch/>
        </p:blipFill>
        <p:spPr>
          <a:xfrm>
            <a:off x="5429160" y="40719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иалог « Наше государство»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32000" y="1483920"/>
            <a:ext cx="7812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, как называется наша страна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……………………………….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Кто президе́нт Р͞осси́и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….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Назови ст͞оли́цу на́шей Ро́дины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Где твоя ма́лая ро́дина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…………………………………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Кто явля́ет͞ся губерна́т͞ор͞ом Ке́мер͞овск͞ой о́бласти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…….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Какие города́ есть в͜ Ке́мер͞овск͞ой о́бласти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, помоги мне правильно написать по́лный а́дрес на́шей шко́лы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……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Дополни предложения: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Наша  страна называ́ет͞ся …………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Ст͞оли́ца Р͞осси́и ………………..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Президе́нт России…………………..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Мы живём в………………………          о́бласти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Я живу́ в͜ го́р͞оде        …. ……………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609480"/>
            <a:ext cx="755352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Узнай города Кузбасса: 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6920" y="404280"/>
            <a:ext cx="8929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АЙТА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ИКОНИНИ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АРИСА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ИМЫС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АЮ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АНТАК    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ВОЛЕБО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ЕКОСИВЁК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ВЕРОМЕКО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ОПРВОСЬПЕК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РУМДЕНЕЖЧЕС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АЛШАТО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рочитай и объясни пословицы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Чел͞ове́к без͜ Ро́дины, ͞что с͞ол͞ове́й бе͞з͜ пе́сни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Береги́ зе́млю р͞оди́мую как мать люби́мую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Для͜ Ро́дины св͞ое́й ни͜ сил, ни͜ жи́зни не͜ жале́й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Нет в͜ ми́ре кра́ше Ро́дины на́шей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а занятии работали: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523880" y="1905120"/>
            <a:ext cx="2832120" cy="3581280"/>
          </a:xfrm>
          <a:prstGeom prst="rect">
            <a:avLst/>
          </a:prstGeom>
          <a:solidFill>
            <a:srgbClr val="f4f3d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тлично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580000" y="1905120"/>
            <a:ext cx="2952720" cy="3581280"/>
          </a:xfrm>
          <a:prstGeom prst="rect">
            <a:avLst/>
          </a:prstGeom>
          <a:solidFill>
            <a:srgbClr val="f4f3d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Хорошо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619280" y="1268280"/>
            <a:ext cx="6769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5772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развивать остаточный и сниженный слух обучающихся посредством восприятия на слух и слухозрительно слов, словосочетаний, предложений, текстов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использовать остаточный и сниженный слух для коррекции произношения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расширять и активизировать словарный запас учеников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развивать устную и письменную речь детей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способствовать  патриотическому воспитанию школьников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3300"/>
                </a:solidFill>
                <a:latin typeface="Arial"/>
              </a:rPr>
              <a:t>Словарь:</a:t>
            </a:r>
            <a:endParaRPr b="0" lang="en-US" sz="4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2491920"/>
            <a:ext cx="78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одина, страна, отечество, столица, Москва, президент, область, губернатор, Кемеровская,  Кузбасс,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мэр – глава город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C:\Users\андрейка\Desktop\Россия\3345.jpg"/>
          <p:cNvPicPr/>
          <p:nvPr/>
        </p:nvPicPr>
        <p:blipFill>
          <a:blip r:embed="rId1"/>
          <a:stretch/>
        </p:blipFill>
        <p:spPr>
          <a:xfrm>
            <a:off x="214200" y="500040"/>
            <a:ext cx="8882280" cy="3929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1143000" y="450072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  <a:ea typeface="Arial"/>
              </a:rPr>
              <a:t>Россия – это самое большое по площади государство. Россия – очень интересная, красивая и удивительная страна. Даже по карте все это можно увидеть – города, горы, реки, леса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073160" y="212760"/>
            <a:ext cx="6997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62319"/>
          <p:cNvPicPr/>
          <p:nvPr/>
        </p:nvPicPr>
        <p:blipFill>
          <a:blip r:embed="rId1"/>
          <a:stretch/>
        </p:blipFill>
        <p:spPr>
          <a:xfrm>
            <a:off x="1979640" y="98100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2124000" y="6093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Назовите ст͞оли́цу Р͞осси́и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moscow_00040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cap="sq" w="38160">
            <a:solidFill>
              <a:srgbClr val="d6d5c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8" name="Прямоугольник 2"/>
          <p:cNvSpPr/>
          <p:nvPr/>
        </p:nvSpPr>
        <p:spPr>
          <a:xfrm>
            <a:off x="357120" y="28584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Москва – это Красная площадь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Москва – это башни Кремля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Москва – столица России,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торая  любит тебя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Мои документы\111.jpeg"/>
          <p:cNvPicPr/>
          <p:nvPr/>
        </p:nvPicPr>
        <p:blipFill>
          <a:blip r:embed="rId1"/>
          <a:stretch/>
        </p:blipFill>
        <p:spPr>
          <a:xfrm>
            <a:off x="1285920" y="963720"/>
            <a:ext cx="4857840" cy="3644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648800" y="4572000"/>
            <a:ext cx="60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Назови президента России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_032"/>
          <p:cNvPicPr/>
          <p:nvPr/>
        </p:nvPicPr>
        <p:blipFill>
          <a:blip r:embed="rId1"/>
          <a:stretch/>
        </p:blipFill>
        <p:spPr>
          <a:xfrm>
            <a:off x="1325520" y="1052640"/>
            <a:ext cx="4641840" cy="30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"/>
          <p:cNvPicPr/>
          <p:nvPr/>
        </p:nvPicPr>
        <p:blipFill>
          <a:blip r:embed="rId2"/>
          <a:stretch/>
        </p:blipFill>
        <p:spPr>
          <a:xfrm>
            <a:off x="6443640" y="3241800"/>
            <a:ext cx="2563920" cy="307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2701080" y="515772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10:42Z</dcterms:created>
  <dc:creator>Администратор</dc:creator>
  <dc:description/>
  <dc:language>en-US</dc:language>
  <cp:lastModifiedBy>Admin</cp:lastModifiedBy>
  <dcterms:modified xsi:type="dcterms:W3CDTF">2014-04-16T02:55:07Z</dcterms:modified>
  <cp:revision>83</cp:revision>
  <dc:subject/>
  <dc:title>Лексика</dc:title>
</cp:coreProperties>
</file>