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3240" y="1187280"/>
            <a:ext cx="860760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Содержание развивающей предметно-пространственной среды (РППС) дошкольной образовательной организаци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Автор презентации: Платонова Е.Н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9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ГБОУ МКЛ №1310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Развивающие свойства элементов РППС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 algn="just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Степень универсальности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– возможность применять элементы РППС для нескольких программных направлени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«Автодидактичность»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– структурное свойство игрового средства, которое «указывает» ребѐнку на его ошибки, сделанные при выполнении того или иного игрового зад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К функциональным аспектам оборудования пространства ДОО  относятся: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акустическое оформление;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освещение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цветовая отделка помеще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7080" y="1079640"/>
            <a:ext cx="7127640" cy="539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1297080"/>
            <a:ext cx="727236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95440" y="1079640"/>
            <a:ext cx="7072200" cy="5413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В соответствии с требованиями ФГОС ДО организация пространства РППС (в здании и на участке) должна обладать многофункциональными качествами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гибкого зонирования и оперативного изменения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в зависимости от образовательной ситуации и давать возможность для различных видов активности детей, их самовыражения и эмоционального благополучия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римерный перечень зон РППС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сюжетно-ролевых и режиссерских игр (театрализованная деятельность, ряжение, освоение социальных ролей и профессий и пр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35280" y="4392720"/>
            <a:ext cx="403236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римерный перечень зон РППС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познавательной активности (экспериментирование с различными материалами, развитие речи, наблюдение за природными явлениями, развитие математических представлений и пр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84360" y="1440000"/>
            <a:ext cx="647856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римерный перечень зон РППС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самостоятельной деятельности детей (конструирование из различных материалов, художественно-продуктивная деятельность, ознакомление с литературой, выставка детского творчества, центр патриотического воспитания и пр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Предметное содержа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0360" y="4966920"/>
            <a:ext cx="8418600" cy="189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Предметное содержание РППС должно выполнять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информативные функции об окружающем мире и передаче социального опыта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детям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1687680"/>
            <a:ext cx="748836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84360" y="1297080"/>
            <a:ext cx="6478560" cy="5182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римерный перечень зон РППС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двигательной активности (спортивные игры, соревнования и пр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9280" y="3527280"/>
            <a:ext cx="4680000" cy="3373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189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Примерный перечень зон РППС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настольно-печатных и развивающих игр (рассматривание иллюстрированного материала, дидактические игры и пр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664000" y="4103640"/>
            <a:ext cx="45352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римерный перечень зон РППС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экспериментирования и наблюдения за природными явлениями (экспериментальные лаборатории, календарь природы, центры для организации различных проектов и пр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84360" y="1297080"/>
            <a:ext cx="647856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рганизация пространст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римерный перечень зон РППС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отдыха (уединение, общение и пр.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68400" y="3168720"/>
            <a:ext cx="62676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Изменен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мобильности пространства РППС предполагается разделение на зоны при помощи различных элементов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Для достижения максимальной реакции ребенка на предметное содержание РППС необходима обязательная смена игрушек, оборудования и прочих материалов.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беспеч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Общие принципы отбора игровой продукции для детей-дошкольников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. Принцип безопасности (отсутствия рисков) игровой продукции для ребенка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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физические риски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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психологические риски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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нравственные риск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Обеспеч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Общие принципы отбора игровой продукции для детей-дошкольников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I. Принцип развития, с учетом зоны ближайшего развития (ЗБР) ребенка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II. Принцип соответствия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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возрастным (половозрастным) особенностям ребенка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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индивидуальным особенностям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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специальным особенностям ребен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7680" y="29527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Спасибо за внимание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Элементы РППС не должны: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1640" y="5917680"/>
            <a:ext cx="84186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провоцировать ребёнка на агрессивные действия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08360" y="1871640"/>
            <a:ext cx="3959280" cy="4044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Элементы РППС не должны: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98120" y="2462040"/>
            <a:ext cx="841860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вызывать у него проявление жестокости по отношению к персонажам игры, в роли которых могут выступать играющие партнёры (сверстники, взрослые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провоцировать игровые сюжеты, связанные с безнравственностью и насилием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Элементы РППС не должны: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вызывать у ребёнка нездоровый интерес к сексуальным проблемам, выходящим за рамки его возрастной компетенции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провоцировать ребёнка на пренебрежительное или негативное отношение к расовым особенностям и физическим недостаткам других люде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360" y="479160"/>
            <a:ext cx="877248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Элементы РППС должны обладать следующими качествами: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олифункциональность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. Это качество должно давать возможность ребёнку гибко использовать элементы РППС в соответствии со своим замыслом, сюжетом игры, в разных функциях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применение элементов РППС в совместной деятельности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. Все игровые средства могут быть использованы в коллективных играх, а также при инициировании совместных действий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360" y="479160"/>
            <a:ext cx="877248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Элементы РППС должны обладать следующими качествами: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дидактическая ценность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. Игровые средства РППС могут использоваться как средство обучения ребенка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эстетическая ценность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. Игровые средства РППС могут являться средством художественно-эстетического развития ребенка, приобщения его к миру искусст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84360" y="1295280"/>
            <a:ext cx="648000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Развивающие свойства элементов РППС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 algn="just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Каждый элемент РППС должен обеспечивать </a:t>
            </a: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большое количество заданий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, которые могут быть сформулированы перед ребёнком с использованием элементов РППС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Степень «открытости»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- стимулирование творческой активности и ребёнка, и взрослого. Они побуждают придумывать новые задания для детей помимо тех, которые в них заложе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9:23:25Z</dcterms:created>
  <dc:creator>Елена Платонова</dc:creator>
  <dc:description>Общая презентация нового продукта, учитывающая пожелания заказчика</dc:description>
  <dc:language>en-US</dc:language>
  <cp:lastModifiedBy/>
  <cp:revision>1</cp:revision>
  <dc:subject/>
  <dc:title>Презентация нового продукта</dc:title>
</cp:coreProperties>
</file>