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57C-9BF2-4E78-A04D-B54EB7F7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248-1B2A-46BF-81B5-DC77E937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43C-6F35-42DD-ABC8-B548AE15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615-D2A7-4187-9DEB-84D9EA5C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744-367D-4675-BE96-EBB4D6B2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8DE-BE61-4491-A8D4-534DE882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CA0-1CCD-4361-8C20-F79245DC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292-FC12-4451-A9E3-24A11DBA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38D-354C-4949-8325-79991CB4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B21-B225-4E14-9E03-577E6EA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9BB-E563-4150-B6C3-506DBEA7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EEC-0491-4BFE-BBA3-90C45F8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BE16-01C1-42C1-A20E-C4192E6A9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text=&#1089;&#1082;&#1072;&#1095;&#1072;&#1090;&#1100;%20&#1073;&#1077;&#1089;&#1087;&#1083;&#1072;&#1090;&#1085;&#1086;%20&#1088;&#1080;&#1089;&#1091;&#1085;&#1086;&#1082;%20&#1078;&#1072;&#1073;&#1072;%20&#1073;&#1086;&#1088;&#1086;&#1076;&#1072;&#1074;&#1095;&#1072;&#1090;&#1072;&#1103;&amp;noreask=1&amp;img_url=http%3A%2F%2Fcs307410.userapi.com%2Fv307410103%2F2cf1%2FJVV0ANncXG0.jpg&amp;pos=0&amp;rpt=simage&amp;lr=47&amp;nojs=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yandex.ru/yandsearch?source=wiz&amp;text=&#1089;&#1082;&#1072;&#1095;&#1072;&#1090;&#1100;%20&#1073;&#1077;&#1089;&#1087;&#1083;&#1072;&#1090;&#1085;&#1086;%20&#1088;&#1080;&#1089;&#1091;&#1085;&#1086;&#1082;%20&#1090;&#1088;&#1072;&#1091;&#1088;&#1085;&#1080;&#1094;&#1072;&amp;noreask=1&amp;img_url=http%3A%2F%2Falbum.foto.ru%2Fphotos%2Fsm%2F215676%2F385369.jpg&amp;pos=15&amp;rpt=simage&amp;lr=47&amp;nojs=1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907920"/>
            <a:ext cx="8353440" cy="253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Развитие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Обучающее изложение по рассказу Н.Слад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«Ухоро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48560" y="611352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й язык стр. 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8486" t="8333" r="4096" b="57742"/>
          <a:stretch/>
        </p:blipFill>
        <p:spPr>
          <a:xfrm>
            <a:off x="1332000" y="404640"/>
            <a:ext cx="684036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4561" t="42260" r="4096" b="45711"/>
          <a:stretch/>
        </p:blipFill>
        <p:spPr>
          <a:xfrm>
            <a:off x="250920" y="476280"/>
            <a:ext cx="8712000" cy="168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2360" y="2421000"/>
            <a:ext cx="67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Чёлн – небольшая лодка, выдолбленная из куска де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78936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33577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84720" y="3716280"/>
            <a:ext cx="228600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640" y="55371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Жаба бородавча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4520" y="501336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Бабочка траур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53737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ягушка золотоглаз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4561" t="61724" r="4096" b="27165"/>
          <a:stretch/>
        </p:blipFill>
        <p:spPr>
          <a:xfrm>
            <a:off x="1258920" y="1268280"/>
            <a:ext cx="6551640" cy="1173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5766" t="58088" r="19888" b="37276"/>
          <a:stretch/>
        </p:blipFill>
        <p:spPr>
          <a:xfrm>
            <a:off x="1692360" y="333360"/>
            <a:ext cx="5400720" cy="509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14561" t="71916" r="4096" b="20691"/>
          <a:stretch/>
        </p:blipFill>
        <p:spPr>
          <a:xfrm>
            <a:off x="1258920" y="2781360"/>
            <a:ext cx="7020000" cy="836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19480" y="380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27600" y="476280"/>
            <a:ext cx="36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Каждый прячется, как у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.Под челном – тро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6160" y="1844640"/>
            <a:ext cx="44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.Паук в яичной скорлупе посел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.Жук – навозник в гриб спрят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765000"/>
            <a:ext cx="849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всяк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в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х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ки, каждый пряче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ак у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 на б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 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 ч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ном повад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ь прятат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ь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авица траурница, лягу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золот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зая  и жаба б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ч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я. Вернусь с рыбалки, чёлн на но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ч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ер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у –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аут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под  ним  та  же троица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080" y="278136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хоронки – хранятся, хоронятся (прячут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3640" y="281160"/>
            <a:ext cx="60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пиши  текст по плану используя опорные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835280" y="1052640"/>
            <a:ext cx="5760720" cy="1223280"/>
            <a:chOff x="1835280" y="1052640"/>
            <a:chExt cx="5760720" cy="1223280"/>
          </a:xfrm>
        </p:grpSpPr>
        <p:pic>
          <p:nvPicPr>
            <p:cNvPr id="62" name="" descr=""/>
            <p:cNvPicPr/>
            <p:nvPr/>
          </p:nvPicPr>
          <p:blipFill>
            <a:blip r:embed="rId1">
              <a:lum contrast="18000"/>
            </a:blip>
            <a:srcRect l="8486" t="25196" r="26169" b="69184"/>
            <a:stretch/>
          </p:blipFill>
          <p:spPr>
            <a:xfrm>
              <a:off x="1835280" y="1459440"/>
              <a:ext cx="5760720" cy="81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rcRect l="20455" t="12545" r="14199" b="83957"/>
            <a:stretch/>
          </p:blipFill>
          <p:spPr>
            <a:xfrm>
              <a:off x="1835280" y="1052640"/>
              <a:ext cx="5760720" cy="50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539640" y="2852640"/>
            <a:ext cx="780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  всякого, как у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2.  Под  моим  челном, повадились, красавица траурн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ягушка золотоглазая, жаба бородавчатая, вернусь, чёл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еверну,наутро, та же тро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333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ук в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ч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й ск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лупе п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лся, в  х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р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х бел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ме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н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ых 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ж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н жук- навозни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гри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пр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лся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!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ы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 но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хо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и  к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ш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ся  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внутр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1557360"/>
            <a:ext cx="45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. Паук в яичной скорлупе посел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. Жук – навозник в гриб спрят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4160" y="1052640"/>
            <a:ext cx="60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пиши  текст по плану используя опорные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5440" y="306864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. Хоромы белока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. Прогрыз, копошился  вну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2:40:04Z</dcterms:created>
  <dc:creator>Марина</dc:creator>
  <dc:description/>
  <dc:language>en-US</dc:language>
  <cp:lastModifiedBy>Марина</cp:lastModifiedBy>
  <dcterms:modified xsi:type="dcterms:W3CDTF">2014-12-02T13:51:17Z</dcterms:modified>
  <cp:revision>3</cp:revision>
  <dc:subject/>
  <dc:title>Слайд 1</dc:title>
</cp:coreProperties>
</file>