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456-D3A1-4976-81EE-ACBA8B41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01C-5ABA-4E00-B4B3-E53E2EAD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A0CA-2896-48ED-8F0E-54D069B7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2D2-1528-4B1E-A456-6FDBB65E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4B0-0EFB-4C2F-A16D-C60C787A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BED-572B-4F52-9257-9A7BC5AA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E99D-A79C-4ADC-B5BA-F90AA1E6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107-E16C-4887-8E52-5D994751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559-23C9-4B93-8CBE-1BB6B99A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C78-E6F0-4C63-9EA0-4C5D6F16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03E-24C0-4623-B144-F511003C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180-5182-4E16-B85E-0858A041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8C83-064F-448F-8C2A-0AA96D220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text=&#1089;&#1082;&#1072;&#1095;&#1072;&#1090;&#1100;%20&#1073;&#1077;&#1089;&#1087;&#1083;&#1072;&#1090;&#1085;&#1086;%20&#1088;&#1080;&#1089;&#1091;&#1085;&#1086;&#1082;%20&#1078;&#1072;&#1073;&#1072;%20&#1073;&#1086;&#1088;&#1086;&#1076;&#1072;&#1074;&#1095;&#1072;&#1090;&#1072;&#1103;&amp;noreask=1&amp;img_url=http%3A%2F%2Fcs307410.userapi.com%2Fv307410103%2F2cf1%2FJVV0ANncXG0.jpg&amp;pos=0&amp;rpt=simage&amp;lr=47&amp;nojs=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yandex.ru/yandsearch?source=wiz&amp;text=&#1089;&#1082;&#1072;&#1095;&#1072;&#1090;&#1100;%20&#1073;&#1077;&#1089;&#1087;&#1083;&#1072;&#1090;&#1085;&#1086;%20&#1088;&#1080;&#1089;&#1091;&#1085;&#1086;&#1082;%20&#1090;&#1088;&#1072;&#1091;&#1088;&#1085;&#1080;&#1094;&#1072;&amp;noreask=1&amp;img_url=http%3A%2F%2Falbum.foto.ru%2Fphotos%2Fsm%2F215676%2F385369.jpg&amp;pos=15&amp;rpt=simage&amp;lr=47&amp;nojs=1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907920"/>
            <a:ext cx="8353440" cy="2531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Развитие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Обучающее изложение по рассказу Н.Слад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«Ухоро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48560" y="611352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й язык стр. 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8486" t="8333" r="4096" b="57742"/>
          <a:stretch/>
        </p:blipFill>
        <p:spPr>
          <a:xfrm>
            <a:off x="1332000" y="404640"/>
            <a:ext cx="684036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4561" t="42260" r="4096" b="45711"/>
          <a:stretch/>
        </p:blipFill>
        <p:spPr>
          <a:xfrm>
            <a:off x="250920" y="476280"/>
            <a:ext cx="8712000" cy="168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2360" y="2421000"/>
            <a:ext cx="67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Чёлн – небольшая лодка, выдолбленная из куска дер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78936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3640" y="33577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84720" y="3716280"/>
            <a:ext cx="2286000" cy="142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9640" y="553716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Жаба бородавча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4520" y="501336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Бабочка траур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537372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Лягушка золотоглаз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4561" t="61724" r="4096" b="27165"/>
          <a:stretch/>
        </p:blipFill>
        <p:spPr>
          <a:xfrm>
            <a:off x="1258920" y="1268280"/>
            <a:ext cx="6551640" cy="1173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15766" t="58088" r="19888" b="37276"/>
          <a:stretch/>
        </p:blipFill>
        <p:spPr>
          <a:xfrm>
            <a:off x="1692360" y="333360"/>
            <a:ext cx="5400720" cy="509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14561" t="71916" r="4096" b="20691"/>
          <a:stretch/>
        </p:blipFill>
        <p:spPr>
          <a:xfrm>
            <a:off x="1258920" y="2781360"/>
            <a:ext cx="7020000" cy="836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19480" y="380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27600" y="476280"/>
            <a:ext cx="36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Каждый прячется, как ум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.Под челном – тро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6160" y="1844640"/>
            <a:ext cx="44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.Паук в яичной скорлупе посел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.Жук – навозник в гриб спрят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765000"/>
            <a:ext cx="849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всяк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в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ух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р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ки, каждый пряче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ак ум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 на б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  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о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 ч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ном повад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ь прятат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ь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авица траурница, лягу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 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золот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зая  и жаба б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р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в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ч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я. Вернусь с рыбалки, чёлн на но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ч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ер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у – 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наутр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под  ним  та  же троица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7080" y="278136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Ухоронки – хранятся, хоронятся (прячут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73640" y="281160"/>
            <a:ext cx="60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пиши  текст по плану используя опорные сл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835280" y="1052640"/>
            <a:ext cx="5760720" cy="1223280"/>
            <a:chOff x="1835280" y="1052640"/>
            <a:chExt cx="5760720" cy="1223280"/>
          </a:xfrm>
        </p:grpSpPr>
        <p:pic>
          <p:nvPicPr>
            <p:cNvPr id="62" name="" descr=""/>
            <p:cNvPicPr/>
            <p:nvPr/>
          </p:nvPicPr>
          <p:blipFill>
            <a:blip r:embed="rId1">
              <a:lum contrast="18000"/>
            </a:blip>
            <a:srcRect l="8486" t="25196" r="26169" b="69184"/>
            <a:stretch/>
          </p:blipFill>
          <p:spPr>
            <a:xfrm>
              <a:off x="1835280" y="1459440"/>
              <a:ext cx="5760720" cy="81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"/>
            <a:srcRect l="20455" t="12545" r="14199" b="83957"/>
            <a:stretch/>
          </p:blipFill>
          <p:spPr>
            <a:xfrm>
              <a:off x="1835280" y="1052640"/>
              <a:ext cx="5760720" cy="50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539640" y="2852640"/>
            <a:ext cx="780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  всякого, как ум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2.  Под  моим  челном, повадились, красавица траурн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ягушка золотоглазая, жаба бородавчатая, вернусь, чёл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реверну,наутро, та же тро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3333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ук в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ч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й ск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лупе п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лся, в  х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р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х бел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ме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н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ых 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ж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н жук- навозни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гри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спр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лся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!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ы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в но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хо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и  к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ош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ся  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внутр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1557360"/>
            <a:ext cx="453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. Паук в яичной скорлупе посел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. Жук – навозник в гриб спрят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4160" y="1052640"/>
            <a:ext cx="60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пиши  текст по плану используя опорные сл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5440" y="306864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. Хоромы белока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. Прогрыз, копошился  вну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12:40:04Z</dcterms:created>
  <dc:creator>Марина</dc:creator>
  <dc:description/>
  <dc:language>en-US</dc:language>
  <cp:lastModifiedBy>Марина</cp:lastModifiedBy>
  <dcterms:modified xsi:type="dcterms:W3CDTF">2014-12-02T13:51:17Z</dcterms:modified>
  <cp:revision>3</cp:revision>
  <dc:subject/>
  <dc:title>Слайд 1</dc:title>
</cp:coreProperties>
</file>