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1E41-3FD3-4315-9EF3-61DB37BA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7800" y="1371600"/>
            <a:ext cx="850572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DC12-464E-41B7-856A-85E690E4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7800" y="1371600"/>
            <a:ext cx="850572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4BC7-2BEE-42B0-87D6-876B323B0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7800" y="1371600"/>
            <a:ext cx="850572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4D33-B3C3-4636-926A-BF68C40B4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0159-FC77-4D10-838C-A324F71F5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7800" y="1371600"/>
            <a:ext cx="850572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B9FE-9FCF-4751-B63E-429CF8D8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7800" y="1371600"/>
            <a:ext cx="850572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DDAF-DB6C-41FF-A2AE-E9BC56D6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7800" y="1371600"/>
            <a:ext cx="850572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336F-EC23-4D83-BC5F-F0E1EA3E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7800" y="1371600"/>
            <a:ext cx="850572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2B40-5963-4DEF-A503-DE06A6CC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77800" y="1371600"/>
            <a:ext cx="8505720" cy="84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DE0D-EFB4-465B-87D8-B4F1FA45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7800" y="1371600"/>
            <a:ext cx="850572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6730-CC21-433C-9EF2-EA859922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7800" y="1371600"/>
            <a:ext cx="850572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F64C-E639-4495-843B-92E7B0FD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7800" y="1371600"/>
            <a:ext cx="850572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164E-ED1E-4091-98FB-5853B88B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7800" y="1371600"/>
            <a:ext cx="850572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3125-2C6B-4AA9-B6D5-176DBB0C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7800" y="1371600"/>
            <a:ext cx="850572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26C0-63BB-4512-91B6-2252FCB3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7800" y="1371600"/>
            <a:ext cx="850572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5787-BD00-43DE-8D0E-74BFF191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7800" y="1371600"/>
            <a:ext cx="850572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3549-D73A-47E1-9D7A-4DFF22AFD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7800" y="1371600"/>
            <a:ext cx="850572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DAAD-A072-4622-B492-80310BA1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7800" y="1371600"/>
            <a:ext cx="850572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6DE4-1EF6-4013-A8E7-E21EBC4E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7800" y="1371600"/>
            <a:ext cx="850572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8117-12EA-4930-A156-7A504C98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77800" y="1371600"/>
            <a:ext cx="8505720" cy="84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E461-6A90-40A5-B06A-8B3A4070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7800" y="1371600"/>
            <a:ext cx="850572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A5F2-D898-42A6-9CB6-1F88E113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7800" y="1371600"/>
            <a:ext cx="850572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5996-0020-4386-A13E-FF88BFCB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7800" y="1371600"/>
            <a:ext cx="850572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DE42-BDE6-4C1C-9D0C-915E9999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10440" y="-7200"/>
            <a:ext cx="992628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746600" y="-7200"/>
            <a:ext cx="515916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30600" y="-34560"/>
            <a:ext cx="9962280" cy="1122480"/>
            <a:chOff x="-30600" y="-34560"/>
            <a:chExt cx="9962280" cy="112248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20520" y="201960"/>
              <a:ext cx="992628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5120" y="275760"/>
              <a:ext cx="993996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7800" y="1371600"/>
            <a:ext cx="850572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Образец заголовка</a:t>
            </a: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889360" y="6356520"/>
            <a:ext cx="363168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8585280" y="6356520"/>
            <a:ext cx="82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32DE70-D942-462C-A9F3-FFE418835B01}" type="slidenum"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10440" y="-7200"/>
            <a:ext cx="992628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746600" y="-7200"/>
            <a:ext cx="515916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30600" y="-34560"/>
            <a:ext cx="9962280" cy="1122480"/>
            <a:chOff x="-30600" y="-34560"/>
            <a:chExt cx="9962280" cy="112248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20520" y="201960"/>
              <a:ext cx="992628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5120" y="275760"/>
              <a:ext cx="993996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360" y="70416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95360" y="1935360"/>
            <a:ext cx="89150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95360" y="6356520"/>
            <a:ext cx="231120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89360" y="6356520"/>
            <a:ext cx="363168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8585280" y="6356520"/>
            <a:ext cx="82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7F379F-0BC7-4AF1-972C-08D31C35247B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7800" y="1371600"/>
            <a:ext cx="850572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Памятники церковной архитектуры.</a:t>
            </a: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77800" y="3228480"/>
            <a:ext cx="8508960" cy="28432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CricketHeavy"/>
              </a:rPr>
              <a:t>МОНАСТЫРИ ЛИПЕЦКОЙ ОБЛА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Учитель геогра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МБОУ СОШ №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33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г.Липец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инникова С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3" descr="normal_P1010456.JPG"/>
          <p:cNvPicPr/>
          <p:nvPr/>
        </p:nvPicPr>
        <p:blipFill>
          <a:blip r:embed="rId1"/>
          <a:stretch/>
        </p:blipFill>
        <p:spPr>
          <a:xfrm>
            <a:off x="809640" y="3929040"/>
            <a:ext cx="31665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360" y="70416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Свято-Тихоновский Преображенский женский монастырь. 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6" name="Содержимое 3" descr="1.jpg"/>
          <p:cNvPicPr/>
          <p:nvPr/>
        </p:nvPicPr>
        <p:blipFill>
          <a:blip r:embed="rId1"/>
          <a:stretch/>
        </p:blipFill>
        <p:spPr>
          <a:xfrm>
            <a:off x="452520" y="1855800"/>
            <a:ext cx="5996160" cy="4787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6667560" y="1928880"/>
            <a:ext cx="29286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снован в 1865 году. Строительство монастыря началось на месте Ск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360" y="70416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89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Задонский Рождество-Богородицкий мужской монастырь. Русский Иерусалим.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9" name="Содержимое 3" descr="lipezkaya_640x480_0082.jpg"/>
          <p:cNvPicPr/>
          <p:nvPr/>
        </p:nvPicPr>
        <p:blipFill>
          <a:blip r:embed="rId1"/>
          <a:stretch/>
        </p:blipFill>
        <p:spPr>
          <a:xfrm>
            <a:off x="237960" y="1785960"/>
            <a:ext cx="3854520" cy="28908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4" descr="загруженное (1).jpg"/>
          <p:cNvPicPr/>
          <p:nvPr/>
        </p:nvPicPr>
        <p:blipFill>
          <a:blip r:embed="rId2"/>
          <a:stretch/>
        </p:blipFill>
        <p:spPr>
          <a:xfrm>
            <a:off x="4381560" y="1785960"/>
            <a:ext cx="5245920" cy="36356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"/>
          <p:cNvSpPr/>
          <p:nvPr/>
        </p:nvSpPr>
        <p:spPr>
          <a:xfrm>
            <a:off x="380880" y="5500800"/>
            <a:ext cx="9215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снован в 17 столетии благочестивыми старцами Кириллом и Герасимом, прибывшими из Сретенского монастыря на берег реки Дон с Владимирской иконой Божией Матери. Первый храм был построен в 1630 г. и посвящён Пресвятой Богородиц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360" y="70416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Елецкий Знаменский женский монастырь.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3" name="Содержимое 3" descr="06487_20130414_152601.jpg"/>
          <p:cNvPicPr/>
          <p:nvPr/>
        </p:nvPicPr>
        <p:blipFill>
          <a:blip r:embed="rId1"/>
          <a:stretch/>
        </p:blipFill>
        <p:spPr>
          <a:xfrm>
            <a:off x="6095880" y="3929040"/>
            <a:ext cx="3714480" cy="27878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4"/>
          <p:cNvSpPr/>
          <p:nvPr/>
        </p:nvSpPr>
        <p:spPr>
          <a:xfrm>
            <a:off x="166680" y="2643120"/>
            <a:ext cx="371448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снован трудами Святителя Митрофана, епископа Воронежского, в 1863 году в городе Ельце на Каменной горе. В 1778 году была принята послушницица Мелания – блаженная затворница – великая подвижница, прожившая 58 лет в монасты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5" descr="ee-znamenskij-monastyr-1.jpg"/>
          <p:cNvPicPr/>
          <p:nvPr/>
        </p:nvPicPr>
        <p:blipFill>
          <a:blip r:embed="rId2"/>
          <a:stretch/>
        </p:blipFill>
        <p:spPr>
          <a:xfrm>
            <a:off x="4452840" y="2071800"/>
            <a:ext cx="334620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360" y="70416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Свято-Димитриевский Троекуровский Иларионовский женский монастырь.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7" name="Содержимое 3" descr="troekurovskii_640x765.jpg"/>
          <p:cNvPicPr/>
          <p:nvPr/>
        </p:nvPicPr>
        <p:blipFill>
          <a:blip r:embed="rId1"/>
          <a:stretch/>
        </p:blipFill>
        <p:spPr>
          <a:xfrm>
            <a:off x="6524640" y="1843920"/>
            <a:ext cx="2988720" cy="47635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452520" y="2143080"/>
            <a:ext cx="58575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1824 году в селе Троекурово недалеко от Лебедяни в келье близ Димитровского храма на территории имения И.И.Раевского поселился Иларион Троекуровский, названный впоследствии Троекуровским затворни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70416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Свято-Троицкий женский монастырь. Лебедянь.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0" name="Содержимое 3" descr="4_1274.jpg"/>
          <p:cNvPicPr/>
          <p:nvPr/>
        </p:nvPicPr>
        <p:blipFill>
          <a:blip r:embed="rId1"/>
          <a:stretch/>
        </p:blipFill>
        <p:spPr>
          <a:xfrm>
            <a:off x="4809960" y="2214720"/>
            <a:ext cx="4595040" cy="37818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380880" y="2286000"/>
            <a:ext cx="428580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ревнее народное предание повествует о строительстве храма в честь пророка Илии в дремучем лесу на «Яблоновой» поляне боярином Тяпкиным в 14 столетии во времена Князя московского Ивана Кал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040" y="704160"/>
            <a:ext cx="9715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89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Сезёновский Иоанно-Казанский женский монастырь. Село Сезёново Лебедянского района.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3" name="Содержимое 3" descr="04427_20090627_191018.jpg"/>
          <p:cNvPicPr/>
          <p:nvPr/>
        </p:nvPicPr>
        <p:blipFill>
          <a:blip r:embed="rId1"/>
          <a:stretch/>
        </p:blipFill>
        <p:spPr>
          <a:xfrm>
            <a:off x="5595840" y="4000680"/>
            <a:ext cx="4142880" cy="276336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4" descr="map60.jpg"/>
          <p:cNvPicPr/>
          <p:nvPr/>
        </p:nvPicPr>
        <p:blipFill>
          <a:blip r:embed="rId2"/>
          <a:stretch/>
        </p:blipFill>
        <p:spPr>
          <a:xfrm>
            <a:off x="452520" y="4019760"/>
            <a:ext cx="3714480" cy="270612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380880" y="2071800"/>
            <a:ext cx="93578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селе Сезёново на высоком правом берегу реки Сквирня, в 12 км от Лебедяни возник Сезёновский монастырь. История возникновения монастыря тесно связана с именем блаженного Иоанна, затворника Сезёновского (1791-1893 г.г.) и пророчеством о том, что рядом с его кельей будет построен монасты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360" y="70416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Свято-Успенский мужской монастырь. Липецк.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7" name="Содержимое 3" descr="00984_20080813_141642.jpg"/>
          <p:cNvPicPr/>
          <p:nvPr/>
        </p:nvPicPr>
        <p:blipFill>
          <a:blip r:embed="rId1"/>
          <a:stretch/>
        </p:blipFill>
        <p:spPr>
          <a:xfrm>
            <a:off x="452520" y="2000160"/>
            <a:ext cx="3582360" cy="48236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4238640" y="2357280"/>
            <a:ext cx="5428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аройская пустынь – так раньше назывался монастырь, сейчас единственный храм в честь Успения Божией Матери. Это самый древний храм города Липецка. История его началась в 17 столетии. Свято-Успенский монастырь – единственный из монастырей, существующий на территории современного Липец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7800" y="1371600"/>
            <a:ext cx="850572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Спасибо за внимание!</a:t>
            </a: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77800" y="3228480"/>
            <a:ext cx="850896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83</TotalTime>
  <Application>LibreOffice/7.4.7.2$Linux_X86_64 LibreOffice_project/40$Build-2</Application>
  <AppVersion>15.0000</AppVersion>
  <Words>304</Words>
  <Paragraphs>22</Paragraphs>
  <Company>Алгоритм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2T11:34:05Z</dcterms:created>
  <dc:creator>Алгоритм</dc:creator>
  <dc:description/>
  <dc:language>en-US</dc:language>
  <cp:lastModifiedBy>Алгоритм</cp:lastModifiedBy>
  <dcterms:modified xsi:type="dcterms:W3CDTF">2013-11-22T12:57:28Z</dcterms:modified>
  <cp:revision>12</cp:revision>
  <dc:subject/>
  <dc:title>Семь липецких чуде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Лист A4 (210x297 мм)</vt:lpwstr>
  </property>
  <property fmtid="{D5CDD505-2E9C-101B-9397-08002B2CF9AE}" pid="3" name="Slides">
    <vt:r8>9</vt:r8>
  </property>
</Properties>
</file>