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0C3A-776F-4CCD-A766-C2A4B4475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06BB-383D-4995-8519-74981D81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E7D9-A2C2-423E-BAE8-240050BEC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C66A-0E39-468E-95E4-6E881694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7912-D869-46E6-8DEC-D3F09EF2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EF74-5442-42A1-8131-00ED4922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5096-DBA1-4383-90A4-2E32A838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6F60-E586-4A1A-B504-B713DA16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DC55-52C6-485C-AD39-DA5D7CB3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77800" y="1371600"/>
            <a:ext cx="850572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8FA0-355F-4BD3-B3D1-16C8993F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6A14-158A-4574-B653-FB1516B0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E639-6E9E-48A6-81BF-65695C79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F181-F166-4D5D-B205-9787D337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8068-FABE-42E8-B4DE-CA2D1792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18F2-BF8D-49B6-AB03-5808F949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4BD2-1520-4026-8695-2ADA837A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27E5-F083-4AE8-9ADC-20F2FB50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B271-2307-4BAE-9D58-453DD864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BE9B-0B6F-4012-B74D-C5D221DD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E3EA-35B2-40A9-8AC9-A3E72F53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77800" y="1371600"/>
            <a:ext cx="850572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9D0B-6F12-47F8-9C36-CE733FEF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C9A5-280D-41F7-A55C-ED43176F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86B1-0D63-4011-B9E1-9091C478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F5CC-65D6-46DB-80A8-8F3C78F0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10440" y="-7200"/>
            <a:ext cx="992628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746600" y="-7200"/>
            <a:ext cx="515916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30600" y="-34560"/>
            <a:ext cx="9962280" cy="1122480"/>
            <a:chOff x="-30600" y="-34560"/>
            <a:chExt cx="9962280" cy="112248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20520" y="201960"/>
              <a:ext cx="992628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5120" y="275760"/>
              <a:ext cx="993996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889360" y="6356520"/>
            <a:ext cx="363168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8585280" y="6356520"/>
            <a:ext cx="82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1D55F7-FABE-4944-B28E-8FDFF0E584EC}" type="slidenum"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10440" y="-7200"/>
            <a:ext cx="992628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746600" y="-7200"/>
            <a:ext cx="515916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30600" y="-34560"/>
            <a:ext cx="9962280" cy="1122480"/>
            <a:chOff x="-30600" y="-34560"/>
            <a:chExt cx="9962280" cy="112248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20520" y="201960"/>
              <a:ext cx="992628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5120" y="275760"/>
              <a:ext cx="993996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70416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95360" y="1935360"/>
            <a:ext cx="89150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89360" y="6356520"/>
            <a:ext cx="363168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8585280" y="6356520"/>
            <a:ext cx="82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EFAD42-A3D8-42D2-8E13-A497B742B02C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Памятники церковной архитектуры.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77800" y="3228480"/>
            <a:ext cx="8508960" cy="28432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CricketHeavy"/>
              </a:rPr>
              <a:t>МОНАСТЫРИ ЛИПЕЦКОЙ ОБЛА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Учитель ге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МБОУ СОШ №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33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г.Липец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инникова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3" descr="normal_P1010456.JPG"/>
          <p:cNvPicPr/>
          <p:nvPr/>
        </p:nvPicPr>
        <p:blipFill>
          <a:blip r:embed="rId1"/>
          <a:stretch/>
        </p:blipFill>
        <p:spPr>
          <a:xfrm>
            <a:off x="809640" y="3929040"/>
            <a:ext cx="31665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360" y="70416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Свято-Тихоновский Преображенский женский монастырь. 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6" name="Содержимое 3" descr="1.jpg"/>
          <p:cNvPicPr/>
          <p:nvPr/>
        </p:nvPicPr>
        <p:blipFill>
          <a:blip r:embed="rId1"/>
          <a:stretch/>
        </p:blipFill>
        <p:spPr>
          <a:xfrm>
            <a:off x="452520" y="1855800"/>
            <a:ext cx="5996160" cy="4787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6667560" y="1928880"/>
            <a:ext cx="29286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снован в 1865 году. Строительство монастыря началось на месте Ск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360" y="70416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Задонский Рождество-Богородицкий мужской монастырь. Русский Иерусалим.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9" name="Содержимое 3" descr="lipezkaya_640x480_0082.jpg"/>
          <p:cNvPicPr/>
          <p:nvPr/>
        </p:nvPicPr>
        <p:blipFill>
          <a:blip r:embed="rId1"/>
          <a:stretch/>
        </p:blipFill>
        <p:spPr>
          <a:xfrm>
            <a:off x="237960" y="1785960"/>
            <a:ext cx="3854520" cy="28908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загруженное (1).jpg"/>
          <p:cNvPicPr/>
          <p:nvPr/>
        </p:nvPicPr>
        <p:blipFill>
          <a:blip r:embed="rId2"/>
          <a:stretch/>
        </p:blipFill>
        <p:spPr>
          <a:xfrm>
            <a:off x="4381560" y="1785960"/>
            <a:ext cx="5245920" cy="36356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/>
          <p:cNvSpPr/>
          <p:nvPr/>
        </p:nvSpPr>
        <p:spPr>
          <a:xfrm>
            <a:off x="380880" y="5500800"/>
            <a:ext cx="9215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снован в 17 столетии благочестивыми старцами Кириллом и Герасимом, прибывшими из Сретенского монастыря на берег реки Дон с Владимирской иконой Божией Матери. Первый храм был построен в 1630 г. и посвящён Пресвятой Богороди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360" y="70416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Елецкий Знаменский женский монастырь.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3" name="Содержимое 3" descr="06487_20130414_152601.jpg"/>
          <p:cNvPicPr/>
          <p:nvPr/>
        </p:nvPicPr>
        <p:blipFill>
          <a:blip r:embed="rId1"/>
          <a:stretch/>
        </p:blipFill>
        <p:spPr>
          <a:xfrm>
            <a:off x="6095880" y="3929040"/>
            <a:ext cx="3714480" cy="27878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166680" y="2643120"/>
            <a:ext cx="371448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снован трудами Святителя Митрофана, епископа Воронежского, в 1863 году в городе Ельце на Каменной горе. В 1778 году была принята послушницица Мелания – блаженная затворница – великая подвижница, прожившая 58 лет в монасты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5" descr="ee-znamenskij-monastyr-1.jpg"/>
          <p:cNvPicPr/>
          <p:nvPr/>
        </p:nvPicPr>
        <p:blipFill>
          <a:blip r:embed="rId2"/>
          <a:stretch/>
        </p:blipFill>
        <p:spPr>
          <a:xfrm>
            <a:off x="4452840" y="2071800"/>
            <a:ext cx="334620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360" y="70416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Свято-Димитриевский Троекуровский Иларионовский женский монастырь.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7" name="Содержимое 3" descr="troekurovskii_640x765.jpg"/>
          <p:cNvPicPr/>
          <p:nvPr/>
        </p:nvPicPr>
        <p:blipFill>
          <a:blip r:embed="rId1"/>
          <a:stretch/>
        </p:blipFill>
        <p:spPr>
          <a:xfrm>
            <a:off x="6524640" y="1843920"/>
            <a:ext cx="2988720" cy="47635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452520" y="2143080"/>
            <a:ext cx="58575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1824 году в селе Троекурово недалеко от Лебедяни в келье близ Димитровского храма на территории имения И.И.Раевского поселился Иларион Троекуровский, названный впоследствии Троекуровским затворни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70416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Свято-Троицкий женский монастырь. Лебедянь.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0" name="Содержимое 3" descr="4_1274.jpg"/>
          <p:cNvPicPr/>
          <p:nvPr/>
        </p:nvPicPr>
        <p:blipFill>
          <a:blip r:embed="rId1"/>
          <a:stretch/>
        </p:blipFill>
        <p:spPr>
          <a:xfrm>
            <a:off x="4809960" y="2214720"/>
            <a:ext cx="4595040" cy="37818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380880" y="2286000"/>
            <a:ext cx="428580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ревнее народное предание повествует о строительстве храма в честь пророка Илии в дремучем лесу на «Яблоновой» поляне боярином Тяпкиным в 14 столетии во времена Князя московского Ивана Кал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040" y="704160"/>
            <a:ext cx="9715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Сезёновский Иоанно-Казанский женский монастырь. Село Сезёново Лебедянского района.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3" name="Содержимое 3" descr="04427_20090627_191018.jpg"/>
          <p:cNvPicPr/>
          <p:nvPr/>
        </p:nvPicPr>
        <p:blipFill>
          <a:blip r:embed="rId1"/>
          <a:stretch/>
        </p:blipFill>
        <p:spPr>
          <a:xfrm>
            <a:off x="5595840" y="4000680"/>
            <a:ext cx="4142880" cy="276336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4" descr="map60.jpg"/>
          <p:cNvPicPr/>
          <p:nvPr/>
        </p:nvPicPr>
        <p:blipFill>
          <a:blip r:embed="rId2"/>
          <a:stretch/>
        </p:blipFill>
        <p:spPr>
          <a:xfrm>
            <a:off x="452520" y="4019760"/>
            <a:ext cx="3714480" cy="270612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380880" y="2071800"/>
            <a:ext cx="93578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селе Сезёново на высоком правом берегу реки Сквирня, в 12 км от Лебедяни возник Сезёновский монастырь. История возникновения монастыря тесно связана с именем блаженного Иоанна, затворника Сезёновского (1791-1893 г.г.) и пророчеством о том, что рядом с его кельей будет построен монасты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360" y="70416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Свято-Успенский мужской монастырь. Липецк.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7" name="Содержимое 3" descr="00984_20080813_141642.jpg"/>
          <p:cNvPicPr/>
          <p:nvPr/>
        </p:nvPicPr>
        <p:blipFill>
          <a:blip r:embed="rId1"/>
          <a:stretch/>
        </p:blipFill>
        <p:spPr>
          <a:xfrm>
            <a:off x="452520" y="2000160"/>
            <a:ext cx="3582360" cy="48236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4238640" y="2357280"/>
            <a:ext cx="5428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аройская пустынь – так раньше назывался монастырь, сейчас единственный храм в честь Успения Божией Матери. Это самый древний храм города Липецка. История его началась в 17 столетии. Свято-Успенский монастырь – единственный из монастырей, существующий на территории современного Липец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7800" y="1371600"/>
            <a:ext cx="850572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Спасибо за внимание!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77800" y="3228480"/>
            <a:ext cx="850896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83</TotalTime>
  <Application>LibreOffice/7.4.7.2$Linux_X86_64 LibreOffice_project/40$Build-2</Application>
  <AppVersion>15.0000</AppVersion>
  <Words>304</Words>
  <Paragraphs>22</Paragraphs>
  <Company>Алгоритм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2T11:34:05Z</dcterms:created>
  <dc:creator>Алгоритм</dc:creator>
  <dc:description/>
  <dc:language>en-US</dc:language>
  <cp:lastModifiedBy>Алгоритм</cp:lastModifiedBy>
  <dcterms:modified xsi:type="dcterms:W3CDTF">2013-11-22T12:57:28Z</dcterms:modified>
  <cp:revision>12</cp:revision>
  <dc:subject/>
  <dc:title>Семь липецких чуде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Лист A4 (210x297 мм)</vt:lpwstr>
  </property>
  <property fmtid="{D5CDD505-2E9C-101B-9397-08002B2CF9AE}" pid="3" name="Slides">
    <vt:r8>9</vt:r8>
  </property>
</Properties>
</file>