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B73-F197-49CA-A0EC-0B816B78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FB6-CDCA-4C7E-BA8D-FA2688D6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4A4-E242-436E-8FF3-79BF8743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CD3-835E-452B-B3BF-A416C6A7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1BF9-C0C3-4BF9-A92C-9022317D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F528-895C-41D7-80D6-37BD4D7D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7B0-78D1-4627-BFB7-1808F898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5084-021F-4E90-A0EF-76716FA3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11E8-FCCC-4967-B5C7-C09FD645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D722-73CE-4684-A851-2478DB8C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2C41-1CA5-4D15-9C87-032AA0E5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EE4-543A-4DBD-A861-E7316F7A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A199-3E34-4025-B3EA-18FFC64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C57C-C6D0-4859-AFE0-8553E5E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2D93-1331-4563-B31E-A972D3AF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6D0-18D0-449F-B7AC-252CF5CB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1E2-60C6-4277-982E-8B0C86DE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615-64F9-4582-BAD5-8360C1FA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3D1-87B9-4F5C-8C1B-1660EEBE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8F2-3082-49BF-A13F-09899DF8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B27-BBF2-4A6D-9387-54D827EA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217-9537-4B48-9057-F947087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CE8-4A74-413B-9A4C-576830B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C51-2AA4-4C46-8E7C-CDFFC2E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FA1-25AF-4061-B3E3-35E371B6A00C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A12-9875-456F-9A15-8B597B1882A2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332000" y="688680"/>
            <a:ext cx="7056360" cy="60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тупление на МО классных руководител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Учитель и родители: система  взаимоотношен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о-педагогические правила и способы установления контактов с семьей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ла: Е. А. Пузан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ассный руковод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187280" y="404640"/>
            <a:ext cx="464364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евое государственное казенное специальное (коррекционно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ое учреждение, специальная (коррекционная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образовательная школа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ида №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268360" y="6093000"/>
            <a:ext cx="4572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Calibri"/>
              </a:rPr>
              <a:t>г.Комсомольск – на – Аму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Calibri"/>
              </a:rPr>
              <a:t>2015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24000" y="333360"/>
            <a:ext cx="597672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ричины нежелания встречаться учителей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и родителе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3132000" y="5661000"/>
            <a:ext cx="5616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нутренняя враждебность и агрессивность участ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572000" y="1844640"/>
            <a:ext cx="4176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ложность первого контакт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0" y="2133720"/>
            <a:ext cx="36003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стороженность, скованность при следующих встреч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851280" y="2997360"/>
            <a:ext cx="3529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зобщённость между учителем и род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435640" y="4084560"/>
            <a:ext cx="32400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зличная  информированность  о ребён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971640" y="4670280"/>
            <a:ext cx="27352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мбициозност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авторитар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042920" y="404640"/>
            <a:ext cx="7201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бщение не конструктивно, когда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975040" y="5373720"/>
            <a:ext cx="185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рав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793800" y="1341360"/>
            <a:ext cx="2305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ечи слышатся приказ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987640" y="2619360"/>
            <a:ext cx="2089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именяются угроз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924360" y="1413000"/>
            <a:ext cx="19429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поведи, нравоуч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000760" y="3357720"/>
            <a:ext cx="3276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спользуется оценочная фор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1227240" y="4005360"/>
            <a:ext cx="30574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ритика  в свой адрес или адрес ребе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971640" y="260280"/>
            <a:ext cx="62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бщение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конструктивно,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г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4284720" y="4653000"/>
            <a:ext cx="460836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читель не допускает оскорбления родительских чувств необоснованной оценкой способностей, успеваемости и поведения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643280" y="836640"/>
            <a:ext cx="39373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читель вникает в проблемы родителей, проявляет эмпатию по отношению к их дет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0" y="1628640"/>
            <a:ext cx="41036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читывает реальные проблемы, которые имеют место в семье и проявляются в шк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4500720" y="2852640"/>
            <a:ext cx="39607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 "оценивает" родителя, не общается директивным тоном, не прерывает в бесе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324000" y="4076640"/>
            <a:ext cx="3816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читель и родитель не обвиняют друг друга, а находят разные выходы из сложившейся ситу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476360" y="260280"/>
            <a:ext cx="69832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ля конструктивного взаимодействия существуют различные формы раб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87280" y="1341360"/>
            <a:ext cx="41767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ндивидуальные консульт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332000" y="1989000"/>
            <a:ext cx="38894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сихологические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ренинг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258920" y="3284640"/>
            <a:ext cx="429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ходы, чаепи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32000" y="2565360"/>
            <a:ext cx="2448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еловые иг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2700360" y="5589720"/>
            <a:ext cx="1774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еб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1763640" y="4724280"/>
            <a:ext cx="2629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руглые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то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1476360" y="4005360"/>
            <a:ext cx="194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иску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692360" y="189000"/>
            <a:ext cx="7451640" cy="11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90571"/>
                </a:solidFill>
                <a:latin typeface="Monotype Corsiva"/>
              </a:rPr>
              <a:t>       </a:t>
            </a: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Говорят, что у каждого родителя – своя правда…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     Но ведь это неправда!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  Просто каждый родитель хочет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        чтобы его ребенок был счастлив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А мы по роду профессии к этому причастн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      </a:t>
            </a: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А правда у нас – общая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      и правда наша – хорошая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Она в том, чтобы смеялись, росли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И развивались дети,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И чтобы были за них спокойны</a:t>
            </a: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Все родители на свет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290571"/>
                </a:solidFill>
                <a:latin typeface="Monotype Corsiva"/>
              </a:rPr>
              <a:t>Это очень просто. Это очень здорово!</a:t>
            </a:r>
            <a:br>
              <a:rPr sz="3600"/>
            </a:br>
            <a:r>
              <a:rPr b="1" i="1" lang="ru-RU" sz="3600" spc="-1" strike="noStrike">
                <a:solidFill>
                  <a:srgbClr val="290571"/>
                </a:solidFill>
                <a:latin typeface="Monotype Corsiva"/>
              </a:rPr>
              <a:t>Нужно только смотреть нам</a:t>
            </a:r>
            <a:br>
              <a:rPr sz="3600"/>
            </a:br>
            <a:r>
              <a:rPr b="1" i="1" lang="ru-RU" sz="3600" spc="-1" strike="noStrike">
                <a:solidFill>
                  <a:srgbClr val="290571"/>
                </a:solidFill>
                <a:latin typeface="Monotype Corsiva"/>
              </a:rPr>
              <a:t>Не столько друг на друга,</a:t>
            </a:r>
            <a:br>
              <a:rPr sz="3600"/>
            </a:br>
            <a:r>
              <a:rPr b="1" i="1" lang="ru-RU" sz="3600" spc="-1" strike="noStrike">
                <a:solidFill>
                  <a:srgbClr val="290571"/>
                </a:solidFill>
                <a:latin typeface="Monotype Corsiva"/>
              </a:rPr>
              <a:t>Сколько в одну сторону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1403280" y="-846000"/>
            <a:ext cx="7489800" cy="76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олдырев Н. И. Методика работы классного руководителя: Учеб. пособие по спецкурсу для студентов пед. ин-тов. – М.: Просвещение, 1984. – 258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ликова Т.В. Учитель и семья. – М.: Просвещение, 1980. – 111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азман О.С. Содержание деятельности и опыт работы классного руководителя. – М.: Научно-методическое объединение «Творческая педагогика», 1992. – 114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ик Н.Ф., Горожанкина З.Н. Методы семейного воспитания. Методические рекомендации. Ростов, 1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5. Сергеева В.П. Классный руководитель в современной школе. М.: ЦГЛ, 20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403280" y="765000"/>
            <a:ext cx="7129440" cy="80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         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емья и школа – это берег и мор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На берегу ребенок   делает свои первые шаги, получает первые уроки жизн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 потом перед ним открывается необозримое море знаний, и курс в этом море прокладывает школа. Это не значит, что он должен совсем оторваться от берега. .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Л. А. Касси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1332000" y="549360"/>
            <a:ext cx="727236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емья – та естественная среда жизни и развития ребенка, в которой закладываются основы лич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6"/>
          <p:cNvSpPr/>
          <p:nvPr/>
        </p:nvSpPr>
        <p:spPr>
          <a:xfrm>
            <a:off x="1403280" y="333360"/>
            <a:ext cx="6624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мья , выполняя следующие важнейшие фун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11280" y="1002600"/>
            <a:ext cx="8064360" cy="63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ание физического и эмоционального развит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 развитие психологического пола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 умственное развити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ребенка с социальными нормам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ценностных ориентаци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1904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поддерж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2340000" y="907920"/>
            <a:ext cx="6335640" cy="75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отрудничество между взрослыми и детьми – это совместная деятельность педагогов, родителей, детей, это единый  коллектив, большая семья, которая сплачивается и интересно жив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050920" y="620280"/>
            <a:ext cx="6780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едагоги и родители вместе пытаются найти наиболее эффективные способы решения различных  пробле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1547640" y="765000"/>
            <a:ext cx="7272360" cy="83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0571"/>
                </a:solidFill>
                <a:latin typeface="Monotype Corsiva"/>
              </a:rPr>
              <a:t>«Учителя хотят, чтобы нормы, регулирующие их отношения с родителями, охватили и заботу о детях, и поддержали их учебную программу. В тоже время большинство учителей не хотят, чтобы родители вмешивались в их классную работу. Вообще, учителя склонны сохранять расстояние между собой и родителям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0571"/>
                </a:solidFill>
                <a:latin typeface="Monotype Corsiva"/>
              </a:rPr>
              <a:t>(американский педагог Ричард Аренд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258920" y="62640"/>
            <a:ext cx="7634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62626"/>
                </a:solidFill>
                <a:latin typeface="Tahoma"/>
                <a:ea typeface="Times New Roman"/>
              </a:rPr>
              <a:t> </a:t>
            </a:r>
            <a:r>
              <a:rPr b="1" i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заимоотношения с родителями укрепляются,  ког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258920" y="-1018080"/>
            <a:ext cx="7634160" cy="9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родителям старается дать то, что требуется и от них (выслушивает их проблемы, высказывает понимание и доброжелательность по отношению к их детям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не забывает, что родители должны смотреть на школу глазами детьми (сначала устанавливает контакт с детьми, а затем с их родителям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стремится раскрыть способности родителей в отдельных областях воспитания де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помнит, что нельзя родителям указывать, а тем более ругать их де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надеется на победу добра в душе ребе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делится накопленным педагогическим опы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6"/>
          <p:cNvSpPr/>
          <p:nvPr/>
        </p:nvSpPr>
        <p:spPr>
          <a:xfrm>
            <a:off x="6084720" y="3432240"/>
            <a:ext cx="24480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тноше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д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547640" y="549360"/>
            <a:ext cx="6337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странства ребенка, на которые может влиять взаимодействие учителя и родител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Стрелка вниз 8"/>
          <p:cNvSpPr/>
          <p:nvPr/>
        </p:nvSpPr>
        <p:spPr>
          <a:xfrm rot="2775600">
            <a:off x="2022120" y="1995480"/>
            <a:ext cx="252360" cy="166860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Стрелка вниз 9"/>
          <p:cNvSpPr/>
          <p:nvPr/>
        </p:nvSpPr>
        <p:spPr>
          <a:xfrm>
            <a:off x="4149720" y="2203560"/>
            <a:ext cx="250920" cy="125388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Стрелка вниз 10"/>
          <p:cNvSpPr/>
          <p:nvPr/>
        </p:nvSpPr>
        <p:spPr>
          <a:xfrm rot="19018200">
            <a:off x="6404040" y="1918800"/>
            <a:ext cx="250920" cy="16671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987640" y="3433680"/>
            <a:ext cx="3024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бразовательное  пространство (учебная и внеучебная деятельность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95280" y="3443400"/>
            <a:ext cx="2089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тнош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учите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4:15:11Z</dcterms:created>
  <dc:creator>каб.-215</dc:creator>
  <dc:description/>
  <dc:language>en-US</dc:language>
  <cp:lastModifiedBy>.</cp:lastModifiedBy>
  <dcterms:modified xsi:type="dcterms:W3CDTF">2015-01-28T11:12:16Z</dcterms:modified>
  <cp:revision>153</cp:revision>
  <dc:subject/>
  <dc:title>Слайд 1</dc:title>
</cp:coreProperties>
</file>