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498E-7DDC-46AC-BE34-583AFD01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838-209A-477E-B49C-C7E2FEAF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52E-3759-4C3F-AC66-C91A9F81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E72-E9A4-4AA2-8275-C906EA45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D2ED-1ACA-4D9C-B2BC-118C37DD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9229-F0FB-4360-8E29-CC9F47D9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7C22-61C9-4B37-BCB6-644E6F37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76DB-580F-49F9-A72C-5A61E3DD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15BB-B38B-405E-BEFD-617939D1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63BD-CF00-403B-A233-C6EC3A1E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73EB-3E80-4DEC-8478-2C26D10F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B55-BE9A-452F-9DAE-9BAB5555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47B3-4245-4C6E-8DC0-2F005613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7C99-7430-40AF-8E23-147619CE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58D5-F33B-4CE9-8B3B-2D7E1004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4EF3-E1B7-487A-852B-A44B01CF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5F8F-C77D-496A-BF2C-FD036CE4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F8F-2811-4C47-BAF6-BE2242D9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508-63C3-44F3-8B4B-D67416FC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B9C-D5F3-4476-B073-FCA731FC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809-4D55-4E5F-A306-6B3B5677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5D1-F17A-4174-B849-90781B80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8A0-F534-43DA-8317-AB93C28B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141-7D8C-4FA0-9DE8-2A21BB57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7DC0-A148-4545-B4CD-7FEF2F1C2022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7B15-1556-413E-A781-5536ED4DE5C1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332000" y="688680"/>
            <a:ext cx="7056360" cy="60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тупление на МО классных руководител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Учитель и родители: система  взаимоотношен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о-педагогические правила и способы установления контактов с семьей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ила: Е. А. Пузан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лассный руковод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1187280" y="404640"/>
            <a:ext cx="464364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евое государственное казенное специальное (коррекционно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ое учреждение, специальная (коррекционная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образовательная школа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V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ида №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2268360" y="6093000"/>
            <a:ext cx="4572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Calibri"/>
              </a:rPr>
              <a:t>г.Комсомольск – на – Аму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Calibri"/>
              </a:rPr>
              <a:t>2015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324000" y="333360"/>
            <a:ext cx="5976720" cy="29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Причины нежелания встречаться учителей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и родителе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3132000" y="5661000"/>
            <a:ext cx="5616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нутренняя враждебность и агрессивность участн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4572000" y="1844640"/>
            <a:ext cx="4176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ложность первого контакт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0" y="2133720"/>
            <a:ext cx="360036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астороженность, скованность при следующих встреч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851280" y="2997360"/>
            <a:ext cx="35290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азобщённость между учителем и родител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5435640" y="4084560"/>
            <a:ext cx="324000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азличная  информированность  о ребён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971640" y="4670280"/>
            <a:ext cx="27352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мбициозност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 авторитар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1042920" y="404640"/>
            <a:ext cx="7201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бщение не конструктивно, когда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2975040" y="5373720"/>
            <a:ext cx="1854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равн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793800" y="1341360"/>
            <a:ext cx="23050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ечи слышатся приказ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987640" y="2619360"/>
            <a:ext cx="2089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именяются угроз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924360" y="1413000"/>
            <a:ext cx="194292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оповеди, нравоуч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000760" y="3357720"/>
            <a:ext cx="32763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спользуется оценочная фор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1227240" y="4005360"/>
            <a:ext cx="30574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ритика  в свой адрес или адрес ребе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8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971640" y="260280"/>
            <a:ext cx="6264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бщение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конструктивно,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огд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4284720" y="4653000"/>
            <a:ext cx="460836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читель не допускает оскорбления родительских чувств необоснованной оценкой способностей, успеваемости и поведения де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4643280" y="836640"/>
            <a:ext cx="39373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читель вникает в проблемы родителей, проявляет эмпатию по отношению к их детя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0" y="1628640"/>
            <a:ext cx="41036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читывает реальные проблемы, которые имеют место в семье и проявляются в школ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4500720" y="2852640"/>
            <a:ext cx="39607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е "оценивает" родителя, не общается директивным тоном, не прерывает в бесе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324000" y="4076640"/>
            <a:ext cx="3816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читель и родитель не обвиняют друг друга, а находят разные выходы из сложившейся ситу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476360" y="260280"/>
            <a:ext cx="69832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ля конструктивного взаимодействия существуют различные формы рабо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87280" y="1341360"/>
            <a:ext cx="4176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ндивидуальные консульт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332000" y="1989000"/>
            <a:ext cx="388944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сихологические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тренинг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258920" y="3284640"/>
            <a:ext cx="429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ходы, чаепи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332000" y="2565360"/>
            <a:ext cx="2448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деловые иг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2700360" y="5589720"/>
            <a:ext cx="1774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деба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1763640" y="4724280"/>
            <a:ext cx="2629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руглые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тол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1476360" y="4005360"/>
            <a:ext cx="1949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дискусс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1692360" y="189000"/>
            <a:ext cx="7451640" cy="11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90571"/>
                </a:solidFill>
                <a:latin typeface="Monotype Corsiva"/>
              </a:rPr>
              <a:t>       </a:t>
            </a: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Говорят, что у каждого родителя – своя правда…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                 Но ведь это неправда!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              Просто каждый родитель хочет,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                    чтобы его ребенок был счастлив,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            А мы по роду профессии к этому причастны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            </a:t>
            </a: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А правда у нас – общая,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      и правда наша – хорошая,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Она в том, чтобы смеялись, росли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И развивались дети,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И чтобы были за них спокойны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Все родители на свет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Это очень просто. Это очень здорово!</a:t>
            </a:r>
            <a:br>
              <a:rPr sz="3600"/>
            </a:br>
            <a:r>
              <a:rPr b="1" i="1" lang="ru-RU" sz="3600" spc="-1" strike="noStrike">
                <a:solidFill>
                  <a:srgbClr val="290571"/>
                </a:solidFill>
                <a:latin typeface="Monotype Corsiva"/>
              </a:rPr>
              <a:t>Нужно только смотреть нам</a:t>
            </a:r>
            <a:br>
              <a:rPr sz="3600"/>
            </a:br>
            <a:r>
              <a:rPr b="1" i="1" lang="ru-RU" sz="3600" spc="-1" strike="noStrike">
                <a:solidFill>
                  <a:srgbClr val="290571"/>
                </a:solidFill>
                <a:latin typeface="Monotype Corsiva"/>
              </a:rPr>
              <a:t>Не столько друг на друга,</a:t>
            </a:r>
            <a:br>
              <a:rPr sz="3600"/>
            </a:br>
            <a:r>
              <a:rPr b="1" i="1" lang="ru-RU" sz="3600" spc="-1" strike="noStrike">
                <a:solidFill>
                  <a:srgbClr val="290571"/>
                </a:solidFill>
                <a:latin typeface="Monotype Corsiva"/>
              </a:rPr>
              <a:t>Сколько в одну сторону!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1403280" y="-846000"/>
            <a:ext cx="7489800" cy="76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Болдырев Н. И. Методика работы классного руководителя: Учеб. пособие по спецкурсу для студентов пед. ин-тов. – М.: Просвещение, 1984. – 258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ликова Т.В. Учитель и семья. – М.: Просвещение, 1980. – 111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азман О.С. Содержание деятельности и опыт работы классного руководителя. – М.: Научно-методическое объединение «Творческая педагогика», 1992. – 114 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ик Н.Ф., Горожанкина З.Н. Методы семейного воспитания. Методические рекомендации. Ростов, 19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5. Сергеева В.П. Классный руководитель в современной школе. М.: ЦГЛ, 200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403280" y="765000"/>
            <a:ext cx="7129440" cy="80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         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емья и школа – это берег и мор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На берегу ребенок   делает свои первые шаги, получает первые уроки жизни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 потом перед ним открывается необозримое море знаний, и курс в этом море прокладывает школа. Это не значит, что он должен совсем оторваться от берега. .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Л. А. Касси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5"/>
          <p:cNvSpPr/>
          <p:nvPr/>
        </p:nvSpPr>
        <p:spPr>
          <a:xfrm>
            <a:off x="1332000" y="549360"/>
            <a:ext cx="727236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емья – та естественная среда жизни и развития ребенка, в которой закладываются основы лич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6"/>
          <p:cNvSpPr/>
          <p:nvPr/>
        </p:nvSpPr>
        <p:spPr>
          <a:xfrm>
            <a:off x="1403280" y="333360"/>
            <a:ext cx="6624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емья , выполняя следующие важнейшие функ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11280" y="1002600"/>
            <a:ext cx="8064360" cy="63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4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ование физического и эмоционального развития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1904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 развитие психологического пола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1904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 умственное развитие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1904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ребенка с социальными нормами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1904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ценностных ориентаци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1904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поддерж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6"/>
          <p:cNvSpPr/>
          <p:nvPr/>
        </p:nvSpPr>
        <p:spPr>
          <a:xfrm>
            <a:off x="2340000" y="907920"/>
            <a:ext cx="6335640" cy="75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отрудничество между взрослыми и детьми – это совместная деятельность педагогов, родителей, детей, это единый  коллектив, большая семья, которая сплачивается и интересно живе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050920" y="620280"/>
            <a:ext cx="67802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едагоги и родители вместе пытаются найти наиболее эффективные способы решения различных  пробле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3"/>
          <p:cNvSpPr/>
          <p:nvPr/>
        </p:nvSpPr>
        <p:spPr>
          <a:xfrm>
            <a:off x="1547640" y="765000"/>
            <a:ext cx="7272360" cy="83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90571"/>
                </a:solidFill>
                <a:latin typeface="Monotype Corsiva"/>
              </a:rPr>
              <a:t>«Учителя хотят, чтобы нормы, регулирующие их отношения с родителями, охватили и заботу о детях, и поддержали их учебную программу. В тоже время большинство учителей не хотят, чтобы родители вмешивались в их классную работу. Вообще, учителя склонны сохранять расстояние между собой и родителям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0571"/>
                </a:solidFill>
                <a:latin typeface="Monotype Corsiva"/>
              </a:rPr>
              <a:t>(американский педагог Ричард Аренд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1258920" y="62640"/>
            <a:ext cx="7634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62626"/>
                </a:solidFill>
                <a:latin typeface="Tahoma"/>
                <a:ea typeface="Times New Roman"/>
              </a:rPr>
              <a:t> </a:t>
            </a:r>
            <a:r>
              <a:rPr b="1" i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заимоотношения с родителями укрепляются,  когд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258920" y="-1018080"/>
            <a:ext cx="7634160" cy="9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итель родителям старается дать то, что требуется и от них (выслушивает их проблемы, высказывает понимание и доброжелательность по отношению к их детям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итель не забывает, что родители должны смотреть на школу глазами детьми (сначала устанавливает контакт с детьми, а затем с их родителям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итель стремится раскрыть способности родителей в отдельных областях воспитания дет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итель помнит, что нельзя родителям указывать, а тем более ругать их дет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итель надеется на победу добра в душе ребен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итель делится накопленным педагогическим опыто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6"/>
          <p:cNvSpPr/>
          <p:nvPr/>
        </p:nvSpPr>
        <p:spPr>
          <a:xfrm>
            <a:off x="6084720" y="3432240"/>
            <a:ext cx="244800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тношени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дител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1547640" y="549360"/>
            <a:ext cx="63374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остранства ребенка, на которые может влиять взаимодействие учителя и родител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Стрелка вниз 8"/>
          <p:cNvSpPr/>
          <p:nvPr/>
        </p:nvSpPr>
        <p:spPr>
          <a:xfrm rot="2775600">
            <a:off x="2022120" y="1995480"/>
            <a:ext cx="252360" cy="166860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Стрелка вниз 9"/>
          <p:cNvSpPr/>
          <p:nvPr/>
        </p:nvSpPr>
        <p:spPr>
          <a:xfrm>
            <a:off x="4149720" y="2203560"/>
            <a:ext cx="250920" cy="125388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Стрелка вниз 10"/>
          <p:cNvSpPr/>
          <p:nvPr/>
        </p:nvSpPr>
        <p:spPr>
          <a:xfrm rot="19018200">
            <a:off x="6404040" y="1918800"/>
            <a:ext cx="250920" cy="166716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2987640" y="3433680"/>
            <a:ext cx="3024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бразовательное  пространство (учебная и внеучебная деятельность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395280" y="3443400"/>
            <a:ext cx="20890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тнош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учител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4:15:11Z</dcterms:created>
  <dc:creator>каб.-215</dc:creator>
  <dc:description/>
  <dc:language>en-US</dc:language>
  <cp:lastModifiedBy>.</cp:lastModifiedBy>
  <dcterms:modified xsi:type="dcterms:W3CDTF">2015-01-28T11:12:16Z</dcterms:modified>
  <cp:revision>153</cp:revision>
  <dc:subject/>
  <dc:title>Слайд 1</dc:title>
</cp:coreProperties>
</file>