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5BBE-DBD5-464F-AB69-A6DA3826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B948-3861-4D71-885F-213E1F51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52AB-59AB-403B-99D8-130D2DD56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C91F-AC37-4278-BDF0-CB3B20375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F99E-6D55-430E-B8F2-346D7558E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DB93-C865-4D9A-A149-971DD41E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850B-C16A-40F6-8FFC-4FD7405C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8534-B66C-4D8C-9C59-DBAD1DC3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C98F-8CFE-44E6-AF2E-ADC5D108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DBF0-D203-4E42-85B2-8790E537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D490-0ECD-41F0-859D-2B75058A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4416-4C25-4AF7-9B66-307A6B75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AD18-EDBD-4759-97E0-81F7DD1B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57B7-BD5D-477B-A852-8C5D502A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D6EB-919F-4307-8E2A-3945026A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FB9E-BACE-41D2-BA24-C8267B6C9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CEA1-088B-4396-B2FC-F17D8868D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6B6BE-32B6-4076-8855-42F862821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6C741-FDB8-46E2-B5D8-EACF27F5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2D90F-E8A0-486C-9354-28032652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5A21A-ECB5-4819-8239-1F55B3F8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FD14E-DA80-4D8E-BD28-59F66E03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CA64-6545-4F59-846E-CE738937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1CB22-489E-4445-8240-824A045C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62946-C436-45EB-8F32-DE45CDCC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E4AF5-008E-4A6D-9DA1-55183ADC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9C21D-3206-4773-B70F-91ABC7E5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7FDC7-95FE-4FFA-89AC-BFC77410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75DFB-736C-4FE5-985C-388FE0E8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7B7AF-3BC7-4531-8460-157F98D6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7533A-4D0A-4776-9346-7618C374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EC499-15E4-4572-81DA-CEF09D0E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0C5FC-BBA0-480B-AE24-15AD5062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7474-6427-4B34-90AD-9BB69643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7E7BC-33C3-48FE-8F9F-9FF56D9B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AF936-AFE0-4085-B6E1-AA6CBCDC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F62B4-5556-417B-8E5D-E5F69F5F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DE0E8-43A1-4D95-AFC5-A64AA7A9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1E1C1-3706-4808-9869-D99D6742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77489-DD09-4798-8D45-C7BAF3A3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4CCBC-9D13-4C5F-806B-4E270C00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3D810-2D32-44BB-A51C-A8A96E617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0B3D8-CF6C-4134-BDA1-76682E34D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56CD5-7A2A-407D-A9C0-2705240A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DF17-E714-4923-A719-58A7616E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8067A-0C1E-4B4F-BC9F-63A62788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312D1-DD16-4227-BB28-66251F5B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E736F-E35D-4397-83C5-E70D2245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175C9-D66A-4282-975B-2C39BE56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CBEE8-93B6-4F9B-9437-BFAFDDD4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CA449-7058-42C0-AE20-96CC0A4B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BEE4A-4976-4D42-B65D-8113101B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431FF-CBD7-4C28-80BB-525AABC7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164A3-E530-4549-B057-4B101C0A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FBAE5-9F60-416B-BB14-61EA4CC99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1454-9200-4B63-B75E-073BF83A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302E0-0C3D-4613-B6BF-387A7166F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C41F-D539-4DA1-A897-C60FAA0E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75A2-24BA-4ACC-B89A-5B51FB15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EA41-0F4D-41C4-BDD7-7D0696A5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176040"/>
            <a:ext cx="9142560" cy="164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1120" y="6423120"/>
            <a:ext cx="2595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91120" y="642312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26416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4387-73F8-4BB3-B159-AF61463806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-4680" y="2058840"/>
            <a:ext cx="914724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1120" y="6423120"/>
            <a:ext cx="2595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191120" y="642312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26416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E936-9BE9-4771-8F42-D03E9554B2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-4680" y="2058840"/>
            <a:ext cx="9147240" cy="1828800"/>
          </a:xfrm>
          <a:prstGeom prst="rect">
            <a:avLst/>
          </a:prstGeom>
          <a:solidFill>
            <a:srgbClr val="099b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3" marL="8683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4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5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6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1120" y="6423120"/>
            <a:ext cx="2595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99b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99bd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4191120" y="642312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26416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99b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25F0-4347-4136-A872-993619ED7B5E}" type="slidenum">
              <a:rPr b="0" lang="ru-RU" sz="1200" spc="-1" strike="noStrike">
                <a:solidFill>
                  <a:srgbClr val="099bd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81120" y="6423120"/>
            <a:ext cx="2595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191120" y="642312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26416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5F5B-A65C-4000-BAF7-AFDBCA07A4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6764400" y="0"/>
            <a:ext cx="2057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628200" y="64231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2832120" y="6423120"/>
            <a:ext cx="32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054840" y="6423120"/>
            <a:ext cx="660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96F1-2F44-4367-802F-972F0CDF1F0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278920" cy="24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d64f"/>
                </a:solidFill>
                <a:latin typeface="Corbel"/>
              </a:rPr>
              <a:t>WORD FORMATION</a:t>
            </a:r>
            <a:endParaRPr b="0" lang="en-US" sz="72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143000" y="3970440"/>
            <a:ext cx="68580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2843280" y="2565360"/>
            <a:ext cx="2695680" cy="3429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d64f"/>
                </a:solidFill>
                <a:latin typeface="Corbel"/>
              </a:rPr>
              <a:t>СЛОВОСЛОЖЕНИЕ</a:t>
            </a:r>
            <a:r>
              <a:rPr b="1" lang="en-US" sz="3800" spc="-1" strike="noStrike">
                <a:solidFill>
                  <a:srgbClr val="ffd64f"/>
                </a:solidFill>
                <a:latin typeface="Corbel"/>
              </a:rPr>
              <a:t>(COMPOSITION)</a:t>
            </a:r>
            <a:endParaRPr b="0" lang="en-US" sz="38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6760" indent="-1767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2c2c"/>
                </a:solidFill>
                <a:latin typeface="Corbel"/>
              </a:rPr>
              <a:t>House + Hold = Household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176760" indent="-1767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2c2c"/>
                </a:solidFill>
                <a:latin typeface="Corbel"/>
              </a:rPr>
              <a:t>Story + Teller = Storyteller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176760" indent="-1767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2c2c"/>
                </a:solidFill>
                <a:latin typeface="Corbel"/>
              </a:rPr>
              <a:t>Chatter + Box = Chatterbox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176760" indent="-1767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2c2c"/>
                </a:solidFill>
                <a:latin typeface="Corbel"/>
              </a:rPr>
              <a:t>Pop + Eyed = Pop - eyed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176760" indent="-1767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2c2c"/>
                </a:solidFill>
                <a:latin typeface="Corbel"/>
              </a:rPr>
              <a:t>Paper + Back = Paperback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d64f"/>
                </a:solidFill>
                <a:latin typeface="Corbel"/>
              </a:rPr>
              <a:t>КОНВЕРСИЯ (</a:t>
            </a:r>
            <a:r>
              <a:rPr b="1" lang="en-US" sz="4800" spc="-1" strike="noStrike">
                <a:solidFill>
                  <a:srgbClr val="ffd64f"/>
                </a:solidFill>
                <a:latin typeface="Corbel"/>
              </a:rPr>
              <a:t>CONVERSION)</a:t>
            </a:r>
            <a:endParaRPr b="0" lang="en-US" sz="48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2c2c"/>
                </a:solidFill>
                <a:latin typeface="Corbel"/>
              </a:rPr>
              <a:t>to search - a search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2c2c"/>
                </a:solidFill>
                <a:latin typeface="Corbel"/>
              </a:rPr>
              <a:t>to pick - a pick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2c2c"/>
                </a:solidFill>
                <a:latin typeface="Corbel"/>
              </a:rPr>
              <a:t>cosy – a cosy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2c2c"/>
                </a:solidFill>
                <a:latin typeface="Corbel"/>
              </a:rPr>
              <a:t>to love – love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2c2c"/>
                </a:solidFill>
                <a:latin typeface="Corbel"/>
              </a:rPr>
              <a:t>to book – a book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d64f"/>
                </a:solidFill>
                <a:latin typeface="Corbel"/>
              </a:rPr>
              <a:t>АФФИКСАЦИЯ (</a:t>
            </a:r>
            <a:r>
              <a:rPr b="1" lang="en-US" sz="4000" spc="-1" strike="noStrike">
                <a:solidFill>
                  <a:srgbClr val="ffd64f"/>
                </a:solidFill>
                <a:latin typeface="Corbel"/>
              </a:rPr>
              <a:t>AFFIXATION)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0840" indent="-3596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0000"/>
                </a:solidFill>
                <a:latin typeface="Corbel"/>
              </a:rPr>
              <a:t>er/or</a:t>
            </a:r>
            <a:r>
              <a:rPr b="1" lang="ru-RU" sz="37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ru-RU" sz="3700" spc="-1" strike="noStrike">
                <a:solidFill>
                  <a:srgbClr val="2c2c2c"/>
                </a:solidFill>
                <a:latin typeface="Corbel"/>
              </a:rPr>
              <a:t>- придает значение: "тот, кто что-то делает“</a:t>
            </a:r>
            <a:r>
              <a:rPr b="1" lang="en-US" sz="3700" spc="-1" strike="noStrike">
                <a:solidFill>
                  <a:srgbClr val="2c2c2c"/>
                </a:solidFill>
                <a:latin typeface="Corbel"/>
              </a:rPr>
              <a:t>:</a:t>
            </a:r>
            <a:endParaRPr b="0" lang="en-US" sz="3700" spc="-1" strike="noStrike">
              <a:solidFill>
                <a:srgbClr val="ffffff"/>
              </a:solidFill>
              <a:latin typeface="Corbel"/>
            </a:endParaRPr>
          </a:p>
          <a:p>
            <a:pPr marL="420840" indent="-35964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c2c2c"/>
                </a:solidFill>
                <a:latin typeface="Corbel"/>
              </a:rPr>
              <a:t>to contain – a contain</a:t>
            </a:r>
            <a:r>
              <a:rPr b="1" lang="en-US" sz="3700" spc="-1" strike="noStrike">
                <a:solidFill>
                  <a:srgbClr val="ff0000"/>
                </a:solidFill>
                <a:latin typeface="Corbel"/>
              </a:rPr>
              <a:t>er</a:t>
            </a:r>
            <a:endParaRPr b="0" lang="en-US" sz="3700" spc="-1" strike="noStrike">
              <a:solidFill>
                <a:srgbClr val="ffffff"/>
              </a:solidFill>
              <a:latin typeface="Corbel"/>
            </a:endParaRPr>
          </a:p>
          <a:p>
            <a:pPr marL="420840" indent="-35964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c2c2c"/>
                </a:solidFill>
                <a:latin typeface="Corbel"/>
              </a:rPr>
              <a:t>to manage – manag</a:t>
            </a:r>
            <a:r>
              <a:rPr b="1" lang="en-US" sz="3700" spc="-1" strike="noStrike">
                <a:solidFill>
                  <a:srgbClr val="ff0000"/>
                </a:solidFill>
                <a:latin typeface="Corbel"/>
              </a:rPr>
              <a:t>er</a:t>
            </a:r>
            <a:endParaRPr b="0" lang="en-US" sz="3700" spc="-1" strike="noStrike">
              <a:solidFill>
                <a:srgbClr val="ffffff"/>
              </a:solidFill>
              <a:latin typeface="Corbel"/>
            </a:endParaRPr>
          </a:p>
          <a:p>
            <a:pPr marL="420840" indent="-35964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Corbel"/>
              </a:rPr>
              <a:t>BUT: </a:t>
            </a:r>
            <a:r>
              <a:rPr b="1" lang="en-US" sz="3700" spc="-1" strike="noStrike">
                <a:solidFill>
                  <a:srgbClr val="f56617"/>
                </a:solidFill>
                <a:latin typeface="Corbel"/>
              </a:rPr>
              <a:t>library - librarian</a:t>
            </a:r>
            <a:endParaRPr b="0" lang="en-US" sz="3700" spc="-1" strike="noStrike">
              <a:solidFill>
                <a:srgbClr val="ffffff"/>
              </a:solidFill>
              <a:latin typeface="Corbel"/>
            </a:endParaRPr>
          </a:p>
          <a:p>
            <a:pPr marL="420840" indent="-3596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Corbel"/>
              </a:rPr>
              <a:t>ful</a:t>
            </a:r>
            <a:r>
              <a:rPr b="1" lang="en-US" sz="37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3700" spc="-1" strike="noStrike">
                <a:solidFill>
                  <a:srgbClr val="2c2c2c"/>
                </a:solidFill>
                <a:latin typeface="Corbel"/>
              </a:rPr>
              <a:t>: </a:t>
            </a:r>
            <a:r>
              <a:rPr b="1" lang="ru-RU" sz="3700" spc="-1" strike="noStrike">
                <a:solidFill>
                  <a:srgbClr val="2c2c2c"/>
                </a:solidFill>
                <a:latin typeface="Corbel"/>
              </a:rPr>
              <a:t>означает наличие качества</a:t>
            </a:r>
            <a:r>
              <a:rPr b="1" lang="en-US" sz="3700" spc="-1" strike="noStrike">
                <a:solidFill>
                  <a:srgbClr val="2c2c2c"/>
                </a:solidFill>
                <a:latin typeface="Corbel"/>
              </a:rPr>
              <a:t>:</a:t>
            </a:r>
            <a:endParaRPr b="0" lang="en-US" sz="3700" spc="-1" strike="noStrike">
              <a:solidFill>
                <a:srgbClr val="ffffff"/>
              </a:solidFill>
              <a:latin typeface="Corbel"/>
            </a:endParaRPr>
          </a:p>
          <a:p>
            <a:pPr marL="420840" indent="-35964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2c2c2c"/>
                </a:solidFill>
                <a:latin typeface="Corbel"/>
              </a:rPr>
              <a:t>to watch – watch</a:t>
            </a:r>
            <a:r>
              <a:rPr b="1" lang="en-US" sz="3700" spc="-1" strike="noStrike">
                <a:solidFill>
                  <a:srgbClr val="ff0000"/>
                </a:solidFill>
                <a:latin typeface="Corbel"/>
              </a:rPr>
              <a:t>ful</a:t>
            </a:r>
            <a:endParaRPr b="0" lang="en-US" sz="37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d64f"/>
                </a:solidFill>
                <a:latin typeface="Corbel"/>
              </a:rPr>
              <a:t>АФФИКСАЦИЯ (</a:t>
            </a:r>
            <a:r>
              <a:rPr b="1" lang="en-US" sz="4000" spc="-1" strike="noStrike">
                <a:solidFill>
                  <a:srgbClr val="ffd64f"/>
                </a:solidFill>
                <a:latin typeface="Corbel"/>
              </a:rPr>
              <a:t>AFFIXATION)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0360" indent="-18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ion/ - (a) tion</a:t>
            </a:r>
            <a:r>
              <a:rPr b="1" lang="ru-RU" sz="3600" spc="-1" strike="noStrike">
                <a:solidFill>
                  <a:srgbClr val="2c2c2c"/>
                </a:solidFill>
                <a:latin typeface="Corbel"/>
              </a:rPr>
              <a:t>: означает условие или какое-то действие</a:t>
            </a:r>
            <a:r>
              <a:rPr b="1" lang="en-US" sz="3600" spc="-1" strike="noStrike">
                <a:solidFill>
                  <a:srgbClr val="2c2c2c"/>
                </a:solidFill>
                <a:latin typeface="Corbe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180360" indent="-18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2c2c"/>
                </a:solidFill>
                <a:latin typeface="Corbel"/>
              </a:rPr>
              <a:t>to fascinate – fascinat</a:t>
            </a: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ion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180360" indent="-18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2c2c"/>
                </a:solidFill>
                <a:latin typeface="Corbel"/>
              </a:rPr>
              <a:t>to edit – an edit</a:t>
            </a: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ion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180360" indent="-18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2c2c"/>
                </a:solidFill>
                <a:latin typeface="Corbel"/>
              </a:rPr>
              <a:t>to impress – impress</a:t>
            </a: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ion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180360" indent="-18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2c2c"/>
                </a:solidFill>
                <a:latin typeface="Corbel"/>
              </a:rPr>
              <a:t>to introduce - introduct</a:t>
            </a: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ion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d64f"/>
                </a:solidFill>
                <a:latin typeface="Corbel"/>
              </a:rPr>
              <a:t>АФФИКСАЦИЯ (</a:t>
            </a:r>
            <a:r>
              <a:rPr b="1" lang="en-US" sz="4000" spc="-1" strike="noStrike">
                <a:solidFill>
                  <a:srgbClr val="ffd64f"/>
                </a:solidFill>
                <a:latin typeface="Corbel"/>
              </a:rPr>
              <a:t>AFFIXATION)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88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-ive </a:t>
            </a:r>
            <a:r>
              <a:rPr b="1" lang="en-US" sz="3200" spc="-1" strike="noStrike">
                <a:solidFill>
                  <a:srgbClr val="2c2c2c"/>
                </a:solidFill>
                <a:latin typeface="Corbel"/>
              </a:rPr>
              <a:t>– </a:t>
            </a:r>
            <a:r>
              <a:rPr b="1" lang="ru-RU" sz="3200" spc="-1" strike="noStrike">
                <a:solidFill>
                  <a:srgbClr val="2c2c2c"/>
                </a:solidFill>
                <a:latin typeface="Corbel"/>
              </a:rPr>
              <a:t>суффикс, образующий прилагательные</a:t>
            </a:r>
            <a:r>
              <a:rPr b="1" lang="en-US" sz="3200" spc="-1" strike="noStrike">
                <a:solidFill>
                  <a:srgbClr val="2c2c2c"/>
                </a:solidFill>
                <a:latin typeface="Corbe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2c2c"/>
                </a:solidFill>
                <a:latin typeface="Corbel"/>
              </a:rPr>
              <a:t>to impress – impress</a:t>
            </a: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ive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2c2c"/>
                </a:solidFill>
                <a:latin typeface="Corbel"/>
              </a:rPr>
              <a:t>to attract  - attract</a:t>
            </a: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ive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-ing</a:t>
            </a:r>
            <a:r>
              <a:rPr b="1" lang="en-US" sz="3200" spc="-1" strike="noStrike">
                <a:solidFill>
                  <a:srgbClr val="2c2c2c"/>
                </a:solidFill>
                <a:latin typeface="Corbel"/>
              </a:rPr>
              <a:t> – </a:t>
            </a:r>
            <a:r>
              <a:rPr b="1" lang="ru-RU" sz="3200" spc="-1" strike="noStrike">
                <a:solidFill>
                  <a:srgbClr val="2c2c2c"/>
                </a:solidFill>
                <a:latin typeface="Corbel"/>
              </a:rPr>
              <a:t>образует сущ., прил., а так же </a:t>
            </a:r>
            <a:r>
              <a:rPr b="1" lang="ru-RU" sz="3200" spc="-1" strike="noStrike" u="sng">
                <a:solidFill>
                  <a:srgbClr val="2c2c2c"/>
                </a:solidFill>
                <a:uFillTx/>
                <a:latin typeface="Corbel"/>
              </a:rPr>
              <a:t>причастия и деепричастия</a:t>
            </a:r>
            <a:r>
              <a:rPr b="1" lang="en-US" sz="3200" spc="-1" strike="noStrike" u="sng">
                <a:solidFill>
                  <a:srgbClr val="2c2c2c"/>
                </a:solidFill>
                <a:uFillTx/>
                <a:latin typeface="Corbe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2c2c"/>
                </a:solidFill>
                <a:latin typeface="Corbel"/>
              </a:rPr>
              <a:t>to fascinate – fascinat</a:t>
            </a: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ing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2c2c"/>
                </a:solidFill>
                <a:latin typeface="Corbel"/>
              </a:rPr>
              <a:t>to manage – manag</a:t>
            </a: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ing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2c2c"/>
                </a:solidFill>
                <a:latin typeface="Corbel"/>
              </a:rPr>
              <a:t>to impress - impress</a:t>
            </a: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ing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d64f"/>
                </a:solidFill>
                <a:latin typeface="Corbel"/>
              </a:rPr>
              <a:t>АФФИКСАЦИЯ (</a:t>
            </a:r>
            <a:r>
              <a:rPr b="1" lang="en-US" sz="4000" spc="-1" strike="noStrike">
                <a:solidFill>
                  <a:srgbClr val="ffd64f"/>
                </a:solidFill>
                <a:latin typeface="Corbel"/>
              </a:rPr>
              <a:t>AFFIXATION)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Corbel"/>
              </a:rPr>
              <a:t>ment</a:t>
            </a:r>
            <a:r>
              <a:rPr b="1" lang="ru-RU" sz="3800" spc="-1" strike="noStrike">
                <a:solidFill>
                  <a:srgbClr val="2c2c2c"/>
                </a:solidFill>
                <a:latin typeface="Corbel"/>
              </a:rPr>
              <a:t>: образует сущ</a:t>
            </a:r>
            <a:r>
              <a:rPr b="1" lang="en-US" sz="3800" spc="-1" strike="noStrike">
                <a:solidFill>
                  <a:srgbClr val="2c2c2c"/>
                </a:solidFill>
                <a:latin typeface="Corbel"/>
              </a:rPr>
              <a:t>.</a:t>
            </a:r>
            <a:r>
              <a:rPr b="1" lang="ru-RU" sz="3800" spc="-1" strike="noStrike">
                <a:solidFill>
                  <a:srgbClr val="2c2c2c"/>
                </a:solidFill>
                <a:latin typeface="Corbel"/>
              </a:rPr>
              <a:t>, обозначающие действие</a:t>
            </a:r>
            <a:r>
              <a:rPr b="1" lang="en-US" sz="3800" spc="-1" strike="noStrike">
                <a:solidFill>
                  <a:srgbClr val="2c2c2c"/>
                </a:solidFill>
                <a:latin typeface="Corbel"/>
              </a:rPr>
              <a:t>: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2c2c"/>
                </a:solidFill>
                <a:latin typeface="Corbel"/>
              </a:rPr>
              <a:t>to manage – a manage</a:t>
            </a:r>
            <a:r>
              <a:rPr b="1" lang="en-US" sz="3800" spc="-1" strike="noStrike">
                <a:solidFill>
                  <a:srgbClr val="ff0000"/>
                </a:solidFill>
                <a:latin typeface="Corbel"/>
              </a:rPr>
              <a:t>ment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2c2c"/>
                </a:solidFill>
                <a:latin typeface="Corbel"/>
              </a:rPr>
              <a:t>to devour – a devour</a:t>
            </a:r>
            <a:r>
              <a:rPr b="1" lang="en-US" sz="3800" spc="-1" strike="noStrike">
                <a:solidFill>
                  <a:srgbClr val="ff0000"/>
                </a:solidFill>
                <a:latin typeface="Corbel"/>
              </a:rPr>
              <a:t>ment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Corbel"/>
              </a:rPr>
              <a:t>ous</a:t>
            </a:r>
            <a:r>
              <a:rPr b="1" lang="en-US" sz="3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3800" spc="-1" strike="noStrike">
                <a:solidFill>
                  <a:srgbClr val="2c2c2c"/>
                </a:solidFill>
                <a:latin typeface="Corbel"/>
              </a:rPr>
              <a:t>– </a:t>
            </a:r>
            <a:r>
              <a:rPr b="1" lang="ru-RU" sz="3800" spc="-1" strike="noStrike">
                <a:solidFill>
                  <a:srgbClr val="2c2c2c"/>
                </a:solidFill>
                <a:latin typeface="Corbel"/>
              </a:rPr>
              <a:t>образует прил. от сущ.</a:t>
            </a:r>
            <a:r>
              <a:rPr b="1" lang="en-US" sz="3800" spc="-1" strike="noStrike">
                <a:solidFill>
                  <a:srgbClr val="2c2c2c"/>
                </a:solidFill>
                <a:latin typeface="Corbel"/>
              </a:rPr>
              <a:t>: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c2c2c"/>
                </a:solidFill>
                <a:latin typeface="Corbel"/>
              </a:rPr>
              <a:t>an adventure - adventur</a:t>
            </a:r>
            <a:r>
              <a:rPr b="1" lang="en-US" sz="3800" spc="-1" strike="noStrike">
                <a:solidFill>
                  <a:srgbClr val="ff0000"/>
                </a:solidFill>
                <a:latin typeface="Corbel"/>
              </a:rPr>
              <a:t>ous</a:t>
            </a: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4:00:55Z</dcterms:created>
  <dc:creator>Эвелина</dc:creator>
  <dc:description/>
  <dc:language>en-US</dc:language>
  <cp:lastModifiedBy>Toshiba</cp:lastModifiedBy>
  <dcterms:modified xsi:type="dcterms:W3CDTF">2015-02-01T22:25:59Z</dcterms:modified>
  <cp:revision>16</cp:revision>
  <dc:subject/>
  <dc:title>Word Formation</dc:title>
</cp:coreProperties>
</file>