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FC5-47DA-4A98-B9EE-C4D52267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C71-D239-4893-8301-FF25B494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5AB-95EF-47B7-8396-42AF5ED8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953-195E-44CD-A898-70770277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5EE0-294E-4D3E-A59C-3E2DA28A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CD7F-38AB-4931-9829-0775D66D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34FA-4C90-4D7F-AE89-0B71A506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A948-EC65-4AB4-9DDA-7236D2C5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C85E-799E-4C5D-8C27-A5C4D0EE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1CD5-5C8C-4C94-B8F9-DE028451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6A32-D9C1-4EAF-9B51-4D197BDF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3D8-5500-4E18-A7C7-162B252C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ABFF-DF80-4FCD-B5DA-7F9E49F1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F389-E7AD-4893-888B-918D375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DB40-3682-430E-A130-7BC75AB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4028-CF18-4FCF-B42F-F1557C06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D8BE-779C-456A-8EB6-E2058744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FD7-B5D5-4ECB-ADB4-FA3516BF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CB2-F5D5-450F-B070-051CAE49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641-F128-4A6C-A80A-AD7AC7AA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51B-50BB-4894-990B-8281B6D4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A5C-66F5-4E08-8308-285BE01C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AF1-18C9-4EFF-817C-5F28A735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6D0-B8ED-4121-A7BD-A6F93752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5F7B-9770-4738-AB12-A5C83F9532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D067-FFE3-4F15-8816-1CD5ED6CCF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Смутное время в России в начале 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XVII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4" descr="minin_pozarski"/>
          <p:cNvPicPr/>
          <p:nvPr/>
        </p:nvPicPr>
        <p:blipFill>
          <a:blip r:embed="rId1"/>
          <a:stretch/>
        </p:blipFill>
        <p:spPr>
          <a:xfrm>
            <a:off x="2700360" y="2565360"/>
            <a:ext cx="29145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Борьба с польско-литовскими интервентами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1 ополчение (1611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2 ополчение (1611-1612 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minin_pozarski"/>
          <p:cNvPicPr/>
          <p:nvPr/>
        </p:nvPicPr>
        <p:blipFill>
          <a:blip r:embed="rId1"/>
          <a:stretch/>
        </p:blipFill>
        <p:spPr>
          <a:xfrm>
            <a:off x="4788000" y="2781360"/>
            <a:ext cx="291456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476360" y="4581360"/>
            <a:ext cx="36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узьма Минин и Дмитрий Пожар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Земский собор 1613г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kivshenko_400"/>
          <p:cNvPicPr/>
          <p:nvPr/>
        </p:nvPicPr>
        <p:blipFill>
          <a:blip r:embed="rId1"/>
          <a:stretch/>
        </p:blipFill>
        <p:spPr>
          <a:xfrm>
            <a:off x="1763640" y="1824120"/>
            <a:ext cx="4713480" cy="3909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39640" y="6175440"/>
            <a:ext cx="9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арем избран Михаил Федорович Роман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ы по теме «Смутное время»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596960" y="2308320"/>
            <a:ext cx="59403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ы по теме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96960" y="2044800"/>
            <a:ext cx="59403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000" spc="-1" strike="noStrike">
                <a:solidFill>
                  <a:srgbClr val="cc0000"/>
                </a:solidFill>
                <a:latin typeface="Verdana"/>
              </a:rPr>
              <a:t>Смута, смутное время- обозначение периода в русской истории с 1598 по 1613 гг., связанного с политическим, экономическим, государственным и социальным кризисом, польско-шведской интервенци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Причины Смутного времен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кращение династии Рюриковиче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тремление бояр к ограничению власти цар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яжелое экономическое положение стра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силение крепостного гнета и связанный с этим протест насел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оследствия опричнины (кризис доверия к  власт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ытия Смутного времен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Самозванец (царствование Лжедмитрия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605-1606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4" descr="0_5ed35_bbc921ab_XL"/>
          <p:cNvPicPr/>
          <p:nvPr/>
        </p:nvPicPr>
        <p:blipFill>
          <a:blip r:embed="rId1"/>
          <a:stretch/>
        </p:blipFill>
        <p:spPr>
          <a:xfrm>
            <a:off x="684360" y="2781360"/>
            <a:ext cx="3555720" cy="355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250px-Klodt_marina"/>
          <p:cNvPicPr/>
          <p:nvPr/>
        </p:nvPicPr>
        <p:blipFill>
          <a:blip r:embed="rId2"/>
          <a:stretch/>
        </p:blipFill>
        <p:spPr>
          <a:xfrm>
            <a:off x="4643280" y="3141720"/>
            <a:ext cx="3889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События Смутного времен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сили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Шуйск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1606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1610 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44587e179c42"/>
          <p:cNvPicPr/>
          <p:nvPr/>
        </p:nvPicPr>
        <p:blipFill>
          <a:blip r:embed="rId1"/>
          <a:stretch/>
        </p:blipFill>
        <p:spPr>
          <a:xfrm>
            <a:off x="2771640" y="2492280"/>
            <a:ext cx="55929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События Смутного времен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рестьянская война под предводительством Ивана Болотникова (1606-1607 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5" descr="b60e1-800px0ivanov0tushino"/>
          <p:cNvPicPr/>
          <p:nvPr/>
        </p:nvPicPr>
        <p:blipFill>
          <a:blip r:embed="rId1"/>
          <a:stretch/>
        </p:blipFill>
        <p:spPr>
          <a:xfrm>
            <a:off x="2195640" y="3213000"/>
            <a:ext cx="4752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События Смутного времен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Лжедмитрий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1607-1609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«тушинский вор»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803456_original"/>
          <p:cNvPicPr/>
          <p:nvPr/>
        </p:nvPicPr>
        <p:blipFill>
          <a:blip r:embed="rId1"/>
          <a:stretch/>
        </p:blipFill>
        <p:spPr>
          <a:xfrm>
            <a:off x="5508720" y="2781360"/>
            <a:ext cx="23716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События Смутного времен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торжение войск Польши и Швеци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1609-1612 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Семибоярщ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1610-1612 гг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пытки польской династии занять московский престол (Владислав, Сигизмунд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Формирование народного ополч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big_816666"/>
          <p:cNvPicPr/>
          <p:nvPr/>
        </p:nvPicPr>
        <p:blipFill>
          <a:blip r:embed="rId1"/>
          <a:stretch/>
        </p:blipFill>
        <p:spPr>
          <a:xfrm>
            <a:off x="2050920" y="1989000"/>
            <a:ext cx="5112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09:34:00Z</dcterms:created>
  <dc:creator>com12</dc:creator>
  <dc:description/>
  <dc:language>en-US</dc:language>
  <cp:lastModifiedBy>User</cp:lastModifiedBy>
  <dcterms:modified xsi:type="dcterms:W3CDTF">2015-02-02T06:09:46Z</dcterms:modified>
  <cp:revision>15</cp:revision>
  <dc:subject/>
  <dc:title>Смутное время в России в начале XVII в.</dc:title>
</cp:coreProperties>
</file>