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BFA-95DD-4AE3-9DE0-A6BE89C1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E22-C3C5-42D1-AD8B-9E8430D5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F46-F33A-4E5D-ADD2-FAE25D84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CA3-C235-4D87-A4B3-1D890CC8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FB4E-3ACB-451D-81B2-1A0BF6AF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F321-2C6E-4567-A27D-65BC1EB0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8776-5D74-4C0F-ABAC-C953FCD1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BCFB-9D1F-472B-8F2F-340E3329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E012-8462-40CB-9077-A23195A6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217D-7AAB-4959-B15B-EE86C827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EF23-A408-4A7A-8D08-68995B58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F10-8B95-4D18-AF7E-9EB2E858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E0B1-0BA4-4889-AE1D-DE175570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8E57-6209-4BB0-9C3D-014CCF80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0DF0-01B7-494B-884F-51F92357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E7F6-FFF4-4F7D-B006-46D9DC2D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A4F2-EBB8-40E8-9702-7809B91B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8C2-ECB9-4562-9486-8BED0CCF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B45-8268-4746-B127-DD606959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176-4287-4ED6-B291-DE151145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F10-5710-4C92-8B51-DBBCC15B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F03-C406-46C4-B4DC-9969342D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C3D-FD3E-4D6B-8695-F520E465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275-2A4E-4BBD-9936-1388CE5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B08A-F8AF-41B9-AB72-B8B477BE27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66D0-7457-42D7-9E44-C823631712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Смутное время в России в начале 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XVII 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в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4" descr="minin_pozarski"/>
          <p:cNvPicPr/>
          <p:nvPr/>
        </p:nvPicPr>
        <p:blipFill>
          <a:blip r:embed="rId1"/>
          <a:stretch/>
        </p:blipFill>
        <p:spPr>
          <a:xfrm>
            <a:off x="2700360" y="2565360"/>
            <a:ext cx="29145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Борьба с польско-литовскими интервентами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1 ополчение (1611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2 ополчение (1611-1612 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minin_pozarski"/>
          <p:cNvPicPr/>
          <p:nvPr/>
        </p:nvPicPr>
        <p:blipFill>
          <a:blip r:embed="rId1"/>
          <a:stretch/>
        </p:blipFill>
        <p:spPr>
          <a:xfrm>
            <a:off x="4788000" y="2781360"/>
            <a:ext cx="291456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476360" y="4581360"/>
            <a:ext cx="36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узьма Минин и Дмитрий Пожар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Земский собор 1613г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kivshenko_400"/>
          <p:cNvPicPr/>
          <p:nvPr/>
        </p:nvPicPr>
        <p:blipFill>
          <a:blip r:embed="rId1"/>
          <a:stretch/>
        </p:blipFill>
        <p:spPr>
          <a:xfrm>
            <a:off x="1763640" y="1824120"/>
            <a:ext cx="4713480" cy="3909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39640" y="6175440"/>
            <a:ext cx="9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арем избран Михаил Федорович Роман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ы по теме «Смутное время»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596960" y="2308320"/>
            <a:ext cx="59403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ы по теме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96960" y="2044800"/>
            <a:ext cx="59403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000" spc="-1" strike="noStrike">
                <a:solidFill>
                  <a:srgbClr val="cc0000"/>
                </a:solidFill>
                <a:latin typeface="Verdana"/>
              </a:rPr>
              <a:t>Смута, смутное время- обозначение периода в русской истории с 1598 по 1613 гг., связанного с политическим, экономическим, государственным и социальным кризисом, польско-шведской интервенци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Причины Смутного времен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екращение династии Рюриковиче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тремление бояр к ограничению власти цар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яжелое экономическое положение стра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силение крепостного гнета и связанный с этим протест насе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оследствия опричнины (кризис доверия к  власт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ытия Смутного времен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Самозванец (царствование Лжедмитрия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605-1606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4" descr="0_5ed35_bbc921ab_XL"/>
          <p:cNvPicPr/>
          <p:nvPr/>
        </p:nvPicPr>
        <p:blipFill>
          <a:blip r:embed="rId1"/>
          <a:stretch/>
        </p:blipFill>
        <p:spPr>
          <a:xfrm>
            <a:off x="684360" y="2781360"/>
            <a:ext cx="3555720" cy="3556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250px-Klodt_marina"/>
          <p:cNvPicPr/>
          <p:nvPr/>
        </p:nvPicPr>
        <p:blipFill>
          <a:blip r:embed="rId2"/>
          <a:stretch/>
        </p:blipFill>
        <p:spPr>
          <a:xfrm>
            <a:off x="4643280" y="3141720"/>
            <a:ext cx="3889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События Смутного времен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асили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Шуйск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1606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1610 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44587e179c42"/>
          <p:cNvPicPr/>
          <p:nvPr/>
        </p:nvPicPr>
        <p:blipFill>
          <a:blip r:embed="rId1"/>
          <a:stretch/>
        </p:blipFill>
        <p:spPr>
          <a:xfrm>
            <a:off x="2771640" y="2492280"/>
            <a:ext cx="55929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События Смутного времен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рестьянская война под предводительством Ивана Болотникова (1606-1607 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5" descr="b60e1-800px0ivanov0tushino"/>
          <p:cNvPicPr/>
          <p:nvPr/>
        </p:nvPicPr>
        <p:blipFill>
          <a:blip r:embed="rId1"/>
          <a:stretch/>
        </p:blipFill>
        <p:spPr>
          <a:xfrm>
            <a:off x="2195640" y="3213000"/>
            <a:ext cx="4752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События Смутного времен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Лжедмитрий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1607-1609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«тушинский вор»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803456_original"/>
          <p:cNvPicPr/>
          <p:nvPr/>
        </p:nvPicPr>
        <p:blipFill>
          <a:blip r:embed="rId1"/>
          <a:stretch/>
        </p:blipFill>
        <p:spPr>
          <a:xfrm>
            <a:off x="5508720" y="2781360"/>
            <a:ext cx="23716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События Смутного времен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торжение войск Польши и Швеци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1609-1612 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Семибоярщин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1610-1612 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пытки польской династии занять московский престол (Владислав, Сигизмунд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Формирование народного ополч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big_816666"/>
          <p:cNvPicPr/>
          <p:nvPr/>
        </p:nvPicPr>
        <p:blipFill>
          <a:blip r:embed="rId1"/>
          <a:stretch/>
        </p:blipFill>
        <p:spPr>
          <a:xfrm>
            <a:off x="2050920" y="1989000"/>
            <a:ext cx="5112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09:34:00Z</dcterms:created>
  <dc:creator>com12</dc:creator>
  <dc:description/>
  <dc:language>en-US</dc:language>
  <cp:lastModifiedBy>User</cp:lastModifiedBy>
  <dcterms:modified xsi:type="dcterms:W3CDTF">2015-02-02T06:09:46Z</dcterms:modified>
  <cp:revision>15</cp:revision>
  <dc:subject/>
  <dc:title>Смутное время в России в начале XVII в.</dc:title>
</cp:coreProperties>
</file>