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D4DF-5EE4-47E1-B8EE-C2DDA841CC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2BCC-344F-463A-8AD8-CCCF5899C3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74E-AF41-4F60-A676-724BBC9F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E33-6061-4A88-807C-D4CC163C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75A-C4F7-43F6-8B9B-B67FDD88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3A3-1CE6-4445-A786-BCDDD3F7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154-95ED-49AA-AF51-33E5EE87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71D8-587E-43A2-9B08-DA326032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1C6-3EFF-4A6F-9DA4-9CFB7C5E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9484-4A45-4C90-9DC9-D5FC7D0C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EAF1-1108-41FA-942A-FE65E756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CF62-5278-4550-9716-BD079E76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D15-215B-4AE7-8C6F-2A6F5AF9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3F7-95D9-4FE8-B025-9BB78992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4982-4631-4F7D-BFCE-28F14E3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1BD4-6D7F-4305-877B-FBF8829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0DF-AD6B-444A-B5F7-46C5BDF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B81-30A5-47FE-BB10-AAA5A1F2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28B1-C002-4FFE-BF4E-C51837CD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6F37-92D5-4711-9F71-23824174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014D-5138-4267-9F61-3EE737C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2263-A4B6-4CB4-AA07-67BA9CED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51C1-CAD2-4124-9919-22794BB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2967-137C-4A69-8364-D82FA124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30C-E8C3-4C15-944E-1BF8E32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BF64-8696-4C67-9971-37F1DDD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4643-EED9-4731-9135-F5B5C7C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A1DB-D861-413C-AB90-990C6F3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DD9E-8447-4485-A570-3BED0FF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4732-4874-40A9-B51B-83603494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A5D2-45BF-455C-939D-D7F3EA0E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C680-D363-4E3B-9452-12EEB941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0C4-8CE7-4833-9CBD-5C40465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0C7-4C76-49DF-AC37-602A3A38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49C-9C77-4304-936A-FA9A25E6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4B8-30B3-4E83-AEB5-63C9BCE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4A6-4F64-4ADF-B70D-242F73DE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91B-9419-48D3-BCDD-F213B43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8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6ED-36B6-4AC6-A5DE-66DA49021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8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DAC6-5078-42EE-A4DF-46954CA3F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83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872D-0862-4AFC-9355-588277842E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91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Arial"/>
              </a:rPr>
              <a:t>Тырышкан табар – ташка кадак кагар.</a:t>
            </a:r>
            <a:br>
              <a:rPr sz="3200"/>
            </a:br>
            <a:r>
              <a:rPr b="1" i="1" lang="tt-RU" sz="3200" spc="-1" strike="noStrike">
                <a:solidFill>
                  <a:srgbClr val="000000"/>
                </a:solidFill>
                <a:latin typeface="Arial"/>
              </a:rPr>
              <a:t>              Мәкал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Rectangl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Җылы сүз җан азыгы. (Мәкал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)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Сыйфат, сыйфатланмыштан алда килгән, бу очракта ул җөмләдә аергыч була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Туган тел матур да, татлы да, көчле дә. (Мәкал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)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Сыйфат сыйфатланмыштан соң килгән, бу очракта ул хәбәр була.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Җүләр сукса – зур сугар. (Мәкал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). </a:t>
            </a:r>
            <a:br>
              <a:rPr sz="2800"/>
            </a:br>
            <a:r>
              <a:rPr b="0" lang="tt-RU" sz="2800" spc="-1" strike="noStrike">
                <a:solidFill>
                  <a:srgbClr val="b7e7ff"/>
                </a:solidFill>
                <a:latin typeface="Arial"/>
              </a:rPr>
              <a:t>Сыйфат фигыльне ачыклап килә,  хәл бул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280" y="-459000"/>
            <a:ext cx="7705800" cy="62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786040" y="303372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Рисунок 4" descr="fa853715c7e5t.jpg"/>
          <p:cNvPicPr/>
          <p:nvPr/>
        </p:nvPicPr>
        <p:blipFill>
          <a:blip r:embed="rId1"/>
          <a:stretch/>
        </p:blipFill>
        <p:spPr>
          <a:xfrm>
            <a:off x="179280" y="0"/>
            <a:ext cx="1800360" cy="1628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11111"/>
                </a:solidFill>
                <a:latin typeface="Arial"/>
              </a:rPr>
              <a:t>Тестның җавапл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1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2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3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4-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5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6-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7-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8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9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10-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5”   -           10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4”   -           7-9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3”   -           4-6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“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2”   -           3тән түбән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3" descr="Interesno.JPG"/>
          <p:cNvPicPr/>
          <p:nvPr/>
        </p:nvPicPr>
        <p:blipFill>
          <a:blip r:embed="rId2"/>
          <a:stretch/>
        </p:blipFill>
        <p:spPr>
          <a:xfrm>
            <a:off x="6516720" y="4797360"/>
            <a:ext cx="241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b7e7ff"/>
                </a:solidFill>
                <a:latin typeface="Arial"/>
              </a:rPr>
              <a:t>Сыйфатка морфологик анализ ясау тәртибе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Сүз төркемен билгелә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Төрен әйтергә.(асыл, нисб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Ясалышын ачыкла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Дәрәҗәсен ачыкла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Исемләшү – исемләшмәвен әйте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Исемләшмәсә, кайсы сүз төркемен ачыклавын аңлатыр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Arial"/>
              </a:rPr>
              <a:t>Нинди җөмлә кисәге булуын әйте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6" descr="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b7e7ff"/>
                </a:solidFill>
                <a:latin typeface="Times New Roman"/>
              </a:rPr>
              <a:t>Өй эш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111111"/>
                </a:solidFill>
                <a:latin typeface="Times New Roman"/>
              </a:rPr>
              <a:t>1. “Кыш” темасына сыйфат дәрәҗәләрен кулланып, кечкенә күләмле хикәя язып килерг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-963720"/>
            <a:ext cx="8510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419400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онимнарын я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Са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Пар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А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Иск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Озы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Нача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Авы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Бие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Кечкен</a:t>
            </a: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ә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Ба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0" y="475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онимнарын я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Чибә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Пычра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О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Шу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Кечкенә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Җай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Шатлык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Акылл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Яхшы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111111"/>
                </a:solidFill>
                <a:latin typeface="Arial"/>
              </a:rPr>
              <a:t>Кайна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3" descr="Interesno.JPG"/>
          <p:cNvPicPr/>
          <p:nvPr/>
        </p:nvPicPr>
        <p:blipFill>
          <a:blip r:embed="rId1"/>
          <a:stretch/>
        </p:blipFill>
        <p:spPr>
          <a:xfrm>
            <a:off x="6732720" y="4869000"/>
            <a:ext cx="241128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ыйфа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403280" y="2349360"/>
            <a:ext cx="6624720" cy="28083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предметның билгесе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нди? кайс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ыйфа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835280" y="2421000"/>
            <a:ext cx="4608360" cy="266364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предметның билгес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907640" y="4724280"/>
            <a:ext cx="1008360" cy="100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>
            <a:off x="539280" y="3500280"/>
            <a:ext cx="1871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1547640" y="1915920"/>
            <a:ext cx="12240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796000" y="2133360"/>
            <a:ext cx="230508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867280" y="4221000"/>
            <a:ext cx="1944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076720" y="1916280"/>
            <a:ext cx="2087640" cy="57600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характеры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 flipH="1" flipV="1">
            <a:off x="6084000" y="3572640"/>
            <a:ext cx="2232360" cy="64764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физик сыйфатлары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539640" y="4869000"/>
            <a:ext cx="1656000" cy="64764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формасы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11280" y="2708280"/>
            <a:ext cx="1512720" cy="69840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төсе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268360" y="1844640"/>
            <a:ext cx="1708200" cy="64764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тәме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4"/>
          <p:cNvSpPr/>
          <p:nvPr/>
        </p:nvSpPr>
        <p:spPr>
          <a:xfrm>
            <a:off x="2195640" y="476280"/>
            <a:ext cx="4176720" cy="172872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Сыйфа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684360" y="3429000"/>
            <a:ext cx="3456000" cy="18003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сы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4356000" y="3500280"/>
            <a:ext cx="3456000" cy="180036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сб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932360" y="2133720"/>
            <a:ext cx="79200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2916000" y="2133720"/>
            <a:ext cx="86364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t-RU" sz="4800" spc="-1" strike="noStrike">
                <a:solidFill>
                  <a:srgbClr val="0000ff"/>
                </a:solidFill>
                <a:latin typeface="Arial"/>
              </a:rPr>
              <a:t>Сыйфатланмы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ыйфатны ачыклап килг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 исем сыйфатланмыш дип ата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Озын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0000ff"/>
                </a:solidFill>
                <a:latin typeface="Arial"/>
              </a:rPr>
              <a:t>юл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матур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0000ff"/>
                </a:solidFill>
                <a:latin typeface="Arial"/>
              </a:rPr>
              <a:t>кыз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әйбәт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0000ff"/>
                </a:solidFill>
                <a:latin typeface="Arial"/>
              </a:rPr>
              <a:t>укуч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-569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Сыйфат дәрәҗәләрен билгеләг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Гади дәрәҗ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Яхшы китапның һәр юлы алты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Чагыштыру дәрәҗә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Тозсыз сүздән тозлы ботка тәмлерә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Артыклык дәрәҗә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ө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яда иң татлы нәрсә дә т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ң ачы нәрсә дә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имлек дәрәҗәсендәге сыйфат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Үз ягыңның һавасы да җиләс б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сыл һәм нисби сыйфатлар турында сөйләрг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Җылы сүз җан азыгы. (Мәк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насыз корт бал җыймас, бал җыйса да мул җыймас. (Мәка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516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йфатларның ясалыш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амыр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Озын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сүзнең кыскас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Кыска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сүзнең остасы. 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алма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тапсыз өй – кояшсыз көн.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Парлы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Бала – чагалы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өйдә бур ятмас. 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Тезмә сыйфатл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ff"/>
                </a:solidFill>
                <a:latin typeface="Arial"/>
              </a:rPr>
              <a:t>Аз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сүзле кешене хөрмәт итәрләр. (Мәка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2144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Arial"/>
              </a:rPr>
              <a:t>Сыйфатның исемләшү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55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Ялгыз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ял күрмәс, </a:t>
            </a: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күмәк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ару белмәс. (Мәк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Ялгызның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җәясе дә югалыр, </a:t>
            </a:r>
            <a:r>
              <a:rPr b="0" i="1" lang="tt-RU" sz="3200" spc="-1" strike="noStrike">
                <a:solidFill>
                  <a:srgbClr val="ffffff"/>
                </a:solidFill>
                <a:latin typeface="Arial"/>
              </a:rPr>
              <a:t>күмәкнең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угы да югалм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(Мәкал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2:49:35Z</dcterms:created>
  <dc:creator>123</dc:creator>
  <dc:description/>
  <dc:language>en-US</dc:language>
  <cp:lastModifiedBy>мой компьютер</cp:lastModifiedBy>
  <dcterms:modified xsi:type="dcterms:W3CDTF">2015-01-19T18:27:17Z</dcterms:modified>
  <cp:revision>36</cp:revision>
  <dc:subject/>
  <dc:title>Слайд 1</dc:title>
</cp:coreProperties>
</file>