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F222-30A8-45DA-AFCD-484BE71653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можно провести практикум по УУД. На шаге №2 – можно проиграть как метод.объединение читает Схему анализа по УУД (3-4 или 5-6 класса). Например: укажите какие УУД вы часто развиваете, а какие – редк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7AD2-48A6-413B-8FC0-25A794700B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6B8B-47C6-4DB0-AFFF-82F079D2E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5D7-C803-425F-AEDC-2EAC7E81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DCF-B582-406C-B16F-AE747C50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18643-3D1F-4CE9-B1BC-59967EAD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86DF0-6B17-4FD6-8E1F-95BF7BF4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6A5D1-A119-4134-A96E-AE21B36A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4B594-B80D-4C12-90C4-10D2E32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4D75D-8942-464A-8A7D-3D41E57E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4F9E2-8CE7-48CF-9F84-430F386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25077-0DF3-4B30-82C4-AC50E1FA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A7E31-CEE9-4D98-BD89-1DDA0908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1ECB3-E029-41D9-A36A-53E5301C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F8066-693E-4024-949B-9EC3649B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68D-5A58-4986-B6B2-4C99A5FB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B41E0-E213-49E8-9387-773B5684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9D63C-306C-4103-A747-DC5EB6EF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F4809-93BD-45C6-9E8B-BE84AD56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AF703-C9C0-4864-B2CE-8B94FDB4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A448B-6C58-4841-A1C7-4981C8E2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15038-4E4B-48C4-AA04-F21ABD2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BF820-446B-4838-9888-FA2589F7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1E865-CED5-459F-9606-774FA63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C21C0-60BA-4257-B9E0-8C12C279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46952-9F86-4423-A994-0C3CAC71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41E-DF08-497B-9877-C849835F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F8BFD-7748-44B7-A100-412A9DBE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99069-DFAC-484C-ACB3-230EA7B2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0C47C-5637-4457-AB44-BD8780F7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3343E-8256-46BA-AEDD-5E5C2BE4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6122C-DA5E-40C6-A2D9-A8D4E744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6451B-4833-420B-91BD-BF20065F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DA13C-C896-4A00-A6C5-E568000C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F1309-8E78-448A-B3E3-CE2FAAE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A543D-BAB2-4877-AEA4-EE23B15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AA34C-353F-460E-BDE2-C69D1C13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F80C-EA0B-4582-AD6A-FE397D87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9E058-F59F-43EC-ADCB-BA89E7EB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CAF42-39BE-451F-A2AC-5204CA0F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DB0A7-9000-4EFA-A1D5-7B1688AE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F11DE-7B4B-444C-8EA4-838726DD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FD989-6F14-45FC-B157-48A8772F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5CA2B-9F76-43D6-A0E4-543F207A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563F1-AB10-4D38-80F5-D6269359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F7D43-D546-448A-BE08-E0BB097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B3808-638A-472B-AC2A-21A8D29B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9F043-E2DC-4537-B1F9-642EAD2C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CD9-BB80-4E2E-9EDC-4CF5C5CF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1C3D2-3C24-4254-8491-FF78022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A2C65-5E73-456C-A0F6-639F60A0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2FB92-0C00-4AE1-B5AD-C1B650FB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BD250-7372-43AA-9525-832BFFE3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47088-C3A0-431F-A114-F03BB461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6B4B1-65C1-4845-B345-06118F5B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FE37B-1B12-4773-90F7-DA6F9EF4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7A4EF-C5DD-421A-9091-D3D60CD3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17FFA-EB33-4F3B-81C3-55B9D60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84AD2-2FC6-48F3-8A37-D58B59A6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3871-E707-4AB6-8750-7E325A40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B86F1-D8DE-43E0-B494-91F1260B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33E3E-1BE4-4563-BC65-4D0ECC2D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C6909-5548-42B1-9FD4-22B5E6F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2E43B-4D1C-44AB-97B7-1CF0CE59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505AF-2BF8-40C4-BC10-7C2DAFE1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0D5C4-2343-493A-BBF0-D4DF4ACD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89E7B-84E6-4545-9687-6618711A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D8852-026C-4B34-B82B-C533D4E4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FD481-7110-4284-BA30-0D802822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401B3-9826-427D-898B-86A1D4F1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879B-0C2A-467E-908C-5B185FD4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139C8-AB3D-40BD-B2A1-64E94EE6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51060-3FDB-48EE-86A6-C948480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E3C09-C293-43CE-819E-A8F54511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5FDE3-C960-40E8-852E-6C23C8F3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4524C-5415-4A03-A0F0-03A5581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85E06-0883-4F6A-B96D-4DA544E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5B723-9DA8-4E14-B1D1-D2BF35B8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53EAE-353E-400B-ABDA-68100220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0F897-D59E-4B13-B045-8A1FBD8A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21DC7-9D8D-4F9D-94DD-1A8A0109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6D00-0D23-47DF-975C-BC284407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55301-B95B-40F0-8B88-3E7D611F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75AE3-4AFB-462F-958F-2AD1EF45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B68C2-3BFB-40E7-BEBB-40E6921E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E85868-AA29-4C37-8724-37238A08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AC734-4821-4DE5-814D-59DE0166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46C14-7310-42A1-9661-B6A8A695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EC834-E271-449F-8136-784F6C1C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34CAB-2C48-4637-80E1-097F6BFA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D8DB0-310B-4900-A334-B8725425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778EB-5B23-4F52-BFE8-BC50FD4C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14D3-9B73-4E7D-A121-9F629DEB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8A237-43C4-459E-84A9-F193CDB0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FA7D-615B-4999-9BF9-CB16200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81C-48D4-4A8B-95A9-D28E7CB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161-DCA1-4612-83B4-41CA15F5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6DE9-464F-46E2-B342-A3EB019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14FD-B647-4558-A762-AB772A6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1DB0-5D0A-47EC-BB9A-33D3BAA5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E25B-0C3C-4493-9C06-D6EB1849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CC7D-7505-49C7-A911-5CA6E243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2609-2753-42D8-A2FA-EDA440F0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FBE7-DBA2-4462-8BBB-6C181B66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5993-B27B-4C3C-953C-6B399549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18A9-3AD5-40C6-ADF8-69DEB733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DAE-F491-4BE1-86A8-C2F425B0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C76B-CC33-481D-A5D1-AC5003C2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F448-6685-4766-9B29-C0A8799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C9EB-F4A6-440E-9AE1-7ED617D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06B4-144A-40B1-A378-CC526A3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14DA-AFEE-4BC8-B569-83713208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EF08-741A-417C-B5B2-0EE6E8C6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77A2-BFAB-4BA7-91F5-A975242C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1BC4-F2C9-4E0C-8A0B-635A9DC0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56E9C-3197-47B3-A4BD-BD7F5E99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180E-C02D-4686-82BF-E60E1B86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24F-149D-4082-8EF5-074C53CB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D414-BF64-48AE-9F0A-A06AD014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3454-D367-488B-9079-F3E0802D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A85F-2255-4B7B-9DE1-44E63D94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01498-1213-4B22-A418-2271611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26D7D-AD99-4730-BEE9-91DD8E3C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1CA78-DEE7-4A86-9F85-5B198C0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2906-1CAB-450B-86A3-23D2CF93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27D7-F267-4F1E-891F-AB2ECAB4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0E29D-8A52-4A6A-9963-99302094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ED045-4837-4ADF-A850-79E5D171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889-BAD9-4246-B80B-F94C4A2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66C56-EF9F-4DC7-A63F-81F416EF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DAB9-5A30-4545-9AE8-B573660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3FF9-2873-4582-BA92-CE435953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7D94D-42C1-4450-9BBA-39F94F87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D3817-4A5F-429F-B161-7325EE8D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043DD-E060-4D29-9061-B7B6D6E5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FB2AB-716B-42B0-895F-ECD40F75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21A99-A271-4E6A-A9BC-8E5ED03A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EE5A4-D9E3-4A39-8389-2D992B55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37C2-867C-4796-82B4-84BF250B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618-0B8A-4F25-82A9-1628DEEB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C2AE3-41A2-4145-AF38-28DB77E0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FD644-8D2F-4022-BB76-19B4A7B9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40610-7391-4FF8-9C3D-CE23F729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3BF72-1885-4BBE-B785-86603E10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22577-A98A-4FBD-94C3-E75D4F2E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23EEC-F3CB-4222-891B-16FC9DCA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1D1C-311F-4EF4-9CE8-4B9DD7EE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F124A-24B2-473F-AAA5-1EFB2E42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75840-8999-40D7-8A40-983995F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3230-F802-473F-817E-605D2B6F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C77-69FD-4B77-A78F-E21E32E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E1B4A-8246-46D2-844F-3CD61EEA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3A686-F906-4DC2-B017-9E2D8664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E82E6-D0AA-474F-8399-7134C2C2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F1A65-24CD-4A0E-B4F0-C1BBDA36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7016D-E585-4334-82AF-AFDAA86A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30E6B-5BA1-4E73-A330-CB481CED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96E49-5FED-4AED-8E6A-FA65A978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A455-C021-4A61-BDD3-508D73D9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C25FC-676F-44BE-B849-A315A526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33573-2407-4C5D-9312-E54639F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972-F0E2-49CE-A356-229C195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860AB-58A9-4262-9CD7-43EFDF9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E22D4-0906-4375-B3C4-57569827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A4043-A709-4A19-A8F9-285E6CE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17D92-C49C-4E95-B0DC-876507AE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9DA17-CB07-4B9B-ADE8-61058552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1780E-4D74-42E8-91F2-0BF4F0EF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553E3-C29A-4981-941B-1C13631F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05ABC-0107-48F2-BA7E-C790B7B6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4B948-1D16-4217-BD87-78FE42AE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DF530-0AA7-451E-9933-EED96A3E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88B-A02B-4AE5-BA43-A2C2B4BB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56B2-D7BF-4F24-B7EE-1167B283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58F77-A0CB-46A6-BDE3-05F4140F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993D0-8327-468E-B09F-4D2A376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52BF1-7555-45E5-A40D-A228DA24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9E48A-2DEB-4BDF-B5A3-A974D6B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31510-E1B0-483C-9005-ECF6C674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CF051-204D-4319-96EA-C74355C9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C7844-29F8-4E7E-8A6D-BE9D92D9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42D20-6186-4E63-AF54-77C088B3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B92A4-DE36-47BA-A77D-F40CF10E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AFA-4A7E-4048-9844-65913514B0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4F46-A2A3-4C97-92B5-A546FB550F34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E744-DC4B-446B-933E-8AF7CA91924D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E57F-24A9-40AE-96AC-331CDD6B95E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623E-F18F-4A87-8C46-CE17CEACCE4E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668A-E0C9-48C9-956C-69B750D5220B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EBC6-AE78-4D13-AB6A-156F64514CAF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747B-A57F-495F-A8A8-DA2933C32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7C07-2044-4662-9113-6549E1664653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146F-BB52-4A3F-AC53-BDC81F33DC0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1BF5-5E65-43D6-8238-5B80A3FE7598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2B47-E0DD-4201-AA29-260293BBB90D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BA21-A834-433E-A45B-9AC789E6CD07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3943-530D-4B47-A33C-B5109C342464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1EA1-09D9-4F25-B34A-67C4B256A391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6.png"/><Relationship Id="rId12" Type="http://schemas.openxmlformats.org/officeDocument/2006/relationships/image" Target="../media/image3.wmf"/><Relationship Id="rId13" Type="http://schemas.openxmlformats.org/officeDocument/2006/relationships/image" Target="../media/image9.wmf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97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hyperlink" Target="http://ruprom-image.s3.amazonaws.com/140181_w640_h640_1111111111111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ruprom-image.s3.amazonaws.com/140181_w640_h640_1111111111111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hyperlink" Target="http://ruprom-image.s3.amazonaws.com/140181_w640_h640_1111111111111.jpg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ruprom-image.s3.amazonaws.com/140181_w640_h640_1111111111111.jpg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ruprom-image.s3.amazonaws.com/140181_w640_h640_1111111111111.jpg" TargetMode="External"/><Relationship Id="rId16" Type="http://schemas.openxmlformats.org/officeDocument/2006/relationships/image" Target="../media/image11.jpeg"/><Relationship Id="rId17" Type="http://schemas.openxmlformats.org/officeDocument/2006/relationships/hyperlink" Target="http://ruprom-image.s3.amazonaws.com/140181_w640_h640_1111111111111.jpg" TargetMode="External"/><Relationship Id="rId18" Type="http://schemas.openxmlformats.org/officeDocument/2006/relationships/image" Target="../media/image11.jpeg"/><Relationship Id="rId19" Type="http://schemas.openxmlformats.org/officeDocument/2006/relationships/hyperlink" Target="http://ruprom-image.s3.amazonaws.com/140181_w640_h640_1111111111111.jpg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ruprom-image.s3.amazonaws.com/140181_w640_h640_1111111111111.jpg" TargetMode="External"/><Relationship Id="rId22" Type="http://schemas.openxmlformats.org/officeDocument/2006/relationships/image" Target="../media/image11.jpeg"/><Relationship Id="rId23" Type="http://schemas.openxmlformats.org/officeDocument/2006/relationships/hyperlink" Target="http://ruprom-image.s3.amazonaws.com/140181_w640_h640_1111111111111.jpg" TargetMode="External"/><Relationship Id="rId24" Type="http://schemas.openxmlformats.org/officeDocument/2006/relationships/image" Target="../media/image11.jpeg"/><Relationship Id="rId25" Type="http://schemas.openxmlformats.org/officeDocument/2006/relationships/hyperlink" Target="http://ruprom-image.s3.amazonaws.com/140181_w640_h640_1111111111111.jpg" TargetMode="External"/><Relationship Id="rId26" Type="http://schemas.openxmlformats.org/officeDocument/2006/relationships/image" Target="../media/image11.jpeg"/><Relationship Id="rId27" Type="http://schemas.openxmlformats.org/officeDocument/2006/relationships/hyperlink" Target="http://ruprom-image.s3.amazonaws.com/140181_w640_h640_1111111111111.jpg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ruprom-image.s3.amazonaws.com/140181_w640_h640_1111111111111.jpg" TargetMode="External"/><Relationship Id="rId30" Type="http://schemas.openxmlformats.org/officeDocument/2006/relationships/image" Target="../media/image11.jpeg"/><Relationship Id="rId31" Type="http://schemas.openxmlformats.org/officeDocument/2006/relationships/hyperlink" Target="http://ruprom-image.s3.amazonaws.com/140181_w640_h640_1111111111111.jpg" TargetMode="External"/><Relationship Id="rId32" Type="http://schemas.openxmlformats.org/officeDocument/2006/relationships/image" Target="../media/image11.jpeg"/><Relationship Id="rId33" Type="http://schemas.openxmlformats.org/officeDocument/2006/relationships/hyperlink" Target="http://ruprom-image.s3.amazonaws.com/140181_w640_h640_1111111111111.jpg" TargetMode="External"/><Relationship Id="rId34" Type="http://schemas.openxmlformats.org/officeDocument/2006/relationships/image" Target="../media/image11.jpeg"/><Relationship Id="rId35" Type="http://schemas.openxmlformats.org/officeDocument/2006/relationships/hyperlink" Target="http://ruprom-image.s3.amazonaws.com/140181_w640_h640_1111111111111.jpg" TargetMode="External"/><Relationship Id="rId36" Type="http://schemas.openxmlformats.org/officeDocument/2006/relationships/image" Target="../media/image11.jpeg"/><Relationship Id="rId37" Type="http://schemas.openxmlformats.org/officeDocument/2006/relationships/hyperlink" Target="http://ruprom-image.s3.amazonaws.com/140181_w640_h640_1111111111111.jpg" TargetMode="External"/><Relationship Id="rId38" Type="http://schemas.openxmlformats.org/officeDocument/2006/relationships/image" Target="../media/image11.jpeg"/><Relationship Id="rId39" Type="http://schemas.openxmlformats.org/officeDocument/2006/relationships/hyperlink" Target="http://ruprom-image.s3.amazonaws.com/140181_w640_h640_1111111111111.jpg" TargetMode="External"/><Relationship Id="rId40" Type="http://schemas.openxmlformats.org/officeDocument/2006/relationships/image" Target="../media/image11.jpeg"/><Relationship Id="rId41" Type="http://schemas.openxmlformats.org/officeDocument/2006/relationships/hyperlink" Target="http://ruprom-image.s3.amazonaws.com/140181_w640_h640_1111111111111.jpg" TargetMode="External"/><Relationship Id="rId42" Type="http://schemas.openxmlformats.org/officeDocument/2006/relationships/image" Target="../media/image11.jpe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image" Target="../media/image13.png"/><Relationship Id="rId46" Type="http://schemas.openxmlformats.org/officeDocument/2006/relationships/image" Target="../media/image14.png"/><Relationship Id="rId47" Type="http://schemas.openxmlformats.org/officeDocument/2006/relationships/image" Target="../media/image6.png"/><Relationship Id="rId48" Type="http://schemas.openxmlformats.org/officeDocument/2006/relationships/image" Target="../media/image15.png"/><Relationship Id="rId49" Type="http://schemas.openxmlformats.org/officeDocument/2006/relationships/image" Target="../media/image16.png"/><Relationship Id="rId50" Type="http://schemas.openxmlformats.org/officeDocument/2006/relationships/slideLayout" Target="../slideLayouts/slideLayout37.xml"/><Relationship Id="rId5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03640" y="21301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 Math"/>
                <a:ea typeface="Cambria Math"/>
              </a:rPr>
              <a:t>Технология организации преемственности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между ступенями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общеобразовательной школы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как условие получения нового образовательного результата   в  условиях введения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ФГ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 flipH="1" rot="1171800">
            <a:off x="6555960" y="394920"/>
            <a:ext cx="535320" cy="10116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 flipH="1">
            <a:off x="8278920" y="65160"/>
            <a:ext cx="412560" cy="92376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9"/>
          <p:cNvSpPr/>
          <p:nvPr/>
        </p:nvSpPr>
        <p:spPr>
          <a:xfrm>
            <a:off x="8278920" y="28440"/>
            <a:ext cx="431640" cy="48132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81320"/>
              <a:gd name="textAreaBottom" fmla="*/ 460440 h 481320"/>
            </a:gdLst>
            <a:ahLst/>
            <a:rect l="textAreaLeft" t="textAreaTop" r="textAreaRight" b="textAreaBottom"/>
            <a:pathLst>
              <a:path w="21600" h="24084">
                <a:moveTo>
                  <a:pt x="3600" y="0"/>
                </a:moveTo>
                <a:arcTo wR="3600" hR="3600" stAng="16200000" swAng="-5400000"/>
                <a:lnTo>
                  <a:pt x="0" y="20484"/>
                </a:lnTo>
                <a:arcTo wR="3600" hR="3600" stAng="10800000" swAng="-5400000"/>
                <a:lnTo>
                  <a:pt x="18000" y="24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3"/>
          <a:stretch/>
        </p:blipFill>
        <p:spPr>
          <a:xfrm>
            <a:off x="1619280" y="3429000"/>
            <a:ext cx="1388880" cy="14382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"/>
          <p:cNvPicPr/>
          <p:nvPr/>
        </p:nvPicPr>
        <p:blipFill>
          <a:blip r:embed="rId4"/>
          <a:stretch/>
        </p:blipFill>
        <p:spPr>
          <a:xfrm flipH="1">
            <a:off x="1258560" y="4429080"/>
            <a:ext cx="617400" cy="137628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 txBox="1"/>
          <p:nvPr/>
        </p:nvSpPr>
        <p:spPr>
          <a:xfrm>
            <a:off x="108000" y="-360"/>
            <a:ext cx="647064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mbria Math"/>
                <a:ea typeface="Cambria Math"/>
              </a:rPr>
              <a:t>Технология организации преемственности: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44"/>
          <p:cNvSpPr/>
          <p:nvPr/>
        </p:nvSpPr>
        <p:spPr>
          <a:xfrm>
            <a:off x="1333440" y="572436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3240" y="6524640"/>
            <a:ext cx="91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етодическое объединение (МО) = начальная + основн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Line 44"/>
          <p:cNvSpPr/>
          <p:nvPr/>
        </p:nvSpPr>
        <p:spPr>
          <a:xfrm>
            <a:off x="2289240" y="490068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Line 44"/>
          <p:cNvSpPr/>
          <p:nvPr/>
        </p:nvSpPr>
        <p:spPr>
          <a:xfrm>
            <a:off x="3352680" y="399888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Line 44"/>
          <p:cNvSpPr/>
          <p:nvPr/>
        </p:nvSpPr>
        <p:spPr>
          <a:xfrm>
            <a:off x="4495680" y="314172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Line 44"/>
          <p:cNvSpPr/>
          <p:nvPr/>
        </p:nvSpPr>
        <p:spPr>
          <a:xfrm>
            <a:off x="5638680" y="227664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Line 44"/>
          <p:cNvSpPr/>
          <p:nvPr/>
        </p:nvSpPr>
        <p:spPr>
          <a:xfrm>
            <a:off x="6781680" y="155736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Line 44"/>
          <p:cNvSpPr/>
          <p:nvPr/>
        </p:nvSpPr>
        <p:spPr>
          <a:xfrm>
            <a:off x="108000" y="659772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Line 44"/>
          <p:cNvSpPr/>
          <p:nvPr/>
        </p:nvSpPr>
        <p:spPr>
          <a:xfrm>
            <a:off x="7924680" y="836640"/>
            <a:ext cx="1143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49"/>
          <p:cNvSpPr/>
          <p:nvPr/>
        </p:nvSpPr>
        <p:spPr>
          <a:xfrm>
            <a:off x="1258920" y="5661000"/>
            <a:ext cx="78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О: портрет выпускника (+ технологии и содержа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2195640" y="486900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Открытые уроки в 4-м кл. + 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3276720" y="393372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Совместные уроки в 4-м кл. + 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49"/>
          <p:cNvSpPr/>
          <p:nvPr/>
        </p:nvSpPr>
        <p:spPr>
          <a:xfrm>
            <a:off x="4643280" y="3068640"/>
            <a:ext cx="44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Диагностика + род.собр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49"/>
          <p:cNvSpPr/>
          <p:nvPr/>
        </p:nvSpPr>
        <p:spPr>
          <a:xfrm>
            <a:off x="5580000" y="220500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. Уроки в 5-м кл. + 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 Box 49"/>
          <p:cNvSpPr/>
          <p:nvPr/>
        </p:nvSpPr>
        <p:spPr>
          <a:xfrm>
            <a:off x="6732720" y="148428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. МО: адап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49"/>
          <p:cNvSpPr/>
          <p:nvPr/>
        </p:nvSpPr>
        <p:spPr>
          <a:xfrm>
            <a:off x="7740720" y="765000"/>
            <a:ext cx="16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u-RU" sz="2000" spc="-1" strike="noStrike">
                <a:solidFill>
                  <a:srgbClr val="ff0000"/>
                </a:solidFill>
                <a:latin typeface="Cambria Math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1258920" y="4397400"/>
            <a:ext cx="646200" cy="760320"/>
          </a:xfrm>
          <a:custGeom>
            <a:avLst/>
            <a:gdLst>
              <a:gd name="textAreaLeft" fmla="*/ 31320 w 646200"/>
              <a:gd name="textAreaRight" fmla="*/ 614880 w 646200"/>
              <a:gd name="textAreaTop" fmla="*/ 31320 h 760320"/>
              <a:gd name="textAreaBottom" fmla="*/ 729000 h 760320"/>
            </a:gdLst>
            <a:ahLst/>
            <a:rect l="textAreaLeft" t="textAreaTop" r="textAreaRight" b="textAreaBottom"/>
            <a:pathLst>
              <a:path w="21600" h="25412">
                <a:moveTo>
                  <a:pt x="3600" y="0"/>
                </a:moveTo>
                <a:arcTo wR="3600" hR="3600" stAng="16200000" swAng="-5400000"/>
                <a:lnTo>
                  <a:pt x="0" y="21812"/>
                </a:lnTo>
                <a:arcTo wR="3600" hR="3600" stAng="10800000" swAng="-5400000"/>
                <a:lnTo>
                  <a:pt x="18000" y="254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5"/>
          <a:stretch/>
        </p:blipFill>
        <p:spPr>
          <a:xfrm>
            <a:off x="-88920" y="4869000"/>
            <a:ext cx="878040" cy="16635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"/>
          <p:cNvPicPr/>
          <p:nvPr/>
        </p:nvPicPr>
        <p:blipFill>
          <a:blip r:embed="rId6"/>
          <a:stretch/>
        </p:blipFill>
        <p:spPr>
          <a:xfrm>
            <a:off x="755640" y="4869000"/>
            <a:ext cx="457200" cy="16952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"/>
          <p:cNvPicPr/>
          <p:nvPr/>
        </p:nvPicPr>
        <p:blipFill>
          <a:blip r:embed="rId7"/>
          <a:stretch/>
        </p:blipFill>
        <p:spPr>
          <a:xfrm>
            <a:off x="3352680" y="2495520"/>
            <a:ext cx="1387440" cy="143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" descr=""/>
          <p:cNvPicPr/>
          <p:nvPr/>
        </p:nvPicPr>
        <p:blipFill>
          <a:blip r:embed="rId8"/>
          <a:stretch/>
        </p:blipFill>
        <p:spPr>
          <a:xfrm>
            <a:off x="3114720" y="2405160"/>
            <a:ext cx="422280" cy="1563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9"/>
          <a:stretch/>
        </p:blipFill>
        <p:spPr>
          <a:xfrm>
            <a:off x="2916360" y="3468600"/>
            <a:ext cx="376200" cy="13986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"/>
          <p:cNvPicPr/>
          <p:nvPr/>
        </p:nvPicPr>
        <p:blipFill>
          <a:blip r:embed="rId10"/>
          <a:stretch/>
        </p:blipFill>
        <p:spPr>
          <a:xfrm>
            <a:off x="5533920" y="965160"/>
            <a:ext cx="1198800" cy="12398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" descr=""/>
          <p:cNvPicPr/>
          <p:nvPr/>
        </p:nvPicPr>
        <p:blipFill>
          <a:blip r:embed="rId11"/>
          <a:stretch/>
        </p:blipFill>
        <p:spPr>
          <a:xfrm>
            <a:off x="6227640" y="907920"/>
            <a:ext cx="351000" cy="1297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12"/>
          <a:stretch/>
        </p:blipFill>
        <p:spPr>
          <a:xfrm flipH="1">
            <a:off x="7019640" y="620640"/>
            <a:ext cx="398520" cy="8892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13"/>
          <a:stretch/>
        </p:blipFill>
        <p:spPr>
          <a:xfrm flipH="1" rot="20253000">
            <a:off x="7481880" y="406080"/>
            <a:ext cx="336600" cy="11095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"/>
          <p:cNvSpPr/>
          <p:nvPr/>
        </p:nvSpPr>
        <p:spPr>
          <a:xfrm>
            <a:off x="3203640" y="1197000"/>
            <a:ext cx="22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 Math"/>
              </a:rPr>
              <a:t>Практикум по УУ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Рисунок 37" descr="1H.jpg"/>
          <p:cNvPicPr/>
          <p:nvPr/>
        </p:nvPicPr>
        <p:blipFill>
          <a:blip r:embed="rId14"/>
          <a:stretch/>
        </p:blipFill>
        <p:spPr>
          <a:xfrm>
            <a:off x="4716360" y="1982880"/>
            <a:ext cx="863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Скругленный прямоугольник 107"/>
          <p:cNvSpPr/>
          <p:nvPr/>
        </p:nvSpPr>
        <p:spPr>
          <a:xfrm>
            <a:off x="1047600" y="2514600"/>
            <a:ext cx="3218040" cy="527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одготовили замеча-тельных детей, а вы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Скругленный прямоугольник 108"/>
          <p:cNvSpPr/>
          <p:nvPr/>
        </p:nvSpPr>
        <p:spPr>
          <a:xfrm>
            <a:off x="4859280" y="2514600"/>
            <a:ext cx="3218040" cy="527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 ваши дети ничего не знают и не уме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49"/>
          <p:cNvSpPr/>
          <p:nvPr/>
        </p:nvSpPr>
        <p:spPr>
          <a:xfrm>
            <a:off x="-76320" y="990720"/>
            <a:ext cx="19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Уроки 4 кл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49"/>
          <p:cNvSpPr/>
          <p:nvPr/>
        </p:nvSpPr>
        <p:spPr>
          <a:xfrm>
            <a:off x="-76320" y="7632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0000"/>
                </a:solidFill>
                <a:latin typeface="Cambria Math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Диагно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49"/>
          <p:cNvSpPr/>
          <p:nvPr/>
        </p:nvSpPr>
        <p:spPr>
          <a:xfrm>
            <a:off x="7740720" y="76320"/>
            <a:ext cx="14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. Уроки в 5 к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7696080" y="1504800"/>
            <a:ext cx="155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8.Диагнос-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49"/>
          <p:cNvSpPr/>
          <p:nvPr/>
        </p:nvSpPr>
        <p:spPr>
          <a:xfrm>
            <a:off x="-66600" y="568440"/>
            <a:ext cx="38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Совмес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ные уро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-76320" y="1504800"/>
            <a:ext cx="32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 Math"/>
              </a:rPr>
              <a:t>2.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Портрет выпуск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49"/>
          <p:cNvSpPr/>
          <p:nvPr/>
        </p:nvSpPr>
        <p:spPr>
          <a:xfrm>
            <a:off x="-76320" y="1962000"/>
            <a:ext cx="42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О педагогов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ч. и осн. ш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49"/>
          <p:cNvSpPr/>
          <p:nvPr/>
        </p:nvSpPr>
        <p:spPr>
          <a:xfrm>
            <a:off x="7696080" y="8161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7.МО адап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7" name="Группа 13"/>
          <p:cNvGrpSpPr/>
          <p:nvPr/>
        </p:nvGrpSpPr>
        <p:grpSpPr>
          <a:xfrm>
            <a:off x="4140360" y="47160"/>
            <a:ext cx="517320" cy="6704280"/>
            <a:chOff x="4140360" y="47160"/>
            <a:chExt cx="517320" cy="6704280"/>
          </a:xfrm>
        </p:grpSpPr>
        <p:grpSp>
          <p:nvGrpSpPr>
            <p:cNvPr id="668" name="Группа 12"/>
            <p:cNvGrpSpPr/>
            <p:nvPr/>
          </p:nvGrpSpPr>
          <p:grpSpPr>
            <a:xfrm>
              <a:off x="4140360" y="3773880"/>
              <a:ext cx="517320" cy="2977560"/>
              <a:chOff x="4140360" y="3773880"/>
              <a:chExt cx="517320" cy="2977560"/>
            </a:xfrm>
          </p:grpSpPr>
          <p:grpSp>
            <p:nvGrpSpPr>
              <p:cNvPr id="669" name="Группа 55"/>
              <p:cNvGrpSpPr/>
              <p:nvPr/>
            </p:nvGrpSpPr>
            <p:grpSpPr>
              <a:xfrm>
                <a:off x="4140360" y="5256000"/>
                <a:ext cx="517320" cy="1495440"/>
                <a:chOff x="4140360" y="5256000"/>
                <a:chExt cx="517320" cy="1495440"/>
              </a:xfrm>
            </p:grpSpPr>
            <p:pic>
              <p:nvPicPr>
                <p:cNvPr id="670" name="Picture 2" descr="http://ruprom-image.s3.amazonaws.com/140181_w640_h640_1111111111111.jpg"/>
                <p:cNvPicPr/>
                <p:nvPr/>
              </p:nvPicPr>
              <p:blipFill>
                <a:blip r:embed="rId1"/>
                <a:stretch/>
              </p:blipFill>
              <p:spPr>
                <a:xfrm flipH="1" rot="10800000">
                  <a:off x="4140360" y="636804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Picture 2" descr="http://ruprom-image.s3.amazonaws.com/140181_w640_h640_1111111111111.jpg"/>
                <p:cNvPicPr/>
                <p:nvPr/>
              </p:nvPicPr>
              <p:blipFill>
                <a:blip r:embed="rId2"/>
                <a:stretch/>
              </p:blipFill>
              <p:spPr>
                <a:xfrm flipH="1" rot="10800000">
                  <a:off x="4146840" y="59842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Picture 2" descr="http://ruprom-image.s3.amazonaws.com/140181_w640_h640_1111111111111.jpg"/>
                <p:cNvPicPr/>
                <p:nvPr/>
              </p:nvPicPr>
              <p:blipFill>
                <a:blip r:embed="rId3"/>
                <a:stretch/>
              </p:blipFill>
              <p:spPr>
                <a:xfrm flipH="1" rot="10800000">
                  <a:off x="4146840" y="560052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Picture 2" descr="http://ruprom-image.s3.amazonaws.com/140181_w640_h640_1111111111111.jpg"/>
                <p:cNvPicPr/>
                <p:nvPr/>
              </p:nvPicPr>
              <p:blipFill>
                <a:blip r:embed="rId4"/>
                <a:stretch/>
              </p:blipFill>
              <p:spPr>
                <a:xfrm flipH="1" rot="10800000">
                  <a:off x="4146840" y="52560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4" name="Группа 56"/>
              <p:cNvGrpSpPr/>
              <p:nvPr/>
            </p:nvGrpSpPr>
            <p:grpSpPr>
              <a:xfrm>
                <a:off x="4140360" y="3773880"/>
                <a:ext cx="517320" cy="1495440"/>
                <a:chOff x="4140360" y="3773880"/>
                <a:chExt cx="517320" cy="1495440"/>
              </a:xfrm>
            </p:grpSpPr>
            <p:pic>
              <p:nvPicPr>
                <p:cNvPr id="675" name="Picture 2" descr="http://ruprom-image.s3.amazonaws.com/140181_w640_h640_1111111111111.jpg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 flipH="1" rot="10800000">
                  <a:off x="4140360" y="488592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Picture 2" descr="http://ruprom-image.s3.amazonaws.com/140181_w640_h640_1111111111111.jpg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 flipH="1" rot="10800000">
                  <a:off x="4146840" y="45021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Picture 2" descr="http://ruprom-image.s3.amazonaws.com/140181_w640_h640_1111111111111.jpg"/>
                <p:cNvPicPr/>
                <p:nvPr/>
              </p:nvPicPr>
              <p:blipFill>
                <a:blip r:embed="rId9"/>
                <a:stretch/>
              </p:blipFill>
              <p:spPr>
                <a:xfrm flipH="1" rot="10800000">
                  <a:off x="4146840" y="41184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Picture 2" descr="http://ruprom-image.s3.amazonaws.com/140181_w640_h640_1111111111111.jpg"/>
                <p:cNvPicPr/>
                <p:nvPr/>
              </p:nvPicPr>
              <p:blipFill>
                <a:blip r:embed="rId10"/>
                <a:stretch/>
              </p:blipFill>
              <p:spPr>
                <a:xfrm flipH="1" rot="10800000">
                  <a:off x="4146840" y="37738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79" name="Группа 66"/>
            <p:cNvGrpSpPr/>
            <p:nvPr/>
          </p:nvGrpSpPr>
          <p:grpSpPr>
            <a:xfrm>
              <a:off x="4140360" y="831240"/>
              <a:ext cx="517320" cy="2977560"/>
              <a:chOff x="4140360" y="831240"/>
              <a:chExt cx="517320" cy="2977560"/>
            </a:xfrm>
          </p:grpSpPr>
          <p:grpSp>
            <p:nvGrpSpPr>
              <p:cNvPr id="680" name="Группа 67"/>
              <p:cNvGrpSpPr/>
              <p:nvPr/>
            </p:nvGrpSpPr>
            <p:grpSpPr>
              <a:xfrm>
                <a:off x="4140360" y="2313360"/>
                <a:ext cx="517320" cy="1495440"/>
                <a:chOff x="4140360" y="2313360"/>
                <a:chExt cx="517320" cy="1495440"/>
              </a:xfrm>
            </p:grpSpPr>
            <p:pic>
              <p:nvPicPr>
                <p:cNvPr id="681" name="Picture 2" descr="http://ruprom-image.s3.amazonaws.com/140181_w640_h640_1111111111111.jpg">
                  <a:hlinkClick r:id="rId11"/>
                </p:cNvPr>
                <p:cNvPicPr/>
                <p:nvPr/>
              </p:nvPicPr>
              <p:blipFill>
                <a:blip r:embed="rId12"/>
                <a:stretch/>
              </p:blipFill>
              <p:spPr>
                <a:xfrm flipH="1" rot="10800000">
                  <a:off x="4140360" y="34254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Picture 2" descr="http://ruprom-image.s3.amazonaws.com/140181_w640_h640_1111111111111.jpg">
                  <a:hlinkClick r:id="rId13"/>
                </p:cNvPr>
                <p:cNvPicPr/>
                <p:nvPr/>
              </p:nvPicPr>
              <p:blipFill>
                <a:blip r:embed="rId14"/>
                <a:stretch/>
              </p:blipFill>
              <p:spPr>
                <a:xfrm flipH="1" rot="10800000">
                  <a:off x="4146840" y="304164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Picture 2" descr="http://ruprom-image.s3.amazonaws.com/140181_w640_h640_1111111111111.jpg">
                  <a:hlinkClick r:id="rId15"/>
                </p:cNvPr>
                <p:cNvPicPr/>
                <p:nvPr/>
              </p:nvPicPr>
              <p:blipFill>
                <a:blip r:embed="rId16"/>
                <a:stretch/>
              </p:blipFill>
              <p:spPr>
                <a:xfrm flipH="1" rot="10800000">
                  <a:off x="4146840" y="26578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Picture 2" descr="http://ruprom-image.s3.amazonaws.com/140181_w640_h640_1111111111111.jpg">
                  <a:hlinkClick r:id="rId17"/>
                </p:cNvPr>
                <p:cNvPicPr/>
                <p:nvPr/>
              </p:nvPicPr>
              <p:blipFill>
                <a:blip r:embed="rId18"/>
                <a:stretch/>
              </p:blipFill>
              <p:spPr>
                <a:xfrm flipH="1" rot="10800000">
                  <a:off x="4146840" y="23133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5" name="Группа 68"/>
              <p:cNvGrpSpPr/>
              <p:nvPr/>
            </p:nvGrpSpPr>
            <p:grpSpPr>
              <a:xfrm>
                <a:off x="4140360" y="831240"/>
                <a:ext cx="517320" cy="1495440"/>
                <a:chOff x="4140360" y="831240"/>
                <a:chExt cx="517320" cy="1495440"/>
              </a:xfrm>
            </p:grpSpPr>
            <p:pic>
              <p:nvPicPr>
                <p:cNvPr id="686" name="Picture 2" descr="http://ruprom-image.s3.amazonaws.com/140181_w640_h640_1111111111111.jpg">
                  <a:hlinkClick r:id="rId19"/>
                </p:cNvPr>
                <p:cNvPicPr/>
                <p:nvPr/>
              </p:nvPicPr>
              <p:blipFill>
                <a:blip r:embed="rId20"/>
                <a:stretch/>
              </p:blipFill>
              <p:spPr>
                <a:xfrm flipH="1" rot="10800000">
                  <a:off x="4140360" y="19432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Picture 2" descr="http://ruprom-image.s3.amazonaws.com/140181_w640_h640_1111111111111.jpg">
                  <a:hlinkClick r:id="rId21"/>
                </p:cNvPr>
                <p:cNvPicPr/>
                <p:nvPr/>
              </p:nvPicPr>
              <p:blipFill>
                <a:blip r:embed="rId22"/>
                <a:stretch/>
              </p:blipFill>
              <p:spPr>
                <a:xfrm flipH="1" rot="10800000">
                  <a:off x="4146840" y="155952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Picture 2" descr="http://ruprom-image.s3.amazonaws.com/140181_w640_h640_1111111111111.jpg">
                  <a:hlinkClick r:id="rId23"/>
                </p:cNvPr>
                <p:cNvPicPr/>
                <p:nvPr/>
              </p:nvPicPr>
              <p:blipFill>
                <a:blip r:embed="rId24"/>
                <a:stretch/>
              </p:blipFill>
              <p:spPr>
                <a:xfrm flipH="1" rot="10800000">
                  <a:off x="4146840" y="11757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Picture 2" descr="http://ruprom-image.s3.amazonaws.com/140181_w640_h640_1111111111111.jpg">
                  <a:hlinkClick r:id="rId25"/>
                </p:cNvPr>
                <p:cNvPicPr/>
                <p:nvPr/>
              </p:nvPicPr>
              <p:blipFill>
                <a:blip r:embed="rId26"/>
                <a:stretch/>
              </p:blipFill>
              <p:spPr>
                <a:xfrm flipH="1" rot="10800000">
                  <a:off x="4146840" y="83124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90" name="Группа 80"/>
            <p:cNvGrpSpPr/>
            <p:nvPr/>
          </p:nvGrpSpPr>
          <p:grpSpPr>
            <a:xfrm>
              <a:off x="4140360" y="47160"/>
              <a:ext cx="517320" cy="2977560"/>
              <a:chOff x="4140360" y="47160"/>
              <a:chExt cx="517320" cy="2977560"/>
            </a:xfrm>
          </p:grpSpPr>
          <p:grpSp>
            <p:nvGrpSpPr>
              <p:cNvPr id="691" name="Группа 81"/>
              <p:cNvGrpSpPr/>
              <p:nvPr/>
            </p:nvGrpSpPr>
            <p:grpSpPr>
              <a:xfrm>
                <a:off x="4140360" y="1529280"/>
                <a:ext cx="517320" cy="1495440"/>
                <a:chOff x="4140360" y="1529280"/>
                <a:chExt cx="517320" cy="1495440"/>
              </a:xfrm>
            </p:grpSpPr>
            <p:pic>
              <p:nvPicPr>
                <p:cNvPr id="692" name="Picture 2" descr="http://ruprom-image.s3.amazonaws.com/140181_w640_h640_1111111111111.jpg">
                  <a:hlinkClick r:id="rId27"/>
                </p:cNvPr>
                <p:cNvPicPr/>
                <p:nvPr/>
              </p:nvPicPr>
              <p:blipFill>
                <a:blip r:embed="rId28"/>
                <a:stretch/>
              </p:blipFill>
              <p:spPr>
                <a:xfrm flipH="1" rot="10800000">
                  <a:off x="4140360" y="264132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Picture 2" descr="http://ruprom-image.s3.amazonaws.com/140181_w640_h640_1111111111111.jpg">
                  <a:hlinkClick r:id="rId29"/>
                </p:cNvPr>
                <p:cNvPicPr/>
                <p:nvPr/>
              </p:nvPicPr>
              <p:blipFill>
                <a:blip r:embed="rId30"/>
                <a:stretch/>
              </p:blipFill>
              <p:spPr>
                <a:xfrm flipH="1" rot="10800000">
                  <a:off x="4146840" y="22575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Picture 2" descr="http://ruprom-image.s3.amazonaws.com/140181_w640_h640_1111111111111.jpg">
                  <a:hlinkClick r:id="rId31"/>
                </p:cNvPr>
                <p:cNvPicPr/>
                <p:nvPr/>
              </p:nvPicPr>
              <p:blipFill>
                <a:blip r:embed="rId32"/>
                <a:stretch/>
              </p:blipFill>
              <p:spPr>
                <a:xfrm flipH="1" rot="10800000">
                  <a:off x="4146840" y="18738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Picture 2" descr="http://ruprom-image.s3.amazonaws.com/140181_w640_h640_1111111111111.jpg">
                  <a:hlinkClick r:id="rId33"/>
                </p:cNvPr>
                <p:cNvPicPr/>
                <p:nvPr/>
              </p:nvPicPr>
              <p:blipFill>
                <a:blip r:embed="rId34"/>
                <a:stretch/>
              </p:blipFill>
              <p:spPr>
                <a:xfrm flipH="1" rot="10800000">
                  <a:off x="4146840" y="15292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Группа 86"/>
              <p:cNvGrpSpPr/>
              <p:nvPr/>
            </p:nvGrpSpPr>
            <p:grpSpPr>
              <a:xfrm>
                <a:off x="4140360" y="47160"/>
                <a:ext cx="517320" cy="1495440"/>
                <a:chOff x="4140360" y="47160"/>
                <a:chExt cx="517320" cy="1495440"/>
              </a:xfrm>
            </p:grpSpPr>
            <p:pic>
              <p:nvPicPr>
                <p:cNvPr id="697" name="Picture 2" descr="http://ruprom-image.s3.amazonaws.com/140181_w640_h640_1111111111111.jpg">
                  <a:hlinkClick r:id="rId35"/>
                </p:cNvPr>
                <p:cNvPicPr/>
                <p:nvPr/>
              </p:nvPicPr>
              <p:blipFill>
                <a:blip r:embed="rId36"/>
                <a:stretch/>
              </p:blipFill>
              <p:spPr>
                <a:xfrm flipH="1" rot="10800000">
                  <a:off x="4140360" y="115920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2" descr="http://ruprom-image.s3.amazonaws.com/140181_w640_h640_1111111111111.jpg">
                  <a:hlinkClick r:id="rId37"/>
                </p:cNvPr>
                <p:cNvPicPr/>
                <p:nvPr/>
              </p:nvPicPr>
              <p:blipFill>
                <a:blip r:embed="rId38"/>
                <a:stretch/>
              </p:blipFill>
              <p:spPr>
                <a:xfrm flipH="1" rot="10800000">
                  <a:off x="4146840" y="77544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Picture 2" descr="http://ruprom-image.s3.amazonaws.com/140181_w640_h640_1111111111111.jpg">
                  <a:hlinkClick r:id="rId39"/>
                </p:cNvPr>
                <p:cNvPicPr/>
                <p:nvPr/>
              </p:nvPicPr>
              <p:blipFill>
                <a:blip r:embed="rId40"/>
                <a:stretch/>
              </p:blipFill>
              <p:spPr>
                <a:xfrm flipH="1" rot="10800000">
                  <a:off x="4146840" y="39168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Picture 2" descr="http://ruprom-image.s3.amazonaws.com/140181_w640_h640_1111111111111.jpg">
                  <a:hlinkClick r:id="rId41"/>
                </p:cNvPr>
                <p:cNvPicPr/>
                <p:nvPr/>
              </p:nvPicPr>
              <p:blipFill>
                <a:blip r:embed="rId42"/>
                <a:stretch/>
              </p:blipFill>
              <p:spPr>
                <a:xfrm flipH="1" rot="10800000">
                  <a:off x="4146840" y="47160"/>
                  <a:ext cx="510840" cy="38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701" name="Picture 2" descr=""/>
          <p:cNvPicPr/>
          <p:nvPr/>
        </p:nvPicPr>
        <p:blipFill>
          <a:blip r:embed="rId43"/>
          <a:stretch/>
        </p:blipFill>
        <p:spPr>
          <a:xfrm>
            <a:off x="-108000" y="3614760"/>
            <a:ext cx="1374840" cy="2606760"/>
          </a:xfrm>
          <a:prstGeom prst="rect">
            <a:avLst/>
          </a:prstGeom>
          <a:ln w="0">
            <a:noFill/>
          </a:ln>
        </p:spPr>
      </p:pic>
      <p:grpSp>
        <p:nvGrpSpPr>
          <p:cNvPr id="702" name="Группа 20"/>
          <p:cNvGrpSpPr/>
          <p:nvPr/>
        </p:nvGrpSpPr>
        <p:grpSpPr>
          <a:xfrm>
            <a:off x="1133640" y="193680"/>
            <a:ext cx="7040520" cy="1579680"/>
            <a:chOff x="1133640" y="193680"/>
            <a:chExt cx="7040520" cy="1579680"/>
          </a:xfrm>
        </p:grpSpPr>
        <p:sp>
          <p:nvSpPr>
            <p:cNvPr id="703" name="Стрелка вправо 31"/>
            <p:cNvSpPr/>
            <p:nvPr/>
          </p:nvSpPr>
          <p:spPr>
            <a:xfrm>
              <a:off x="1133640" y="193680"/>
              <a:ext cx="7040520" cy="1579680"/>
            </a:xfrm>
            <a:prstGeom prst="rightArrow">
              <a:avLst>
                <a:gd name="adj1" fmla="val 50000"/>
                <a:gd name="adj2" fmla="val 34541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"/>
            <p:cNvSpPr/>
            <p:nvPr/>
          </p:nvSpPr>
          <p:spPr>
            <a:xfrm>
              <a:off x="1187280" y="509400"/>
              <a:ext cx="684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70c0"/>
                  </a:solidFill>
                  <a:latin typeface="Cambria Math"/>
                </a:rPr>
                <a:t>ЦЕЛИ </a:t>
              </a:r>
              <a:r>
                <a:rPr b="0" lang="ru-RU" sz="2200" spc="-1" strike="noStrike">
                  <a:solidFill>
                    <a:srgbClr val="0070c0"/>
                  </a:solidFill>
                  <a:latin typeface="Cambria Math"/>
                </a:rPr>
                <a:t>– д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ействия: </a:t>
              </a:r>
              <a:r>
                <a:rPr b="1" lang="ru-RU" sz="2200" spc="-1" strike="noStrike">
                  <a:solidFill>
                    <a:srgbClr val="0000ff"/>
                  </a:solidFill>
                  <a:latin typeface="Cambria Math"/>
                </a:rPr>
                <a:t>познавательные,</a:t>
              </a:r>
              <a:r>
                <a:rPr b="1" lang="ru-RU" sz="2200" spc="-1" strike="noStrike">
                  <a:solidFill>
                    <a:srgbClr val="0070c0"/>
                  </a:solidFill>
                  <a:latin typeface="Cambria Math"/>
                </a:rPr>
                <a:t> </a:t>
              </a:r>
              <a:r>
                <a:rPr b="1" lang="ru-RU" sz="2200" spc="-1" strike="noStrike">
                  <a:solidFill>
                    <a:srgbClr val="ff6600"/>
                  </a:solidFill>
                  <a:latin typeface="Cambria Math"/>
                </a:rPr>
                <a:t>регулятивные, </a:t>
              </a:r>
              <a:r>
                <a:rPr b="1" lang="ru-RU" sz="2200" spc="-1" strike="noStrike">
                  <a:solidFill>
                    <a:srgbClr val="009900"/>
                  </a:solidFill>
                  <a:latin typeface="Cambria Math"/>
                </a:rPr>
                <a:t>коммуникативные, </a:t>
              </a:r>
              <a:r>
                <a:rPr b="1" lang="ru-RU" sz="2200" spc="-1" strike="noStrike">
                  <a:solidFill>
                    <a:srgbClr val="ff0000"/>
                  </a:solidFill>
                  <a:latin typeface="Cambria Math"/>
                </a:rPr>
                <a:t>личностные</a:t>
              </a:r>
              <a:r>
                <a:rPr b="1" lang="ru-RU" sz="2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Группа 25"/>
          <p:cNvGrpSpPr/>
          <p:nvPr/>
        </p:nvGrpSpPr>
        <p:grpSpPr>
          <a:xfrm>
            <a:off x="1063800" y="1236600"/>
            <a:ext cx="7053120" cy="1400400"/>
            <a:chOff x="1063800" y="1236600"/>
            <a:chExt cx="7053120" cy="1400400"/>
          </a:xfrm>
        </p:grpSpPr>
        <p:sp>
          <p:nvSpPr>
            <p:cNvPr id="706" name="Стрелка вправо 94"/>
            <p:cNvSpPr/>
            <p:nvPr/>
          </p:nvSpPr>
          <p:spPr>
            <a:xfrm>
              <a:off x="1150920" y="1236600"/>
              <a:ext cx="6966000" cy="1400400"/>
            </a:xfrm>
            <a:prstGeom prst="rightArrow">
              <a:avLst>
                <a:gd name="adj1" fmla="val 50000"/>
                <a:gd name="adj2" fmla="val 38574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TextBox 3"/>
            <p:cNvSpPr/>
            <p:nvPr/>
          </p:nvSpPr>
          <p:spPr>
            <a:xfrm>
              <a:off x="1063800" y="1519200"/>
              <a:ext cx="7013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70c0"/>
                  </a:solidFill>
                  <a:latin typeface="Cambria Math"/>
                </a:rPr>
                <a:t>ТЕХНОЛОГИИ.</a:t>
              </a:r>
              <a:r>
                <a:rPr b="1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ff6600"/>
                  </a:solidFill>
                  <a:latin typeface="Cambria Math"/>
                </a:rPr>
                <a:t>Проб</a:t>
              </a:r>
              <a:r>
                <a:rPr b="0" lang="ru-RU" sz="2200" spc="-1" strike="noStrike">
                  <a:solidFill>
                    <a:srgbClr val="0000ff"/>
                  </a:solidFill>
                  <a:latin typeface="Cambria Math"/>
                </a:rPr>
                <a:t>лемный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009900"/>
                  </a:solidFill>
                  <a:latin typeface="Cambria Math"/>
                </a:rPr>
                <a:t>диалог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. </a:t>
              </a:r>
              <a:r>
                <a:rPr b="0" lang="ru-RU" sz="2200" spc="-1" strike="noStrike">
                  <a:solidFill>
                    <a:srgbClr val="0000ff"/>
                  </a:solidFill>
                  <a:latin typeface="Cambria Math"/>
                </a:rPr>
                <a:t>Продукт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 Math"/>
                </a:rPr>
                <a:t>ивное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009900"/>
                  </a:solidFill>
                  <a:latin typeface="Cambria Math"/>
                </a:rPr>
                <a:t>чтение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. </a:t>
              </a:r>
              <a:r>
                <a:rPr b="0" lang="ru-RU" sz="2200" spc="-1" strike="noStrike">
                  <a:solidFill>
                    <a:srgbClr val="ff6600"/>
                  </a:solidFill>
                  <a:latin typeface="Cambria Math"/>
                </a:rPr>
                <a:t>Оценивание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009900"/>
                  </a:solidFill>
                  <a:latin typeface="Cambria Math"/>
                </a:rPr>
                <a:t>учебных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 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 Math"/>
                </a:rPr>
                <a:t>успехов</a:t>
              </a:r>
              <a:r>
                <a:rPr b="0" lang="ru-RU" sz="2200" spc="-1" strike="noStrike">
                  <a:solidFill>
                    <a:srgbClr val="000000"/>
                  </a:solidFill>
                  <a:latin typeface="Cambria Math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8" name="Группа 26"/>
          <p:cNvGrpSpPr/>
          <p:nvPr/>
        </p:nvGrpSpPr>
        <p:grpSpPr>
          <a:xfrm>
            <a:off x="1133640" y="2144880"/>
            <a:ext cx="6967440" cy="1284120"/>
            <a:chOff x="1133640" y="2144880"/>
            <a:chExt cx="6967440" cy="1284120"/>
          </a:xfrm>
        </p:grpSpPr>
        <p:sp>
          <p:nvSpPr>
            <p:cNvPr id="709" name="Стрелка вправо 95"/>
            <p:cNvSpPr/>
            <p:nvPr/>
          </p:nvSpPr>
          <p:spPr>
            <a:xfrm>
              <a:off x="1133640" y="2144880"/>
              <a:ext cx="6967440" cy="1284120"/>
            </a:xfrm>
            <a:prstGeom prst="rightArrow">
              <a:avLst>
                <a:gd name="adj1" fmla="val 50000"/>
                <a:gd name="adj2" fmla="val 42050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4"/>
            <p:cNvSpPr/>
            <p:nvPr/>
          </p:nvSpPr>
          <p:spPr>
            <a:xfrm>
              <a:off x="1133640" y="2416320"/>
              <a:ext cx="676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70c0"/>
                  </a:solidFill>
                  <a:latin typeface="Cambria Math"/>
                </a:rPr>
                <a:t>СОДЕРЖАНИЕ.</a:t>
              </a:r>
              <a:r>
                <a:rPr b="0" lang="ru-RU" sz="2200" spc="-1" strike="noStrike">
                  <a:solidFill>
                    <a:srgbClr val="0070c0"/>
                  </a:solidFill>
                  <a:latin typeface="Cambria Math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70c0"/>
                  </a:solidFill>
                  <a:latin typeface="Cambria Math"/>
                </a:rPr>
                <a:t>Обучение по </a:t>
              </a:r>
              <a:r>
                <a:rPr b="0" lang="ru-RU" sz="2200" spc="-1" strike="noStrike">
                  <a:solidFill>
                    <a:srgbClr val="0000ff"/>
                  </a:solidFill>
                  <a:latin typeface="Cambria Math"/>
                </a:rPr>
                <a:t>пред</a:t>
              </a:r>
              <a:r>
                <a:rPr b="0" lang="ru-RU" sz="2200" spc="-1" strike="noStrike">
                  <a:solidFill>
                    <a:srgbClr val="009900"/>
                  </a:solidFill>
                  <a:latin typeface="Cambria Math"/>
                </a:rPr>
                <a:t>ме</a:t>
              </a:r>
              <a:r>
                <a:rPr b="0" lang="ru-RU" sz="2200" spc="-1" strike="noStrike">
                  <a:solidFill>
                    <a:srgbClr val="ff0000"/>
                  </a:solidFill>
                  <a:latin typeface="Cambria Math"/>
                </a:rPr>
                <a:t>там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TextBox 5"/>
          <p:cNvSpPr/>
          <p:nvPr/>
        </p:nvSpPr>
        <p:spPr>
          <a:xfrm rot="19500000">
            <a:off x="839520" y="3219480"/>
            <a:ext cx="19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Классн.ру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8"/>
          <p:cNvSpPr/>
          <p:nvPr/>
        </p:nvSpPr>
        <p:spPr>
          <a:xfrm rot="21376200">
            <a:off x="1371240" y="357984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Литерат.чт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9"/>
          <p:cNvSpPr/>
          <p:nvPr/>
        </p:nvSpPr>
        <p:spPr>
          <a:xfrm>
            <a:off x="1841400" y="3933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Рус.</a:t>
            </a:r>
            <a:r>
              <a:rPr b="0" lang="ru-RU" sz="2000" spc="-1" strike="noStrike">
                <a:solidFill>
                  <a:srgbClr val="0070c0"/>
                </a:solidFill>
                <a:latin typeface="Cambria Math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язы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0"/>
          <p:cNvSpPr/>
          <p:nvPr/>
        </p:nvSpPr>
        <p:spPr>
          <a:xfrm rot="603000">
            <a:off x="2001960" y="43689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11"/>
          <p:cNvSpPr/>
          <p:nvPr/>
        </p:nvSpPr>
        <p:spPr>
          <a:xfrm rot="1852800">
            <a:off x="1958040" y="4911840"/>
            <a:ext cx="17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Окружаю-щий 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15"/>
          <p:cNvSpPr/>
          <p:nvPr/>
        </p:nvSpPr>
        <p:spPr>
          <a:xfrm>
            <a:off x="5076720" y="3573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6"/>
          <p:cNvSpPr/>
          <p:nvPr/>
        </p:nvSpPr>
        <p:spPr>
          <a:xfrm>
            <a:off x="5235480" y="393372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Рус. язы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7"/>
          <p:cNvSpPr/>
          <p:nvPr/>
        </p:nvSpPr>
        <p:spPr>
          <a:xfrm>
            <a:off x="5148360" y="4365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21"/>
          <p:cNvSpPr/>
          <p:nvPr/>
        </p:nvSpPr>
        <p:spPr>
          <a:xfrm rot="20715600">
            <a:off x="4618800" y="4654440"/>
            <a:ext cx="29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История. Обществозн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7" descr=""/>
          <p:cNvPicPr/>
          <p:nvPr/>
        </p:nvPicPr>
        <p:blipFill>
          <a:blip r:embed="rId44"/>
          <a:stretch/>
        </p:blipFill>
        <p:spPr>
          <a:xfrm>
            <a:off x="8391600" y="3649680"/>
            <a:ext cx="788760" cy="27320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8" descr=""/>
          <p:cNvPicPr/>
          <p:nvPr/>
        </p:nvPicPr>
        <p:blipFill>
          <a:blip r:embed="rId45"/>
          <a:stretch/>
        </p:blipFill>
        <p:spPr>
          <a:xfrm>
            <a:off x="7451640" y="3284640"/>
            <a:ext cx="792360" cy="27511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" descr=""/>
          <p:cNvPicPr/>
          <p:nvPr/>
        </p:nvPicPr>
        <p:blipFill>
          <a:blip r:embed="rId46"/>
          <a:stretch/>
        </p:blipFill>
        <p:spPr>
          <a:xfrm>
            <a:off x="6804000" y="3670200"/>
            <a:ext cx="819000" cy="26956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" descr=""/>
          <p:cNvPicPr/>
          <p:nvPr/>
        </p:nvPicPr>
        <p:blipFill>
          <a:blip r:embed="rId47"/>
          <a:stretch/>
        </p:blipFill>
        <p:spPr>
          <a:xfrm>
            <a:off x="7740720" y="4137120"/>
            <a:ext cx="741240" cy="2747880"/>
          </a:xfrm>
          <a:prstGeom prst="rect">
            <a:avLst/>
          </a:prstGeom>
          <a:ln w="0">
            <a:noFill/>
          </a:ln>
        </p:spPr>
      </p:pic>
      <p:cxnSp>
        <p:nvCxnSpPr>
          <p:cNvPr id="724" name="Прямая со стрелкой 117"/>
          <p:cNvCxnSpPr/>
          <p:nvPr/>
        </p:nvCxnSpPr>
        <p:spPr>
          <a:xfrm flipV="1">
            <a:off x="1490760" y="2851920"/>
            <a:ext cx="1497600" cy="978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5" name="Прямая со стрелкой 120"/>
          <p:cNvCxnSpPr/>
          <p:nvPr/>
        </p:nvCxnSpPr>
        <p:spPr>
          <a:xfrm flipV="1">
            <a:off x="3131640" y="2851920"/>
            <a:ext cx="2809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6" name="Прямая со стрелкой 122"/>
          <p:cNvCxnSpPr/>
          <p:nvPr/>
        </p:nvCxnSpPr>
        <p:spPr>
          <a:xfrm>
            <a:off x="5940360" y="2887200"/>
            <a:ext cx="1656720" cy="88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7" name="TextBox 124"/>
          <p:cNvSpPr/>
          <p:nvPr/>
        </p:nvSpPr>
        <p:spPr>
          <a:xfrm rot="1580400">
            <a:off x="6322320" y="3122640"/>
            <a:ext cx="144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Классн. ру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8" name="Прямая со стрелкой 126"/>
          <p:cNvCxnSpPr/>
          <p:nvPr/>
        </p:nvCxnSpPr>
        <p:spPr>
          <a:xfrm flipV="1">
            <a:off x="1708200" y="3901680"/>
            <a:ext cx="2720160" cy="1771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29" name="Прямая со стрелкой 128"/>
          <p:cNvCxnSpPr/>
          <p:nvPr/>
        </p:nvCxnSpPr>
        <p:spPr>
          <a:xfrm>
            <a:off x="4427640" y="3925440"/>
            <a:ext cx="168336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0" name="Прямая со стрелкой 138"/>
          <p:cNvCxnSpPr/>
          <p:nvPr/>
        </p:nvCxnSpPr>
        <p:spPr>
          <a:xfrm>
            <a:off x="4427640" y="4725720"/>
            <a:ext cx="168336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1" name="Прямая со стрелкой 139"/>
          <p:cNvCxnSpPr/>
          <p:nvPr/>
        </p:nvCxnSpPr>
        <p:spPr>
          <a:xfrm>
            <a:off x="1708200" y="4209840"/>
            <a:ext cx="2720160" cy="5482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2" name="Прямая со стрелкой 143"/>
          <p:cNvCxnSpPr/>
          <p:nvPr/>
        </p:nvCxnSpPr>
        <p:spPr>
          <a:xfrm>
            <a:off x="1708200" y="4292280"/>
            <a:ext cx="2720160" cy="1586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3" name="Прямая со стрелкой 149"/>
          <p:cNvCxnSpPr/>
          <p:nvPr/>
        </p:nvCxnSpPr>
        <p:spPr>
          <a:xfrm flipV="1">
            <a:off x="4427280" y="5022360"/>
            <a:ext cx="2881800" cy="7898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4" name="Прямая со стрелкой 151"/>
          <p:cNvCxnSpPr/>
          <p:nvPr/>
        </p:nvCxnSpPr>
        <p:spPr>
          <a:xfrm>
            <a:off x="4427640" y="5878440"/>
            <a:ext cx="1558080" cy="2152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5" name="Прямая со стрелкой 153"/>
          <p:cNvCxnSpPr/>
          <p:nvPr/>
        </p:nvCxnSpPr>
        <p:spPr>
          <a:xfrm>
            <a:off x="5985000" y="6092640"/>
            <a:ext cx="77688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736" name="TextBox 8215"/>
          <p:cNvSpPr/>
          <p:nvPr/>
        </p:nvSpPr>
        <p:spPr>
          <a:xfrm>
            <a:off x="4284720" y="3286080"/>
            <a:ext cx="290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78"/>
          <p:cNvSpPr/>
          <p:nvPr/>
        </p:nvSpPr>
        <p:spPr>
          <a:xfrm>
            <a:off x="4284720" y="4130640"/>
            <a:ext cx="290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27"/>
          <p:cNvSpPr/>
          <p:nvPr/>
        </p:nvSpPr>
        <p:spPr>
          <a:xfrm>
            <a:off x="1890720" y="-27000"/>
            <a:ext cx="5850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mbria Math"/>
              </a:rPr>
              <a:t>Технология преемств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7"/>
          <p:cNvSpPr/>
          <p:nvPr/>
        </p:nvSpPr>
        <p:spPr>
          <a:xfrm rot="478800">
            <a:off x="5326200" y="6181200"/>
            <a:ext cx="31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Биология. Географ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 Math"/>
              </a:rPr>
              <a:t>Физика. Хи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99"/>
          <p:cNvSpPr/>
          <p:nvPr/>
        </p:nvSpPr>
        <p:spPr>
          <a:xfrm>
            <a:off x="4280040" y="5460840"/>
            <a:ext cx="291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Группа 82"/>
          <p:cNvGrpSpPr/>
          <p:nvPr/>
        </p:nvGrpSpPr>
        <p:grpSpPr>
          <a:xfrm>
            <a:off x="755640" y="4456080"/>
            <a:ext cx="1555920" cy="1781280"/>
            <a:chOff x="755640" y="4456080"/>
            <a:chExt cx="1555920" cy="1781280"/>
          </a:xfrm>
        </p:grpSpPr>
        <p:pic>
          <p:nvPicPr>
            <p:cNvPr id="742" name="Picture 4" descr=""/>
            <p:cNvPicPr/>
            <p:nvPr/>
          </p:nvPicPr>
          <p:blipFill>
            <a:blip r:embed="rId48"/>
            <a:stretch/>
          </p:blipFill>
          <p:spPr>
            <a:xfrm>
              <a:off x="755640" y="4456080"/>
              <a:ext cx="717840" cy="17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5" descr=""/>
            <p:cNvPicPr/>
            <p:nvPr/>
          </p:nvPicPr>
          <p:blipFill>
            <a:blip r:embed="rId49"/>
            <a:stretch/>
          </p:blipFill>
          <p:spPr>
            <a:xfrm>
              <a:off x="1372680" y="4581360"/>
              <a:ext cx="938880" cy="165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29 -0.0463 L 0.20226 -0.15394 C 0.23246 -0.17801 0.2783 -0.19074 0.32552 -0.19074 C 0.37986 -0.19074 0.42309 -0.17801 0.45347 -0.15394 L 0.59896 -0.0463 E">
                                      <p:cBhvr>
                                        <p:cTn id="216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Круглая лента лицом вниз 1" descr=""/>
          <p:cNvPicPr/>
          <p:nvPr/>
        </p:nvPicPr>
        <p:blipFill>
          <a:blip r:embed="rId1"/>
          <a:stretch/>
        </p:blipFill>
        <p:spPr>
          <a:xfrm>
            <a:off x="1390680" y="1500120"/>
            <a:ext cx="7875720" cy="1511280"/>
          </a:xfrm>
          <a:prstGeom prst="rect">
            <a:avLst/>
          </a:prstGeom>
          <a:ln w="0">
            <a:noFill/>
          </a:ln>
        </p:spPr>
      </p:pic>
      <p:sp>
        <p:nvSpPr>
          <p:cNvPr id="745" name="Прямоугольник 2"/>
          <p:cNvSpPr/>
          <p:nvPr/>
        </p:nvSpPr>
        <p:spPr>
          <a:xfrm>
            <a:off x="3132000" y="2997360"/>
            <a:ext cx="568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«От того, как прошло детство , кто вел ребенка за руку в детские годы, что вошло в его разум и сердце из окружающего мира   – от этого в решающей степени зависит, каким человеком станет сегодняшний малыш» 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	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	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	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	</a:t>
            </a:r>
            <a:r>
              <a:rPr b="1" i="1" lang="ru-RU" sz="2200" spc="-1" strike="noStrike">
                <a:solidFill>
                  <a:srgbClr val="0070c0"/>
                </a:solidFill>
                <a:latin typeface="Cambria Math"/>
                <a:ea typeface="Cambria Math"/>
              </a:rPr>
              <a:t>       (В.А. Сухомлинск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Picture 14" descr="STR 67-7"/>
          <p:cNvPicPr/>
          <p:nvPr/>
        </p:nvPicPr>
        <p:blipFill>
          <a:blip r:embed="rId2"/>
          <a:stretch/>
        </p:blipFill>
        <p:spPr>
          <a:xfrm>
            <a:off x="3203640" y="260280"/>
            <a:ext cx="1158840" cy="14400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"/>
          <p:cNvPicPr/>
          <p:nvPr/>
        </p:nvPicPr>
        <p:blipFill>
          <a:blip r:embed="rId3"/>
          <a:stretch/>
        </p:blipFill>
        <p:spPr>
          <a:xfrm>
            <a:off x="5940360" y="260280"/>
            <a:ext cx="647640" cy="1584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" descr=""/>
          <p:cNvPicPr/>
          <p:nvPr/>
        </p:nvPicPr>
        <p:blipFill>
          <a:blip r:embed="rId4"/>
          <a:stretch/>
        </p:blipFill>
        <p:spPr>
          <a:xfrm>
            <a:off x="4427640" y="404640"/>
            <a:ext cx="138888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МВидео</cp:lastModifiedBy>
  <dcterms:modified xsi:type="dcterms:W3CDTF">2014-01-20T10:42:03Z</dcterms:modified>
  <cp:revision>33</cp:revision>
  <dc:subject/>
  <dc:title>Презентация PowerPoint</dc:title>
</cp:coreProperties>
</file>