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11.jpeg" ContentType="image/jpeg"/>
  <Override PartName="/ppt/media/image19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B4EA-8B1A-4D22-9911-5FD2BCD9B8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можно провести практикум по УУД. На шаге №2 – можно проиграть как метод.объединение читает Схему анализа по УУД (3-4 или 5-6 класса). Например: укажите какие УУД вы часто развиваете, а какие – редк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F4CD-59E7-4230-8A44-9C997BFAAF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0CBD-BEA3-4705-B341-FD8869D742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C539-7669-4F9F-988A-7E43E407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2F9-96FD-4249-84AE-70DF17B0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9DEC5-8618-443D-8584-45F7A4BF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93F7F-D4B6-4C00-997F-41EFBEB3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7E7D2-D66B-4F34-A193-25262217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28507-D95E-4FFF-B29F-B1549E6C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96A03-7CA5-4E01-9DC8-6B96D03D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86BDB-1A1B-4744-8057-724262C6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92061-D33A-4AC9-8B18-17FB5225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46C85-1B9D-45CF-A97B-5B06D989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4EFD4-4817-4A2C-BE11-9E22646D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79976-2904-4354-A48C-DDA913D5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5C2-D235-43C4-9935-4189C4EE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710C0-1040-4898-809C-A13C3F0F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E9C57-CE17-4617-A912-74F6B6CC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C1406-D873-4EFD-A8AC-10BE8625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72EE9-73A1-4F78-BDBD-CAD47A06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BC9EF-2D6F-485B-B4E8-724C68D1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F526A-4087-46E7-BDA7-AAB1A757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24E89-B5C2-49EF-BA9F-EE5CC4C4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7CAF3-5E08-43A7-909C-A735C6BC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20A1B-8A21-46DA-8D81-D62438F7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98E41-B69A-4B9D-ABB5-80D39485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4C3-24D4-4149-B438-3B79732E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0D43C-FC03-4D55-B57D-C26B1D33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6E09B-5A5C-4AA2-8A80-1A3FA195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B073D-F6E1-4B1C-A493-57276537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E6828-0472-40C7-ACE2-1FF80ABC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352EF-D366-4FAD-8AB1-A227BB4F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7A0FB-10EC-46A1-9CA9-EE48AA72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E7B92-3A7D-4688-A2FE-2C94E326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55870-5845-4B11-84A5-B9EEFBF0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08A6A-8231-4C01-A422-598FB14E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FF6C6-1890-471F-BB3A-B9AA3D97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6663-55C6-4F3D-A76F-F5CFBBA3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A9FC4-668B-4EEB-BB0E-277EDAF4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7DA0E-BCDC-4044-B5C9-50EC6571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BA693-7669-4CC4-B99D-7194432B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22ECD-EA44-40CA-9063-3771D52A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5D630-031D-4B15-9EE6-25C49875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DB0B3-1986-440D-9F78-540CB1B2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381F8-74C4-4686-B0D9-EEE29FC3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FAEA4-39DD-42E3-B494-A9707940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67205-2880-49C4-B26C-96EF843B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F67CF-0DDA-4021-8BC9-7C36B501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5103-75EC-47A5-A228-99A6D5E4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61ABA-763C-432E-BE00-9AEEBEF6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F806F-2869-4AE3-869F-F049FE3F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C40E1-C677-4783-AC40-618D1D94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FF114-96B5-478D-94F5-FF71E83D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EF1D3-706F-4907-999B-DBBAB61D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4AA66-903A-4993-8891-2CE8D86F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8AB38C-8E7C-4280-8B09-6E453A06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F03CC-0FFD-479F-B620-E2084741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E7E36-93F7-47A1-849B-8BFC323B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79906-08A6-477A-9E82-CCC7DBFD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76C2-6FAD-4A11-B655-C352D209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80947-00C3-4BD7-87F8-E9FC9561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294C43-2B01-4451-8DEB-84276485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A97ACE-2EFB-476B-BF22-648C85ED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97BD8-A05D-487B-AD1A-8B5B3E67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3824F-5414-4AF4-8F30-0B84757F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C9D84-EF61-4707-AB96-FD239CD1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774B72-643D-4C99-BEBD-C6101167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83C915-7CFF-42E3-B811-1930B6EC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A50320-FC96-462D-90C3-485F5DAB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20A0A3-465A-4760-82A6-92E573DA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1B6B-7C81-4BEC-8622-93D387A6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0F278D-40CD-461E-ABD4-B919922C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F0CFAE-3C35-44DC-8D26-078A4DFE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40DCE9-F15B-473C-8E62-640EC7F0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DA9AC-3675-4FCE-A290-03F520BF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D8CC25-9B07-47BB-83ED-16D775F9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91F76-CC7D-471B-86A2-66F2AFAF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2841BF-766F-43F6-9EE7-3A9BCBB8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591C0A-6C07-456C-8F13-88BE40D1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E4026B-C434-429C-8C81-72FA0C25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118B90-7877-4A24-931A-91492FAF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0F48-9466-4EA0-869C-9DC8255A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8BC0C5-0CBD-4EE1-A11D-58C307DB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445BCB-65F2-4DA4-9839-6E8BDF0C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13815E-7984-4DF0-8DE6-0EE8B746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7275FA-3B19-4682-AEB7-52F534AB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0D78D5-0247-4DEB-9D37-D972F352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37E013-0527-44C2-B127-88A59069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254F04-E0F4-42D2-BA96-EEE75D9A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7F0B8D-9917-42E7-9B2F-972870CF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17D075-DDF9-428A-A0DF-0B7544B9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1D61B7-DB8E-4C87-A527-2F7299F3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C915-15A4-41E7-A919-0754E444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6E6746-109C-4276-B83D-C608326A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0E3B-1005-47A1-8A2E-56342DB5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A64-B4D1-40E9-A23F-2014B2F2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C23A-853A-4C20-B9B9-3319324C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5176-2E62-499C-B20D-08B5313C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1514-6E48-4330-A20C-C85A7241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9A6B-96C1-4698-817F-AEFAC25C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5A04-ABDB-49C3-BBD4-D8440372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B636C-5901-41C5-A64C-F3F033F3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5F603-8824-4979-8C18-7324A9DE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BCBD1-4B06-4F0F-B94F-6AF0DB22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F8282-B56C-482B-9BB5-5930AB27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B3D41-066F-4229-8928-E90E32D7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B04-EBCA-446E-A79A-BB286515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2CA6E-7310-4FA3-A6A3-90169B07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9A244-60C8-4F5B-9C08-40610BCE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99607-24CF-4D55-B471-87D1003E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83CD3-847F-4A9A-9B29-55E57B33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AB75D-0490-4E1D-8769-91134AFB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F0D5E-BE92-4741-9B10-5E1F564E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7D6DE-C307-4C6D-907E-53511E67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D78CE-D27F-4698-B3E3-9A8D85C4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ED4CB-C888-43E2-BFB8-46D12B7C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5E075-691D-4A6F-B48C-8B2954F1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BCB-F9E9-43BB-B179-0952A1A4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3C2D6-5FFF-405B-80BB-223C5810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80617-86A2-4C64-A291-5CCBBA02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B03ED-7997-4F37-9320-CFC17816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20A35-0CB7-4F94-8B78-AB3CDDFC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188B1-9A71-492F-A1C7-283868D8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F1AD1-6A4A-4F41-B5EA-7CAD7D90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20D32-E3F8-47B2-98DF-E78CE760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0DC0E-D78E-494D-9809-0CCC0273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C0907-7DBC-4850-9DFC-A1A196B9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4F4F8-70CB-48E3-9EAE-8F170601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210-6F6E-4182-B50B-F167FE0F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CC709-DE8B-41BF-8EE2-D0A1B454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CBA01-2306-435D-AC5D-5C8FC93B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4B4CF-B09F-48FC-8A7F-F22313E5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3E76A-C455-4491-997B-EBB2DFA6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228E3-4D02-4680-A95F-9A07EE39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7C123-DCDF-4F6C-B253-482E5A8B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0CA1F-2222-4C28-9C67-BF84F00C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60DF5-B270-4CE1-83A5-8E1CD087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A41FA-2972-4A96-B18D-AF6B7844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E09C4-4E8C-4FB9-9AC0-8E5D232E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F8CA-E4ED-4104-8796-246A956D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AB96D-CD09-478D-9E0D-A69B0908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DD66E-64DD-4429-B243-F73DD9FF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5FB9F-B779-4696-9D1B-0DCA3A49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FC309-4B34-47D1-BFF6-7E80D0AD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01BDE-5FD9-47A1-AE2B-C716FDB5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A3337-489C-495D-B192-FD37A9DB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AEB8D-0FFD-43CB-A345-07B1E52E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0E781-493A-40A4-BDBA-3C7F68DF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6CCE2-96C2-4336-97E0-0F76250E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05FEA-83CC-40B1-A92D-44B6C91D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6DA-E5E2-430C-A0C7-047212D1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431F3-0AFC-4EAD-A2B1-EF2C4830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59BF5-15AE-46F5-8E34-0587B0AE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CD1AF-5C82-4F64-A750-EB0FE890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82E2F-9D17-40D3-8A0A-5B02D546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27217-97C6-4A61-A6FB-031CF464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5F09F-6C7D-49A5-B090-52F6E56B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BAE4F-ACB4-4B25-9519-D0AC80B9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B77D5-5A28-4597-A2DD-5235212E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91FCA-9633-4206-BE9C-88B040DD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6166F-0262-4DB8-AA32-FDFE2B12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008-21D5-4A8E-8636-AE13BCAE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86CF9-B80B-4A99-B77F-A2E1A0B2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8BA0C-517C-4D41-AB60-A42B049F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21643-E80B-4927-A354-67CAA1D4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0923D-E3BE-433F-85B9-F74068D3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E6379-00C0-41CA-9C78-56DF971A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07B55-C66F-40B7-9DAD-195283A5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5584C-56F8-43C8-95EB-E5AC3695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2CBC3-5505-44A1-8964-7EFFA50D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CEF86-4445-4DFE-9A56-78E58EB3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369DE-52F4-4896-8AA7-FE0B3E1B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68A-BBF9-4A63-A2B7-1D265CA4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6C4D2-D72C-4214-9DCE-A953921D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FAF9D-AA8E-4886-A2C9-894B2C87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EAC51-AB9C-4D28-85DD-026AC102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A3512-7FA1-4CF1-A8E2-5500FAA8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F123C-BCA7-439E-82B8-1D5BC2E2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90DB6-AE38-4CD6-A95D-1D552048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1EF44-4F5E-49BB-833C-F8DA60A6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D86DE-E922-4E46-9D7A-814C642E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FCDB5-EEEB-4854-B745-8473ADFD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1210B-36A3-40A1-8AE4-B68299F2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C1B5-A15C-4686-8F9B-E7219C6F2B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1047-9EEA-4850-AE0F-D442B7581BF1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156B-B696-45B9-86E8-8E47647C8741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6FB1-3A64-4DFB-99F5-C1C3C125E259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363A-F7DB-4AF9-B9A6-A4BD1746011C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4552-23C8-4D6C-9046-B8835436E00A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FFB3-9628-4414-99D7-F258904C8988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777D-4713-447F-9017-22FB84C50B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BC6F-DB39-4C19-AC06-0FD904A45DA3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1DD9-DA4D-41F7-83FA-27A502D4F448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B9A9-8E73-4ED0-A19F-B40618F5B4F1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E5E3-0B39-4754-A0A1-3929D7CC64CF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AFE8-7CD2-4062-A0A5-B8C496600876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2698-E01E-43ED-A42E-DF4848BAF393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5E55-0E46-493D-B0D4-DF29B68D483F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3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6.png"/><Relationship Id="rId12" Type="http://schemas.openxmlformats.org/officeDocument/2006/relationships/image" Target="../media/image3.wmf"/><Relationship Id="rId13" Type="http://schemas.openxmlformats.org/officeDocument/2006/relationships/image" Target="../media/image9.wmf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97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hyperlink" Target="http://ruprom-image.s3.amazonaws.com/140181_w640_h640_1111111111111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ruprom-image.s3.amazonaws.com/140181_w640_h640_1111111111111.jpg" TargetMode="External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hyperlink" Target="http://ruprom-image.s3.amazonaws.com/140181_w640_h640_1111111111111.jpg" TargetMode="External"/><Relationship Id="rId12" Type="http://schemas.openxmlformats.org/officeDocument/2006/relationships/image" Target="../media/image11.jpeg"/><Relationship Id="rId13" Type="http://schemas.openxmlformats.org/officeDocument/2006/relationships/hyperlink" Target="http://ruprom-image.s3.amazonaws.com/140181_w640_h640_1111111111111.jpg" TargetMode="External"/><Relationship Id="rId14" Type="http://schemas.openxmlformats.org/officeDocument/2006/relationships/image" Target="../media/image11.jpeg"/><Relationship Id="rId15" Type="http://schemas.openxmlformats.org/officeDocument/2006/relationships/hyperlink" Target="http://ruprom-image.s3.amazonaws.com/140181_w640_h640_1111111111111.jpg" TargetMode="External"/><Relationship Id="rId16" Type="http://schemas.openxmlformats.org/officeDocument/2006/relationships/image" Target="../media/image11.jpeg"/><Relationship Id="rId17" Type="http://schemas.openxmlformats.org/officeDocument/2006/relationships/hyperlink" Target="http://ruprom-image.s3.amazonaws.com/140181_w640_h640_1111111111111.jpg" TargetMode="External"/><Relationship Id="rId18" Type="http://schemas.openxmlformats.org/officeDocument/2006/relationships/image" Target="../media/image11.jpeg"/><Relationship Id="rId19" Type="http://schemas.openxmlformats.org/officeDocument/2006/relationships/hyperlink" Target="http://ruprom-image.s3.amazonaws.com/140181_w640_h640_1111111111111.jpg" TargetMode="External"/><Relationship Id="rId20" Type="http://schemas.openxmlformats.org/officeDocument/2006/relationships/image" Target="../media/image11.jpeg"/><Relationship Id="rId21" Type="http://schemas.openxmlformats.org/officeDocument/2006/relationships/hyperlink" Target="http://ruprom-image.s3.amazonaws.com/140181_w640_h640_1111111111111.jpg" TargetMode="External"/><Relationship Id="rId22" Type="http://schemas.openxmlformats.org/officeDocument/2006/relationships/image" Target="../media/image11.jpeg"/><Relationship Id="rId23" Type="http://schemas.openxmlformats.org/officeDocument/2006/relationships/hyperlink" Target="http://ruprom-image.s3.amazonaws.com/140181_w640_h640_1111111111111.jpg" TargetMode="External"/><Relationship Id="rId24" Type="http://schemas.openxmlformats.org/officeDocument/2006/relationships/image" Target="../media/image11.jpeg"/><Relationship Id="rId25" Type="http://schemas.openxmlformats.org/officeDocument/2006/relationships/hyperlink" Target="http://ruprom-image.s3.amazonaws.com/140181_w640_h640_1111111111111.jpg" TargetMode="External"/><Relationship Id="rId26" Type="http://schemas.openxmlformats.org/officeDocument/2006/relationships/image" Target="../media/image11.jpeg"/><Relationship Id="rId27" Type="http://schemas.openxmlformats.org/officeDocument/2006/relationships/hyperlink" Target="http://ruprom-image.s3.amazonaws.com/140181_w640_h640_1111111111111.jpg" TargetMode="External"/><Relationship Id="rId28" Type="http://schemas.openxmlformats.org/officeDocument/2006/relationships/image" Target="../media/image11.jpeg"/><Relationship Id="rId29" Type="http://schemas.openxmlformats.org/officeDocument/2006/relationships/hyperlink" Target="http://ruprom-image.s3.amazonaws.com/140181_w640_h640_1111111111111.jpg" TargetMode="External"/><Relationship Id="rId30" Type="http://schemas.openxmlformats.org/officeDocument/2006/relationships/image" Target="../media/image11.jpeg"/><Relationship Id="rId31" Type="http://schemas.openxmlformats.org/officeDocument/2006/relationships/hyperlink" Target="http://ruprom-image.s3.amazonaws.com/140181_w640_h640_1111111111111.jpg" TargetMode="External"/><Relationship Id="rId32" Type="http://schemas.openxmlformats.org/officeDocument/2006/relationships/image" Target="../media/image11.jpeg"/><Relationship Id="rId33" Type="http://schemas.openxmlformats.org/officeDocument/2006/relationships/hyperlink" Target="http://ruprom-image.s3.amazonaws.com/140181_w640_h640_1111111111111.jpg" TargetMode="External"/><Relationship Id="rId34" Type="http://schemas.openxmlformats.org/officeDocument/2006/relationships/image" Target="../media/image11.jpeg"/><Relationship Id="rId35" Type="http://schemas.openxmlformats.org/officeDocument/2006/relationships/hyperlink" Target="http://ruprom-image.s3.amazonaws.com/140181_w640_h640_1111111111111.jpg" TargetMode="External"/><Relationship Id="rId36" Type="http://schemas.openxmlformats.org/officeDocument/2006/relationships/image" Target="../media/image11.jpeg"/><Relationship Id="rId37" Type="http://schemas.openxmlformats.org/officeDocument/2006/relationships/hyperlink" Target="http://ruprom-image.s3.amazonaws.com/140181_w640_h640_1111111111111.jpg" TargetMode="External"/><Relationship Id="rId38" Type="http://schemas.openxmlformats.org/officeDocument/2006/relationships/image" Target="../media/image11.jpeg"/><Relationship Id="rId39" Type="http://schemas.openxmlformats.org/officeDocument/2006/relationships/hyperlink" Target="http://ruprom-image.s3.amazonaws.com/140181_w640_h640_1111111111111.jpg" TargetMode="External"/><Relationship Id="rId40" Type="http://schemas.openxmlformats.org/officeDocument/2006/relationships/image" Target="../media/image11.jpeg"/><Relationship Id="rId41" Type="http://schemas.openxmlformats.org/officeDocument/2006/relationships/hyperlink" Target="http://ruprom-image.s3.amazonaws.com/140181_w640_h640_1111111111111.jpg" TargetMode="External"/><Relationship Id="rId42" Type="http://schemas.openxmlformats.org/officeDocument/2006/relationships/image" Target="../media/image11.jpe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image" Target="../media/image13.png"/><Relationship Id="rId46" Type="http://schemas.openxmlformats.org/officeDocument/2006/relationships/image" Target="../media/image14.png"/><Relationship Id="rId47" Type="http://schemas.openxmlformats.org/officeDocument/2006/relationships/image" Target="../media/image6.png"/><Relationship Id="rId48" Type="http://schemas.openxmlformats.org/officeDocument/2006/relationships/image" Target="../media/image15.png"/><Relationship Id="rId49" Type="http://schemas.openxmlformats.org/officeDocument/2006/relationships/image" Target="../media/image16.png"/><Relationship Id="rId50" Type="http://schemas.openxmlformats.org/officeDocument/2006/relationships/slideLayout" Target="../slideLayouts/slideLayout37.xml"/><Relationship Id="rId5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6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203640" y="2130120"/>
            <a:ext cx="5254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mbria Math"/>
                <a:ea typeface="Cambria Math"/>
              </a:rPr>
              <a:t>Технология организации преемственности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между ступенями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общеобразовательной школы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как условие получения нового образовательного результата   в  условиях введения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ФГ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 flipH="1" rot="1171800">
            <a:off x="6555960" y="394920"/>
            <a:ext cx="535320" cy="10116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"/>
          <p:cNvPicPr/>
          <p:nvPr/>
        </p:nvPicPr>
        <p:blipFill>
          <a:blip r:embed="rId2"/>
          <a:stretch/>
        </p:blipFill>
        <p:spPr>
          <a:xfrm flipH="1">
            <a:off x="8278920" y="65160"/>
            <a:ext cx="412560" cy="923760"/>
          </a:xfrm>
          <a:prstGeom prst="rect">
            <a:avLst/>
          </a:prstGeom>
          <a:ln w="0">
            <a:noFill/>
          </a:ln>
        </p:spPr>
      </p:pic>
      <p:sp>
        <p:nvSpPr>
          <p:cNvPr id="625" name="AutoShape 9"/>
          <p:cNvSpPr/>
          <p:nvPr/>
        </p:nvSpPr>
        <p:spPr>
          <a:xfrm>
            <a:off x="8278920" y="28440"/>
            <a:ext cx="431640" cy="48132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81320"/>
              <a:gd name="textAreaBottom" fmla="*/ 460440 h 481320"/>
            </a:gdLst>
            <a:ahLst/>
            <a:rect l="textAreaLeft" t="textAreaTop" r="textAreaRight" b="textAreaBottom"/>
            <a:pathLst>
              <a:path w="21600" h="24084">
                <a:moveTo>
                  <a:pt x="3600" y="0"/>
                </a:moveTo>
                <a:arcTo wR="3600" hR="3600" stAng="16200000" swAng="-5400000"/>
                <a:lnTo>
                  <a:pt x="0" y="20484"/>
                </a:lnTo>
                <a:arcTo wR="3600" hR="3600" stAng="10800000" swAng="-5400000"/>
                <a:lnTo>
                  <a:pt x="18000" y="240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Picture 4" descr=""/>
          <p:cNvPicPr/>
          <p:nvPr/>
        </p:nvPicPr>
        <p:blipFill>
          <a:blip r:embed="rId3"/>
          <a:stretch/>
        </p:blipFill>
        <p:spPr>
          <a:xfrm>
            <a:off x="1619280" y="3429000"/>
            <a:ext cx="1388880" cy="14382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" descr=""/>
          <p:cNvPicPr/>
          <p:nvPr/>
        </p:nvPicPr>
        <p:blipFill>
          <a:blip r:embed="rId4"/>
          <a:stretch/>
        </p:blipFill>
        <p:spPr>
          <a:xfrm flipH="1">
            <a:off x="1258560" y="4429080"/>
            <a:ext cx="617400" cy="137628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 txBox="1"/>
          <p:nvPr/>
        </p:nvSpPr>
        <p:spPr>
          <a:xfrm>
            <a:off x="108000" y="-360"/>
            <a:ext cx="647064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mbria Math"/>
                <a:ea typeface="Cambria Math"/>
              </a:rPr>
              <a:t>Технология организации преемственности: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44"/>
          <p:cNvSpPr/>
          <p:nvPr/>
        </p:nvSpPr>
        <p:spPr>
          <a:xfrm>
            <a:off x="1333440" y="572436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 Box 49"/>
          <p:cNvSpPr/>
          <p:nvPr/>
        </p:nvSpPr>
        <p:spPr>
          <a:xfrm>
            <a:off x="3240" y="6524640"/>
            <a:ext cx="91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Методическое объединение (МО) = начальная + основная ш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Line 44"/>
          <p:cNvSpPr/>
          <p:nvPr/>
        </p:nvSpPr>
        <p:spPr>
          <a:xfrm>
            <a:off x="2289240" y="490068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Line 44"/>
          <p:cNvSpPr/>
          <p:nvPr/>
        </p:nvSpPr>
        <p:spPr>
          <a:xfrm>
            <a:off x="3352680" y="399888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Line 44"/>
          <p:cNvSpPr/>
          <p:nvPr/>
        </p:nvSpPr>
        <p:spPr>
          <a:xfrm>
            <a:off x="4495680" y="314172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Line 44"/>
          <p:cNvSpPr/>
          <p:nvPr/>
        </p:nvSpPr>
        <p:spPr>
          <a:xfrm>
            <a:off x="5638680" y="227664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Line 44"/>
          <p:cNvSpPr/>
          <p:nvPr/>
        </p:nvSpPr>
        <p:spPr>
          <a:xfrm>
            <a:off x="6781680" y="155736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Line 44"/>
          <p:cNvSpPr/>
          <p:nvPr/>
        </p:nvSpPr>
        <p:spPr>
          <a:xfrm>
            <a:off x="108000" y="659772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Line 44"/>
          <p:cNvSpPr/>
          <p:nvPr/>
        </p:nvSpPr>
        <p:spPr>
          <a:xfrm>
            <a:off x="7924680" y="83664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 Box 49"/>
          <p:cNvSpPr/>
          <p:nvPr/>
        </p:nvSpPr>
        <p:spPr>
          <a:xfrm>
            <a:off x="1258920" y="5661000"/>
            <a:ext cx="78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МО: портрет выпускника (+ технологии и содержани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 Box 49"/>
          <p:cNvSpPr/>
          <p:nvPr/>
        </p:nvSpPr>
        <p:spPr>
          <a:xfrm>
            <a:off x="2195640" y="4869000"/>
            <a:ext cx="50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Открытые уроки в 4-м кл. + М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 Box 49"/>
          <p:cNvSpPr/>
          <p:nvPr/>
        </p:nvSpPr>
        <p:spPr>
          <a:xfrm>
            <a:off x="3276720" y="393372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Совместные уроки в 4-м кл. + М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 Box 49"/>
          <p:cNvSpPr/>
          <p:nvPr/>
        </p:nvSpPr>
        <p:spPr>
          <a:xfrm>
            <a:off x="4643280" y="3068640"/>
            <a:ext cx="44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Диагностика + род.собр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 Box 49"/>
          <p:cNvSpPr/>
          <p:nvPr/>
        </p:nvSpPr>
        <p:spPr>
          <a:xfrm>
            <a:off x="5580000" y="220500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. Уроки в 5-м кл. + М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 Box 49"/>
          <p:cNvSpPr/>
          <p:nvPr/>
        </p:nvSpPr>
        <p:spPr>
          <a:xfrm>
            <a:off x="6732720" y="1484280"/>
            <a:ext cx="24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. МО: адапт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 Box 49"/>
          <p:cNvSpPr/>
          <p:nvPr/>
        </p:nvSpPr>
        <p:spPr>
          <a:xfrm>
            <a:off x="7740720" y="765000"/>
            <a:ext cx="16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u-RU" sz="2000" spc="-1" strike="noStrike">
                <a:solidFill>
                  <a:srgbClr val="ff0000"/>
                </a:solidFill>
                <a:latin typeface="Cambria Math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Эффек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utoShape 9"/>
          <p:cNvSpPr/>
          <p:nvPr/>
        </p:nvSpPr>
        <p:spPr>
          <a:xfrm>
            <a:off x="1258920" y="4397400"/>
            <a:ext cx="646200" cy="760320"/>
          </a:xfrm>
          <a:custGeom>
            <a:avLst/>
            <a:gdLst>
              <a:gd name="textAreaLeft" fmla="*/ 31320 w 646200"/>
              <a:gd name="textAreaRight" fmla="*/ 614880 w 646200"/>
              <a:gd name="textAreaTop" fmla="*/ 31320 h 760320"/>
              <a:gd name="textAreaBottom" fmla="*/ 729000 h 760320"/>
            </a:gdLst>
            <a:ahLst/>
            <a:rect l="textAreaLeft" t="textAreaTop" r="textAreaRight" b="textAreaBottom"/>
            <a:pathLst>
              <a:path w="21600" h="25412">
                <a:moveTo>
                  <a:pt x="3600" y="0"/>
                </a:moveTo>
                <a:arcTo wR="3600" hR="3600" stAng="16200000" swAng="-5400000"/>
                <a:lnTo>
                  <a:pt x="0" y="21812"/>
                </a:lnTo>
                <a:arcTo wR="3600" hR="3600" stAng="10800000" swAng="-5400000"/>
                <a:lnTo>
                  <a:pt x="18000" y="254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5"/>
          <a:stretch/>
        </p:blipFill>
        <p:spPr>
          <a:xfrm>
            <a:off x="-88920" y="4869000"/>
            <a:ext cx="878040" cy="16635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" descr=""/>
          <p:cNvPicPr/>
          <p:nvPr/>
        </p:nvPicPr>
        <p:blipFill>
          <a:blip r:embed="rId6"/>
          <a:stretch/>
        </p:blipFill>
        <p:spPr>
          <a:xfrm>
            <a:off x="755640" y="4869000"/>
            <a:ext cx="457200" cy="16952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" descr=""/>
          <p:cNvPicPr/>
          <p:nvPr/>
        </p:nvPicPr>
        <p:blipFill>
          <a:blip r:embed="rId7"/>
          <a:stretch/>
        </p:blipFill>
        <p:spPr>
          <a:xfrm>
            <a:off x="3352680" y="2495520"/>
            <a:ext cx="1387440" cy="14382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6" descr=""/>
          <p:cNvPicPr/>
          <p:nvPr/>
        </p:nvPicPr>
        <p:blipFill>
          <a:blip r:embed="rId8"/>
          <a:stretch/>
        </p:blipFill>
        <p:spPr>
          <a:xfrm>
            <a:off x="3114720" y="2405160"/>
            <a:ext cx="422280" cy="15634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"/>
          <p:cNvPicPr/>
          <p:nvPr/>
        </p:nvPicPr>
        <p:blipFill>
          <a:blip r:embed="rId9"/>
          <a:stretch/>
        </p:blipFill>
        <p:spPr>
          <a:xfrm>
            <a:off x="2916360" y="3468600"/>
            <a:ext cx="376200" cy="13986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4" descr=""/>
          <p:cNvPicPr/>
          <p:nvPr/>
        </p:nvPicPr>
        <p:blipFill>
          <a:blip r:embed="rId10"/>
          <a:stretch/>
        </p:blipFill>
        <p:spPr>
          <a:xfrm>
            <a:off x="5533920" y="965160"/>
            <a:ext cx="1198800" cy="123984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" descr=""/>
          <p:cNvPicPr/>
          <p:nvPr/>
        </p:nvPicPr>
        <p:blipFill>
          <a:blip r:embed="rId11"/>
          <a:stretch/>
        </p:blipFill>
        <p:spPr>
          <a:xfrm>
            <a:off x="6227640" y="907920"/>
            <a:ext cx="351000" cy="12970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" descr=""/>
          <p:cNvPicPr/>
          <p:nvPr/>
        </p:nvPicPr>
        <p:blipFill>
          <a:blip r:embed="rId12"/>
          <a:stretch/>
        </p:blipFill>
        <p:spPr>
          <a:xfrm flipH="1">
            <a:off x="7019640" y="620640"/>
            <a:ext cx="398520" cy="8892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" descr=""/>
          <p:cNvPicPr/>
          <p:nvPr/>
        </p:nvPicPr>
        <p:blipFill>
          <a:blip r:embed="rId13"/>
          <a:stretch/>
        </p:blipFill>
        <p:spPr>
          <a:xfrm flipH="1" rot="20253000">
            <a:off x="7481880" y="406080"/>
            <a:ext cx="336600" cy="110952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"/>
          <p:cNvSpPr/>
          <p:nvPr/>
        </p:nvSpPr>
        <p:spPr>
          <a:xfrm>
            <a:off x="3203640" y="1197000"/>
            <a:ext cx="22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 Math"/>
              </a:rPr>
              <a:t>Практикум по УУ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Рисунок 37" descr="1H.jpg"/>
          <p:cNvPicPr/>
          <p:nvPr/>
        </p:nvPicPr>
        <p:blipFill>
          <a:blip r:embed="rId14"/>
          <a:stretch/>
        </p:blipFill>
        <p:spPr>
          <a:xfrm>
            <a:off x="4716360" y="1982880"/>
            <a:ext cx="8636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Скругленный прямоугольник 107"/>
          <p:cNvSpPr/>
          <p:nvPr/>
        </p:nvSpPr>
        <p:spPr>
          <a:xfrm>
            <a:off x="1047600" y="2514600"/>
            <a:ext cx="3218040" cy="527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подготовили замеча-тельных детей, а вы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Скругленный прямоугольник 108"/>
          <p:cNvSpPr/>
          <p:nvPr/>
        </p:nvSpPr>
        <p:spPr>
          <a:xfrm>
            <a:off x="4859280" y="2514600"/>
            <a:ext cx="3218040" cy="527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 ваши дети ничего не знают и не уме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 Box 49"/>
          <p:cNvSpPr/>
          <p:nvPr/>
        </p:nvSpPr>
        <p:spPr>
          <a:xfrm>
            <a:off x="-76320" y="990720"/>
            <a:ext cx="197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Уроки 4 кл</a:t>
            </a:r>
            <a:r>
              <a:rPr b="1" lang="ru-RU" sz="20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 Box 49"/>
          <p:cNvSpPr/>
          <p:nvPr/>
        </p:nvSpPr>
        <p:spPr>
          <a:xfrm>
            <a:off x="-76320" y="76320"/>
            <a:ext cx="21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ff0000"/>
                </a:solidFill>
                <a:latin typeface="Cambria Math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Диагнос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49"/>
          <p:cNvSpPr/>
          <p:nvPr/>
        </p:nvSpPr>
        <p:spPr>
          <a:xfrm>
            <a:off x="7740720" y="76320"/>
            <a:ext cx="147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. Уроки в 5 к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49"/>
          <p:cNvSpPr/>
          <p:nvPr/>
        </p:nvSpPr>
        <p:spPr>
          <a:xfrm>
            <a:off x="7696080" y="1504800"/>
            <a:ext cx="155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8.Диагнос-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49"/>
          <p:cNvSpPr/>
          <p:nvPr/>
        </p:nvSpPr>
        <p:spPr>
          <a:xfrm>
            <a:off x="-66600" y="568440"/>
            <a:ext cx="38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Совмес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тные уро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49"/>
          <p:cNvSpPr/>
          <p:nvPr/>
        </p:nvSpPr>
        <p:spPr>
          <a:xfrm>
            <a:off x="-76320" y="1504800"/>
            <a:ext cx="32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 Math"/>
              </a:rPr>
              <a:t>2.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Портрет выпуск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 Box 49"/>
          <p:cNvSpPr/>
          <p:nvPr/>
        </p:nvSpPr>
        <p:spPr>
          <a:xfrm>
            <a:off x="-76320" y="1962000"/>
            <a:ext cx="42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МО педагогов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ач. и осн. ш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49"/>
          <p:cNvSpPr/>
          <p:nvPr/>
        </p:nvSpPr>
        <p:spPr>
          <a:xfrm>
            <a:off x="7696080" y="8161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7.МО адап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7" name="Группа 13"/>
          <p:cNvGrpSpPr/>
          <p:nvPr/>
        </p:nvGrpSpPr>
        <p:grpSpPr>
          <a:xfrm>
            <a:off x="4140360" y="47160"/>
            <a:ext cx="517320" cy="6704280"/>
            <a:chOff x="4140360" y="47160"/>
            <a:chExt cx="517320" cy="6704280"/>
          </a:xfrm>
        </p:grpSpPr>
        <p:grpSp>
          <p:nvGrpSpPr>
            <p:cNvPr id="668" name="Группа 12"/>
            <p:cNvGrpSpPr/>
            <p:nvPr/>
          </p:nvGrpSpPr>
          <p:grpSpPr>
            <a:xfrm>
              <a:off x="4140360" y="3773880"/>
              <a:ext cx="517320" cy="2977560"/>
              <a:chOff x="4140360" y="3773880"/>
              <a:chExt cx="517320" cy="2977560"/>
            </a:xfrm>
          </p:grpSpPr>
          <p:grpSp>
            <p:nvGrpSpPr>
              <p:cNvPr id="669" name="Группа 55"/>
              <p:cNvGrpSpPr/>
              <p:nvPr/>
            </p:nvGrpSpPr>
            <p:grpSpPr>
              <a:xfrm>
                <a:off x="4140360" y="5256000"/>
                <a:ext cx="517320" cy="1495440"/>
                <a:chOff x="4140360" y="5256000"/>
                <a:chExt cx="517320" cy="1495440"/>
              </a:xfrm>
            </p:grpSpPr>
            <p:pic>
              <p:nvPicPr>
                <p:cNvPr id="670" name="Picture 2" descr="http://ruprom-image.s3.amazonaws.com/140181_w640_h640_1111111111111.jpg"/>
                <p:cNvPicPr/>
                <p:nvPr/>
              </p:nvPicPr>
              <p:blipFill>
                <a:blip r:embed="rId1"/>
                <a:stretch/>
              </p:blipFill>
              <p:spPr>
                <a:xfrm flipH="1" rot="10800000">
                  <a:off x="4140360" y="636804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Picture 2" descr="http://ruprom-image.s3.amazonaws.com/140181_w640_h640_1111111111111.jpg"/>
                <p:cNvPicPr/>
                <p:nvPr/>
              </p:nvPicPr>
              <p:blipFill>
                <a:blip r:embed="rId2"/>
                <a:stretch/>
              </p:blipFill>
              <p:spPr>
                <a:xfrm flipH="1" rot="10800000">
                  <a:off x="4146840" y="598428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2" name="Picture 2" descr="http://ruprom-image.s3.amazonaws.com/140181_w640_h640_1111111111111.jpg"/>
                <p:cNvPicPr/>
                <p:nvPr/>
              </p:nvPicPr>
              <p:blipFill>
                <a:blip r:embed="rId3"/>
                <a:stretch/>
              </p:blipFill>
              <p:spPr>
                <a:xfrm flipH="1" rot="10800000">
                  <a:off x="4146840" y="560052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Picture 2" descr="http://ruprom-image.s3.amazonaws.com/140181_w640_h640_1111111111111.jpg"/>
                <p:cNvPicPr/>
                <p:nvPr/>
              </p:nvPicPr>
              <p:blipFill>
                <a:blip r:embed="rId4"/>
                <a:stretch/>
              </p:blipFill>
              <p:spPr>
                <a:xfrm flipH="1" rot="10800000">
                  <a:off x="4146840" y="525600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74" name="Группа 56"/>
              <p:cNvGrpSpPr/>
              <p:nvPr/>
            </p:nvGrpSpPr>
            <p:grpSpPr>
              <a:xfrm>
                <a:off x="4140360" y="3773880"/>
                <a:ext cx="517320" cy="1495440"/>
                <a:chOff x="4140360" y="3773880"/>
                <a:chExt cx="517320" cy="1495440"/>
              </a:xfrm>
            </p:grpSpPr>
            <p:pic>
              <p:nvPicPr>
                <p:cNvPr id="675" name="Picture 2" descr="http://ruprom-image.s3.amazonaws.com/140181_w640_h640_1111111111111.jpg">
                  <a:hlinkClick r:id="rId5"/>
                </p:cNvPr>
                <p:cNvPicPr/>
                <p:nvPr/>
              </p:nvPicPr>
              <p:blipFill>
                <a:blip r:embed="rId6"/>
                <a:stretch/>
              </p:blipFill>
              <p:spPr>
                <a:xfrm flipH="1" rot="10800000">
                  <a:off x="4140360" y="488592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6" name="Picture 2" descr="http://ruprom-image.s3.amazonaws.com/140181_w640_h640_1111111111111.jpg">
                  <a:hlinkClick r:id="rId7"/>
                </p:cNvPr>
                <p:cNvPicPr/>
                <p:nvPr/>
              </p:nvPicPr>
              <p:blipFill>
                <a:blip r:embed="rId8"/>
                <a:stretch/>
              </p:blipFill>
              <p:spPr>
                <a:xfrm flipH="1" rot="10800000">
                  <a:off x="4146840" y="450216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7" name="Picture 2" descr="http://ruprom-image.s3.amazonaws.com/140181_w640_h640_1111111111111.jpg"/>
                <p:cNvPicPr/>
                <p:nvPr/>
              </p:nvPicPr>
              <p:blipFill>
                <a:blip r:embed="rId9"/>
                <a:stretch/>
              </p:blipFill>
              <p:spPr>
                <a:xfrm flipH="1" rot="10800000">
                  <a:off x="4146840" y="411840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8" name="Picture 2" descr="http://ruprom-image.s3.amazonaws.com/140181_w640_h640_1111111111111.jpg"/>
                <p:cNvPicPr/>
                <p:nvPr/>
              </p:nvPicPr>
              <p:blipFill>
                <a:blip r:embed="rId10"/>
                <a:stretch/>
              </p:blipFill>
              <p:spPr>
                <a:xfrm flipH="1" rot="10800000">
                  <a:off x="4146840" y="377388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79" name="Группа 66"/>
            <p:cNvGrpSpPr/>
            <p:nvPr/>
          </p:nvGrpSpPr>
          <p:grpSpPr>
            <a:xfrm>
              <a:off x="4140360" y="831240"/>
              <a:ext cx="517320" cy="2977560"/>
              <a:chOff x="4140360" y="831240"/>
              <a:chExt cx="517320" cy="2977560"/>
            </a:xfrm>
          </p:grpSpPr>
          <p:grpSp>
            <p:nvGrpSpPr>
              <p:cNvPr id="680" name="Группа 67"/>
              <p:cNvGrpSpPr/>
              <p:nvPr/>
            </p:nvGrpSpPr>
            <p:grpSpPr>
              <a:xfrm>
                <a:off x="4140360" y="2313360"/>
                <a:ext cx="517320" cy="1495440"/>
                <a:chOff x="4140360" y="2313360"/>
                <a:chExt cx="517320" cy="1495440"/>
              </a:xfrm>
            </p:grpSpPr>
            <p:pic>
              <p:nvPicPr>
                <p:cNvPr id="681" name="Picture 2" descr="http://ruprom-image.s3.amazonaws.com/140181_w640_h640_1111111111111.jpg">
                  <a:hlinkClick r:id="rId11"/>
                </p:cNvPr>
                <p:cNvPicPr/>
                <p:nvPr/>
              </p:nvPicPr>
              <p:blipFill>
                <a:blip r:embed="rId12"/>
                <a:stretch/>
              </p:blipFill>
              <p:spPr>
                <a:xfrm flipH="1" rot="10800000">
                  <a:off x="4140360" y="342540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2" name="Picture 2" descr="http://ruprom-image.s3.amazonaws.com/140181_w640_h640_1111111111111.jpg">
                  <a:hlinkClick r:id="rId13"/>
                </p:cNvPr>
                <p:cNvPicPr/>
                <p:nvPr/>
              </p:nvPicPr>
              <p:blipFill>
                <a:blip r:embed="rId14"/>
                <a:stretch/>
              </p:blipFill>
              <p:spPr>
                <a:xfrm flipH="1" rot="10800000">
                  <a:off x="4146840" y="304164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3" name="Picture 2" descr="http://ruprom-image.s3.amazonaws.com/140181_w640_h640_1111111111111.jpg">
                  <a:hlinkClick r:id="rId15"/>
                </p:cNvPr>
                <p:cNvPicPr/>
                <p:nvPr/>
              </p:nvPicPr>
              <p:blipFill>
                <a:blip r:embed="rId16"/>
                <a:stretch/>
              </p:blipFill>
              <p:spPr>
                <a:xfrm flipH="1" rot="10800000">
                  <a:off x="4146840" y="265788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4" name="Picture 2" descr="http://ruprom-image.s3.amazonaws.com/140181_w640_h640_1111111111111.jpg">
                  <a:hlinkClick r:id="rId17"/>
                </p:cNvPr>
                <p:cNvPicPr/>
                <p:nvPr/>
              </p:nvPicPr>
              <p:blipFill>
                <a:blip r:embed="rId18"/>
                <a:stretch/>
              </p:blipFill>
              <p:spPr>
                <a:xfrm flipH="1" rot="10800000">
                  <a:off x="4146840" y="231336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85" name="Группа 68"/>
              <p:cNvGrpSpPr/>
              <p:nvPr/>
            </p:nvGrpSpPr>
            <p:grpSpPr>
              <a:xfrm>
                <a:off x="4140360" y="831240"/>
                <a:ext cx="517320" cy="1495440"/>
                <a:chOff x="4140360" y="831240"/>
                <a:chExt cx="517320" cy="1495440"/>
              </a:xfrm>
            </p:grpSpPr>
            <p:pic>
              <p:nvPicPr>
                <p:cNvPr id="686" name="Picture 2" descr="http://ruprom-image.s3.amazonaws.com/140181_w640_h640_1111111111111.jpg">
                  <a:hlinkClick r:id="rId19"/>
                </p:cNvPr>
                <p:cNvPicPr/>
                <p:nvPr/>
              </p:nvPicPr>
              <p:blipFill>
                <a:blip r:embed="rId20"/>
                <a:stretch/>
              </p:blipFill>
              <p:spPr>
                <a:xfrm flipH="1" rot="10800000">
                  <a:off x="4140360" y="194328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7" name="Picture 2" descr="http://ruprom-image.s3.amazonaws.com/140181_w640_h640_1111111111111.jpg">
                  <a:hlinkClick r:id="rId21"/>
                </p:cNvPr>
                <p:cNvPicPr/>
                <p:nvPr/>
              </p:nvPicPr>
              <p:blipFill>
                <a:blip r:embed="rId22"/>
                <a:stretch/>
              </p:blipFill>
              <p:spPr>
                <a:xfrm flipH="1" rot="10800000">
                  <a:off x="4146840" y="155952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8" name="Picture 2" descr="http://ruprom-image.s3.amazonaws.com/140181_w640_h640_1111111111111.jpg">
                  <a:hlinkClick r:id="rId23"/>
                </p:cNvPr>
                <p:cNvPicPr/>
                <p:nvPr/>
              </p:nvPicPr>
              <p:blipFill>
                <a:blip r:embed="rId24"/>
                <a:stretch/>
              </p:blipFill>
              <p:spPr>
                <a:xfrm flipH="1" rot="10800000">
                  <a:off x="4146840" y="117576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9" name="Picture 2" descr="http://ruprom-image.s3.amazonaws.com/140181_w640_h640_1111111111111.jpg">
                  <a:hlinkClick r:id="rId25"/>
                </p:cNvPr>
                <p:cNvPicPr/>
                <p:nvPr/>
              </p:nvPicPr>
              <p:blipFill>
                <a:blip r:embed="rId26"/>
                <a:stretch/>
              </p:blipFill>
              <p:spPr>
                <a:xfrm flipH="1" rot="10800000">
                  <a:off x="4146840" y="83124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90" name="Группа 80"/>
            <p:cNvGrpSpPr/>
            <p:nvPr/>
          </p:nvGrpSpPr>
          <p:grpSpPr>
            <a:xfrm>
              <a:off x="4140360" y="47160"/>
              <a:ext cx="517320" cy="2977560"/>
              <a:chOff x="4140360" y="47160"/>
              <a:chExt cx="517320" cy="2977560"/>
            </a:xfrm>
          </p:grpSpPr>
          <p:grpSp>
            <p:nvGrpSpPr>
              <p:cNvPr id="691" name="Группа 81"/>
              <p:cNvGrpSpPr/>
              <p:nvPr/>
            </p:nvGrpSpPr>
            <p:grpSpPr>
              <a:xfrm>
                <a:off x="4140360" y="1529280"/>
                <a:ext cx="517320" cy="1495440"/>
                <a:chOff x="4140360" y="1529280"/>
                <a:chExt cx="517320" cy="1495440"/>
              </a:xfrm>
            </p:grpSpPr>
            <p:pic>
              <p:nvPicPr>
                <p:cNvPr id="692" name="Picture 2" descr="http://ruprom-image.s3.amazonaws.com/140181_w640_h640_1111111111111.jpg">
                  <a:hlinkClick r:id="rId27"/>
                </p:cNvPr>
                <p:cNvPicPr/>
                <p:nvPr/>
              </p:nvPicPr>
              <p:blipFill>
                <a:blip r:embed="rId28"/>
                <a:stretch/>
              </p:blipFill>
              <p:spPr>
                <a:xfrm flipH="1" rot="10800000">
                  <a:off x="4140360" y="264132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3" name="Picture 2" descr="http://ruprom-image.s3.amazonaws.com/140181_w640_h640_1111111111111.jpg">
                  <a:hlinkClick r:id="rId29"/>
                </p:cNvPr>
                <p:cNvPicPr/>
                <p:nvPr/>
              </p:nvPicPr>
              <p:blipFill>
                <a:blip r:embed="rId30"/>
                <a:stretch/>
              </p:blipFill>
              <p:spPr>
                <a:xfrm flipH="1" rot="10800000">
                  <a:off x="4146840" y="225756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4" name="Picture 2" descr="http://ruprom-image.s3.amazonaws.com/140181_w640_h640_1111111111111.jpg">
                  <a:hlinkClick r:id="rId31"/>
                </p:cNvPr>
                <p:cNvPicPr/>
                <p:nvPr/>
              </p:nvPicPr>
              <p:blipFill>
                <a:blip r:embed="rId32"/>
                <a:stretch/>
              </p:blipFill>
              <p:spPr>
                <a:xfrm flipH="1" rot="10800000">
                  <a:off x="4146840" y="187380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5" name="Picture 2" descr="http://ruprom-image.s3.amazonaws.com/140181_w640_h640_1111111111111.jpg">
                  <a:hlinkClick r:id="rId33"/>
                </p:cNvPr>
                <p:cNvPicPr/>
                <p:nvPr/>
              </p:nvPicPr>
              <p:blipFill>
                <a:blip r:embed="rId34"/>
                <a:stretch/>
              </p:blipFill>
              <p:spPr>
                <a:xfrm flipH="1" rot="10800000">
                  <a:off x="4146840" y="152928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6" name="Группа 86"/>
              <p:cNvGrpSpPr/>
              <p:nvPr/>
            </p:nvGrpSpPr>
            <p:grpSpPr>
              <a:xfrm>
                <a:off x="4140360" y="47160"/>
                <a:ext cx="517320" cy="1495440"/>
                <a:chOff x="4140360" y="47160"/>
                <a:chExt cx="517320" cy="1495440"/>
              </a:xfrm>
            </p:grpSpPr>
            <p:pic>
              <p:nvPicPr>
                <p:cNvPr id="697" name="Picture 2" descr="http://ruprom-image.s3.amazonaws.com/140181_w640_h640_1111111111111.jpg">
                  <a:hlinkClick r:id="rId35"/>
                </p:cNvPr>
                <p:cNvPicPr/>
                <p:nvPr/>
              </p:nvPicPr>
              <p:blipFill>
                <a:blip r:embed="rId36"/>
                <a:stretch/>
              </p:blipFill>
              <p:spPr>
                <a:xfrm flipH="1" rot="10800000">
                  <a:off x="4140360" y="115920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8" name="Picture 2" descr="http://ruprom-image.s3.amazonaws.com/140181_w640_h640_1111111111111.jpg">
                  <a:hlinkClick r:id="rId37"/>
                </p:cNvPr>
                <p:cNvPicPr/>
                <p:nvPr/>
              </p:nvPicPr>
              <p:blipFill>
                <a:blip r:embed="rId38"/>
                <a:stretch/>
              </p:blipFill>
              <p:spPr>
                <a:xfrm flipH="1" rot="10800000">
                  <a:off x="4146840" y="77544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9" name="Picture 2" descr="http://ruprom-image.s3.amazonaws.com/140181_w640_h640_1111111111111.jpg">
                  <a:hlinkClick r:id="rId39"/>
                </p:cNvPr>
                <p:cNvPicPr/>
                <p:nvPr/>
              </p:nvPicPr>
              <p:blipFill>
                <a:blip r:embed="rId40"/>
                <a:stretch/>
              </p:blipFill>
              <p:spPr>
                <a:xfrm flipH="1" rot="10800000">
                  <a:off x="4146840" y="39168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0" name="Picture 2" descr="http://ruprom-image.s3.amazonaws.com/140181_w640_h640_1111111111111.jpg">
                  <a:hlinkClick r:id="rId41"/>
                </p:cNvPr>
                <p:cNvPicPr/>
                <p:nvPr/>
              </p:nvPicPr>
              <p:blipFill>
                <a:blip r:embed="rId42"/>
                <a:stretch/>
              </p:blipFill>
              <p:spPr>
                <a:xfrm flipH="1" rot="10800000">
                  <a:off x="4146840" y="4716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701" name="Picture 2" descr=""/>
          <p:cNvPicPr/>
          <p:nvPr/>
        </p:nvPicPr>
        <p:blipFill>
          <a:blip r:embed="rId43"/>
          <a:stretch/>
        </p:blipFill>
        <p:spPr>
          <a:xfrm>
            <a:off x="-108000" y="3614760"/>
            <a:ext cx="1374840" cy="2606760"/>
          </a:xfrm>
          <a:prstGeom prst="rect">
            <a:avLst/>
          </a:prstGeom>
          <a:ln w="0">
            <a:noFill/>
          </a:ln>
        </p:spPr>
      </p:pic>
      <p:grpSp>
        <p:nvGrpSpPr>
          <p:cNvPr id="702" name="Группа 20"/>
          <p:cNvGrpSpPr/>
          <p:nvPr/>
        </p:nvGrpSpPr>
        <p:grpSpPr>
          <a:xfrm>
            <a:off x="1133640" y="193680"/>
            <a:ext cx="7040520" cy="1579680"/>
            <a:chOff x="1133640" y="193680"/>
            <a:chExt cx="7040520" cy="1579680"/>
          </a:xfrm>
        </p:grpSpPr>
        <p:sp>
          <p:nvSpPr>
            <p:cNvPr id="703" name="Стрелка вправо 31"/>
            <p:cNvSpPr/>
            <p:nvPr/>
          </p:nvSpPr>
          <p:spPr>
            <a:xfrm>
              <a:off x="1133640" y="193680"/>
              <a:ext cx="7040520" cy="1579680"/>
            </a:xfrm>
            <a:prstGeom prst="rightArrow">
              <a:avLst>
                <a:gd name="adj1" fmla="val 50000"/>
                <a:gd name="adj2" fmla="val 34541"/>
              </a:avLst>
            </a:prstGeom>
            <a:solidFill>
              <a:srgbClr val="f1f9f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TextBox 1"/>
            <p:cNvSpPr/>
            <p:nvPr/>
          </p:nvSpPr>
          <p:spPr>
            <a:xfrm>
              <a:off x="1187280" y="509400"/>
              <a:ext cx="684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70c0"/>
                  </a:solidFill>
                  <a:latin typeface="Cambria Math"/>
                </a:rPr>
                <a:t>ЦЕЛИ </a:t>
              </a:r>
              <a:r>
                <a:rPr b="0" lang="ru-RU" sz="2200" spc="-1" strike="noStrike">
                  <a:solidFill>
                    <a:srgbClr val="0070c0"/>
                  </a:solidFill>
                  <a:latin typeface="Cambria Math"/>
                </a:rPr>
                <a:t>– д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 Math"/>
                </a:rPr>
                <a:t>ействия: </a:t>
              </a:r>
              <a:r>
                <a:rPr b="1" lang="ru-RU" sz="2200" spc="-1" strike="noStrike">
                  <a:solidFill>
                    <a:srgbClr val="0000ff"/>
                  </a:solidFill>
                  <a:latin typeface="Cambria Math"/>
                </a:rPr>
                <a:t>познавательные,</a:t>
              </a:r>
              <a:r>
                <a:rPr b="1" lang="ru-RU" sz="2200" spc="-1" strike="noStrike">
                  <a:solidFill>
                    <a:srgbClr val="0070c0"/>
                  </a:solidFill>
                  <a:latin typeface="Cambria Math"/>
                </a:rPr>
                <a:t> </a:t>
              </a:r>
              <a:r>
                <a:rPr b="1" lang="ru-RU" sz="2200" spc="-1" strike="noStrike">
                  <a:solidFill>
                    <a:srgbClr val="ff6600"/>
                  </a:solidFill>
                  <a:latin typeface="Cambria Math"/>
                </a:rPr>
                <a:t>регулятивные, </a:t>
              </a:r>
              <a:r>
                <a:rPr b="1" lang="ru-RU" sz="2200" spc="-1" strike="noStrike">
                  <a:solidFill>
                    <a:srgbClr val="009900"/>
                  </a:solidFill>
                  <a:latin typeface="Cambria Math"/>
                </a:rPr>
                <a:t>коммуникативные, </a:t>
              </a:r>
              <a:r>
                <a:rPr b="1" lang="ru-RU" sz="2200" spc="-1" strike="noStrike">
                  <a:solidFill>
                    <a:srgbClr val="ff0000"/>
                  </a:solidFill>
                  <a:latin typeface="Cambria Math"/>
                </a:rPr>
                <a:t>личностные</a:t>
              </a:r>
              <a:r>
                <a:rPr b="1" lang="ru-RU" sz="22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5" name="Группа 25"/>
          <p:cNvGrpSpPr/>
          <p:nvPr/>
        </p:nvGrpSpPr>
        <p:grpSpPr>
          <a:xfrm>
            <a:off x="1063800" y="1236600"/>
            <a:ext cx="7053120" cy="1400400"/>
            <a:chOff x="1063800" y="1236600"/>
            <a:chExt cx="7053120" cy="1400400"/>
          </a:xfrm>
        </p:grpSpPr>
        <p:sp>
          <p:nvSpPr>
            <p:cNvPr id="706" name="Стрелка вправо 94"/>
            <p:cNvSpPr/>
            <p:nvPr/>
          </p:nvSpPr>
          <p:spPr>
            <a:xfrm>
              <a:off x="1150920" y="1236600"/>
              <a:ext cx="6966000" cy="1400400"/>
            </a:xfrm>
            <a:prstGeom prst="rightArrow">
              <a:avLst>
                <a:gd name="adj1" fmla="val 50000"/>
                <a:gd name="adj2" fmla="val 38574"/>
              </a:avLst>
            </a:prstGeom>
            <a:solidFill>
              <a:srgbClr val="f1f9f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TextBox 3"/>
            <p:cNvSpPr/>
            <p:nvPr/>
          </p:nvSpPr>
          <p:spPr>
            <a:xfrm>
              <a:off x="1063800" y="1519200"/>
              <a:ext cx="7013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70c0"/>
                  </a:solidFill>
                  <a:latin typeface="Cambria Math"/>
                </a:rPr>
                <a:t>ТЕХНОЛОГИИ.</a:t>
              </a:r>
              <a:r>
                <a:rPr b="1" lang="ru-RU" sz="2200" spc="-1" strike="noStrike">
                  <a:solidFill>
                    <a:srgbClr val="000000"/>
                  </a:solidFill>
                  <a:latin typeface="Cambria Math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 Math"/>
                </a:rPr>
                <a:t> </a:t>
              </a:r>
              <a:r>
                <a:rPr b="0" lang="ru-RU" sz="2200" spc="-1" strike="noStrike">
                  <a:solidFill>
                    <a:srgbClr val="ff6600"/>
                  </a:solidFill>
                  <a:latin typeface="Cambria Math"/>
                </a:rPr>
                <a:t>Проб</a:t>
              </a:r>
              <a:r>
                <a:rPr b="0" lang="ru-RU" sz="2200" spc="-1" strike="noStrike">
                  <a:solidFill>
                    <a:srgbClr val="0000ff"/>
                  </a:solidFill>
                  <a:latin typeface="Cambria Math"/>
                </a:rPr>
                <a:t>лемный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 Math"/>
                </a:rPr>
                <a:t> </a:t>
              </a:r>
              <a:r>
                <a:rPr b="0" lang="ru-RU" sz="2200" spc="-1" strike="noStrike">
                  <a:solidFill>
                    <a:srgbClr val="009900"/>
                  </a:solidFill>
                  <a:latin typeface="Cambria Math"/>
                </a:rPr>
                <a:t>диалог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 Math"/>
                </a:rPr>
                <a:t>. </a:t>
              </a:r>
              <a:r>
                <a:rPr b="0" lang="ru-RU" sz="2200" spc="-1" strike="noStrike">
                  <a:solidFill>
                    <a:srgbClr val="0000ff"/>
                  </a:solidFill>
                  <a:latin typeface="Cambria Math"/>
                </a:rPr>
                <a:t>Продукт</a:t>
              </a:r>
              <a:r>
                <a:rPr b="0" lang="ru-RU" sz="2200" spc="-1" strike="noStrike">
                  <a:solidFill>
                    <a:srgbClr val="ff0000"/>
                  </a:solidFill>
                  <a:latin typeface="Cambria Math"/>
                </a:rPr>
                <a:t>ивное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 Math"/>
                </a:rPr>
                <a:t> </a:t>
              </a:r>
              <a:r>
                <a:rPr b="0" lang="ru-RU" sz="2200" spc="-1" strike="noStrike">
                  <a:solidFill>
                    <a:srgbClr val="009900"/>
                  </a:solidFill>
                  <a:latin typeface="Cambria Math"/>
                </a:rPr>
                <a:t>чтение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 Math"/>
                </a:rPr>
                <a:t>. </a:t>
              </a:r>
              <a:r>
                <a:rPr b="0" lang="ru-RU" sz="2200" spc="-1" strike="noStrike">
                  <a:solidFill>
                    <a:srgbClr val="ff6600"/>
                  </a:solidFill>
                  <a:latin typeface="Cambria Math"/>
                </a:rPr>
                <a:t>Оценивание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 Math"/>
                </a:rPr>
                <a:t> </a:t>
              </a:r>
              <a:r>
                <a:rPr b="0" lang="ru-RU" sz="2200" spc="-1" strike="noStrike">
                  <a:solidFill>
                    <a:srgbClr val="009900"/>
                  </a:solidFill>
                  <a:latin typeface="Cambria Math"/>
                </a:rPr>
                <a:t>учебных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 Math"/>
                </a:rPr>
                <a:t> </a:t>
              </a:r>
              <a:r>
                <a:rPr b="0" lang="ru-RU" sz="2200" spc="-1" strike="noStrike">
                  <a:solidFill>
                    <a:srgbClr val="ff0000"/>
                  </a:solidFill>
                  <a:latin typeface="Cambria Math"/>
                </a:rPr>
                <a:t>успехов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 Math"/>
                </a:rPr>
                <a:t>.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8" name="Группа 26"/>
          <p:cNvGrpSpPr/>
          <p:nvPr/>
        </p:nvGrpSpPr>
        <p:grpSpPr>
          <a:xfrm>
            <a:off x="1133640" y="2144880"/>
            <a:ext cx="6967440" cy="1284120"/>
            <a:chOff x="1133640" y="2144880"/>
            <a:chExt cx="6967440" cy="1284120"/>
          </a:xfrm>
        </p:grpSpPr>
        <p:sp>
          <p:nvSpPr>
            <p:cNvPr id="709" name="Стрелка вправо 95"/>
            <p:cNvSpPr/>
            <p:nvPr/>
          </p:nvSpPr>
          <p:spPr>
            <a:xfrm>
              <a:off x="1133640" y="2144880"/>
              <a:ext cx="6967440" cy="1284120"/>
            </a:xfrm>
            <a:prstGeom prst="rightArrow">
              <a:avLst>
                <a:gd name="adj1" fmla="val 50000"/>
                <a:gd name="adj2" fmla="val 42050"/>
              </a:avLst>
            </a:prstGeom>
            <a:solidFill>
              <a:srgbClr val="f1f9f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TextBox 4"/>
            <p:cNvSpPr/>
            <p:nvPr/>
          </p:nvSpPr>
          <p:spPr>
            <a:xfrm>
              <a:off x="1133640" y="2416320"/>
              <a:ext cx="676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70c0"/>
                  </a:solidFill>
                  <a:latin typeface="Cambria Math"/>
                </a:rPr>
                <a:t>СОДЕРЖАНИЕ.</a:t>
              </a:r>
              <a:r>
                <a:rPr b="0" lang="ru-RU" sz="2200" spc="-1" strike="noStrike">
                  <a:solidFill>
                    <a:srgbClr val="0070c0"/>
                  </a:solidFill>
                  <a:latin typeface="Cambria Math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70c0"/>
                  </a:solidFill>
                  <a:latin typeface="Cambria Math"/>
                </a:rPr>
                <a:t>Обучение по </a:t>
              </a:r>
              <a:r>
                <a:rPr b="0" lang="ru-RU" sz="2200" spc="-1" strike="noStrike">
                  <a:solidFill>
                    <a:srgbClr val="0000ff"/>
                  </a:solidFill>
                  <a:latin typeface="Cambria Math"/>
                </a:rPr>
                <a:t>пред</a:t>
              </a:r>
              <a:r>
                <a:rPr b="0" lang="ru-RU" sz="2200" spc="-1" strike="noStrike">
                  <a:solidFill>
                    <a:srgbClr val="009900"/>
                  </a:solidFill>
                  <a:latin typeface="Cambria Math"/>
                </a:rPr>
                <a:t>ме</a:t>
              </a:r>
              <a:r>
                <a:rPr b="0" lang="ru-RU" sz="2200" spc="-1" strike="noStrike">
                  <a:solidFill>
                    <a:srgbClr val="ff0000"/>
                  </a:solidFill>
                  <a:latin typeface="Cambria Math"/>
                </a:rPr>
                <a:t>там</a:t>
              </a: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1" name="TextBox 5"/>
          <p:cNvSpPr/>
          <p:nvPr/>
        </p:nvSpPr>
        <p:spPr>
          <a:xfrm rot="19500000">
            <a:off x="839520" y="3219480"/>
            <a:ext cx="19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Классн.ру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8"/>
          <p:cNvSpPr/>
          <p:nvPr/>
        </p:nvSpPr>
        <p:spPr>
          <a:xfrm rot="21376200">
            <a:off x="1371240" y="3579840"/>
            <a:ext cx="23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Литерат.чт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9"/>
          <p:cNvSpPr/>
          <p:nvPr/>
        </p:nvSpPr>
        <p:spPr>
          <a:xfrm>
            <a:off x="1841400" y="393372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Рус.</a:t>
            </a:r>
            <a:r>
              <a:rPr b="0" lang="ru-RU" sz="2000" spc="-1" strike="noStrike">
                <a:solidFill>
                  <a:srgbClr val="0070c0"/>
                </a:solidFill>
                <a:latin typeface="Cambria Math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язы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Box 10"/>
          <p:cNvSpPr/>
          <p:nvPr/>
        </p:nvSpPr>
        <p:spPr>
          <a:xfrm rot="603000">
            <a:off x="2001960" y="436896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Box 11"/>
          <p:cNvSpPr/>
          <p:nvPr/>
        </p:nvSpPr>
        <p:spPr>
          <a:xfrm rot="1852800">
            <a:off x="1958040" y="4911840"/>
            <a:ext cx="17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Окружаю-щий ми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Box 15"/>
          <p:cNvSpPr/>
          <p:nvPr/>
        </p:nvSpPr>
        <p:spPr>
          <a:xfrm>
            <a:off x="5076720" y="35733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Box 16"/>
          <p:cNvSpPr/>
          <p:nvPr/>
        </p:nvSpPr>
        <p:spPr>
          <a:xfrm>
            <a:off x="5235480" y="393372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Рус. язы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17"/>
          <p:cNvSpPr/>
          <p:nvPr/>
        </p:nvSpPr>
        <p:spPr>
          <a:xfrm>
            <a:off x="5148360" y="4365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Box 21"/>
          <p:cNvSpPr/>
          <p:nvPr/>
        </p:nvSpPr>
        <p:spPr>
          <a:xfrm rot="20715600">
            <a:off x="4618800" y="4654440"/>
            <a:ext cx="293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История. Обществозн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Picture 7" descr=""/>
          <p:cNvPicPr/>
          <p:nvPr/>
        </p:nvPicPr>
        <p:blipFill>
          <a:blip r:embed="rId44"/>
          <a:stretch/>
        </p:blipFill>
        <p:spPr>
          <a:xfrm>
            <a:off x="8391600" y="3649680"/>
            <a:ext cx="788760" cy="273204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8" descr=""/>
          <p:cNvPicPr/>
          <p:nvPr/>
        </p:nvPicPr>
        <p:blipFill>
          <a:blip r:embed="rId45"/>
          <a:stretch/>
        </p:blipFill>
        <p:spPr>
          <a:xfrm>
            <a:off x="7451640" y="3284640"/>
            <a:ext cx="792360" cy="275112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9" descr=""/>
          <p:cNvPicPr/>
          <p:nvPr/>
        </p:nvPicPr>
        <p:blipFill>
          <a:blip r:embed="rId46"/>
          <a:stretch/>
        </p:blipFill>
        <p:spPr>
          <a:xfrm>
            <a:off x="6804000" y="3670200"/>
            <a:ext cx="819000" cy="26956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" descr=""/>
          <p:cNvPicPr/>
          <p:nvPr/>
        </p:nvPicPr>
        <p:blipFill>
          <a:blip r:embed="rId47"/>
          <a:stretch/>
        </p:blipFill>
        <p:spPr>
          <a:xfrm>
            <a:off x="7740720" y="4137120"/>
            <a:ext cx="741240" cy="2747880"/>
          </a:xfrm>
          <a:prstGeom prst="rect">
            <a:avLst/>
          </a:prstGeom>
          <a:ln w="0">
            <a:noFill/>
          </a:ln>
        </p:spPr>
      </p:pic>
      <p:cxnSp>
        <p:nvCxnSpPr>
          <p:cNvPr id="724" name="Прямая со стрелкой 117"/>
          <p:cNvCxnSpPr/>
          <p:nvPr/>
        </p:nvCxnSpPr>
        <p:spPr>
          <a:xfrm flipV="1">
            <a:off x="1490760" y="2851920"/>
            <a:ext cx="1497600" cy="978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25" name="Прямая со стрелкой 120"/>
          <p:cNvCxnSpPr/>
          <p:nvPr/>
        </p:nvCxnSpPr>
        <p:spPr>
          <a:xfrm flipV="1">
            <a:off x="3131640" y="2851920"/>
            <a:ext cx="280908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26" name="Прямая со стрелкой 122"/>
          <p:cNvCxnSpPr/>
          <p:nvPr/>
        </p:nvCxnSpPr>
        <p:spPr>
          <a:xfrm>
            <a:off x="5940360" y="2887200"/>
            <a:ext cx="1656720" cy="886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27" name="TextBox 124"/>
          <p:cNvSpPr/>
          <p:nvPr/>
        </p:nvSpPr>
        <p:spPr>
          <a:xfrm rot="1580400">
            <a:off x="6322320" y="3122640"/>
            <a:ext cx="144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Классн. ру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8" name="Прямая со стрелкой 126"/>
          <p:cNvCxnSpPr/>
          <p:nvPr/>
        </p:nvCxnSpPr>
        <p:spPr>
          <a:xfrm flipV="1">
            <a:off x="1708200" y="3901680"/>
            <a:ext cx="2720160" cy="1771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29" name="Прямая со стрелкой 128"/>
          <p:cNvCxnSpPr/>
          <p:nvPr/>
        </p:nvCxnSpPr>
        <p:spPr>
          <a:xfrm>
            <a:off x="4427640" y="3925440"/>
            <a:ext cx="1683360" cy="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30" name="Прямая со стрелкой 138"/>
          <p:cNvCxnSpPr/>
          <p:nvPr/>
        </p:nvCxnSpPr>
        <p:spPr>
          <a:xfrm>
            <a:off x="4427640" y="4725720"/>
            <a:ext cx="1683360" cy="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31" name="Прямая со стрелкой 139"/>
          <p:cNvCxnSpPr/>
          <p:nvPr/>
        </p:nvCxnSpPr>
        <p:spPr>
          <a:xfrm>
            <a:off x="1708200" y="4209840"/>
            <a:ext cx="2720160" cy="5482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32" name="Прямая со стрелкой 143"/>
          <p:cNvCxnSpPr/>
          <p:nvPr/>
        </p:nvCxnSpPr>
        <p:spPr>
          <a:xfrm>
            <a:off x="1708200" y="4292280"/>
            <a:ext cx="2720160" cy="15865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33" name="Прямая со стрелкой 149"/>
          <p:cNvCxnSpPr/>
          <p:nvPr/>
        </p:nvCxnSpPr>
        <p:spPr>
          <a:xfrm flipV="1">
            <a:off x="4427280" y="5022360"/>
            <a:ext cx="2881800" cy="78984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34" name="Прямая со стрелкой 151"/>
          <p:cNvCxnSpPr/>
          <p:nvPr/>
        </p:nvCxnSpPr>
        <p:spPr>
          <a:xfrm>
            <a:off x="4427640" y="5878440"/>
            <a:ext cx="1558080" cy="2152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35" name="Прямая со стрелкой 153"/>
          <p:cNvCxnSpPr/>
          <p:nvPr/>
        </p:nvCxnSpPr>
        <p:spPr>
          <a:xfrm>
            <a:off x="5985000" y="6092640"/>
            <a:ext cx="776880" cy="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736" name="TextBox 8215"/>
          <p:cNvSpPr/>
          <p:nvPr/>
        </p:nvSpPr>
        <p:spPr>
          <a:xfrm>
            <a:off x="4284720" y="3286080"/>
            <a:ext cx="290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78"/>
          <p:cNvSpPr/>
          <p:nvPr/>
        </p:nvSpPr>
        <p:spPr>
          <a:xfrm>
            <a:off x="4284720" y="4130640"/>
            <a:ext cx="290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27"/>
          <p:cNvSpPr/>
          <p:nvPr/>
        </p:nvSpPr>
        <p:spPr>
          <a:xfrm>
            <a:off x="1890720" y="-27000"/>
            <a:ext cx="58500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mbria Math"/>
              </a:rPr>
              <a:t>Технология преемствен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7"/>
          <p:cNvSpPr/>
          <p:nvPr/>
        </p:nvSpPr>
        <p:spPr>
          <a:xfrm rot="478800">
            <a:off x="5326200" y="6181200"/>
            <a:ext cx="317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Биология. Географ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Физика. Хим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99"/>
          <p:cNvSpPr/>
          <p:nvPr/>
        </p:nvSpPr>
        <p:spPr>
          <a:xfrm>
            <a:off x="4280040" y="5460840"/>
            <a:ext cx="291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1" name="Группа 82"/>
          <p:cNvGrpSpPr/>
          <p:nvPr/>
        </p:nvGrpSpPr>
        <p:grpSpPr>
          <a:xfrm>
            <a:off x="755640" y="4456080"/>
            <a:ext cx="1555920" cy="1781280"/>
            <a:chOff x="755640" y="4456080"/>
            <a:chExt cx="1555920" cy="1781280"/>
          </a:xfrm>
        </p:grpSpPr>
        <p:pic>
          <p:nvPicPr>
            <p:cNvPr id="742" name="Picture 4" descr=""/>
            <p:cNvPicPr/>
            <p:nvPr/>
          </p:nvPicPr>
          <p:blipFill>
            <a:blip r:embed="rId48"/>
            <a:stretch/>
          </p:blipFill>
          <p:spPr>
            <a:xfrm>
              <a:off x="755640" y="4456080"/>
              <a:ext cx="717840" cy="17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Picture 5" descr=""/>
            <p:cNvPicPr/>
            <p:nvPr/>
          </p:nvPicPr>
          <p:blipFill>
            <a:blip r:embed="rId49"/>
            <a:stretch/>
          </p:blipFill>
          <p:spPr>
            <a:xfrm>
              <a:off x="1372680" y="4581360"/>
              <a:ext cx="938880" cy="165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29 -0.0463 L 0.20226 -0.15394 C 0.23246 -0.17801 0.2783 -0.19074 0.32552 -0.19074 C 0.37986 -0.19074 0.42309 -0.17801 0.45347 -0.15394 L 0.59896 -0.0463 E">
                                      <p:cBhvr>
                                        <p:cTn id="216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Круглая лента лицом вниз 1" descr=""/>
          <p:cNvPicPr/>
          <p:nvPr/>
        </p:nvPicPr>
        <p:blipFill>
          <a:blip r:embed="rId1"/>
          <a:stretch/>
        </p:blipFill>
        <p:spPr>
          <a:xfrm>
            <a:off x="1390680" y="1500120"/>
            <a:ext cx="7875720" cy="1511280"/>
          </a:xfrm>
          <a:prstGeom prst="rect">
            <a:avLst/>
          </a:prstGeom>
          <a:ln w="0">
            <a:noFill/>
          </a:ln>
        </p:spPr>
      </p:pic>
      <p:sp>
        <p:nvSpPr>
          <p:cNvPr id="745" name="Прямоугольник 2"/>
          <p:cNvSpPr/>
          <p:nvPr/>
        </p:nvSpPr>
        <p:spPr>
          <a:xfrm>
            <a:off x="3132000" y="2997360"/>
            <a:ext cx="568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Cambria Math"/>
                <a:ea typeface="Cambria Math"/>
              </a:rPr>
              <a:t>«От того, как прошло детство , кто вел ребенка за руку в детские годы, что вошло в его разум и сердце из окружающего мира   – от этого в решающей степени зависит, каким человеком станет сегодняшний малыш» </a:t>
            </a:r>
            <a:r>
              <a:rPr b="1" i="1" lang="ru-RU" sz="2200" spc="-1" strike="noStrike">
                <a:solidFill>
                  <a:srgbClr val="0070c0"/>
                </a:solidFill>
                <a:latin typeface="Cambria Math"/>
                <a:ea typeface="Cambria Math"/>
              </a:rPr>
              <a:t>	</a:t>
            </a:r>
            <a:r>
              <a:rPr b="1" i="1" lang="ru-RU" sz="2200" spc="-1" strike="noStrike">
                <a:solidFill>
                  <a:srgbClr val="0070c0"/>
                </a:solidFill>
                <a:latin typeface="Cambria Math"/>
                <a:ea typeface="Cambria Math"/>
              </a:rPr>
              <a:t>	</a:t>
            </a:r>
            <a:r>
              <a:rPr b="1" i="1" lang="ru-RU" sz="2200" spc="-1" strike="noStrike">
                <a:solidFill>
                  <a:srgbClr val="0070c0"/>
                </a:solidFill>
                <a:latin typeface="Cambria Math"/>
                <a:ea typeface="Cambria Math"/>
              </a:rPr>
              <a:t>	</a:t>
            </a:r>
            <a:r>
              <a:rPr b="1" i="1" lang="ru-RU" sz="2200" spc="-1" strike="noStrike">
                <a:solidFill>
                  <a:srgbClr val="0070c0"/>
                </a:solidFill>
                <a:latin typeface="Cambria Math"/>
                <a:ea typeface="Cambria Math"/>
              </a:rPr>
              <a:t>	</a:t>
            </a:r>
            <a:r>
              <a:rPr b="1" i="1" lang="ru-RU" sz="2200" spc="-1" strike="noStrike">
                <a:solidFill>
                  <a:srgbClr val="0070c0"/>
                </a:solidFill>
                <a:latin typeface="Cambria Math"/>
                <a:ea typeface="Cambria Math"/>
              </a:rPr>
              <a:t>       (В.А. Сухомлински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6" name="Picture 14" descr="STR 67-7"/>
          <p:cNvPicPr/>
          <p:nvPr/>
        </p:nvPicPr>
        <p:blipFill>
          <a:blip r:embed="rId2"/>
          <a:stretch/>
        </p:blipFill>
        <p:spPr>
          <a:xfrm>
            <a:off x="3203640" y="260280"/>
            <a:ext cx="1158840" cy="144000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6" descr=""/>
          <p:cNvPicPr/>
          <p:nvPr/>
        </p:nvPicPr>
        <p:blipFill>
          <a:blip r:embed="rId3"/>
          <a:stretch/>
        </p:blipFill>
        <p:spPr>
          <a:xfrm>
            <a:off x="5940360" y="260280"/>
            <a:ext cx="647640" cy="15843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4" descr=""/>
          <p:cNvPicPr/>
          <p:nvPr/>
        </p:nvPicPr>
        <p:blipFill>
          <a:blip r:embed="rId4"/>
          <a:stretch/>
        </p:blipFill>
        <p:spPr>
          <a:xfrm>
            <a:off x="4427640" y="404640"/>
            <a:ext cx="138888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5:18:52Z</dcterms:created>
  <dc:creator>Катенок</dc:creator>
  <dc:description/>
  <dc:language>en-US</dc:language>
  <cp:lastModifiedBy>МВидео</cp:lastModifiedBy>
  <dcterms:modified xsi:type="dcterms:W3CDTF">2014-01-20T10:42:03Z</dcterms:modified>
  <cp:revision>33</cp:revision>
  <dc:subject/>
  <dc:title>Презентация PowerPoint</dc:title>
</cp:coreProperties>
</file>