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C60-EF89-4A61-999D-F4DF1DF1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75A-0535-431F-A5D1-0C5F898A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696-6F33-4B03-B9D5-6840801C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84F-A20E-4C1A-90AC-99EA43C8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27D-0AF0-4948-9F30-0351B003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CAA-FFBF-460F-AF1C-E1C58574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B02-128F-4906-B1F3-1C37CDF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175-F5D6-49B0-AA98-6C176DBF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BF2-C8E8-4708-BA54-DADBAE16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FF7-1CFD-44BF-832F-81DD486F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EB4-AE60-4AE1-BDF6-0F7B5F98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CBB-4F70-408D-A1E1-44381694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2951-AD81-4D0F-A0D1-66712AE61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785760" y="1714680"/>
            <a:ext cx="535788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ТЕКСТИЛЬНЫЕ ИЗДЕЛ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09440" y="-60480"/>
            <a:ext cx="6973920" cy="1187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13.jpg"/>
          <p:cNvPicPr/>
          <p:nvPr/>
        </p:nvPicPr>
        <p:blipFill>
          <a:blip r:embed="rId3"/>
          <a:stretch/>
        </p:blipFill>
        <p:spPr>
          <a:xfrm>
            <a:off x="6429240" y="3051000"/>
            <a:ext cx="2714760" cy="3598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7+.jpg"/>
          <p:cNvPicPr/>
          <p:nvPr/>
        </p:nvPicPr>
        <p:blipFill>
          <a:blip r:embed="rId4"/>
          <a:stretch/>
        </p:blipFill>
        <p:spPr>
          <a:xfrm>
            <a:off x="142920" y="1690560"/>
            <a:ext cx="3786120" cy="504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785880" y="2690640"/>
            <a:ext cx="7429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торублева Валентин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ель шк. № 287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дмиралтейского 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. Санкт-Петербур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012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КСТИЛЬНЫЕ ИЗДЕЛ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357120" y="1071720"/>
            <a:ext cx="3786120" cy="1143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кстильные тка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4"/>
          <p:cNvSpPr/>
          <p:nvPr/>
        </p:nvSpPr>
        <p:spPr>
          <a:xfrm>
            <a:off x="5143680" y="1143000"/>
            <a:ext cx="371448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ластичные тка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5"/>
          <p:cNvSpPr/>
          <p:nvPr/>
        </p:nvSpPr>
        <p:spPr>
          <a:xfrm>
            <a:off x="2214720" y="2143080"/>
            <a:ext cx="3857400" cy="1214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рикотаж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6"/>
          <p:cNvSpPr/>
          <p:nvPr/>
        </p:nvSpPr>
        <p:spPr>
          <a:xfrm>
            <a:off x="4429080" y="3286080"/>
            <a:ext cx="4214880" cy="1285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йлочно-фетровые изде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7"/>
          <p:cNvSpPr/>
          <p:nvPr/>
        </p:nvSpPr>
        <p:spPr>
          <a:xfrm>
            <a:off x="0" y="3214800"/>
            <a:ext cx="4143240" cy="1285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тканые материа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8"/>
          <p:cNvSpPr/>
          <p:nvPr/>
        </p:nvSpPr>
        <p:spPr>
          <a:xfrm>
            <a:off x="4929120" y="5214960"/>
            <a:ext cx="4000680" cy="1143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летеные издел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9"/>
          <p:cNvSpPr/>
          <p:nvPr/>
        </p:nvSpPr>
        <p:spPr>
          <a:xfrm>
            <a:off x="571680" y="4500720"/>
            <a:ext cx="4643280" cy="1285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ужевные и гардинно-тюлевые изде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6572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libri"/>
              </a:rPr>
              <a:t>Текстильные ткани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407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екстильные ткани изготавливают путем переплетения двух взаимно перпендикулярных систем нитей. Поперечные нити утка проходят над и под нитями основы. При конструировании тканей можно изменять схему переплетения, создавая новые эффекты и разный рисунок готовой тка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чество ткани характеризуется сортом, толщиной и качеством пряжи, плотностью ткани, т.е. числом нитей утка и основы на квадратный сантиметр, и видом отдел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21496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Эластичные ткан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5581800" cy="24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ильные ткани могут изготавливаться из высокоэластичной пряжи, способной сильно растягиваться и быстро восстанавливать прежнюю фор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7" descr="эл4.jpg"/>
          <p:cNvPicPr/>
          <p:nvPr/>
        </p:nvPicPr>
        <p:blipFill>
          <a:blip r:embed="rId2"/>
          <a:stretch/>
        </p:blipFill>
        <p:spPr>
          <a:xfrm>
            <a:off x="5715000" y="28584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эл3.jpg"/>
          <p:cNvPicPr/>
          <p:nvPr/>
        </p:nvPicPr>
        <p:blipFill>
          <a:blip r:embed="rId3"/>
          <a:stretch/>
        </p:blipFill>
        <p:spPr>
          <a:xfrm>
            <a:off x="468360" y="378936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ostin.com/images/product/312_432/LPDL44-D3_1.jpg"/>
          <p:cNvPicPr/>
          <p:nvPr/>
        </p:nvPicPr>
        <p:blipFill>
          <a:blip r:embed="rId4"/>
          <a:stretch/>
        </p:blipFill>
        <p:spPr>
          <a:xfrm>
            <a:off x="6286680" y="3143160"/>
            <a:ext cx="26431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46572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Calibri"/>
              </a:rPr>
              <a:t>Трикотаж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трик.1.jpg"/>
          <p:cNvPicPr/>
          <p:nvPr/>
        </p:nvPicPr>
        <p:blipFill>
          <a:blip r:embed="rId2"/>
          <a:stretch/>
        </p:blipFill>
        <p:spPr>
          <a:xfrm>
            <a:off x="3983040" y="189000"/>
            <a:ext cx="4908600" cy="3456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2560" y="1357200"/>
            <a:ext cx="37083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икотажные изделия получают путем вязания – образования из пряжи петель и их взаимного переплет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икотажные изделия можно вязать вручную или на трикотажных машин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5" descr="трик2.jpg"/>
          <p:cNvPicPr/>
          <p:nvPr/>
        </p:nvPicPr>
        <p:blipFill>
          <a:blip r:embed="rId3"/>
          <a:srcRect l="23757" t="0" r="2700" b="0"/>
          <a:stretch/>
        </p:blipFill>
        <p:spPr>
          <a:xfrm>
            <a:off x="4240080" y="3645000"/>
            <a:ext cx="49039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6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6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6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66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272520"/>
            <a:ext cx="4141800" cy="12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Войлочно-фетровые издел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войл..jpg"/>
          <p:cNvPicPr/>
          <p:nvPr/>
        </p:nvPicPr>
        <p:blipFill>
          <a:blip r:embed="rId2"/>
          <a:stretch/>
        </p:blipFill>
        <p:spPr>
          <a:xfrm>
            <a:off x="4338720" y="404640"/>
            <a:ext cx="4645080" cy="6193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920" y="1500120"/>
            <a:ext cx="40687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йлочно-фетровые изделия получаются в результате уплотнения волокон исходного материала, а не пряж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ходный волокнистый материал нагревают, увлажняют, прессуют и (в случае мужских шляп и других твердых изделий) частично пропитывают шеллаком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8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8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8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7894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Нетканые материал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1.jpg"/>
          <p:cNvPicPr/>
          <p:nvPr/>
        </p:nvPicPr>
        <p:blipFill>
          <a:blip r:embed="rId2"/>
          <a:stretch/>
        </p:blipFill>
        <p:spPr>
          <a:xfrm>
            <a:off x="4932360" y="189000"/>
            <a:ext cx="3527280" cy="3504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8592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каные текстильные изделия представляют собой слой текстильного волокнистого материала (холст), связанный воедино узкими полосами склеивающего матери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каные материалы изготавливаются преимущественно из химического волок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3.jpg"/>
          <p:cNvPicPr/>
          <p:nvPr/>
        </p:nvPicPr>
        <p:blipFill>
          <a:blip r:embed="rId3"/>
          <a:stretch/>
        </p:blipFill>
        <p:spPr>
          <a:xfrm>
            <a:off x="5003640" y="386064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4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4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84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34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272520"/>
            <a:ext cx="3322440" cy="11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летеные издел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2=.jpg"/>
          <p:cNvPicPr/>
          <p:nvPr/>
        </p:nvPicPr>
        <p:blipFill>
          <a:blip r:embed="rId2"/>
          <a:stretch/>
        </p:blipFill>
        <p:spPr>
          <a:xfrm>
            <a:off x="4572000" y="189000"/>
            <a:ext cx="4248000" cy="2835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560" y="1428840"/>
            <a:ext cx="43578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теные изделия получают, переплетая ряд нитей по диагонали и продольно так, чтобы образовалась лента или тесь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нта обычно бывает шириной не более 10 см, она может быть круглоплете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5" descr="4=.jpg"/>
          <p:cNvPicPr/>
          <p:nvPr/>
        </p:nvPicPr>
        <p:blipFill>
          <a:blip r:embed="rId3"/>
          <a:stretch/>
        </p:blipFill>
        <p:spPr>
          <a:xfrm>
            <a:off x="4716360" y="3141720"/>
            <a:ext cx="39592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3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332244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504d"/>
                </a:solidFill>
                <a:latin typeface="Calibri"/>
              </a:rPr>
              <a:t>Кружевные и гардинно-тюлевые издел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4" descr="1==.jpg"/>
          <p:cNvPicPr/>
          <p:nvPr/>
        </p:nvPicPr>
        <p:blipFill>
          <a:blip r:embed="rId2"/>
          <a:stretch/>
        </p:blipFill>
        <p:spPr>
          <a:xfrm>
            <a:off x="3348000" y="189000"/>
            <a:ext cx="1944720" cy="2581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3322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рнаментальные ажурные изделия из любого текстильного волокна, переплетаемого под любыми углами. Сложные переплетения нитей, выполняемые вручную или на машине, дают изящные рисун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5" descr="4==.jpg"/>
          <p:cNvPicPr/>
          <p:nvPr/>
        </p:nvPicPr>
        <p:blipFill>
          <a:blip r:embed="rId3"/>
          <a:stretch/>
        </p:blipFill>
        <p:spPr>
          <a:xfrm>
            <a:off x="6345360" y="3429000"/>
            <a:ext cx="2798640" cy="3168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3==.jpg"/>
          <p:cNvPicPr/>
          <p:nvPr/>
        </p:nvPicPr>
        <p:blipFill>
          <a:blip r:embed="rId4"/>
          <a:stretch/>
        </p:blipFill>
        <p:spPr>
          <a:xfrm>
            <a:off x="3564000" y="3141720"/>
            <a:ext cx="2520720" cy="3546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2==.jpg"/>
          <p:cNvPicPr/>
          <p:nvPr/>
        </p:nvPicPr>
        <p:blipFill>
          <a:blip r:embed="rId5"/>
          <a:stretch/>
        </p:blipFill>
        <p:spPr>
          <a:xfrm>
            <a:off x="5580000" y="189000"/>
            <a:ext cx="3295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6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66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66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66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1:17:30Z</dcterms:created>
  <dc:creator>Admin</dc:creator>
  <dc:description/>
  <dc:language>en-US</dc:language>
  <cp:lastModifiedBy>Admin</cp:lastModifiedBy>
  <dcterms:modified xsi:type="dcterms:W3CDTF">2015-01-30T21:34:02Z</dcterms:modified>
  <cp:revision>2</cp:revision>
  <dc:subject/>
  <dc:title>Слайд 1</dc:title>
</cp:coreProperties>
</file>