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A75C-57E0-4CBC-9DBF-54EA4009E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6A8A-80FE-44DD-A62F-47AD241B6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1512-2C39-4FBB-9100-42C244B1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218B-80C5-4C21-94BF-1930BC326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ACAE-4E50-42DA-BB35-6261A3F0C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D741-671E-4025-95D9-B20C62597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BA92-5E25-4B11-A318-44D5CBDE7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1AB0-4ECD-4093-B5BA-B927C5DF2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8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0FE1-7609-423D-91C7-EF849D743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C4A2-E62E-4CD8-8B41-3F82C17ED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8347-454F-46E7-B8AB-0A48CB26E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52BF-17C0-415D-972A-C0BBE63DB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7CCEF7-0A9C-4C63-9682-74D82D5367A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26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МКОУ СОШ №2.г.Нижние Сер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Презентация к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технологии в 3 классе по теме: «Поделка в подарок папе  к 23 февра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Выполнила:  Мусихина Л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66816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Поделка из цветной бумаг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«Мундир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9687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1760"/>
            <a:ext cx="91440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Делаем рубашку и галсту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езаем из белой бумаги прямоугольник. Делаем надрезы и заворачиваем края как показано на фото. Из черной бумаги вырезаем галсту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87656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Соединяем дета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ашку и галстук склеиваем клеем П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29000"/>
            <a:ext cx="9144000" cy="3149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Делаем мундир.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 зеленого цвета складываем в три раза и отгибаем края. Вырезаем и приклеиваем погоны, нарисовав на них звезды. Приклеиваем пугов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444492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Соединяем дета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ашку приклеиваем к мундиру. Внутри открытки можно написать пожел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628640"/>
            <a:ext cx="487656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48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58840"/>
            <a:ext cx="8569080" cy="61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44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549000"/>
            <a:ext cx="7473960" cy="5576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old"/>
                <a:ea typeface="Arial Bold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38163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Список интернет-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illionpodarko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aaa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/>
  <cp:revision>0</cp:revision>
  <dc:subject/>
  <dc:title>МОУ Инзенская НОШ</dc:title>
</cp:coreProperties>
</file>