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00EE-7DA1-4348-930A-D42119BA3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FC7E-7858-43D6-88CC-E122D3353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3B0B-2DC2-4BD5-B4B5-08C73ED3B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4345560"/>
            <a:ext cx="264924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3A39-6BDA-4764-A833-6CCE0B17B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2C81-64D4-4D31-B66A-21CFE1FDE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2192-6337-45B0-B2F1-A2F89E402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4F7B-C06E-4D01-872A-D02D4226C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FE71-1D0D-40D0-B63A-E83C1FC06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816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BB55-DE37-48E7-96DC-9ADA58204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78A4-CB23-4AB5-9C02-E25419257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434556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D1DF-36D2-4DC4-94C4-E206D79F6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8160" cy="250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93F9-7EB6-4D1F-87E2-E784A1025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8160" cy="1508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5A7239-A2CD-4030-A46F-3B24494A261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26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МКОУ СОШ №2.г.Нижние Сер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Презентация к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технологии в 3 классе по теме: «Поделка в подарок папе  к 23 февра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Выполнила:  Мусихина Л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66816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Поделка из цветной бумаг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«Мундир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49687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1760"/>
            <a:ext cx="9144000" cy="2660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Делаем рубашку и галсту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езаем из белой бумаги прямоугольник. Делаем надрезы и заворачиваем края как показано на фото. Из черной бумаги вырезаем галсту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87656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Соединяем детал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ашку и галстук склеиваем клеем П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45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29000"/>
            <a:ext cx="9144000" cy="3149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Делаем мундир.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 зеленого цвета складываем в три раза и отгибаем края. Вырезаем и приклеиваем погоны, нарисовав на них звезды. Приклеиваем пугов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444492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Соединяем детал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ашку приклеиваем к мундиру. Внутри открытки можно написать пожел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628640"/>
            <a:ext cx="487656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48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58840"/>
            <a:ext cx="8569080" cy="61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44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549000"/>
            <a:ext cx="7473960" cy="5576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old"/>
                <a:ea typeface="Arial Bold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38163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2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Список интернет-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08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illionpodarko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aaa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/>
  <cp:revision>0</cp:revision>
  <dc:subject/>
  <dc:title>МОУ Инзенская НОШ</dc:title>
</cp:coreProperties>
</file>