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2.wmf" ContentType="image/x-wmf"/>
  <Override PartName="/ppt/media/image2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3CB-E7F8-457A-8616-608CCC42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5B9-911E-4662-9E61-80D3B37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B00-18A7-481F-B2FA-F594A5E4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607-E12A-495B-9C7D-AE9C3B27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A5F-0347-4FF4-BD2E-B82C6D3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44C-4577-41B3-B973-C8CDB1C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C94-CC57-46C9-857A-A5DEB17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F65-986F-44C1-ADCA-B838B55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9F5-D540-463E-8704-7B005B24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96A-FCF7-4867-9FB3-171F886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CF2-02E9-4078-ABA9-4504D0C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6EC-1F81-40AB-9943-53784B4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3CE6-2081-4FA6-A7A7-98B239C4B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0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hyperlink" Target="http://pedsovet.su/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hyperlink" Target="http://school.xvatit.com/index.php?title=&#1056;&#1080;&#1089;&#1091;&#1085;&#1086;&#1082;_&#1085;&#1072;_&#1087;&#1083;&#1072;&#1089;&#1090;&#1080;&#1083;&#1080;&#1085;&#1077;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school.xvatit.com/index.php?title=&#1060;&#1072;&#1081;&#1083;:9-12-30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school.xvatit.com/images/thumb/f/f2/9-12-29.jpg/480px-9-12-29.jpg"/>
          <p:cNvPicPr/>
          <p:nvPr/>
        </p:nvPicPr>
        <p:blipFill>
          <a:blip r:embed="rId4"/>
          <a:stretch/>
        </p:blipFill>
        <p:spPr>
          <a:xfrm>
            <a:off x="2195640" y="2205000"/>
            <a:ext cx="489744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6335640" y="5661000"/>
            <a:ext cx="2808360" cy="91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лыгина Г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,урок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5940360" y="4826160"/>
            <a:ext cx="3203640" cy="2014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лыгина Гали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2 гор. Лесосиби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4006080" y="134136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,урок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n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(познакомься с) Tiny. He lives in the English forest. He is funny and kind. He is smart and me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can speak and read English. He likes to write fairy tales and po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im1-tub-ru.yandex.net/i?id=3894f8c7878a5c6573e6bd52facef383-71-144&amp;n=21"/>
          <p:cNvPicPr/>
          <p:nvPr/>
        </p:nvPicPr>
        <p:blipFill>
          <a:blip r:embed="rId5"/>
          <a:stretch/>
        </p:blipFill>
        <p:spPr>
          <a:xfrm>
            <a:off x="2843280" y="4221000"/>
            <a:ext cx="338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ead, I can s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peak English, too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rite my fairy tal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Костюмы для фотомонтажа - Фотошоп, дизайн, графика, творчество - ilovephotoshop.ru"/>
          <p:cNvPicPr/>
          <p:nvPr/>
        </p:nvPicPr>
        <p:blipFill>
          <a:blip r:embed="rId5"/>
          <a:stretch/>
        </p:blipFill>
        <p:spPr>
          <a:xfrm>
            <a:off x="1116000" y="3645000"/>
            <a:ext cx="7386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I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has got a lot of friends. They like Tiny's poems and fairy tales. They often walk in the forest and play ches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vedga.ucoz.ru/_bl/0/05610946.jpg"/>
          <p:cNvPicPr/>
          <p:nvPr/>
        </p:nvPicPr>
        <p:blipFill>
          <a:blip r:embed="rId5"/>
          <a:stretch/>
        </p:blipFill>
        <p:spPr>
          <a:xfrm>
            <a:off x="5508720" y="4149720"/>
            <a:ext cx="3009960" cy="13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vedga.ucoz.ru/_bl/0/s91533195.jpg"/>
          <p:cNvPicPr/>
          <p:nvPr/>
        </p:nvPicPr>
        <p:blipFill>
          <a:blip r:embed="rId6"/>
          <a:stretch/>
        </p:blipFill>
        <p:spPr>
          <a:xfrm>
            <a:off x="4643280" y="3500280"/>
            <a:ext cx="3571920" cy="268308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123" name="Picture 11" descr="http://im0-tub-ru.yandex.net/i?id=813d098c1b6eba917b801adbe73ecd9a-65-144&amp;n=21"/>
          <p:cNvPicPr/>
          <p:nvPr/>
        </p:nvPicPr>
        <p:blipFill>
          <a:blip r:embed="rId7"/>
          <a:stretch/>
        </p:blipFill>
        <p:spPr>
          <a:xfrm>
            <a:off x="971640" y="3860640"/>
            <a:ext cx="3240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Right or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нужных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необходимо выбрать и подчеркнуть лишь те предложения, которыми можно охарактеризовать Тай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He likes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y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iny is a g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He looks like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He likes to ride his scooter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He has got a lo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He likes to play j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Task 2 What can Tiny 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http://vedga.ucoz.ru/_bl/0/92196265.jpg"/>
          <p:cNvPicPr/>
          <p:nvPr/>
        </p:nvPicPr>
        <p:blipFill>
          <a:blip r:embed="rId5"/>
          <a:stretch/>
        </p:blipFill>
        <p:spPr>
          <a:xfrm>
            <a:off x="1042920" y="1700280"/>
            <a:ext cx="2449440" cy="3673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34920" y="3068280"/>
            <a:ext cx="4140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Calibri"/>
              </a:rPr>
              <a:t>can-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speak and rea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write fairy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sing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  <a:ea typeface="Calibri"/>
              </a:rPr>
              <a:t>walk in 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-облако 9"/>
          <p:cNvSpPr/>
          <p:nvPr/>
        </p:nvSpPr>
        <p:spPr>
          <a:xfrm>
            <a:off x="4427640" y="3284640"/>
            <a:ext cx="2859120" cy="1693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1" descr=""/>
          <p:cNvPicPr/>
          <p:nvPr/>
        </p:nvPicPr>
        <p:blipFill>
          <a:blip r:embed="rId6"/>
          <a:stretch/>
        </p:blipFill>
        <p:spPr>
          <a:xfrm>
            <a:off x="1006560" y="1663560"/>
            <a:ext cx="249876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3    Закончи предложение в соответствии с рассказ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640" y="69228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y and his friends often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    play tennis toge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    play chess toge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    play football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8000" y="1557360"/>
            <a:ext cx="35956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school.xvatit.com/images/3/3d/4-12-2.jpg"/>
          <p:cNvPicPr/>
          <p:nvPr/>
        </p:nvPicPr>
        <p:blipFill>
          <a:blip r:embed="rId17"/>
          <a:stretch/>
        </p:blipFill>
        <p:spPr>
          <a:xfrm>
            <a:off x="5292720" y="1989000"/>
            <a:ext cx="302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ask 6.  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he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riends has he g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iny got a happy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агетная рамка 8"/>
          <p:cNvSpPr/>
          <p:nvPr/>
        </p:nvSpPr>
        <p:spPr>
          <a:xfrm>
            <a:off x="2195640" y="4581360"/>
            <a:ext cx="2305080" cy="165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vedga.ucoz.ru/_bl/0/87684111.jpg"/>
          <p:cNvPicPr/>
          <p:nvPr/>
        </p:nvPicPr>
        <p:blipFill>
          <a:blip r:embed="rId5"/>
          <a:stretch/>
        </p:blipFill>
        <p:spPr>
          <a:xfrm>
            <a:off x="2411280" y="4797360"/>
            <a:ext cx="4105440" cy="1295640"/>
          </a:xfrm>
          <a:prstGeom prst="rect">
            <a:avLst/>
          </a:prstGeom>
          <a:ln w="0">
            <a:noFill/>
          </a:ln>
        </p:spPr>
      </p:pic>
      <p:sp>
        <p:nvSpPr>
          <p:cNvPr id="156" name="7-конечная звезда 9"/>
          <p:cNvSpPr/>
          <p:nvPr/>
        </p:nvSpPr>
        <p:spPr>
          <a:xfrm>
            <a:off x="4427640" y="4581360"/>
            <a:ext cx="230508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Скажи, что умеет делать Тайни. Что из этого умеешь (не умеешь) делать 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2852280"/>
            <a:ext cx="705816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Tiny can write fairy tales and poems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          I can't write po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vedga.ucoz.ru/_bl/0/92196265.jpg"/>
          <p:cNvPicPr/>
          <p:nvPr/>
        </p:nvPicPr>
        <p:blipFill>
          <a:blip r:embed="rId10"/>
          <a:stretch/>
        </p:blipFill>
        <p:spPr>
          <a:xfrm>
            <a:off x="1042920" y="1557360"/>
            <a:ext cx="2376720" cy="26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im2-tub-ru.yandex.net/i?id=a0479e968f1e2dc9a31b59c7a2f7e8f1-47-144&amp;n=21"/>
          <p:cNvPicPr/>
          <p:nvPr/>
        </p:nvPicPr>
        <p:blipFill>
          <a:blip r:embed="rId11"/>
          <a:stretch/>
        </p:blipFill>
        <p:spPr>
          <a:xfrm>
            <a:off x="4788000" y="1916280"/>
            <a:ext cx="2663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5  Describe Tiny ’s charact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vedga.ucoz.ru/_bl/0/92196265.jpg"/>
          <p:cNvPicPr/>
          <p:nvPr/>
        </p:nvPicPr>
        <p:blipFill>
          <a:blip r:embed="rId1"/>
          <a:stretch/>
        </p:blipFill>
        <p:spPr>
          <a:xfrm>
            <a:off x="3851280" y="3213000"/>
            <a:ext cx="1657440" cy="1890720"/>
          </a:xfrm>
          <a:prstGeom prst="rect">
            <a:avLst/>
          </a:prstGeom>
          <a:ln w="0">
            <a:noFill/>
          </a:ln>
        </p:spPr>
      </p:pic>
      <p:sp>
        <p:nvSpPr>
          <p:cNvPr id="167" name="Овал 3"/>
          <p:cNvSpPr/>
          <p:nvPr/>
        </p:nvSpPr>
        <p:spPr>
          <a:xfrm>
            <a:off x="6156360" y="3357720"/>
            <a:ext cx="2663640" cy="1584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er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5"/>
          <p:cNvSpPr/>
          <p:nvPr/>
        </p:nvSpPr>
        <p:spPr>
          <a:xfrm>
            <a:off x="2987640" y="5516640"/>
            <a:ext cx="3240000" cy="1081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6"/>
          <p:cNvSpPr/>
          <p:nvPr/>
        </p:nvSpPr>
        <p:spPr>
          <a:xfrm>
            <a:off x="3780000" y="1413000"/>
            <a:ext cx="266364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22268"/>
                </a:solidFill>
                <a:latin typeface="Arial"/>
              </a:rPr>
              <a:t>fun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7"/>
          <p:cNvSpPr/>
          <p:nvPr/>
        </p:nvSpPr>
        <p:spPr>
          <a:xfrm>
            <a:off x="539640" y="3141720"/>
            <a:ext cx="2859120" cy="1562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sm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t’s time to look at the pi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nd describe 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ives i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He is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Tiny ca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He likes to write 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Tiny Has got a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}They like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)They often walk in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school.xvatit.com/images/thumb/f/f2/9-12-29.jpg/480px-9-12-29.jpg"/>
          <p:cNvPicPr/>
          <p:nvPr/>
        </p:nvPicPr>
        <p:blipFill>
          <a:blip r:embed="rId11"/>
          <a:stretch/>
        </p:blipFill>
        <p:spPr>
          <a:xfrm>
            <a:off x="684360" y="1341360"/>
            <a:ext cx="4248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Горизонтальный свиток 8"/>
          <p:cNvSpPr/>
          <p:nvPr/>
        </p:nvSpPr>
        <p:spPr>
          <a:xfrm>
            <a:off x="971640" y="1413000"/>
            <a:ext cx="6985080" cy="381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The aims of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0"/>
            <a:ext cx="36036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9"/>
          <p:cNvSpPr/>
          <p:nvPr/>
        </p:nvSpPr>
        <p:spPr>
          <a:xfrm>
            <a:off x="1258920" y="1268280"/>
            <a:ext cx="6913440" cy="403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as you understa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o know about a new friend. And that is the point we have to discuss to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`ll have learnt some new words by the end of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ll  read the text about Ti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’ll have described  him by the end of our today`s less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im1-tub-ru.yandex.net/i?id=6b25b51cda8a396a72d709a06bf5cba1-107-144&amp;n=21"/>
          <p:cNvPicPr/>
          <p:nvPr/>
        </p:nvPicPr>
        <p:blipFill>
          <a:blip r:embed="rId13"/>
          <a:stretch/>
        </p:blipFill>
        <p:spPr>
          <a:xfrm>
            <a:off x="4211640" y="4797360"/>
            <a:ext cx="1704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Homework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1)learn the poem by  hea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2)retell the tex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3)W.B.ex3,page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ительный этап уро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one a lot of work to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arks for today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sson is over! Good by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8" descr="x_cfd7a410.jpg"/>
          <p:cNvPicPr/>
          <p:nvPr/>
        </p:nvPicPr>
        <p:blipFill>
          <a:blip r:embed="rId10"/>
          <a:stretch/>
        </p:blipFill>
        <p:spPr>
          <a:xfrm>
            <a:off x="1619280" y="3860640"/>
            <a:ext cx="2305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r>
              <a:rPr b="1" lang="en-US" sz="2800" spc="-1" strike="noStrike">
                <a:solidFill>
                  <a:srgbClr val="161645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x_cfd7a410.jpg"/>
          <p:cNvPicPr/>
          <p:nvPr/>
        </p:nvPicPr>
        <p:blipFill>
          <a:blip r:embed="rId4"/>
          <a:stretch/>
        </p:blipFill>
        <p:spPr>
          <a:xfrm>
            <a:off x="2411280" y="378936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77ab8a4d5622.jpg"/>
          <p:cNvPicPr/>
          <p:nvPr/>
        </p:nvPicPr>
        <p:blipFill>
          <a:blip r:embed="rId5"/>
          <a:stretch/>
        </p:blipFill>
        <p:spPr>
          <a:xfrm>
            <a:off x="3780000" y="4508640"/>
            <a:ext cx="1655640" cy="11808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b1fe8ad3aae97f50d07fe9eab94aca3b.jpeg"/>
          <p:cNvPicPr/>
          <p:nvPr/>
        </p:nvPicPr>
        <p:blipFill>
          <a:blip r:embed="rId6"/>
          <a:stretch/>
        </p:blipFill>
        <p:spPr>
          <a:xfrm>
            <a:off x="5796000" y="4076640"/>
            <a:ext cx="1224000" cy="11606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8" descr=""/>
          <p:cNvPicPr/>
          <p:nvPr/>
        </p:nvPicPr>
        <p:blipFill>
          <a:blip r:embed="rId7"/>
          <a:stretch/>
        </p:blipFill>
        <p:spPr>
          <a:xfrm>
            <a:off x="2462040" y="2114640"/>
            <a:ext cx="42865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im1-tub-ru.yandex.net/i?id=aabb4a4cb5bc8225f6f3e3b7faa36aee-117-144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2556000" y="2133720"/>
            <a:ext cx="4176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Goudy Stout"/>
              </a:rPr>
              <a:t>THANK YOU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Goudy Stout"/>
              </a:rPr>
              <a:t>THE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2377080" y="11970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Monotype Corsiva"/>
              </a:rPr>
              <a:t>The lesson is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et’s have a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1401480"/>
            <a:ext cx="698508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Физкультмину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 suppose you are tired. Le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have a rest using Follow the Leader. Move to the music after your leader and repeat all his movements. The leader is the stud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Music sounds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OK! Take your sea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 ресур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yandex.ru/images/search?text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омики%20картинки%20для%20детей&amp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nfo=s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yandex.ru/images/search?viewport=wide&amp;text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инки%20гномики%20в%20доми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%20гномики%20биболетова&amp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=121&amp;rpt=s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Налетай на новеньких. - Форум"/>
          <p:cNvPicPr/>
          <p:nvPr/>
        </p:nvPicPr>
        <p:blipFill>
          <a:blip r:embed="rId13"/>
          <a:stretch/>
        </p:blipFill>
        <p:spPr>
          <a:xfrm>
            <a:off x="5292720" y="1844640"/>
            <a:ext cx="28576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сточник шаблон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ушевская Юлия Серг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Кадетская школа-интернат № 9» г. Ом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конкурса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edsovet.s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ормлении слайдов использовала векторный редакто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ra Xtreme Pro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екторный клипа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t`s read the poem you see on the screen . How do you think how it`s connected with our less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5300280"/>
            <a:ext cx="42480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Ti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vedga.ucoz.ru/_bl/0/92196265.jpg"/>
          <p:cNvPicPr/>
          <p:nvPr/>
        </p:nvPicPr>
        <p:blipFill>
          <a:blip r:embed="rId1"/>
          <a:stretch/>
        </p:blipFill>
        <p:spPr>
          <a:xfrm>
            <a:off x="5724360" y="2276640"/>
            <a:ext cx="30387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684360" y="2060640"/>
            <a:ext cx="4535280" cy="25311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ad, I can sing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speak English, to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rite my fairy tale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o personalise the topic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691920"/>
            <a:ext cx="7201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ight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shall have a talk on the topic « Ti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im1-tub-ru.yandex.net/i?id=6b25b51cda8a396a72d709a06bf5cba1-107-144&amp;n=21"/>
          <p:cNvPicPr/>
          <p:nvPr/>
        </p:nvPicPr>
        <p:blipFill>
          <a:blip r:embed="rId11"/>
          <a:stretch/>
        </p:blipFill>
        <p:spPr>
          <a:xfrm>
            <a:off x="4140360" y="4076640"/>
            <a:ext cx="316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t’s time to look at the pic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and describe 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 лесной школе появился новый ученик — гномик Тайни. Посмотри н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рисун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то ты можешь сказать о нём? Начни со слов: I think he is ..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й мод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school.xvatit.com/images/thumb/f/f2/9-12-29.jpg/480px-9-12-29.jpg"/>
          <p:cNvPicPr/>
          <p:nvPr/>
        </p:nvPicPr>
        <p:blipFill>
          <a:blip r:embed="rId12"/>
          <a:stretch/>
        </p:blipFill>
        <p:spPr>
          <a:xfrm>
            <a:off x="684360" y="1341360"/>
            <a:ext cx="4248000" cy="475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9-12-30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88000" y="4869000"/>
            <a:ext cx="367164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чевая разминка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listen to him and answer h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riends have you g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vedga.ucoz.ru/_bl/0/92196265.jpg"/>
          <p:cNvPicPr/>
          <p:nvPr/>
        </p:nvPicPr>
        <p:blipFill>
          <a:blip r:embed="rId5"/>
          <a:stretch/>
        </p:blipFill>
        <p:spPr>
          <a:xfrm>
            <a:off x="2987640" y="3933720"/>
            <a:ext cx="280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and say what new lnformation you have lear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lse do you want to kno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Послушай разговор Тайни и учеников лесной школы. Скажи, что ты узнал о Тайни. Какие вопрос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хотел бы задать 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3-tub-ru.yandex.net/i?id=12ebea340d42a4826b95d9e49bc3ff69-77-144&amp;n=21"/>
          <p:cNvPicPr/>
          <p:nvPr/>
        </p:nvPicPr>
        <p:blipFill>
          <a:blip r:embed="rId2"/>
          <a:stretch/>
        </p:blipFill>
        <p:spPr>
          <a:xfrm>
            <a:off x="6156360" y="4653000"/>
            <a:ext cx="2192400" cy="180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Let’s read about Tiny ex3,page5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eiryo"/>
              </a:rPr>
              <a:t>but first, read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25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vedga.ucoz.ru/_bl/0/92196265.jpg"/>
          <p:cNvPicPr/>
          <p:nvPr/>
        </p:nvPicPr>
        <p:blipFill>
          <a:blip r:embed="rId11"/>
          <a:stretch/>
        </p:blipFill>
        <p:spPr>
          <a:xfrm>
            <a:off x="3276720" y="4005360"/>
            <a:ext cx="2447640" cy="217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1332000" y="2159640"/>
            <a:ext cx="7056360" cy="15562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lk in the forest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-гулять 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at about you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-а как насчёт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Write fairy tale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исать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school.xvatit.com/images/3/33/9-12-31.jpg"/>
          <p:cNvPicPr/>
          <p:nvPr/>
        </p:nvPicPr>
        <p:blipFill>
          <a:blip r:embed="rId1"/>
          <a:stretch/>
        </p:blipFill>
        <p:spPr>
          <a:xfrm>
            <a:off x="1042920" y="-243000"/>
            <a:ext cx="698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Мама</cp:lastModifiedBy>
  <dcterms:modified xsi:type="dcterms:W3CDTF">2015-02-02T10:38:56Z</dcterms:modified>
  <cp:revision>56</cp:revision>
  <dc:subject/>
  <dc:title>Слайд 1</dc:title>
</cp:coreProperties>
</file>