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83B4-9AE6-49C0-81B8-435370F144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495D-513C-4F71-93A0-12275416E6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JamesMadison.jpg" TargetMode="External"/><Relationship Id="rId2" Type="http://schemas.openxmlformats.org/officeDocument/2006/relationships/hyperlink" Target="http://ru.wikipedia.org/wiki/&#1060;&#1072;&#1081;&#1083;:JamesMadison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a50021"/>
                </a:solidFill>
                <a:uFillTx/>
                <a:latin typeface="Arial Narrow"/>
              </a:rPr>
              <a:t>Из истории о правах граждан</a:t>
            </a:r>
            <a:endParaRPr b="0" lang="en-US" sz="5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03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00"/>
                </a:solidFill>
                <a:latin typeface="Monotype Corsiva"/>
              </a:rPr>
              <a:t>( права человека вчера, сегодня, завтра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Права человека вчер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56840" y="1499760"/>
            <a:ext cx="6743880" cy="47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Monotype Corsiva"/>
              </a:rPr>
              <a:t>Солон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-28440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Monotype Corsiva"/>
              </a:rPr>
              <a:t>Великая хартия вольностей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-28440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Monotype Corsiva"/>
              </a:rPr>
              <a:t>Билль о правах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-28440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Monotype Corsiva"/>
              </a:rPr>
              <a:t>Декларация независимости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-28440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Monotype Corsiva"/>
              </a:rPr>
              <a:t>Конституция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-28440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Monotype Corsiva"/>
              </a:rPr>
              <a:t>Декларация прав человека и гражданина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 Narrow"/>
              </a:rPr>
              <a:t>Международная хартия прав человека</a:t>
            </a:r>
            <a:r>
              <a:rPr b="0" lang="ru-RU" sz="4400" spc="-1" strike="noStrike">
                <a:solidFill>
                  <a:srgbClr val="3333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4920" y="2565000"/>
            <a:ext cx="187164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Всеобщая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Декларация прав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человек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708360" y="2637000"/>
            <a:ext cx="2592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979640" y="249228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Международный пакт о гражданских и политических  прав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284720" y="2492280"/>
            <a:ext cx="266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Международный пакт об экономических, социальных и культурных прав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7"/>
          <p:cNvSpPr/>
          <p:nvPr/>
        </p:nvSpPr>
        <p:spPr>
          <a:xfrm flipH="1">
            <a:off x="1476000" y="1628640"/>
            <a:ext cx="1150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 flipH="1">
            <a:off x="3563640" y="1700280"/>
            <a:ext cx="431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6012000" y="1628640"/>
            <a:ext cx="1008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68360" y="515772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Times New Roman"/>
              </a:rPr>
              <a:t>«хартия» - 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ажный документ, грамота, петиц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7020000" y="2133720"/>
            <a:ext cx="212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6732720" y="2492280"/>
            <a:ext cx="208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Международное гуманитарное прав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5003640" y="1628640"/>
            <a:ext cx="432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92144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50021"/>
                </a:solidFill>
                <a:latin typeface="Arial Narrow"/>
              </a:rPr>
              <a:t>Генеральная Ассамблея ООН</a:t>
            </a:r>
            <a:endParaRPr b="0" lang="en-US" sz="5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7921440" cy="33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Times New Roman"/>
              </a:rPr>
              <a:t>Всеобщая декларация прав человека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Times New Roman"/>
              </a:rPr>
              <a:t>10 декабря 1948 г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8064360" cy="28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00"/>
                </a:solidFill>
                <a:latin typeface="Arial Narrow"/>
              </a:rPr>
              <a:t>24</a:t>
            </a:r>
            <a:r>
              <a:rPr b="0" lang="ru-RU" sz="5400" spc="-1" strike="noStrike">
                <a:solidFill>
                  <a:srgbClr val="333300"/>
                </a:solidFill>
                <a:latin typeface="Arial Narrow"/>
              </a:rPr>
              <a:t> </a:t>
            </a:r>
            <a:r>
              <a:rPr b="0" lang="ru-RU" sz="4800" spc="-1" strike="noStrike">
                <a:solidFill>
                  <a:srgbClr val="333300"/>
                </a:solidFill>
                <a:latin typeface="Arial Narrow"/>
              </a:rPr>
              <a:t>октября 1945 г. - создание</a:t>
            </a:r>
            <a:r>
              <a:rPr b="0" lang="ru-RU" sz="5400" spc="-1" strike="noStrike">
                <a:solidFill>
                  <a:srgbClr val="a50021"/>
                </a:solidFill>
                <a:latin typeface="Arial Narrow"/>
              </a:rPr>
              <a:t> </a:t>
            </a:r>
            <a:br>
              <a:rPr sz="5400"/>
            </a:br>
            <a:r>
              <a:rPr b="0" lang="ru-RU" sz="4800" spc="-1" strike="noStrike">
                <a:solidFill>
                  <a:srgbClr val="a50021"/>
                </a:solidFill>
                <a:latin typeface="Arial Narrow"/>
              </a:rPr>
              <a:t>Организации Объединенных Наций (ООН)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11280" y="4869000"/>
            <a:ext cx="7993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Главная цель ООН: не допустить третьей мировой войны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Arial Narrow"/>
              </a:rPr>
              <a:t>Два дополнительных документ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137440" cy="39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00"/>
                </a:solidFill>
                <a:latin typeface="Monotype Corsiva"/>
              </a:rPr>
              <a:t>Международный пакт об экономических, социальных и культурных правах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00"/>
                </a:solidFill>
                <a:latin typeface="Monotype Corsiva"/>
              </a:rPr>
              <a:t>Международный пакт о гражданских и политических  правах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84836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 Narrow"/>
              </a:rPr>
              <a:t>Международное гуманитарное право</a:t>
            </a:r>
            <a:br>
              <a:rPr sz="3200"/>
            </a:br>
            <a:endParaRPr b="0" lang="en-US" sz="40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890720"/>
            <a:ext cx="88200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Monotype Corsiva"/>
              </a:rPr>
              <a:t>Конвенция против пыток и других жестоких, бесчеловечных или унижающих достоинство видов обращения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Monotype Corsiva"/>
              </a:rPr>
              <a:t>Конвенция о защите прав гражданского населения во время войны, улучшения участи раненных и больных в действующих армиях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333300"/>
                </a:solidFill>
                <a:latin typeface="Monotype Corsiva"/>
              </a:rPr>
              <a:t>другие документы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Права человека вчер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34544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9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Всеобщая декларация прав человека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77560" indent="-277560">
              <a:spcBef>
                <a:spcPts val="9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Международный пакт о гражданских и политических  правах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77560" indent="-277560">
              <a:spcBef>
                <a:spcPts val="9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Международный пакт об экономических, социальных и культурных правах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77560" indent="-277560">
              <a:spcBef>
                <a:spcPts val="9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Международное гуманитарное право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7756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7756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1197000"/>
            <a:ext cx="66960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Arial Narrow"/>
              </a:rPr>
              <a:t>Конвенция </a:t>
            </a:r>
            <a:br>
              <a:rPr sz="4800"/>
            </a:br>
            <a:r>
              <a:rPr b="0" lang="ru-RU" sz="4800" spc="-1" strike="noStrike">
                <a:solidFill>
                  <a:srgbClr val="a50021"/>
                </a:solidFill>
                <a:latin typeface="Arial Narrow"/>
              </a:rPr>
              <a:t> о правах ребенк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700360" y="1484280"/>
            <a:ext cx="439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556000" y="342900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0 ноября 1989 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258920" y="1268280"/>
            <a:ext cx="640872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жиз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имя при рожде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медицинскую помощ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образ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отдых и досу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имущ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 свободное перемещ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заботу и воспитание роди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свободно выражать свои взгля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всестороннее развитие и уважение человеческого достоин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916360" y="1052640"/>
            <a:ext cx="345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11600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Основные права дет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Конституции РФ – 18 лет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826920" y="3284640"/>
            <a:ext cx="32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00"/>
                </a:solidFill>
                <a:latin typeface="Times New Roman"/>
              </a:rPr>
              <a:t>12 декабря 1993 г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CASOJP1NCAGN50L1CAOSG4TUCA2E285NCAKXFKRGCAODONRPCA9OQ4PNCAOSUYORCAEIMWUDCA2C2X9CCAYBACZ4CANSSK03CABDP86RCAV7MLNGCA4EA47RCAV9KSJ7CATQ4V3WCA3ZSAJRCA256SIA"/>
          <p:cNvPicPr/>
          <p:nvPr/>
        </p:nvPicPr>
        <p:blipFill>
          <a:blip r:embed="rId1"/>
          <a:stretch/>
        </p:blipFill>
        <p:spPr>
          <a:xfrm>
            <a:off x="4803840" y="2708280"/>
            <a:ext cx="2846160" cy="3025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469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 Narrow"/>
              </a:rPr>
              <a:t>Процветание Родины – это счастливая,полная смысла жизнь,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 Narrow"/>
              </a:rPr>
              <a:t>свобода материальная и духовная, благосостояние и безопасность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 Narrow"/>
              </a:rPr>
              <a:t>для граждан страны, для всех людей на Земле, независимо от их расы,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 Narrow"/>
              </a:rPr>
              <a:t>   национальности, пола, возраста и социального положения</a:t>
            </a:r>
            <a:r>
              <a:rPr b="0" i="1" lang="ru-RU" sz="3600" spc="-1" strike="noStrike">
                <a:solidFill>
                  <a:srgbClr val="a50021"/>
                </a:solidFill>
                <a:latin typeface="Arial Narrow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 Narrow"/>
              </a:rPr>
              <a:t>                         </a:t>
            </a:r>
            <a:r>
              <a:rPr b="1" lang="ru-RU" sz="3200" spc="-1" strike="noStrike">
                <a:solidFill>
                  <a:srgbClr val="a50021"/>
                </a:solidFill>
                <a:latin typeface="Arial Narrow"/>
              </a:rPr>
              <a:t>Андрей Дмитриевич Сахаров</a:t>
            </a:r>
            <a:endParaRPr b="0" lang="en-US" sz="32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403280" y="3860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Конституции РФ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2492280"/>
            <a:ext cx="2230560" cy="72072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00"/>
                </a:solidFill>
                <a:latin typeface="Times New Roman"/>
              </a:rPr>
              <a:t>права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292720" y="2492280"/>
            <a:ext cx="2160720" cy="70344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00"/>
                </a:solidFill>
                <a:latin typeface="Times New Roman"/>
              </a:rPr>
              <a:t>свобо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6"/>
          <p:cNvSpPr/>
          <p:nvPr/>
        </p:nvSpPr>
        <p:spPr>
          <a:xfrm flipH="1">
            <a:off x="2627280" y="162864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5219640" y="1628640"/>
            <a:ext cx="1081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116000" y="3357720"/>
            <a:ext cx="3168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аждан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ит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иально-      эконом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льтур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a52daa2d3ce3"/>
          <p:cNvPicPr/>
          <p:nvPr/>
        </p:nvPicPr>
        <p:blipFill>
          <a:blip r:embed="rId1"/>
          <a:srcRect l="0" t="0" r="0" b="28867"/>
          <a:stretch/>
        </p:blipFill>
        <p:spPr>
          <a:xfrm>
            <a:off x="500040" y="1357200"/>
            <a:ext cx="8118360" cy="4714920"/>
          </a:xfrm>
          <a:prstGeom prst="rect">
            <a:avLst/>
          </a:prstGeom>
          <a:ln w="0">
            <a:noFill/>
          </a:ln>
        </p:spPr>
      </p:pic>
      <p:sp>
        <p:nvSpPr>
          <p:cNvPr id="132" name="WordArt 6"/>
          <p:cNvSpPr txBox="1"/>
          <p:nvPr/>
        </p:nvSpPr>
        <p:spPr>
          <a:xfrm>
            <a:off x="714240" y="571680"/>
            <a:ext cx="7858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2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2600" y="642960"/>
            <a:ext cx="8278920" cy="56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 Narrow"/>
              </a:rPr>
              <a:t>Право</a:t>
            </a:r>
            <a:r>
              <a:rPr b="1" i="1" lang="ru-RU" sz="3600" spc="-1" strike="noStrike">
                <a:solidFill>
                  <a:srgbClr val="3333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333300"/>
                </a:solidFill>
                <a:latin typeface="Arial Narrow"/>
              </a:rPr>
              <a:t>– система общеобязательных социальных норм, установленных или санкционированных государством.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Arial Narrow"/>
              </a:rPr>
              <a:t>Права человека</a:t>
            </a:r>
            <a:r>
              <a:rPr b="0" lang="ru-RU" sz="3600" spc="-1" strike="noStrike">
                <a:solidFill>
                  <a:srgbClr val="333300"/>
                </a:solidFill>
                <a:latin typeface="Arial Narrow"/>
              </a:rPr>
              <a:t> – понятие, характеризующее правовой статус </a:t>
            </a:r>
            <a:r>
              <a:rPr b="0" i="1" lang="ru-RU" sz="3600" spc="-1" strike="noStrike">
                <a:solidFill>
                  <a:srgbClr val="333300"/>
                </a:solidFill>
                <a:latin typeface="Arial Narrow"/>
              </a:rPr>
              <a:t>человека </a:t>
            </a:r>
            <a:r>
              <a:rPr b="0" lang="ru-RU" sz="3600" spc="-1" strike="noStrike">
                <a:solidFill>
                  <a:srgbClr val="333300"/>
                </a:solidFill>
                <a:latin typeface="Arial Narrow"/>
              </a:rPr>
              <a:t>по отношению к </a:t>
            </a:r>
            <a:r>
              <a:rPr b="0" i="1" lang="ru-RU" sz="3600" spc="-1" strike="noStrike">
                <a:solidFill>
                  <a:srgbClr val="333300"/>
                </a:solidFill>
                <a:latin typeface="Arial Narrow"/>
              </a:rPr>
              <a:t>государству, </a:t>
            </a:r>
            <a:r>
              <a:rPr b="0" lang="ru-RU" sz="3600" spc="-1" strike="noStrike">
                <a:solidFill>
                  <a:srgbClr val="333300"/>
                </a:solidFill>
                <a:latin typeface="Arial Narrow"/>
              </a:rPr>
              <a:t>его возможности и притязания в экономической, социальной, политической и культурной сферах.</a:t>
            </a:r>
            <a:br>
              <a:rPr sz="3600"/>
            </a:br>
            <a:r>
              <a:rPr b="0" lang="ru-RU" sz="3600" spc="-1" strike="noStrike">
                <a:solidFill>
                  <a:srgbClr val="a50021"/>
                </a:solidFill>
                <a:latin typeface="Arial Narrow"/>
              </a:rPr>
              <a:t>  </a:t>
            </a:r>
            <a:r>
              <a:rPr b="1" i="1" lang="ru-RU" sz="3600" spc="-1" strike="noStrike">
                <a:solidFill>
                  <a:srgbClr val="a50021"/>
                </a:solidFill>
                <a:latin typeface="Arial Narrow"/>
              </a:rPr>
              <a:t>Статус</a:t>
            </a:r>
            <a:r>
              <a:rPr b="0" lang="ru-RU" sz="3600" spc="-1" strike="noStrike">
                <a:solidFill>
                  <a:srgbClr val="333300"/>
                </a:solidFill>
                <a:latin typeface="Arial Narrow"/>
              </a:rPr>
              <a:t> – положение</a:t>
            </a:r>
            <a:r>
              <a:rPr b="0" lang="ru-RU" sz="4400" spc="-1" strike="noStrike">
                <a:solidFill>
                  <a:srgbClr val="3333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Афины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00"/>
                </a:solidFill>
                <a:uFillTx/>
                <a:latin typeface="Times New Roman"/>
              </a:rPr>
              <a:t>Солон</a:t>
            </a:r>
            <a:r>
              <a:rPr b="1" lang="ru-RU" sz="4400" spc="-1" strike="noStrike">
                <a:solidFill>
                  <a:srgbClr val="333300"/>
                </a:solidFill>
                <a:latin typeface="Times New Roman"/>
              </a:rPr>
              <a:t> (</a:t>
            </a:r>
            <a:r>
              <a:rPr b="1" lang="en-US" sz="4400" spc="-1" strike="noStrike">
                <a:solidFill>
                  <a:srgbClr val="333300"/>
                </a:solidFill>
                <a:latin typeface="Times New Roman"/>
              </a:rPr>
              <a:t>VI </a:t>
            </a:r>
            <a:r>
              <a:rPr b="1" lang="ru-RU" sz="4400" spc="-1" strike="noStrike">
                <a:solidFill>
                  <a:srgbClr val="333300"/>
                </a:solidFill>
                <a:latin typeface="Times New Roman"/>
              </a:rPr>
              <a:t>век до н. э.)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1" name="Picture 5" descr="CADTVX7SCAKTRU5LCA6V9GLPCA56B8N1CAYVG09GCA14622ICA064X8HCABZP7ZRCAYSR32MCAE4SBEQCAIH3AIOCACAFNTMCAY233HTCAS4NSP2CAWGY574CAGQV4CQCA6VG8FGCAEGVJAJCAS6STVR"/>
          <p:cNvPicPr/>
          <p:nvPr/>
        </p:nvPicPr>
        <p:blipFill>
          <a:blip r:embed="rId1"/>
          <a:stretch/>
        </p:blipFill>
        <p:spPr>
          <a:xfrm>
            <a:off x="3578400" y="3141720"/>
            <a:ext cx="186048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 Narrow"/>
              </a:rPr>
              <a:t>Англия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2400" cy="205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00"/>
                </a:solidFill>
                <a:uFillTx/>
                <a:latin typeface="Times New Roman"/>
              </a:rPr>
              <a:t>Великая хартия вольностей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Times New Roman"/>
              </a:rPr>
              <a:t>1215г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 Narrow"/>
              </a:rPr>
              <a:t>Англия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27280" y="3573360"/>
            <a:ext cx="38880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2674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Times New Roman"/>
              </a:rPr>
              <a:t>1689 г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835280" y="3068640"/>
            <a:ext cx="54561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00"/>
                </a:solidFill>
                <a:uFillTx/>
                <a:latin typeface="Times New Roman"/>
              </a:rPr>
              <a:t>Билль о прав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СШ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5280" cy="20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Декларация независимости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1776 г.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826920" y="5733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декларация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заявление, провозглаш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NothighrezJefferson_Peale_1791_2"/>
          <p:cNvPicPr/>
          <p:nvPr/>
        </p:nvPicPr>
        <p:blipFill>
          <a:blip r:embed="rId1"/>
          <a:stretch/>
        </p:blipFill>
        <p:spPr>
          <a:xfrm>
            <a:off x="3492360" y="2637000"/>
            <a:ext cx="2202120" cy="3095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5796000" y="386064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мас  Джефферс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42876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СШ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31664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Конституция 1787 год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85880" y="5216400"/>
            <a:ext cx="767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конституция»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ой закон государ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>
            <a:hlinkClick r:id="rId1"/>
          </p:cNvPr>
          <p:cNvSpPr/>
          <p:nvPr/>
        </p:nvSpPr>
        <p:spPr>
          <a:xfrm>
            <a:off x="3367080" y="-1211400"/>
            <a:ext cx="209556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http://upload.wikimedia.org/wikipedia/commons/thumb/f/f0/JamesMadison.jpg/220px-JamesMadi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32080" y="2571840"/>
            <a:ext cx="2197080" cy="25034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9"/>
          <p:cNvSpPr/>
          <p:nvPr/>
        </p:nvSpPr>
        <p:spPr>
          <a:xfrm>
            <a:off x="5643720" y="4071960"/>
            <a:ext cx="2357280" cy="28584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жеймс Мэдисо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Франция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333300"/>
                </a:solidFill>
                <a:latin typeface="Times New Roman"/>
              </a:rPr>
              <a:t>Декларация прав человека и гражданина (1789 г.)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124000" y="59500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ксимилиан Робеспь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CAYOG6KZCALWTF1RCA4VRZ96CAOS9Z7ZCAF97VSFCAQWFKE3CAQM16Y9CACNMGJPCABO5CWNCAUO2VUTCAFLGM60CAE9EQW0CA30XE76CA03MO36CAD8ACX0CAW15ZPKCA00F312CA9YIL1NCA6K9U8U"/>
          <p:cNvPicPr/>
          <p:nvPr/>
        </p:nvPicPr>
        <p:blipFill>
          <a:blip r:embed="rId1"/>
          <a:stretch/>
        </p:blipFill>
        <p:spPr>
          <a:xfrm>
            <a:off x="3492360" y="3357720"/>
            <a:ext cx="203544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9:34:31Z</dcterms:created>
  <dc:creator>User</dc:creator>
  <dc:description/>
  <dc:language>en-US</dc:language>
  <cp:lastModifiedBy>USER</cp:lastModifiedBy>
  <dcterms:modified xsi:type="dcterms:W3CDTF">2015-02-02T14:42:29Z</dcterms:modified>
  <cp:revision>65</cp:revision>
  <dc:subject/>
  <dc:title>Из истории о правах граждан</dc:title>
</cp:coreProperties>
</file>