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C0A-399A-4D17-9367-DE0B72F2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654-7A8C-4B1B-AAF1-1016A97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219-4299-492E-9FF7-EBF2511E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8154-5434-4EA2-ACCC-B9DDF880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851-DAAB-4AA0-8FDA-B65F3B83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2EC-F05E-4DDD-BD01-D1D739F7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248-1CB0-4851-B099-1BC47651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33A-EB3B-4BE1-AB85-9428F137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D89-820C-4621-9EE9-72930448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4C8-B1E5-448D-BDC2-CC4B3D61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77B-DB7A-4B3D-8B33-CC776E0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C1B-FA31-4973-AB1F-08F387A4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CCC7-77A7-4A3E-8C2E-C55351180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9;%20&#1076;&#1077;&#1088;&#1077;&#1074;&#1085;&#1080;%20&#1050;&#1088;&#1102;&#1082;&#1086;&#1074;&#1086;.mp3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84;&#1080;&#1085;&#1091;&#1090;&#1072;%20&#1084;&#1086;&#1083;&#1095;&#1072;&#1085;&#1080;&#1103;.mp3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3_urii_vizbor_pomni_voinu_1970_myzuka.ru.mp3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Великая битва </a:t>
            </a:r>
            <a:br>
              <a:rPr sz="6600"/>
            </a:b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за </a:t>
            </a:r>
            <a:br>
              <a:rPr sz="6600"/>
            </a:b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Москв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588000" y="609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4000" y="4626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Москву было сброшено 1610 фугасных и 110 тысяч зажигательных бом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Фотография #126 Старая Москва Фотогалерея Еду в Москву. Сайт о туризме, отдыхе Москвы"/>
          <p:cNvPicPr/>
          <p:nvPr/>
        </p:nvPicPr>
        <p:blipFill>
          <a:blip r:embed="rId1"/>
          <a:stretch/>
        </p:blipFill>
        <p:spPr>
          <a:xfrm>
            <a:off x="1187280" y="476280"/>
            <a:ext cx="615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7 ноября 1941 года в Москве состоялся праздничный пара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pointofgame - 7 ноября 1941 Проведен военный парад на Красной площади"/>
          <p:cNvPicPr/>
          <p:nvPr/>
        </p:nvPicPr>
        <p:blipFill>
          <a:blip r:embed="rId1"/>
          <a:stretch/>
        </p:blipFill>
        <p:spPr>
          <a:xfrm>
            <a:off x="1762200" y="1890720"/>
            <a:ext cx="59054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 парада прямо на фронт  - на защиту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Москв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Люблю грозу в начале мая - Чебоксары"/>
          <p:cNvPicPr/>
          <p:nvPr/>
        </p:nvPicPr>
        <p:blipFill>
          <a:blip r:embed="rId1"/>
          <a:stretch/>
        </p:blipFill>
        <p:spPr>
          <a:xfrm>
            <a:off x="1063800" y="1600200"/>
            <a:ext cx="701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Участие Сталина в параде развеяло  слухи о том, что Москву  вскоре сдадут немца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Ретро фотографии &quot;Битва за Москву&quot;. 1071 шт. &quot; Крутилово"/>
          <p:cNvPicPr/>
          <p:nvPr/>
        </p:nvPicPr>
        <p:blipFill>
          <a:blip r:embed="rId1"/>
          <a:stretch/>
        </p:blipFill>
        <p:spPr>
          <a:xfrm>
            <a:off x="1692360" y="2637000"/>
            <a:ext cx="5543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Оборону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Москвы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возглавил маршал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Георгий Константинович  Жуков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Великий полководец Георгий Жуков videolain"/>
          <p:cNvPicPr/>
          <p:nvPr/>
        </p:nvPicPr>
        <p:blipFill>
          <a:blip r:embed="rId1"/>
          <a:stretch/>
        </p:blipFill>
        <p:spPr>
          <a:xfrm>
            <a:off x="3132000" y="1989000"/>
            <a:ext cx="48834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битве под Москвой германской армии было нанесено первое за эту войну пораж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битве под Москвой была заложена прочная основа для последующего разгрома Герм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Чудо генерала Моро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Плененные под Москвой немецкие солдаты - Битва за Москву - В…"/>
          <p:cNvPicPr/>
          <p:nvPr/>
        </p:nvPicPr>
        <p:blipFill>
          <a:blip r:embed="rId1"/>
          <a:stretch/>
        </p:blipFill>
        <p:spPr>
          <a:xfrm>
            <a:off x="1116000" y="2098800"/>
            <a:ext cx="66247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Защитники столиц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 rot="567600">
            <a:off x="555120" y="1891440"/>
            <a:ext cx="78552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Вспомним их поимен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Горем Вспомним своим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Это нужно – не  мертвы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Это надо живым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Р. Рождествен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Генерал 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Михаил Федорович Лук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Забытый командарм rusfact.ru"/>
          <p:cNvPicPr/>
          <p:nvPr/>
        </p:nvPicPr>
        <p:blipFill>
          <a:blip r:embed="rId1"/>
          <a:stretch/>
        </p:blipFill>
        <p:spPr>
          <a:xfrm>
            <a:off x="2411280" y="1413000"/>
            <a:ext cx="3889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«Велика Россия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а отступать некуда – позади Москв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5219640" y="5516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У деревни Крюк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5 декабря 1941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День начала контрнаступления советских войск в битве под МОСКВО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Михаил Алексеевич Гурьян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Префектура ЮВАО - В честь них названы улицы района Печатники. Улица Гурьянова. - Мероприятия к 65-летию Победы в Великой Отечест"/>
          <p:cNvPicPr/>
          <p:nvPr/>
        </p:nvPicPr>
        <p:blipFill>
          <a:blip r:embed="rId1"/>
          <a:stretch/>
        </p:blipFill>
        <p:spPr>
          <a:xfrm>
            <a:off x="2700360" y="1484280"/>
            <a:ext cx="3959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Илья Кузин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 августа родились... . Обсуждение на LiveInternet - Российс…"/>
          <p:cNvPicPr/>
          <p:nvPr/>
        </p:nvPicPr>
        <p:blipFill>
          <a:blip r:embed="rId1"/>
          <a:stretch/>
        </p:blipFill>
        <p:spPr>
          <a:xfrm>
            <a:off x="2627280" y="1413000"/>
            <a:ext cx="3673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Вера Волоши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Рыбинск. Рыбинская неделя - городской портал Рыбинска - ново…"/>
          <p:cNvPicPr/>
          <p:nvPr/>
        </p:nvPicPr>
        <p:blipFill>
          <a:blip r:embed="rId1"/>
          <a:stretch/>
        </p:blipFill>
        <p:spPr>
          <a:xfrm>
            <a:off x="2771640" y="141300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Иван Петрович Иван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Akillismib &quot; PlayerBook - бесплатно скачать аудиокниги видеоуроки литературу"/>
          <p:cNvPicPr/>
          <p:nvPr/>
        </p:nvPicPr>
        <p:blipFill>
          <a:blip r:embed="rId1"/>
          <a:stretch/>
        </p:blipFill>
        <p:spPr>
          <a:xfrm>
            <a:off x="1042920" y="2205000"/>
            <a:ext cx="60991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Сержант В.В. Васильков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Родина помнит. - МЕМОРИАЛ- я.ру"/>
          <p:cNvPicPr/>
          <p:nvPr/>
        </p:nvPicPr>
        <p:blipFill>
          <a:blip r:embed="rId1"/>
          <a:stretch/>
        </p:blipFill>
        <p:spPr>
          <a:xfrm>
            <a:off x="2268360" y="1341360"/>
            <a:ext cx="43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Зоя Космодемьянска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ЗВ Форум :: Тема: ПРОФСОЮЗ ГРАЖДАН РОССИИ (5/33)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Виктор Талалихин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7 августа 1941 года лётчик Виктор Талалихин первый за Великую Отечественную войну произвёл таран в н. Война и все о ней"/>
          <p:cNvPicPr/>
          <p:nvPr/>
        </p:nvPicPr>
        <p:blipFill>
          <a:blip r:embed="rId1"/>
          <a:stretch/>
        </p:blipFill>
        <p:spPr>
          <a:xfrm>
            <a:off x="2411280" y="1268280"/>
            <a:ext cx="367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аршал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еоргий Константинович Жу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Музей МАОУ СОШ 3 &quot;Дорогами памяти&quot; - Юный жуковец"/>
          <p:cNvPicPr/>
          <p:nvPr/>
        </p:nvPicPr>
        <p:blipFill>
          <a:blip r:embed="rId1"/>
          <a:stretch/>
        </p:blipFill>
        <p:spPr>
          <a:xfrm>
            <a:off x="2484360" y="1773360"/>
            <a:ext cx="34038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Памяти неизвестного солда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Могила Неизвестного солдата, Россия, Москва: фото, описание, адрес"/>
          <p:cNvPicPr/>
          <p:nvPr/>
        </p:nvPicPr>
        <p:blipFill>
          <a:blip r:embed="rId1"/>
          <a:stretch/>
        </p:blipFill>
        <p:spPr>
          <a:xfrm>
            <a:off x="395280" y="1268280"/>
            <a:ext cx="7201080" cy="450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5867280" y="5877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памяти павш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сли выстрелиш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   прошлое из пистолет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удущее выстрел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 тебя из пуш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асул Гамз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203 дня и ноч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битве под Москвой с обеих сторон было задействовано  около 7 млн. челове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тери советских войск – 926 тыс. челов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тери немецких войск – 615 тыс. челов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98200">
            <a:off x="244440" y="166860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Помнить о том, что когда-то касалось всех на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012000" y="587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омни вой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Если выстрелиш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   прошлое из пистолет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будущее выстрел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 тебя из пуш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ул Гамз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План Барбаросс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 Необходимо напасть на Россию молниеносно и захватить её ресурсы, не считаясь с возможной гибелью миллионов людей в этой стране. Нам надо   взять  у России все, что нам нужно. Пусть гибнут миллион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Россия должна быть уничтожена» ,- объявил Гитлер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 плану на захват России Гитлер отводил максимум 5 месяцев и даже предполагал закончить операцию даже за 3 не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Операция « Тайфун 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 этому плану Москва должна быть окружена, захвачена и затопл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итлер мечтал войти в Моск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а белом коне, чтобы принять парад своих войск на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расной площад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Реферат на тему: &quot;Битва под Москвой. Международное значение&quot;"/>
          <p:cNvPicPr/>
          <p:nvPr/>
        </p:nvPicPr>
        <p:blipFill>
          <a:blip r:embed="rId1"/>
          <a:stretch/>
        </p:blipFill>
        <p:spPr>
          <a:xfrm>
            <a:off x="2124000" y="404640"/>
            <a:ext cx="42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35:12Z</dcterms:created>
  <dc:creator>Elena</dc:creator>
  <dc:description/>
  <dc:language>en-US</dc:language>
  <cp:lastModifiedBy>Elena</cp:lastModifiedBy>
  <dcterms:modified xsi:type="dcterms:W3CDTF">2014-12-04T17:26:48Z</dcterms:modified>
  <cp:revision>4</cp:revision>
  <dc:subject/>
  <dc:title>Великая битва  за  Москву</dc:title>
</cp:coreProperties>
</file>