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CD3C-DBC6-49E9-B2FD-023A48158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F42-DC17-4EDC-BADE-8C419FFC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AB4-EA3E-4356-AED0-86841DA8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B71-4D00-4CBE-8635-2BABDCCD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CB6-DD56-4C52-83D4-E793CDC0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FB4-E473-4358-8B6A-E362CD6D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5818-1AA4-45A8-A1BD-AB351F73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BF8A-86EF-40A0-A74E-16188BBE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3AF-721F-461A-8B85-BAA376A0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83C-E971-47CC-B742-9EC0740A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82B-08B6-4B42-8EE0-E84F4581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F4C-E238-408C-BE2A-70514D11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9570-0730-45C7-A1E6-C332B2A9E4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9;%20&#1076;&#1077;&#1088;&#1077;&#1074;&#1085;&#1080;%20&#1050;&#1088;&#1102;&#1082;&#1086;&#1074;&#1086;.mp3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&#1084;&#1080;&#1085;&#1091;&#1090;&#1072;%20&#1084;&#1086;&#1083;&#1095;&#1072;&#1085;&#1080;&#1103;.mp3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23_urii_vizbor_pomni_voinu_1970_myzuka.ru.mp3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Calibri"/>
              </a:rPr>
              <a:t>Великая битва </a:t>
            </a:r>
            <a:br>
              <a:rPr sz="6600"/>
            </a:br>
            <a:r>
              <a:rPr b="1" i="1" lang="ru-RU" sz="6600" spc="-1" strike="noStrike">
                <a:solidFill>
                  <a:srgbClr val="002060"/>
                </a:solidFill>
                <a:latin typeface="Calibri"/>
              </a:rPr>
              <a:t>за </a:t>
            </a:r>
            <a:br>
              <a:rPr sz="6600"/>
            </a:b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Москву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6588000" y="6093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24000" y="4626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 Москву было сброшено 1610 фугасных и 110 тысяч зажигательных бом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Фотография #126 Старая Москва Фотогалерея Еду в Москву. Сайт о туризме, отдыхе Москвы"/>
          <p:cNvPicPr/>
          <p:nvPr/>
        </p:nvPicPr>
        <p:blipFill>
          <a:blip r:embed="rId1"/>
          <a:stretch/>
        </p:blipFill>
        <p:spPr>
          <a:xfrm>
            <a:off x="1187280" y="476280"/>
            <a:ext cx="6156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7 ноября 1941 года в Москве состоялся праздничный парад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pointofgame - 7 ноября 1941 Проведен военный парад на Красной площади"/>
          <p:cNvPicPr/>
          <p:nvPr/>
        </p:nvPicPr>
        <p:blipFill>
          <a:blip r:embed="rId1"/>
          <a:stretch/>
        </p:blipFill>
        <p:spPr>
          <a:xfrm>
            <a:off x="1762200" y="1890720"/>
            <a:ext cx="590544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С парада прямо на фронт  - на защиту </a:t>
            </a: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Москв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Люблю грозу в начале мая - Чебоксары"/>
          <p:cNvPicPr/>
          <p:nvPr/>
        </p:nvPicPr>
        <p:blipFill>
          <a:blip r:embed="rId1"/>
          <a:stretch/>
        </p:blipFill>
        <p:spPr>
          <a:xfrm>
            <a:off x="1063800" y="1600200"/>
            <a:ext cx="701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Участие Сталина в параде развеяло  слухи о том, что Москву  вскоре сдадут немца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3" descr="Ретро фотографии &quot;Битва за Москву&quot;. 1071 шт. &quot; Крутилово"/>
          <p:cNvPicPr/>
          <p:nvPr/>
        </p:nvPicPr>
        <p:blipFill>
          <a:blip r:embed="rId1"/>
          <a:stretch/>
        </p:blipFill>
        <p:spPr>
          <a:xfrm>
            <a:off x="1692360" y="2637000"/>
            <a:ext cx="55436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Оборону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Москвы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возглавил маршал  </a:t>
            </a: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Георгий Константинович  Жуков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Великий полководец Георгий Жуков videolain"/>
          <p:cNvPicPr/>
          <p:nvPr/>
        </p:nvPicPr>
        <p:blipFill>
          <a:blip r:embed="rId1"/>
          <a:stretch/>
        </p:blipFill>
        <p:spPr>
          <a:xfrm>
            <a:off x="3132000" y="1989000"/>
            <a:ext cx="488340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 битве под Москвой германской армии было нанесено первое за эту войну пораж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В битве под Москвой была заложена прочная основа для последующего разгрома Герман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Чудо генерала Мороз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Плененные под Москвой немецкие солдаты - Битва за Москву - В…"/>
          <p:cNvPicPr/>
          <p:nvPr/>
        </p:nvPicPr>
        <p:blipFill>
          <a:blip r:embed="rId1"/>
          <a:stretch/>
        </p:blipFill>
        <p:spPr>
          <a:xfrm>
            <a:off x="1116000" y="2098800"/>
            <a:ext cx="662472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Защитники столиц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 rot="567600">
            <a:off x="555120" y="1891440"/>
            <a:ext cx="78552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Вспомним их поименн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Горем Вспомним своим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Это нужно – не  мертвым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Это надо живым 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Р. Рождественск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Генерал </a:t>
            </a:r>
            <a:br>
              <a:rPr sz="4400"/>
            </a:b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Михаил Федорович Лукин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Забытый командарм rusfact.ru"/>
          <p:cNvPicPr/>
          <p:nvPr/>
        </p:nvPicPr>
        <p:blipFill>
          <a:blip r:embed="rId1"/>
          <a:stretch/>
        </p:blipFill>
        <p:spPr>
          <a:xfrm>
            <a:off x="2411280" y="1413000"/>
            <a:ext cx="3889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6600" spc="-1" strike="noStrike">
                <a:solidFill>
                  <a:srgbClr val="002060"/>
                </a:solidFill>
                <a:latin typeface="Calibri"/>
              </a:rPr>
              <a:t>«Велика Россия,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Calibri"/>
              </a:rPr>
              <a:t>а отступать некуда – позади Москва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5219640" y="5516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У деревни Крюко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5 декабря 1941 год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День начала контрнаступления советских войск в битве под МОСКВОЙ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Михаил Алексеевич Гурьян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Префектура ЮВАО - В честь них названы улицы района Печатники. Улица Гурьянова. - Мероприятия к 65-летию Победы в Великой Отечест"/>
          <p:cNvPicPr/>
          <p:nvPr/>
        </p:nvPicPr>
        <p:blipFill>
          <a:blip r:embed="rId1"/>
          <a:stretch/>
        </p:blipFill>
        <p:spPr>
          <a:xfrm>
            <a:off x="2700360" y="1484280"/>
            <a:ext cx="3959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Илья Кузин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1 августа родились... . Обсуждение на LiveInternet - Российс…"/>
          <p:cNvPicPr/>
          <p:nvPr/>
        </p:nvPicPr>
        <p:blipFill>
          <a:blip r:embed="rId1"/>
          <a:stretch/>
        </p:blipFill>
        <p:spPr>
          <a:xfrm>
            <a:off x="2627280" y="1413000"/>
            <a:ext cx="36734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Вера Волоши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Рыбинск. Рыбинская неделя - городской портал Рыбинска - ново…"/>
          <p:cNvPicPr/>
          <p:nvPr/>
        </p:nvPicPr>
        <p:blipFill>
          <a:blip r:embed="rId1"/>
          <a:stretch/>
        </p:blipFill>
        <p:spPr>
          <a:xfrm>
            <a:off x="2771640" y="1413000"/>
            <a:ext cx="3456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Иван Петрович Ивано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Akillismib &quot; PlayerBook - бесплатно скачать аудиокниги видеоуроки литературу"/>
          <p:cNvPicPr/>
          <p:nvPr/>
        </p:nvPicPr>
        <p:blipFill>
          <a:blip r:embed="rId1"/>
          <a:stretch/>
        </p:blipFill>
        <p:spPr>
          <a:xfrm>
            <a:off x="1042920" y="2205000"/>
            <a:ext cx="609912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Сержант В.В. Васильковск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Родина помнит. - МЕМОРИАЛ- я.ру"/>
          <p:cNvPicPr/>
          <p:nvPr/>
        </p:nvPicPr>
        <p:blipFill>
          <a:blip r:embed="rId1"/>
          <a:stretch/>
        </p:blipFill>
        <p:spPr>
          <a:xfrm>
            <a:off x="2268360" y="1341360"/>
            <a:ext cx="4319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Зоя Космодемьянская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ЗВ Форум :: Тема: ПРОФСОЮЗ ГРАЖДАН РОССИИ (5/33)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Виктор Талалихин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7 августа 1941 года лётчик Виктор Талалихин первый за Великую Отечественную войну произвёл таран в н. Война и все о ней"/>
          <p:cNvPicPr/>
          <p:nvPr/>
        </p:nvPicPr>
        <p:blipFill>
          <a:blip r:embed="rId1"/>
          <a:stretch/>
        </p:blipFill>
        <p:spPr>
          <a:xfrm>
            <a:off x="2411280" y="1268280"/>
            <a:ext cx="3673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Маршал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Георгий Константинович Жу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Музей МАОУ СОШ 3 &quot;Дорогами памяти&quot; - Юный жуковец"/>
          <p:cNvPicPr/>
          <p:nvPr/>
        </p:nvPicPr>
        <p:blipFill>
          <a:blip r:embed="rId1"/>
          <a:stretch/>
        </p:blipFill>
        <p:spPr>
          <a:xfrm>
            <a:off x="2484360" y="1773360"/>
            <a:ext cx="34038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2060"/>
                </a:solidFill>
                <a:latin typeface="Calibri"/>
              </a:rPr>
              <a:t>Памяти неизвестного солда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Могила Неизвестного солдата, Россия, Москва: фото, описание, адрес"/>
          <p:cNvPicPr/>
          <p:nvPr/>
        </p:nvPicPr>
        <p:blipFill>
          <a:blip r:embed="rId1"/>
          <a:stretch/>
        </p:blipFill>
        <p:spPr>
          <a:xfrm>
            <a:off x="395280" y="1268280"/>
            <a:ext cx="7201080" cy="450072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5867280" y="587700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памяти павши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Если выстрелиш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   прошлое из пистолета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будущее выстрели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 тебя из пуш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                               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асул Гамза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203 дня и ночи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 битве под Москвой с обеих сторон было задействовано  около 7 млн. человек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отери советских войск – 926 тыс. челов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отери немецких войск – 615 тыс. челове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 rot="598200">
            <a:off x="244440" y="166860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Помнить о том, что когда-то касалось всех на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6012000" y="587700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Помни войн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Если выстрелиш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   прошлое из пистолета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будущее выстрели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 тебя из пуш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                           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асул Гамза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План Барбаросс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 Необходимо напасть на Россию молниеносно и захватить её ресурсы, не считаясь с возможной гибелью миллионов людей в этой стране. Нам надо   взять  у России все, что нам нужно. Пусть гибнут миллион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Россия должна быть уничтожена» ,- объявил Гитлер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 плану на захват России Гитлер отводил максимум 5 месяцев и даже предполагал закончить операцию даже за 3 нед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Операция « Тайфун 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128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 этому плану Москва должна быть окружена, захвачена и затопле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Гитлер мечтал войти в Моск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на белом коне, чтобы принять парад своих войск на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Красной площад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Реферат на тему: &quot;Битва под Москвой. Международное значение&quot;"/>
          <p:cNvPicPr/>
          <p:nvPr/>
        </p:nvPicPr>
        <p:blipFill>
          <a:blip r:embed="rId1"/>
          <a:stretch/>
        </p:blipFill>
        <p:spPr>
          <a:xfrm>
            <a:off x="2124000" y="404640"/>
            <a:ext cx="4248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35:12Z</dcterms:created>
  <dc:creator>Elena</dc:creator>
  <dc:description/>
  <dc:language>en-US</dc:language>
  <cp:lastModifiedBy>Elena</cp:lastModifiedBy>
  <dcterms:modified xsi:type="dcterms:W3CDTF">2014-12-04T17:26:48Z</dcterms:modified>
  <cp:revision>4</cp:revision>
  <dc:subject/>
  <dc:title>Великая битва  за  Москву</dc:title>
</cp:coreProperties>
</file>