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FCF-67CC-4D29-8228-965179C1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B54-E335-4690-B0F4-6B8E7FDB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CA4-D417-41C0-BB34-1B36006C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1F2-855D-453C-A0BC-BEFD6CC4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0F6-950F-45E5-B1C2-DC27A927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A62-A007-474C-951E-C93D78A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DE4-C844-44BF-9B2C-B6CB0A33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2CF8-05EF-4F41-81DE-3A0E443A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7E4D-BD0E-4408-91BF-410B86C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585-F4E8-4F00-8F79-0CA9854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5C21-4E21-4293-AAF9-83AB642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DC8-E845-45C1-82E7-43C94914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0E4-20CA-44DB-AED2-A87393F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59FC-A099-4044-A14C-0E72240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D2F3-2D58-4F0B-8CB0-041668F4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204F-2130-49ED-A864-4F5A9791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6022-288B-4DEE-8233-7A66983E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061-5E79-487C-84F1-3B0976B3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A52-338C-4558-AAE1-F7BC146B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BB2-6882-455C-972C-36420B68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D4A-CD6E-4A9C-97E9-4A869D9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F37-4EE7-42BE-B20D-26413E9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DB0-D0AD-4323-9ECD-45B837C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7C3-1363-4D5E-AFEF-7847346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5EF-9AFB-4D33-BBC2-61D3F3C1DC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096-A717-4F92-9EE5-D3EF9047992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759636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79280" y="476280"/>
            <a:ext cx="74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шебная ленточка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763640" y="3284640"/>
            <a:ext cx="576108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е ушки -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композиция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Picture 10" descr="подушка"/>
          <p:cNvPicPr/>
          <p:nvPr/>
        </p:nvPicPr>
        <p:blipFill>
          <a:blip r:embed="rId1"/>
          <a:stretch/>
        </p:blipFill>
        <p:spPr>
          <a:xfrm>
            <a:off x="250920" y="3510000"/>
            <a:ext cx="1657080" cy="1249200"/>
          </a:xfrm>
          <a:prstGeom prst="rect">
            <a:avLst/>
          </a:prstGeom>
          <a:ln w="0">
            <a:noFill/>
          </a:ln>
        </p:spPr>
      </p:pic>
      <p:pic>
        <p:nvPicPr>
          <p:cNvPr id="197" name="Гузель Ахметова - Килен тошэ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15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66920" y="155700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116000" y="260280"/>
            <a:ext cx="6165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ое изделие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6" descr="подушка"/>
          <p:cNvPicPr/>
          <p:nvPr/>
        </p:nvPicPr>
        <p:blipFill>
          <a:blip r:embed="rId1"/>
          <a:stretch/>
        </p:blipFill>
        <p:spPr>
          <a:xfrm>
            <a:off x="250920" y="198900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22"/>
          <p:cNvSpPr txBox="1"/>
          <p:nvPr/>
        </p:nvSpPr>
        <p:spPr>
          <a:xfrm>
            <a:off x="4211640" y="2286000"/>
            <a:ext cx="3456000" cy="35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ивая, пушистая,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цветочками она.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шка серебристая,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много в ней тепла.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Picture 6" descr="камзул"/>
          <p:cNvPicPr/>
          <p:nvPr/>
        </p:nvPicPr>
        <p:blipFill>
          <a:blip r:embed="rId1"/>
          <a:stretch/>
        </p:blipFill>
        <p:spPr>
          <a:xfrm>
            <a:off x="4086360" y="1557360"/>
            <a:ext cx="3527280" cy="46782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9"/>
          <p:cNvSpPr txBox="1"/>
          <p:nvPr/>
        </p:nvSpPr>
        <p:spPr>
          <a:xfrm>
            <a:off x="1258920" y="189000"/>
            <a:ext cx="540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хожие изделия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324000" y="2637000"/>
            <a:ext cx="35272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шили мы камзол нарядный,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бархата зеленого.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есней жить и надевать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праздника веселого.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250920" y="18900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нно - картина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5" descr="открытка"/>
          <p:cNvPicPr/>
          <p:nvPr/>
        </p:nvPicPr>
        <p:blipFill>
          <a:blip r:embed="rId3"/>
          <a:stretch/>
        </p:blipFill>
        <p:spPr>
          <a:xfrm>
            <a:off x="165240" y="1628640"/>
            <a:ext cx="3741480" cy="48960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12"/>
          <p:cNvSpPr txBox="1"/>
          <p:nvPr/>
        </p:nvSpPr>
        <p:spPr>
          <a:xfrm>
            <a:off x="3995640" y="1341360"/>
            <a:ext cx="388944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готова и картина,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цветов так много в ней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дом она несет удачу,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ет все вокруг милей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721"/>
                </a:solidFill>
                <a:latin typeface="Arial"/>
              </a:rPr>
              <a:t>Если профантазировать, то можно придумывать очень много оригинальных идей и создать неповторимые работы в технике ушковой аппликации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68436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оценка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63280" y="-360"/>
            <a:ext cx="58863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5" descr="открыткауш"/>
          <p:cNvPicPr/>
          <p:nvPr/>
        </p:nvPicPr>
        <p:blipFill>
          <a:blip r:embed="rId1"/>
          <a:stretch/>
        </p:blipFill>
        <p:spPr>
          <a:xfrm>
            <a:off x="-2124000" y="-1900080"/>
            <a:ext cx="18230760" cy="1099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5" descr="цветок уш"/>
          <p:cNvPicPr/>
          <p:nvPr/>
        </p:nvPicPr>
        <p:blipFill>
          <a:blip r:embed="rId1"/>
          <a:stretch/>
        </p:blipFill>
        <p:spPr>
          <a:xfrm>
            <a:off x="-4789440" y="-3627360"/>
            <a:ext cx="18230760" cy="1107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442908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Picture 4" descr="рыбки ушк"/>
          <p:cNvPicPr/>
          <p:nvPr/>
        </p:nvPicPr>
        <p:blipFill>
          <a:blip r:embed="rId1"/>
          <a:stretch/>
        </p:blipFill>
        <p:spPr>
          <a:xfrm>
            <a:off x="28440" y="-819000"/>
            <a:ext cx="18231120" cy="1107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57520" y="19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4" descr="рыбки"/>
          <p:cNvPicPr/>
          <p:nvPr/>
        </p:nvPicPr>
        <p:blipFill>
          <a:blip r:embed="rId1"/>
          <a:srcRect l="-20930" t="0" r="0" b="0"/>
          <a:stretch/>
        </p:blipFill>
        <p:spPr>
          <a:xfrm>
            <a:off x="-8359920" y="-2109960"/>
            <a:ext cx="22047480" cy="1107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721"/>
                </a:solidFill>
                <a:latin typeface="Arial"/>
              </a:rPr>
              <a:t>Наглядные пособия. Инструкционные карты по технике безопасности и цветоведению, технологическая карта, иллюстрации из книги Р.Мухамедовой «Татарская народная одежда», несколько изделий, выполненных в технике «ушковой» апплик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395280" y="404640"/>
            <a:ext cx="7048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а использованная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7740720" cy="5040360"/>
          </a:xfrm>
          <a:prstGeom prst="rect">
            <a:avLst/>
          </a:prstGeom>
          <a:solidFill>
            <a:srgbClr val="dc893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Цел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своение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овых технологий для создания изделий с ярко выраженным национальным колоритом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овершенствовать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ием изготовления цветов в технике «ушковой аппликации»; ознакомить с разновидностью применения данной техни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вивать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чувство цвета, фактуры, развивать у учащихся умение и желание украсить свой бы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оспитывать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уважение к народным традиция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268360" y="260280"/>
            <a:ext cx="4357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шковая аппликация</a:t>
            </a:r>
            <a:endParaRPr b="0" lang="en-US" sz="5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39400"/>
            <a:ext cx="73389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Ушковая аппликация – оригинальный и неповторимый вид декоративно-прикладного искусства татарского народа, корни которого уходят в глубину веков. Вышитый калфак, камзол, женское покрывало – неотъемлемая часть женского праздничного костюма, которая являлась характерным признаком каждой местности и отличалась своеобразной техникой исполнения и гаммой цвето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Вышиванием занимались исключительно женщины. Для этой работы использовался каждый удобный момент: посиделки, на которые девушки собирались долгими осенними и зимними вечерами, часы отдыха от полевых работ зимой и весно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Одежда была своеобразной характеристикой умения девушки, ее трудолюбия. Именно по этому женская одежда украшалась чрезвычайно красив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Предметом гордости каждой семьи был свадебный сундук с приданым, сделанным руками невест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Со второй половины ХIХ вв. искусство вышивания постепенно выходит за пределы домашнего ремесла и кое где приобретает форму кустарного промыс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И в наше время, наряду с использованием стандартизированной массовой продукции текстильной промышленности, люди охотно обращаются к услугам мастеров индивидуального пошива и народных умельце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В художественной вышивке воплощены лучшие традиции народа. Это изысканное женское хобби еще долго будет удовлетворять потребность в прекрасном, в желании украсить свой быт и досу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179280" y="260280"/>
            <a:ext cx="756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ческая справка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115236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7326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Аппликация – один из древнейших способов украшения одежды и тканей у многих народов, населяющих нашу страну. Пришивая по рисунку узоры в определенном порядке, полоски и кусочки различных материалов мастера создавали удивительные по красоте издел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В вышивке аппликация – это накладное шитье с использованием декоративных швов. Основную роль здесь играют накладываемые на ткань кусочки материала, декоративные украшающие швы выполняют вспомогательную рол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Аппликация по ткани, так же как и роспись по шелку применяется в создании настенных панно, ковров и в современном костюме. Этот вид искусства является традиционным в народном творчестве татар, в частности в женской одежде. Однако первые настенные панно в этой технике появились в 50-е годы. Народными мастерами были созданы ковры из цветных мехов с включением тамбурных вышивок и «ушковой» техники аппликаци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«Ушковая» аппликация – это уникальная техника, которая не встречается в искусстве других народов, исчезла во второй половине Х1Х века, хотя является оригинальным средством украшения изделий из тканей. Выразительные возможности ее используют художники в создании настенных композиций. Специальные подарочные ковры были созданы в честь 800-летия Москвы и в честь тридцатилетия образования Татарской республики. Казанские художники И.Кузьминых и Н.Макарова возродили традиции «ушковой» техники аппликации, столь популярной в татарском искусстве. В этой технике узоры создавались из кусочков шелковых или атласных лент, которые пришивались к поверхности декорируемого изделия свернутыми «ушком», или из кусочков ткани ткани (1х1см.), сложенных по диагонали два раза. Получались рельефные лепестки, из которых компоновались узоры в виде цветков-георгин, астр, лепестков, перьев и др. В коллекциях музеев сохранились великолепные образцы женских головных уборов – калфаков, украшенных «ушковой» техникой в сочетании с вышивкой бисером, жемчугом, металлическими бляшкам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187280" y="260280"/>
            <a:ext cx="617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ппликация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WordArt 23"/>
          <p:cNvSpPr txBox="1"/>
          <p:nvPr/>
        </p:nvSpPr>
        <p:spPr>
          <a:xfrm>
            <a:off x="1258920" y="333360"/>
            <a:ext cx="56102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9" name="Diagram 427"/>
          <p:cNvGrpSpPr/>
          <p:nvPr/>
        </p:nvGrpSpPr>
        <p:grpSpPr>
          <a:xfrm>
            <a:off x="1881000" y="1692000"/>
            <a:ext cx="4154400" cy="4003200"/>
            <a:chOff x="1881000" y="1692000"/>
            <a:chExt cx="4154400" cy="4003200"/>
          </a:xfrm>
        </p:grpSpPr>
        <p:sp>
          <p:nvSpPr>
            <p:cNvPr id="210" name="_s1028"/>
            <p:cNvSpPr/>
            <p:nvPr/>
          </p:nvSpPr>
          <p:spPr>
            <a:xfrm flipH="1" flipV="1">
              <a:off x="2930040" y="3514320"/>
              <a:ext cx="515880" cy="1663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_s1029"/>
            <p:cNvSpPr/>
            <p:nvPr/>
          </p:nvSpPr>
          <p:spPr>
            <a:xfrm>
              <a:off x="1881000" y="280800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Иголка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30"/>
            <p:cNvSpPr/>
            <p:nvPr/>
          </p:nvSpPr>
          <p:spPr>
            <a:xfrm flipH="1">
              <a:off x="3323880" y="4281120"/>
              <a:ext cx="317160" cy="4395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31"/>
            <p:cNvSpPr/>
            <p:nvPr/>
          </p:nvSpPr>
          <p:spPr>
            <a:xfrm>
              <a:off x="2468520" y="461772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Ножницы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32"/>
            <p:cNvSpPr/>
            <p:nvPr/>
          </p:nvSpPr>
          <p:spPr>
            <a:xfrm>
              <a:off x="4273560" y="4281120"/>
              <a:ext cx="318960" cy="4377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3"/>
            <p:cNvSpPr/>
            <p:nvPr/>
          </p:nvSpPr>
          <p:spPr>
            <a:xfrm>
              <a:off x="4370400" y="461772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Нитки цветов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атласных лент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 flipV="1">
              <a:off x="4468680" y="3512880"/>
              <a:ext cx="514440" cy="1677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4957560" y="280944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Атласные ленты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6"/>
            <p:cNvSpPr/>
            <p:nvPr/>
          </p:nvSpPr>
          <p:spPr>
            <a:xfrm flipV="1">
              <a:off x="3957480" y="2768400"/>
              <a:ext cx="0" cy="5407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7"/>
            <p:cNvSpPr/>
            <p:nvPr/>
          </p:nvSpPr>
          <p:spPr>
            <a:xfrm>
              <a:off x="3419280" y="169200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Материал для 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подушки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8"/>
            <p:cNvSpPr/>
            <p:nvPr/>
          </p:nvSpPr>
          <p:spPr>
            <a:xfrm>
              <a:off x="3419280" y="330948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ff"/>
                  </a:solidFill>
                  <a:latin typeface="Arial"/>
                </a:rPr>
                <a:t>Декоративная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ff"/>
                  </a:solidFill>
                  <a:latin typeface="Arial"/>
                </a:rPr>
                <a:t>подушка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386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Для получения красивой, качественной «ушковой» аппликации большое значение имеет правильное выполнение подготовительных работ. Их выполняют в следующей последовательности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Составление эскиза. Изготовление четкого рисунка на бумаге (в натуральную величину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Выбор ткани для основы, выбор атласных лент с учетом цветовой гаммы и качества; выбор бисера и дополнительных декоративных элементов (стразы, пайетки, тесьма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Подбор ниток, картона, иг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«Ушковая» аппликация выполняется из атласной ленты шириной 12-13мм. Следует покупать более плотную ленту, т.к. из мягкой трудно складывать модули. На один цветок потребуется 2-3 метра ленты (в зависимости от размера). Количество модулей можно просчитать заранее: методом прикладывания к шаблону, полученное число умножаем на 5, получаем необходимое количество метров.</a:t>
            </a:r>
            <a:r>
              <a:rPr b="0" lang="ru-RU" sz="2000" spc="-1" strike="noStrike">
                <a:solidFill>
                  <a:srgbClr val="fcf7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755640" y="260280"/>
            <a:ext cx="6740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я изготовления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cf721"/>
                </a:solidFill>
                <a:latin typeface="Arial"/>
              </a:rPr>
              <a:t>Техника безопасности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cf721"/>
                </a:solidFill>
                <a:latin typeface="Arial"/>
              </a:rPr>
              <a:t>Демонстрация типовых правил по ТБ при ручных работах и комментарий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250920" y="0"/>
            <a:ext cx="741672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ология безопасности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395280" y="2637000"/>
          <a:ext cx="7153200" cy="14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37000"/>
                    <a:ext cx="71532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WordArt 6"/>
          <p:cNvSpPr txBox="1"/>
          <p:nvPr/>
        </p:nvSpPr>
        <p:spPr>
          <a:xfrm>
            <a:off x="611280" y="189000"/>
            <a:ext cx="64753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ческие расчеты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31" name="Object 18"/>
          <p:cNvGraphicFramePr/>
          <p:nvPr/>
        </p:nvGraphicFramePr>
        <p:xfrm>
          <a:off x="539640" y="2205000"/>
          <a:ext cx="6912000" cy="360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205000"/>
                    <a:ext cx="6912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721"/>
                </a:solidFill>
                <a:latin typeface="Arial"/>
              </a:rPr>
              <a:t>Творческое изделие получилось экологически чистым. Ушки из атласных лент дают немного ожлажденности в жаркие летние дни, не пропускают пыли как обычные подушки из перьев. Изделие аккуртненькое, оно стираем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250920" y="189000"/>
            <a:ext cx="74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кологическая оцен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23:39Z</dcterms:created>
  <dc:creator>Customer</dc:creator>
  <dc:description/>
  <dc:language>en-US</dc:language>
  <cp:lastModifiedBy>Admin</cp:lastModifiedBy>
  <dcterms:modified xsi:type="dcterms:W3CDTF">2010-11-22T15:02:00Z</dcterms:modified>
  <cp:revision>28</cp:revision>
  <dc:subject/>
  <dc:title>Слайд 1</dc:title>
</cp:coreProperties>
</file>