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6A4-D576-4D9C-83DC-6D40353D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720-11D3-44A3-971C-E5284010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981-512C-4842-A2EB-3A4079CE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0DD-3691-4169-B821-64C51641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5F1A-2653-4032-91ED-14FAFF1D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A493-E870-4A75-B269-C80C7287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30B6-5C4E-4162-97C7-C757C93A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6D2F-712D-44CD-B7F4-B58D274F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4E98-E40D-484B-9C29-2845F9D5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FB61-921D-4795-8F60-5A719F38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4B39-E383-43BD-AF07-79B137A9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0DB4-2F09-4178-9953-8A14FF55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93C3-7529-4870-B025-1AD8BCB7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1A76-C420-4ED1-BB3A-14B3F929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503D-225E-4EAC-908D-152E8CFE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132C-E376-4566-B009-797EB1FB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B338-4E5D-4B11-909E-9E99307E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537A-D0F0-4033-B5DF-C1E19AC9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C46-7D2D-4DD5-BFC6-720A9D98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5F7A-F31E-43D1-9868-24B8E2E5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BD6-B81C-4B01-B511-0E0FF737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6E02-7E18-4B50-91DD-AB246317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6E95-AB1E-459A-9BD8-55EF2A69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95B9-6F02-42CF-A8D5-6CBBBC30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8318-E70F-447E-BAAB-AB83FE6D8A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9BDF-8F59-4D43-B498-B8462CC411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6"/>
          <p:cNvSpPr/>
          <p:nvPr/>
        </p:nvSpPr>
        <p:spPr>
          <a:xfrm>
            <a:off x="5724360" y="0"/>
            <a:ext cx="3419640" cy="3816360"/>
          </a:xfrm>
          <a:prstGeom prst="cloudCallout">
            <a:avLst>
              <a:gd name="adj1" fmla="val -77763"/>
              <a:gd name="adj2" fmla="val 33527"/>
            </a:avLst>
          </a:prstGeom>
          <a:solidFill>
            <a:srgbClr val="ccffff"/>
          </a:solidFill>
          <a:ln w="936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6156360" y="692280"/>
            <a:ext cx="2651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</a:t>
            </a:r>
            <a:r>
              <a:rPr b="1" lang="ru-RU" sz="28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инициатив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Р-</a:t>
            </a:r>
            <a:r>
              <a:rPr b="1" lang="ru-RU" sz="28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разум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</a:t>
            </a:r>
            <a:r>
              <a:rPr b="1" lang="ru-RU" sz="28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интерес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Н-</a:t>
            </a:r>
            <a:r>
              <a:rPr b="1" lang="ru-RU" sz="28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неунывающ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А-</a:t>
            </a:r>
            <a:r>
              <a:rPr b="1" lang="ru-RU" sz="28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актив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Рисунок 1" descr=""/>
          <p:cNvPicPr/>
          <p:nvPr/>
        </p:nvPicPr>
        <p:blipFill>
          <a:blip r:embed="rId1"/>
          <a:stretch/>
        </p:blipFill>
        <p:spPr>
          <a:xfrm>
            <a:off x="1189080" y="1127160"/>
            <a:ext cx="334008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"/>
          <p:cNvSpPr/>
          <p:nvPr/>
        </p:nvSpPr>
        <p:spPr>
          <a:xfrm>
            <a:off x="2484360" y="2895480"/>
            <a:ext cx="4030920" cy="1067040"/>
          </a:xfrm>
          <a:custGeom>
            <a:avLst/>
            <a:gdLst>
              <a:gd name="textAreaLeft" fmla="*/ 553320 w 4030920"/>
              <a:gd name="textAreaRight" fmla="*/ 3477600 w 4030920"/>
              <a:gd name="textAreaTop" fmla="*/ 0 h 1067040"/>
              <a:gd name="textAreaBottom" fmla="*/ 973440 h 1067040"/>
            </a:gdLst>
            <a:ahLst/>
            <a:rect l="textAreaLeft" t="textAreaTop" r="textAreaRight" b="textAreaBottom"/>
            <a:pathLst>
              <a:path w="21600" h="21600">
                <a:moveTo>
                  <a:pt x="5665" y="19700"/>
                </a:moveTo>
                <a:lnTo>
                  <a:pt x="5665" y="21125"/>
                </a:lnTo>
                <a:cubicBezTo>
                  <a:pt x="5665" y="21363"/>
                  <a:pt x="5245" y="21600"/>
                  <a:pt x="4825" y="21600"/>
                </a:cubicBezTo>
                <a:lnTo>
                  <a:pt x="0" y="21600"/>
                </a:lnTo>
                <a:lnTo>
                  <a:pt x="2750" y="11750"/>
                </a:lnTo>
                <a:lnTo>
                  <a:pt x="0" y="1900"/>
                </a:lnTo>
                <a:lnTo>
                  <a:pt x="2965" y="1900"/>
                </a:lnTo>
                <a:lnTo>
                  <a:pt x="2965" y="475"/>
                </a:lnTo>
                <a:cubicBezTo>
                  <a:pt x="2965" y="238"/>
                  <a:pt x="3385" y="0"/>
                  <a:pt x="3805" y="0"/>
                </a:cubicBezTo>
                <a:lnTo>
                  <a:pt x="17795" y="0"/>
                </a:lnTo>
                <a:cubicBezTo>
                  <a:pt x="18215" y="0"/>
                  <a:pt x="18635" y="238"/>
                  <a:pt x="18635" y="475"/>
                </a:cubicBezTo>
                <a:lnTo>
                  <a:pt x="18635" y="1900"/>
                </a:lnTo>
                <a:lnTo>
                  <a:pt x="21600" y="1900"/>
                </a:lnTo>
                <a:lnTo>
                  <a:pt x="18850" y="11750"/>
                </a:lnTo>
                <a:lnTo>
                  <a:pt x="21600" y="21600"/>
                </a:lnTo>
                <a:lnTo>
                  <a:pt x="16775" y="21600"/>
                </a:lnTo>
                <a:cubicBezTo>
                  <a:pt x="16355" y="21600"/>
                  <a:pt x="15935" y="21363"/>
                  <a:pt x="15935" y="21125"/>
                </a:cubicBezTo>
                <a:lnTo>
                  <a:pt x="15935" y="19700"/>
                </a:lnTo>
                <a:close/>
              </a:path>
              <a:path fill="darkenLess" w="21600" h="21600">
                <a:moveTo>
                  <a:pt x="5665" y="19700"/>
                </a:moveTo>
                <a:lnTo>
                  <a:pt x="5665" y="21125"/>
                </a:lnTo>
                <a:cubicBezTo>
                  <a:pt x="5665" y="20888"/>
                  <a:pt x="5245" y="20650"/>
                  <a:pt x="4825" y="20650"/>
                </a:cubicBezTo>
                <a:lnTo>
                  <a:pt x="3805" y="20650"/>
                </a:lnTo>
                <a:cubicBezTo>
                  <a:pt x="3385" y="20650"/>
                  <a:pt x="2965" y="20413"/>
                  <a:pt x="2965" y="20175"/>
                </a:cubicBezTo>
                <a:cubicBezTo>
                  <a:pt x="2965" y="19938"/>
                  <a:pt x="3385" y="19700"/>
                  <a:pt x="3805" y="19700"/>
                </a:cubicBezTo>
                <a:close/>
              </a:path>
              <a:path fill="darkenLess" w="21600" h="21600">
                <a:moveTo>
                  <a:pt x="15935" y="19700"/>
                </a:moveTo>
                <a:lnTo>
                  <a:pt x="15935" y="21125"/>
                </a:lnTo>
                <a:cubicBezTo>
                  <a:pt x="15935" y="20888"/>
                  <a:pt x="16355" y="20650"/>
                  <a:pt x="16775" y="20650"/>
                </a:cubicBezTo>
                <a:lnTo>
                  <a:pt x="17795" y="20650"/>
                </a:lnTo>
                <a:cubicBezTo>
                  <a:pt x="18215" y="20650"/>
                  <a:pt x="18635" y="20413"/>
                  <a:pt x="18635" y="20175"/>
                </a:cubicBezTo>
                <a:cubicBezTo>
                  <a:pt x="18635" y="19938"/>
                  <a:pt x="18215" y="19700"/>
                  <a:pt x="17795" y="19700"/>
                </a:cubicBezTo>
                <a:close/>
              </a:path>
              <a:path fill="darkenLess" w="21600" h="21600">
                <a:moveTo>
                  <a:pt x="2965" y="20175"/>
                </a:moveTo>
                <a:lnTo>
                  <a:pt x="2965" y="1900"/>
                </a:lnTo>
              </a:path>
              <a:path fill="darkenLess" w="21600" h="21600">
                <a:moveTo>
                  <a:pt x="18635" y="20175"/>
                </a:moveTo>
                <a:lnTo>
                  <a:pt x="18635" y="1900"/>
                </a:lnTo>
              </a:path>
            </a:pathLst>
          </a:cu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е направл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спитательной 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1523880" y="533520"/>
            <a:ext cx="1981440" cy="1218960"/>
          </a:xfrm>
          <a:prstGeom prst="wedgeRoundRectCallout">
            <a:avLst>
              <a:gd name="adj1" fmla="val 68671"/>
              <a:gd name="adj2" fmla="val 143620"/>
              <a:gd name="adj3" fmla="val 16667"/>
            </a:avLst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5867280" y="533520"/>
            <a:ext cx="2057400" cy="1143000"/>
          </a:xfrm>
          <a:prstGeom prst="wedgeRoundRectCallout">
            <a:avLst>
              <a:gd name="adj1" fmla="val -75615"/>
              <a:gd name="adj2" fmla="val 156250"/>
              <a:gd name="adj3" fmla="val 16667"/>
            </a:avLst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7086600" y="2286000"/>
            <a:ext cx="1676520" cy="1143000"/>
          </a:xfrm>
          <a:prstGeom prst="wedgeRoundRectCallout">
            <a:avLst>
              <a:gd name="adj1" fmla="val -84754"/>
              <a:gd name="adj2" fmla="val 13749"/>
              <a:gd name="adj3" fmla="val 16667"/>
            </a:avLst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7010280" y="4724280"/>
            <a:ext cx="1828800" cy="1143000"/>
          </a:xfrm>
          <a:prstGeom prst="wedgeRoundRectCallout">
            <a:avLst>
              <a:gd name="adj1" fmla="val -77430"/>
              <a:gd name="adj2" fmla="val -115416"/>
              <a:gd name="adj3" fmla="val 16667"/>
            </a:avLst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380880" y="2362320"/>
            <a:ext cx="1524240" cy="1066680"/>
          </a:xfrm>
          <a:prstGeom prst="wedgeRoundRectCallout">
            <a:avLst>
              <a:gd name="adj1" fmla="val 89273"/>
              <a:gd name="adj2" fmla="val 9375"/>
              <a:gd name="adj3" fmla="val 16667"/>
            </a:avLst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304920" y="4800600"/>
            <a:ext cx="1828800" cy="1143000"/>
          </a:xfrm>
          <a:prstGeom prst="wedgeRoundRectCallout">
            <a:avLst>
              <a:gd name="adj1" fmla="val 77689"/>
              <a:gd name="adj2" fmla="val -123055"/>
              <a:gd name="adj3" fmla="val 16667"/>
            </a:avLst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"/>
          <p:cNvSpPr/>
          <p:nvPr/>
        </p:nvSpPr>
        <p:spPr>
          <a:xfrm>
            <a:off x="3619440" y="5486400"/>
            <a:ext cx="1905120" cy="990720"/>
          </a:xfrm>
          <a:prstGeom prst="wedgeRoundRectCallout">
            <a:avLst>
              <a:gd name="adj1" fmla="val 2083"/>
              <a:gd name="adj2" fmla="val -212981"/>
              <a:gd name="adj3" fmla="val 16667"/>
            </a:avLst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828800" y="7621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скусство любить свою Родин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6019920" y="68580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Шаги в мир радости, добра и красо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7315200" y="2590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ир ду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7223040" y="4994280"/>
            <a:ext cx="15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ой дом – моя креп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733920" y="563868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ы будущие хозяева зем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533520" y="502920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оё здоровье в моих рука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457200" y="24382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м жить в правовом государств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2" descr=""/>
          <p:cNvPicPr/>
          <p:nvPr/>
        </p:nvPicPr>
        <p:blipFill>
          <a:blip r:embed="rId1"/>
          <a:srcRect l="12368" t="0" r="12368" b="0"/>
          <a:stretch/>
        </p:blipFill>
        <p:spPr>
          <a:xfrm>
            <a:off x="34920" y="-4680"/>
            <a:ext cx="911844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13"/>
          <p:cNvSpPr/>
          <p:nvPr/>
        </p:nvSpPr>
        <p:spPr>
          <a:xfrm>
            <a:off x="3162240" y="2743200"/>
            <a:ext cx="2819520" cy="1371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овет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9"/>
          <p:cNvSpPr/>
          <p:nvPr/>
        </p:nvSpPr>
        <p:spPr>
          <a:xfrm>
            <a:off x="3314880" y="533520"/>
            <a:ext cx="2514600" cy="1143000"/>
          </a:xfrm>
          <a:prstGeom prst="cloudCallout">
            <a:avLst>
              <a:gd name="adj1" fmla="val 2148"/>
              <a:gd name="adj2" fmla="val 13180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4038480" y="1066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знай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1"/>
          <p:cNvSpPr/>
          <p:nvPr/>
        </p:nvSpPr>
        <p:spPr>
          <a:xfrm rot="453600">
            <a:off x="1218960" y="4952880"/>
            <a:ext cx="2279520" cy="1449360"/>
          </a:xfrm>
          <a:prstGeom prst="cloudCallout">
            <a:avLst>
              <a:gd name="adj1" fmla="val 56134"/>
              <a:gd name="adj2" fmla="val -11424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 rot="21245400">
            <a:off x="1752480" y="5181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Винтики и Шпун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3"/>
          <p:cNvSpPr/>
          <p:nvPr/>
        </p:nvSpPr>
        <p:spPr>
          <a:xfrm rot="570600">
            <a:off x="304920" y="1371600"/>
            <a:ext cx="1371600" cy="2286000"/>
          </a:xfrm>
          <a:prstGeom prst="cloudCallout">
            <a:avLst>
              <a:gd name="adj1" fmla="val 160648"/>
              <a:gd name="adj2" fmla="val 2076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 rot="19185000">
            <a:off x="457200" y="22089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усли и Цве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5"/>
          <p:cNvSpPr/>
          <p:nvPr/>
        </p:nvSpPr>
        <p:spPr>
          <a:xfrm rot="20944200">
            <a:off x="7543800" y="1447920"/>
            <a:ext cx="1371600" cy="2286000"/>
          </a:xfrm>
          <a:prstGeom prst="cloudCallout">
            <a:avLst>
              <a:gd name="adj1" fmla="val -161185"/>
              <a:gd name="adj2" fmla="val 1366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 rot="1376400">
            <a:off x="7848360" y="23619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Тюб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7"/>
          <p:cNvSpPr/>
          <p:nvPr/>
        </p:nvSpPr>
        <p:spPr>
          <a:xfrm rot="21418800">
            <a:off x="5714640" y="4952520"/>
            <a:ext cx="2209680" cy="1447920"/>
          </a:xfrm>
          <a:prstGeom prst="cloudCallout">
            <a:avLst>
              <a:gd name="adj1" fmla="val -68245"/>
              <a:gd name="adj2" fmla="val -109208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8"/>
          <p:cNvSpPr/>
          <p:nvPr/>
        </p:nvSpPr>
        <p:spPr>
          <a:xfrm rot="513000">
            <a:off x="6095520" y="5333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Торопыж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1476360" y="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Структура самоуправления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3"/>
          <p:cNvSpPr/>
          <p:nvPr/>
        </p:nvSpPr>
        <p:spPr>
          <a:xfrm>
            <a:off x="2476440" y="1295280"/>
            <a:ext cx="4191120" cy="838440"/>
          </a:xfrm>
          <a:custGeom>
            <a:avLst/>
            <a:gdLst>
              <a:gd name="textAreaLeft" fmla="*/ 748800 w 4191120"/>
              <a:gd name="textAreaRight" fmla="*/ 3442320 w 4191120"/>
              <a:gd name="textAreaTop" fmla="*/ 0 h 838440"/>
              <a:gd name="textAreaBottom" fmla="*/ 733680 h 838440"/>
            </a:gdLst>
            <a:ahLst/>
            <a:rect l="textAreaLeft" t="textAreaTop" r="textAreaRight" b="textAreaBottom"/>
            <a:pathLst>
              <a:path w="21600" h="21600">
                <a:moveTo>
                  <a:pt x="6559" y="18900"/>
                </a:moveTo>
                <a:lnTo>
                  <a:pt x="6559" y="20925"/>
                </a:lnTo>
                <a:cubicBezTo>
                  <a:pt x="6559" y="21263"/>
                  <a:pt x="6139" y="21600"/>
                  <a:pt x="5719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859" y="2700"/>
                </a:lnTo>
                <a:lnTo>
                  <a:pt x="3859" y="675"/>
                </a:lnTo>
                <a:cubicBezTo>
                  <a:pt x="3859" y="338"/>
                  <a:pt x="4279" y="0"/>
                  <a:pt x="4699" y="0"/>
                </a:cubicBezTo>
                <a:lnTo>
                  <a:pt x="16901" y="0"/>
                </a:lnTo>
                <a:cubicBezTo>
                  <a:pt x="17321" y="0"/>
                  <a:pt x="17741" y="338"/>
                  <a:pt x="17741" y="675"/>
                </a:cubicBezTo>
                <a:lnTo>
                  <a:pt x="17741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5881" y="21600"/>
                </a:lnTo>
                <a:cubicBezTo>
                  <a:pt x="15461" y="21600"/>
                  <a:pt x="15041" y="21263"/>
                  <a:pt x="15041" y="20925"/>
                </a:cubicBezTo>
                <a:lnTo>
                  <a:pt x="15041" y="18900"/>
                </a:lnTo>
                <a:close/>
              </a:path>
              <a:path fill="darkenLess" w="21600" h="21600">
                <a:moveTo>
                  <a:pt x="6559" y="18900"/>
                </a:moveTo>
                <a:lnTo>
                  <a:pt x="6559" y="20925"/>
                </a:lnTo>
                <a:cubicBezTo>
                  <a:pt x="6559" y="20588"/>
                  <a:pt x="6139" y="20250"/>
                  <a:pt x="5719" y="20250"/>
                </a:cubicBezTo>
                <a:lnTo>
                  <a:pt x="4699" y="20250"/>
                </a:lnTo>
                <a:cubicBezTo>
                  <a:pt x="4279" y="20250"/>
                  <a:pt x="3859" y="19913"/>
                  <a:pt x="3859" y="19575"/>
                </a:cubicBezTo>
                <a:cubicBezTo>
                  <a:pt x="3859" y="19238"/>
                  <a:pt x="4279" y="18900"/>
                  <a:pt x="4699" y="18900"/>
                </a:cubicBezTo>
                <a:close/>
              </a:path>
              <a:path fill="darkenLess" w="21600" h="21600">
                <a:moveTo>
                  <a:pt x="15041" y="18900"/>
                </a:moveTo>
                <a:lnTo>
                  <a:pt x="15041" y="20925"/>
                </a:lnTo>
                <a:cubicBezTo>
                  <a:pt x="15041" y="20588"/>
                  <a:pt x="15461" y="20250"/>
                  <a:pt x="15881" y="20250"/>
                </a:cubicBezTo>
                <a:lnTo>
                  <a:pt x="16901" y="20250"/>
                </a:lnTo>
                <a:cubicBezTo>
                  <a:pt x="17321" y="20250"/>
                  <a:pt x="17741" y="19913"/>
                  <a:pt x="17741" y="19575"/>
                </a:cubicBezTo>
                <a:cubicBezTo>
                  <a:pt x="17741" y="19238"/>
                  <a:pt x="17321" y="18900"/>
                  <a:pt x="16901" y="18900"/>
                </a:cubicBezTo>
                <a:close/>
              </a:path>
              <a:path fill="darkenLess" w="21600" h="21600">
                <a:moveTo>
                  <a:pt x="3859" y="19575"/>
                </a:moveTo>
                <a:lnTo>
                  <a:pt x="3859" y="2700"/>
                </a:lnTo>
              </a:path>
              <a:path fill="darkenLess" w="21600" h="21600">
                <a:moveTo>
                  <a:pt x="17741" y="19575"/>
                </a:moveTo>
                <a:lnTo>
                  <a:pt x="17741" y="2700"/>
                </a:lnTo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овые техн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609480" y="3886200"/>
            <a:ext cx="1752840" cy="990720"/>
          </a:xfrm>
          <a:prstGeom prst="wedgeRectCallout">
            <a:avLst>
              <a:gd name="adj1" fmla="val 106342"/>
              <a:gd name="adj2" fmla="val -22644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2514600" y="3886200"/>
            <a:ext cx="1905120" cy="990720"/>
          </a:xfrm>
          <a:prstGeom prst="wedgeRectCallout">
            <a:avLst>
              <a:gd name="adj1" fmla="val 38500"/>
              <a:gd name="adj2" fmla="val -237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4724280" y="3886200"/>
            <a:ext cx="2133720" cy="990720"/>
          </a:xfrm>
          <a:prstGeom prst="wedgeRectCallout">
            <a:avLst>
              <a:gd name="adj1" fmla="val -43379"/>
              <a:gd name="adj2" fmla="val -23669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7010280" y="3886200"/>
            <a:ext cx="1752840" cy="990720"/>
          </a:xfrm>
          <a:prstGeom prst="wedgeRectCallout">
            <a:avLst>
              <a:gd name="adj1" fmla="val -107879"/>
              <a:gd name="adj2" fmla="val -22836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609480" y="380988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изкультурно-оздоровительные технолог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2514600" y="380988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ехнологии обеспечения безопасности жизнедеятель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4724280" y="380988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Экологические здоровьесберегающие технолог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7010280" y="39625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формационно-обучающие технолог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2"/>
          <p:cNvSpPr/>
          <p:nvPr/>
        </p:nvSpPr>
        <p:spPr>
          <a:xfrm>
            <a:off x="2124000" y="549360"/>
            <a:ext cx="4724640" cy="1066680"/>
          </a:xfrm>
          <a:custGeom>
            <a:avLst/>
            <a:gdLst>
              <a:gd name="textAreaLeft" fmla="*/ 964440 w 4724640"/>
              <a:gd name="textAreaRight" fmla="*/ 3760200 w 472464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7110" y="18900"/>
                </a:moveTo>
                <a:lnTo>
                  <a:pt x="7110" y="20925"/>
                </a:lnTo>
                <a:cubicBezTo>
                  <a:pt x="7110" y="21263"/>
                  <a:pt x="6690" y="21600"/>
                  <a:pt x="627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410" y="2700"/>
                </a:lnTo>
                <a:lnTo>
                  <a:pt x="4410" y="675"/>
                </a:lnTo>
                <a:cubicBezTo>
                  <a:pt x="4410" y="338"/>
                  <a:pt x="4830" y="0"/>
                  <a:pt x="5250" y="0"/>
                </a:cubicBezTo>
                <a:lnTo>
                  <a:pt x="16350" y="0"/>
                </a:lnTo>
                <a:cubicBezTo>
                  <a:pt x="16770" y="0"/>
                  <a:pt x="17190" y="338"/>
                  <a:pt x="17190" y="675"/>
                </a:cubicBezTo>
                <a:lnTo>
                  <a:pt x="1719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5330" y="21600"/>
                </a:lnTo>
                <a:cubicBezTo>
                  <a:pt x="14910" y="21600"/>
                  <a:pt x="14490" y="21263"/>
                  <a:pt x="14490" y="20925"/>
                </a:cubicBezTo>
                <a:lnTo>
                  <a:pt x="14490" y="18900"/>
                </a:lnTo>
                <a:close/>
              </a:path>
              <a:path fill="darkenLess" w="21600" h="21600">
                <a:moveTo>
                  <a:pt x="7110" y="18900"/>
                </a:moveTo>
                <a:lnTo>
                  <a:pt x="7110" y="20925"/>
                </a:lnTo>
                <a:cubicBezTo>
                  <a:pt x="7110" y="20588"/>
                  <a:pt x="6690" y="20250"/>
                  <a:pt x="6270" y="20250"/>
                </a:cubicBezTo>
                <a:lnTo>
                  <a:pt x="5250" y="20250"/>
                </a:lnTo>
                <a:cubicBezTo>
                  <a:pt x="4830" y="20250"/>
                  <a:pt x="4410" y="19913"/>
                  <a:pt x="4410" y="19575"/>
                </a:cubicBezTo>
                <a:cubicBezTo>
                  <a:pt x="4410" y="19238"/>
                  <a:pt x="4830" y="18900"/>
                  <a:pt x="5250" y="18900"/>
                </a:cubicBezTo>
                <a:close/>
              </a:path>
              <a:path fill="darkenLess" w="21600" h="21600">
                <a:moveTo>
                  <a:pt x="14490" y="18900"/>
                </a:moveTo>
                <a:lnTo>
                  <a:pt x="14490" y="20925"/>
                </a:lnTo>
                <a:cubicBezTo>
                  <a:pt x="14490" y="20588"/>
                  <a:pt x="14910" y="20250"/>
                  <a:pt x="15330" y="20250"/>
                </a:cubicBezTo>
                <a:lnTo>
                  <a:pt x="16350" y="20250"/>
                </a:lnTo>
                <a:cubicBezTo>
                  <a:pt x="16770" y="20250"/>
                  <a:pt x="17190" y="19913"/>
                  <a:pt x="17190" y="19575"/>
                </a:cubicBezTo>
                <a:cubicBezTo>
                  <a:pt x="17190" y="19238"/>
                  <a:pt x="16770" y="18900"/>
                  <a:pt x="16350" y="18900"/>
                </a:cubicBezTo>
                <a:close/>
              </a:path>
              <a:path fill="darkenLess" w="21600" h="21600">
                <a:moveTo>
                  <a:pt x="4410" y="19575"/>
                </a:moveTo>
                <a:lnTo>
                  <a:pt x="4410" y="2700"/>
                </a:lnTo>
              </a:path>
              <a:path fill="darkenLess" w="21600" h="21600">
                <a:moveTo>
                  <a:pt x="17190" y="19575"/>
                </a:moveTo>
                <a:lnTo>
                  <a:pt x="17190" y="2700"/>
                </a:lnTo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549360"/>
            <a:ext cx="303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Формы работы с родител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 rot="628800">
            <a:off x="152280" y="2286000"/>
            <a:ext cx="2438640" cy="1295280"/>
          </a:xfrm>
          <a:prstGeom prst="wedgeEllipseCallout">
            <a:avLst>
              <a:gd name="adj1" fmla="val 25439"/>
              <a:gd name="adj2" fmla="val -110773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6400800" y="2286000"/>
            <a:ext cx="2514600" cy="1295280"/>
          </a:xfrm>
          <a:prstGeom prst="wedgeEllipseCallout">
            <a:avLst>
              <a:gd name="adj1" fmla="val -37689"/>
              <a:gd name="adj2" fmla="val -102203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609480" y="4343400"/>
            <a:ext cx="2590920" cy="1371600"/>
          </a:xfrm>
          <a:prstGeom prst="wedgeEllipseCallout">
            <a:avLst>
              <a:gd name="adj1" fmla="val 67032"/>
              <a:gd name="adj2" fmla="val -250462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8"/>
          <p:cNvSpPr/>
          <p:nvPr/>
        </p:nvSpPr>
        <p:spPr>
          <a:xfrm>
            <a:off x="5796000" y="4292640"/>
            <a:ext cx="2666880" cy="1447920"/>
          </a:xfrm>
          <a:prstGeom prst="wedgeEllipseCallout">
            <a:avLst>
              <a:gd name="adj1" fmla="val -56486"/>
              <a:gd name="adj2" fmla="val -235856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3200400" y="4952880"/>
            <a:ext cx="2362320" cy="1219320"/>
          </a:xfrm>
          <a:prstGeom prst="wedgeEllipseCallout">
            <a:avLst>
              <a:gd name="adj1" fmla="val 1814"/>
              <a:gd name="adj2" fmla="val -337759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 rot="131400">
            <a:off x="172080" y="27079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Анкет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1403280" y="4653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Беседы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276720" y="5300640"/>
            <a:ext cx="23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Консультации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6084720" y="4653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Родительские собр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6659640" y="2565360"/>
            <a:ext cx="18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Посещения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сем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370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Monotype Corsiva"/>
              </a:rPr>
              <a:t>Заповеди классного руководител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93963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Умей признавать свои ошибки. Не бойся ошибок – на ошибках уча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тарайся в любой ситуации представить себя на месте ребё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тарайся видеть успехи детей и радоваться каждому из н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инимай ребёнка таким, какой он есть со всеми его достоинствами и недостатками, ведь и ты не идеа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Главное достоинство – это чувство справедлив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Не играй в друзья с детьми, а будь им друг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оручай детям такие дела, в которых они видели бы результаты свое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Не выбирай себе любимч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сегда нужно найти то, за что похвал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Не делай ничего за ребёнка, а делай вместе с н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Чтобы иметь согласие – уважай разноглас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12240"/>
            <a:ext cx="8229600" cy="176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анова Ирина Ивановна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2" descr="F:\001.jpg"/>
          <p:cNvPicPr/>
          <p:nvPr/>
        </p:nvPicPr>
        <p:blipFill>
          <a:blip r:embed="rId1"/>
          <a:srcRect l="-5650" t="0" r="0" b="0"/>
          <a:stretch/>
        </p:blipFill>
        <p:spPr>
          <a:xfrm>
            <a:off x="-252360" y="549360"/>
            <a:ext cx="90216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амма воспитательной работ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ы вместе-дружная семья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– 4 классы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Что такое воспитани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оспитание-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чувство, голос души и сердц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оспитание-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это искусство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оспитание-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процесс целенаправленного управления развитием личнос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ель программы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условий для разностороннего развития личности на основе усвоения и присвоения общечеловеческих ценностей; воспитания успешного человека, живущего в согласии с самим собой, с окружающей действительностью, обладающего высокой нравственностью, занимающего активную позицию в обще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65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дачи програм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классного коллектива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ие личности обучающихся, свободного и полного раскрытия их способност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самостоятельност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доброго отношения к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культуры поведения и об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65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ет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чностно-ориентированный метод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истемно – деятельностный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учно-исследовательск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глядно-иллюстративный метод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тод проек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65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ы рабо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ассный час, беседа, обсуждение, консультации, презентац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нкурсы, викторины, игры, праздники, мероприятия; встречи с интересными людьми, игры по интересам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правления воспитательной работы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жданско-патриотическое напра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ологическое напра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ьтурно-творческое и эстетическое направ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удовое воспит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муникативное напра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мейное воспит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равственное и духовное напра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оровьесбере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теллектуальное напра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окультурное и медиакультурное напра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овое воспитание и культура безопас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9:50:00Z</dcterms:created>
  <dc:creator>aser</dc:creator>
  <dc:description/>
  <dc:language>en-US</dc:language>
  <cp:lastModifiedBy>дот</cp:lastModifiedBy>
  <dcterms:modified xsi:type="dcterms:W3CDTF">2015-02-02T18:30:39Z</dcterms:modified>
  <cp:revision>90</cp:revision>
  <dc:subject/>
  <dc:title>Презентация PowerPoint</dc:title>
</cp:coreProperties>
</file>