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4B66-B0E4-4D36-AA17-59F0EEB305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0B7D-B4B3-4A6A-B8AE-777EE170D9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E564-08A8-4D2C-86BC-CA6531D8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5769-91CB-4BE3-A540-AD901DF7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5F76-5A9D-4BAD-ABAA-6F78ED3A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A066-C04F-4EB0-9780-3DEF6F45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9241-470A-4627-9566-2160260F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64C3-1537-498E-9B2D-890668E1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3E10-6AB0-4D7F-833F-13E3B1BC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38FF-5FBE-4CFF-A94C-26ABDD5C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B928-A4E4-4F00-B169-02BAB9BF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3331-9751-42E3-BC8C-36822F8E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9721-E8A0-4D9E-AE1B-0C9FCFD5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182F-A57E-4EFB-8C90-0F7B6C27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51B6-9DEF-4D50-AC7A-F9ABF0AE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750F-5172-47A0-BBDF-40279CA3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F80B-C617-4B1C-A07D-6922D7C5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BD57-E101-4B41-962F-F3C198B7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EB11-FC12-4827-9EC3-05051B01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243D-EBF2-449B-8298-AE6A6AB8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246C-39A2-4550-A45C-E70D79C9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926B-1AF8-4FA1-9B6A-22819B5E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D1F7-DAB6-4001-BE7A-6D1B2442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0128-85C2-4D5E-8858-2B2F31EE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D443-6C5B-43CA-B7C8-C4AB6146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705D-E407-49C6-AD3C-6113711F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CA8E-E3CC-4576-A6AA-CE880F32137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A558-A679-44B9-BA59-3485928D70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C357-80F1-4991-8B1D-9B8BD18F20C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719C-2CC0-428B-855B-F78FDD05E4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98064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eorgia"/>
              </a:rPr>
              <a:t>Выполнение проектов на уроках технологии.</a:t>
            </a:r>
            <a:endParaRPr b="1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eorgia"/>
              </a:rPr>
              <a:t>Организационный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2560" y="1052280"/>
            <a:ext cx="9001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. Выбери актуальную для себя 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2. Найди как можно больше информации по эт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3. Четко сформулируй и запиши, что ты хочешь сдел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4. Определись и подумай 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времен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– как долго ты будешь решать эту пробл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материалах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– какие имеются в твоем распоряж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стоимост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колько это будет сто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функциях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– для выполнения каких функций нужен данный объек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внешнем виде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– как он будет выгляде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5. Развивая свои идеи, помни, что простые идеи часто – лучшие иде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Технологический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13880" y="18572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6. Тщательно продумай и запиши технологическую последовательность решения твоей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7. Приступай к практическому воплощению выбранной 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Заключительный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8675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8.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Решил ли ты проблему? Подумай сам и спроси об этом других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9. Выполни практическое испытание своего изделия (услуги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10. При необходимости внеси изменения и дополнения в свой проек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11. Оформи пояснительную записку, соблюдая установленные требов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12. Подготовка к защите творческого проек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3772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Georgia"/>
              </a:rPr>
              <a:t>Проект состоит из двух част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Изделие.               Пояснитель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запис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Рисунок15"/>
          <p:cNvPicPr/>
          <p:nvPr/>
        </p:nvPicPr>
        <p:blipFill>
          <a:blip r:embed="rId1"/>
          <a:stretch/>
        </p:blipFill>
        <p:spPr>
          <a:xfrm>
            <a:off x="5786280" y="3786120"/>
            <a:ext cx="2946600" cy="2708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12_7_23"/>
          <p:cNvPicPr/>
          <p:nvPr/>
        </p:nvPicPr>
        <p:blipFill>
          <a:blip r:embed="rId2"/>
          <a:stretch/>
        </p:blipFill>
        <p:spPr>
          <a:xfrm>
            <a:off x="214200" y="3714840"/>
            <a:ext cx="30006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63280" y="188640"/>
            <a:ext cx="48243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Изделие.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Должно быть посильно в изготовл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 использованием доступных 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Безопасно в изготовлении и использов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тражать творчество и индивиду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Быть эстетически красивым, модным, практичным и функциональ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Должно быть полезно для общества и конкретной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3" name="Picture 5" descr="Рисунок20"/>
          <p:cNvPicPr/>
          <p:nvPr/>
        </p:nvPicPr>
        <p:blipFill>
          <a:blip r:embed="rId1"/>
          <a:stretch/>
        </p:blipFill>
        <p:spPr>
          <a:xfrm>
            <a:off x="6858000" y="5122800"/>
            <a:ext cx="2158920" cy="1735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38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Пояснительная  записка.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96472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Это своеобразный отчёт вашей деятельности, где отражается вся работа над проектом, </a:t>
            </a: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«от возникновения идеи до испытания и оценки издел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яснительная записка выполняется в специальной тетради или на стандартных листах белой бумаги печатным способом с рисунками, чертежами, таблицами,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Рисунок21"/>
          <p:cNvPicPr/>
          <p:nvPr/>
        </p:nvPicPr>
        <p:blipFill>
          <a:blip r:embed="rId2"/>
          <a:stretch/>
        </p:blipFill>
        <p:spPr>
          <a:xfrm>
            <a:off x="0" y="5326200"/>
            <a:ext cx="175248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8534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Разделы пояснительной  записки.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31672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ыбор и обоснование темы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сторическая спр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Банк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ыбор и описание базового вариа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изайн- спецификация. Выбор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Технология изгото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Техника безопасности при выполнении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Экологическое обос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Экономическое обоснование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екл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амо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ловарь терм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писок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ижний колонтитул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500040" y="1071720"/>
            <a:ext cx="66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Сторублева Валентина Николаевна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Учитель шк. № 287,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Адмиралтейского района,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Г. Санкт-Петербург.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2012г.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ижний колонтитул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29680" cy="547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Творческий проект –</a:t>
            </a: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самостоятельно разработанное и изготовленное изделие от идеи до воплощения, обладающее объективной или субъективной новизной.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eorgia"/>
              </a:rPr>
              <a:t>Виды проектов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95280" y="1557000"/>
            <a:ext cx="8424720" cy="41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66ff"/>
                </a:solidFill>
                <a:uFillTx/>
                <a:latin typeface="Georgia"/>
                <a:hlinkClick r:id="rId1" action="ppaction://hlinksldjump"/>
              </a:rPr>
              <a:t>Интеллектуаль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66ff"/>
                </a:solidFill>
                <a:uFillTx/>
                <a:latin typeface="Georgia"/>
                <a:hlinkClick r:id="rId2" action="ppaction://hlinksldjump"/>
              </a:rPr>
              <a:t>Материаль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66ff"/>
                </a:solidFill>
                <a:uFillTx/>
                <a:latin typeface="Georgia"/>
                <a:hlinkClick r:id="rId3" action="ppaction://hlinksldjump"/>
              </a:rPr>
              <a:t>Экологическ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66ff"/>
                </a:solidFill>
                <a:uFillTx/>
                <a:latin typeface="Georgia"/>
                <a:hlinkClick r:id="rId4" action="ppaction://hlinksldjump"/>
              </a:rPr>
              <a:t>Сервис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66ff"/>
                </a:solidFill>
                <a:uFillTx/>
                <a:latin typeface="Georgia"/>
                <a:hlinkClick r:id="rId5" action="ppaction://hlinksldjump"/>
              </a:rPr>
              <a:t>Комплекс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Georgia"/>
              </a:rPr>
              <a:t>Интеллектуальные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857160"/>
            <a:ext cx="89298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исание модернизированных, оригинальных технологий обработки, конструкционных материалов, продуктов, почвы; разработка программ  для ЭВМ;  дизайнерские разработки оформления   интерьера помещений; рекламные девизы, слоганы, ярлыки и товарные знаки промышленной продукции и т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Georgia"/>
              </a:rPr>
              <a:t>Материальные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71680" y="13572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готовление инструментов  и  приспособлений,  наглядных  пособий, бытовых устройств, пошив одежды, изготовление упаковок и т.д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Georgia"/>
              </a:rPr>
              <a:t>Экологические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357200"/>
            <a:ext cx="8929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особы очистки загрязненных производственных помещений, лесных и сельскохозяйственных угодий, водоемов, разработка вариантов сбора и использования вторичного сырья, как для объектов труда учащихся, так и для промышленной переработ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Georgia"/>
              </a:rPr>
              <a:t>Сервисные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13840" y="1213920"/>
            <a:ext cx="865044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ы, направленные на  сбор и предоставление информации, обслуживание и ремонт оборудования, ремонт и благоустройство жилья, оказание различных услуг населению, организацию  праздников,  торжеств и т.д.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Georgia"/>
              </a:rPr>
              <a:t>Комплексные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840" y="857160"/>
            <a:ext cx="865044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ключающие интеллектуальные, материальные,  экологические и сервисные составляющие. Например, оформление деловых бумаг, сервировка стола, оформление интерьера квартиры, моделирование причесок и т.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ижний колонтитул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60724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ff"/>
                </a:solidFill>
                <a:latin typeface="Georgia"/>
              </a:rPr>
              <a:t>Работу над проектом можно разделить на три этап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1199"/>
              </a:spcBef>
              <a:buClr>
                <a:srgbClr val="8ea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Технологиче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1199"/>
              </a:spcBef>
              <a:buClr>
                <a:srgbClr val="8ea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Организацион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1199"/>
              </a:spcBef>
              <a:buClr>
                <a:srgbClr val="8ea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Заключитель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4:21:13Z</dcterms:created>
  <dc:creator>1</dc:creator>
  <dc:description/>
  <dc:language>en-US</dc:language>
  <cp:lastModifiedBy>Admin</cp:lastModifiedBy>
  <dcterms:modified xsi:type="dcterms:W3CDTF">2015-01-30T19:15:32Z</dcterms:modified>
  <cp:revision>17</cp:revision>
  <dc:subject/>
  <dc:title>Выполнение проектов на уроках технологии.</dc:title>
</cp:coreProperties>
</file>