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gif" ContentType="image/gi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7EA6A-4520-4050-8571-48020BBF34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518C1-657C-4A1F-9F2A-19B408701C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055C-FCB6-4A65-9507-8AB2583E2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2CD5-F4CC-4C6E-B634-8605AAFB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0F0F-67C2-4078-8FD6-4B31B4D78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F265-24C3-440E-B016-BCB0986CF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509D7-434E-463E-807B-CFE3EAB13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1119C-DB58-47A6-980B-25F8319F6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5FB45-072A-4784-A036-84D9ED2C5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4C7A4-47DE-493B-BC51-8FD04FC03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23D3B-C795-436F-9D0C-E0A13480E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391B4-F1DF-404B-B04E-61B3A1505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FDCAF-2894-4466-AB7A-1BD0AE50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B55C-ED17-485A-8016-CD29FC415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DE101-51D5-4EF1-A4B5-B398A1A1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12DF4-4001-4C2D-A9AC-E1BFD797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2D5EB-E6A5-4D68-8571-997ADE950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053AB-0766-43E1-979C-7F08C708E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B9659-5A05-4E14-9937-C38B5FCD3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49BB-7E25-4861-9A52-D5FF5B39E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C899-F898-47E1-AF57-2734C2086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985D-3D09-4578-A612-1F8636265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87C6-6FDD-410A-8D05-2FF263EB8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6F1C-9879-4649-996E-277B1A54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AE30-D13F-4DA6-9404-E9C43286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41BE-57C6-4AB9-9E9C-33B21B1CF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99003-6C3E-43F2-B01D-DACAAA33512A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trudovik45.ucoz.r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E387E-7E27-4BB6-B36A-92B2C2D9B2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5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grpSp>
        <p:nvGrpSpPr>
          <p:cNvPr id="59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60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61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62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63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64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65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35297-AFFE-4F4A-862D-55F86091D60D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trudovik45.ucoz.r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105D6-CCB1-4708-BFED-CA318D45E9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980640"/>
            <a:ext cx="77724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Georgia"/>
              </a:rPr>
              <a:t>Выполнение проектов на уроках технологии.</a:t>
            </a:r>
            <a:endParaRPr b="1" lang="en-US" sz="6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ижний колонтитул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Georgia"/>
              </a:rPr>
              <a:t>Организационный</a:t>
            </a:r>
            <a:br>
              <a:rPr sz="5400"/>
            </a:b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2560" y="1052280"/>
            <a:ext cx="90010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. Выбери актуальную для себя т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2. Найди как можно больше информации по этой те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3. Четко сформулируй и запиши, что ты хочешь сдел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4. Определись и подумай 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времени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– как долго ты будешь решать эту пробл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материалах</a:t>
            </a: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– какие имеются в твоем распоряже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стоимости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сколько это будет стои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функциях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– для выполнения каких функций нужен данный объек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внешнем виде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– как он будет выгляде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5. Развивая свои идеи, помни, что простые идеи часто – лучшие иде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ижний колонтитул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Технологический</a:t>
            </a:r>
            <a:endParaRPr b="1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13880" y="185724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6. Тщательно продумай и запиши технологическую последовательность решения твоей пробл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7. Приступай к практическому воплощению выбранной т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Нижний колонтитул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Заключительный</a:t>
            </a:r>
            <a:br>
              <a:rPr sz="6000"/>
            </a:br>
            <a:endParaRPr b="1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981000"/>
            <a:ext cx="86756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8. </a:t>
            </a:r>
            <a:r>
              <a:rPr b="1" lang="ru-RU" sz="3000" spc="-1" strike="noStrike">
                <a:solidFill>
                  <a:srgbClr val="000000"/>
                </a:solidFill>
                <a:latin typeface="Georgia"/>
              </a:rPr>
              <a:t>Решил ли ты проблему? Подумай сам и спроси об этом других люд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Georgia"/>
              </a:rPr>
              <a:t>9. Выполни практическое испытание своего изделия (услуги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Georgia"/>
              </a:rPr>
              <a:t>10. При необходимости внеси изменения и дополнения в свой проек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Georgia"/>
              </a:rPr>
              <a:t>11. Оформи пояснительную записку, соблюдая установленные требова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Georgia"/>
              </a:rPr>
              <a:t>12. Подготовка к защите творческого проект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Нижний колонтитул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37720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Georgia"/>
              </a:rPr>
              <a:t>Проект состоит из двух част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Изделие.               Пояснительна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        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запис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Рисунок15"/>
          <p:cNvPicPr/>
          <p:nvPr/>
        </p:nvPicPr>
        <p:blipFill>
          <a:blip r:embed="rId1"/>
          <a:stretch/>
        </p:blipFill>
        <p:spPr>
          <a:xfrm>
            <a:off x="5786280" y="3786120"/>
            <a:ext cx="2946600" cy="2708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12_7_23"/>
          <p:cNvPicPr/>
          <p:nvPr/>
        </p:nvPicPr>
        <p:blipFill>
          <a:blip r:embed="rId2"/>
          <a:stretch/>
        </p:blipFill>
        <p:spPr>
          <a:xfrm>
            <a:off x="214200" y="3714840"/>
            <a:ext cx="30006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Нижний колонтитул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63280" y="188640"/>
            <a:ext cx="482436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Georgia"/>
              </a:rPr>
              <a:t>Изделие.</a:t>
            </a:r>
            <a:endParaRPr b="1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96472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Должно быть посильно в изготовл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С использованием доступных материа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Безопасно в изготовлении и использова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тражать творчество и индивидуа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Быть эстетически красивым, модным, практичным и функциональн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Должно быть полезно для общества и конкретной лич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Нижний колонтитул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53" name="Picture 5" descr="Рисунок20"/>
          <p:cNvPicPr/>
          <p:nvPr/>
        </p:nvPicPr>
        <p:blipFill>
          <a:blip r:embed="rId1"/>
          <a:stretch/>
        </p:blipFill>
        <p:spPr>
          <a:xfrm>
            <a:off x="6858000" y="5122800"/>
            <a:ext cx="2158920" cy="17352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3851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Пояснительная  записка.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8964720" cy="47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Это своеобразный отчёт вашей деятельности, где отражается вся работа над проектом, </a:t>
            </a:r>
            <a:r>
              <a:rPr b="0" lang="ru-RU" sz="3200" spc="-1" strike="noStrike">
                <a:solidFill>
                  <a:srgbClr val="ff0000"/>
                </a:solidFill>
                <a:latin typeface="Georgia"/>
              </a:rPr>
              <a:t>«от возникновения идеи до испытания и оценки издел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ояснительная записка выполняется в специальной тетради или на стандартных листах белой бумаги печатным способом с рисунками, чертежами, таблицами, и т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Рисунок21"/>
          <p:cNvPicPr/>
          <p:nvPr/>
        </p:nvPicPr>
        <p:blipFill>
          <a:blip r:embed="rId2"/>
          <a:stretch/>
        </p:blipFill>
        <p:spPr>
          <a:xfrm>
            <a:off x="0" y="5326200"/>
            <a:ext cx="1752480" cy="15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Нижний колонтитул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88534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Разделы пояснительной  записки.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316720" cy="50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Выбор и обоснование темы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Историческая спра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Банк и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Выбор и описание базового вариа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Дизайн- спецификация. Выбор матери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Технология изгото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Техника безопасности при выполнении раб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Экологическое обосн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Экономическое обоснование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Рекл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Самооц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Словарь терми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Список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Нижний колонтитул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1" name="Прямоугольник 2"/>
          <p:cNvSpPr/>
          <p:nvPr/>
        </p:nvSpPr>
        <p:spPr>
          <a:xfrm>
            <a:off x="500040" y="1071720"/>
            <a:ext cx="66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Сторублева Валентина Николаевна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Учитель шк. № 287,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Адмиралтейского района,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Г. Санкт-Петербург.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2012г.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Нижний колонтитул 3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29680" cy="547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Georgia"/>
              </a:rPr>
              <a:t>Творческий проект –</a:t>
            </a:r>
            <a:r>
              <a:rPr b="1" lang="ru-RU" sz="4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самостоятельно разработанное и изготовленное изделие от идеи до воплощения, обладающее объективной или субъективной новизной.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Georgia"/>
              </a:rPr>
              <a:t>Виды проектов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95280" y="1557000"/>
            <a:ext cx="8424720" cy="41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66ff"/>
                </a:solidFill>
                <a:uFillTx/>
                <a:latin typeface="Georgia"/>
                <a:hlinkClick r:id="rId1" action="ppaction://hlinksldjump"/>
              </a:rPr>
              <a:t>Интеллектуальны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66ff"/>
                </a:solidFill>
                <a:uFillTx/>
                <a:latin typeface="Georgia"/>
                <a:hlinkClick r:id="rId2" action="ppaction://hlinksldjump"/>
              </a:rPr>
              <a:t>Материальны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66ff"/>
                </a:solidFill>
                <a:uFillTx/>
                <a:latin typeface="Georgia"/>
                <a:hlinkClick r:id="rId3" action="ppaction://hlinksldjump"/>
              </a:rPr>
              <a:t>Экологическ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66ff"/>
                </a:solidFill>
                <a:uFillTx/>
                <a:latin typeface="Georgia"/>
                <a:hlinkClick r:id="rId4" action="ppaction://hlinksldjump"/>
              </a:rPr>
              <a:t>Сервисны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66ff"/>
                </a:solidFill>
                <a:uFillTx/>
                <a:latin typeface="Georgia"/>
                <a:hlinkClick r:id="rId5" action="ppaction://hlinksldjump"/>
              </a:rPr>
              <a:t>Комплексны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ижний колонтитул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Georgia"/>
              </a:rPr>
              <a:t>Интеллектуальные</a:t>
            </a:r>
            <a:br>
              <a:rPr sz="6000"/>
            </a:br>
            <a:endParaRPr b="1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-360" y="857160"/>
            <a:ext cx="89298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писание модернизированных, оригинальных технологий обработки, конструкционных материалов, продуктов, почвы; разработка программ  для ЭВМ;  дизайнерские разработки оформления   интерьера помещений; рекламные девизы, слоганы, ярлыки и товарные знаки промышленной продукции и т.п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Нижний колонтитул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Georgia"/>
              </a:rPr>
              <a:t>Материальные</a:t>
            </a:r>
            <a:br>
              <a:rPr sz="6000"/>
            </a:br>
            <a:endParaRPr b="1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71680" y="135720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зготовление инструментов  и  приспособлений,  наглядных  пособий, бытовых устройств, пошив одежды, изготовление упаковок и т.д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Нижний колонтитул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Georgia"/>
              </a:rPr>
              <a:t>Экологические</a:t>
            </a:r>
            <a:br>
              <a:rPr sz="6000"/>
            </a:br>
            <a:endParaRPr b="1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-360" y="1357200"/>
            <a:ext cx="8929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пособы очистки загрязненных производственных помещений, лесных и сельскохозяйственных угодий, водоемов, разработка вариантов сбора и использования вторичного сырья, как для объектов труда учащихся, так и для промышленной переработк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ижний колонтитул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Georgia"/>
              </a:rPr>
              <a:t>Сервисные</a:t>
            </a:r>
            <a:br>
              <a:rPr sz="6000"/>
            </a:br>
            <a:endParaRPr b="1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13840" y="1213920"/>
            <a:ext cx="865044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екты, направленные на  сбор и предоставление информации, обслуживание и ремонт оборудования, ремонт и благоустройство жилья, оказание различных услуг населению, организацию  праздников,  торжеств и т.д.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ижний колонтитул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Georgia"/>
              </a:rPr>
              <a:t>Комплексные</a:t>
            </a:r>
            <a:br>
              <a:rPr sz="6000"/>
            </a:br>
            <a:endParaRPr b="1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3840" y="857160"/>
            <a:ext cx="865044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ключающие интеллектуальные, материальные,  экологические и сервисные составляющие. Например, оформление деловых бумаг, сервировка стола, оформление интерьера квартиры, моделирование причесок и т.д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ижний колонтитул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607240" cy="559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ff"/>
                </a:solidFill>
                <a:latin typeface="Georgia"/>
              </a:rPr>
              <a:t>Работу над проектом можно разделить на три этап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1199"/>
              </a:spcBef>
              <a:buClr>
                <a:srgbClr val="8ea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eorgia"/>
              </a:rPr>
              <a:t>Технологическ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1199"/>
              </a:spcBef>
              <a:buClr>
                <a:srgbClr val="8ea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eorgia"/>
              </a:rPr>
              <a:t>Организационн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1199"/>
              </a:spcBef>
              <a:buClr>
                <a:srgbClr val="8ea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eorgia"/>
              </a:rPr>
              <a:t>Заключительн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0T14:21:13Z</dcterms:created>
  <dc:creator>1</dc:creator>
  <dc:description/>
  <dc:language>en-US</dc:language>
  <cp:lastModifiedBy>Admin</cp:lastModifiedBy>
  <dcterms:modified xsi:type="dcterms:W3CDTF">2015-01-30T19:15:32Z</dcterms:modified>
  <cp:revision>17</cp:revision>
  <dc:subject/>
  <dc:title>Выполнение проектов на уроках технологии.</dc:title>
</cp:coreProperties>
</file>