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182-62CC-4B0A-BBC6-A9E46F9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C6D-A404-452C-AAF3-04949B2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16B4-1E14-41AE-89E0-0FBB6233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1D4E5-7E28-4890-85E1-292F413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A2E9C-F1EA-4747-B278-067BCC0C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AA497-E031-49C7-91BA-A9CB6C5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350D-3EBB-44E2-8AD8-CDFCC0E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18FC0-B6B6-4ADF-B353-508E32C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B918-EC53-458B-A652-E3228113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4C0D-B859-4344-83D6-4AAAC499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6748-C899-4FE4-AFD9-D2877288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A064A-B5C1-429B-8EFA-8CBE8BDA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DE1-74C0-40D3-922E-9C18829B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EDE3-547B-4BFF-A6AB-4319489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ADDBC-1A71-44F8-B177-AAF6CE53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C2A8C-9755-4A0A-BBBA-8694EE80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7658C-E87A-418D-85F2-826F2D04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0515-B7B7-40C3-83AF-4465F0C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21EFC-D522-43E3-B3E3-B98EB7E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01921-4DA5-4BBE-9DD3-E2E5569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7376C-2D63-4065-87E1-629720C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C395-DFCB-4923-90F1-145AB30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8E5D0-E5FF-4DBD-A174-AD7E0DE1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8D5-4AB9-48D6-BD7C-017B147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85A5F-32B4-4F3F-9F8D-53FBDAB5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F19B3-6C76-4E88-8961-37AF506F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1CB84-F029-49FC-95DB-0CAB49D7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05E4F-674A-4BF2-9C2C-B106C8C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5E392-288C-4F00-B350-B7E8D177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10B9-8C76-47E4-B4B5-7A73F01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CCEA2-76E8-4A3C-A61E-6D4B634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DEB5-99DC-4282-9280-BC70A6D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DF351-F3CF-4CF0-8B24-C028BE9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CE93-4856-4A15-ACDB-6356967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849-912B-4187-8AC5-843AC022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E030E-822E-4DD6-9C4D-B989C18D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205C-7B81-4C38-A904-F52E8977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F74B6-E80C-4BB2-9490-88B8B71A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44D31-AB5B-4B3F-B050-6B081280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94057-585D-4240-8FD7-2141EC9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AB052-FAA6-4A88-B908-D470F41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56FB0-60CD-4580-B45C-AEAF09CA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01B92-FEF7-4293-AF66-271DD7D1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46FFA-7730-4DAC-BA05-29E1E14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3735A-BCDA-4825-8813-ABD51C4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9DFB-8436-47D2-AE22-B2544F34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C87B7-5D11-4BF1-BFC0-4454570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DB250-2A7E-4E86-AC6D-691698D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B38CC-6DC6-465E-B623-C12C8C0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28908-2E63-45FB-91B2-E4144B39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CAD58-D767-4343-885B-8147860D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F06A5-F0E3-43CE-9846-BF047016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CF4A8-57F2-4906-83DB-0A36290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EAB38-D690-4553-BF65-B3233CE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5BE2E-D073-4AA3-A98E-D6CC007E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3EDFC-E48C-4AE1-866D-055F903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8E8-E174-4E21-8BDD-A383157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67441-EF5C-4E2C-9F67-F4F61DA4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56FE7-C6FF-4A2A-88C9-B20940C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4554D-ACBF-4037-91C4-C1EC95D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479D0-76BB-4B13-92CA-EE88FE1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7FB22-45FE-4252-8EE1-91E8B72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3D276-6B65-4FF4-8EBC-9DDB78E0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FFD8E-A80E-4DC1-B163-088E2FD6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2800C-6164-4205-B167-0C47F44F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EF1DD-FAAD-4E77-BFEC-A4375B4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9C0D3-4B3A-4E91-AF67-DDF9C72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977-4B9C-41B3-A29A-8AB7C45D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27803-222E-4900-BA18-FEEC268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B342E-250A-40D5-BAEC-A8DBBBEB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98DC0-D45B-4B5E-A0A6-FC05CA2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2C95F-C08D-49C7-86F9-044E2B3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A0731-407C-4E23-A7C0-451F5ED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D74C9-048F-4809-ADFF-C65D08E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34BE6-EAEA-469B-BEBF-F5AC83C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382CA-7F10-49C5-96D6-85BE70EF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9DF26-A6B4-49C7-9276-FD31A97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E11-3105-4C68-8FFB-F3DF76AB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A023-6043-4F2D-97CB-93909EF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664-52F7-4BD9-812F-D8D7BBF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0CB-2ABC-476F-BCF7-EBE2111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CA7-B2F4-4330-9E2D-41894E8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E2DA-5B91-422D-80AC-281C0608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4548-5823-4F4E-9994-69E29FFC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A06-F3F5-4C7A-8715-E410B5B9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2FCF-A9BC-412B-AEEC-A5C616A6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29BF-54E2-4A2B-8268-6543F3A7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657B-9453-4DA8-A496-D852D28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8D53-4B65-4D2D-990A-B31A007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8691-4840-467F-90BD-406090FD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06D5-337E-44FE-BDEA-28B708F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98E-2AD3-4387-B11B-3255F17F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4AB2-317C-4382-B301-4350DB7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9941-7525-40AF-9A7E-58F4D36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1CFC-AE0B-41E7-AF27-F241CBD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E947-4532-48CA-A1B7-43C9416E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EC46-39F7-41FA-AB28-5E592C0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C382-4CF5-4848-AFAE-FC5E01F3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00DB-85E4-4DC4-9475-EAE508EB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EF75-4954-4A84-BB1D-D6B6CBA0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DADE-99DD-4A8C-8E03-52235F5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8CA4-74E8-4B4C-92F9-282CB94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27D-D2C1-445A-BBB0-8084CAE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94A9-08A5-42E7-9126-4B4BFDD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DF60-934A-47CE-8C5E-E0C9C58A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E960-B7E9-4874-9F3E-976B372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A2F7-D21E-4939-ADE5-68CFF9D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34AE-F552-48C4-B6F1-9161D2D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C8DB-1A34-41E2-9C00-A2106E5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256A-4455-4E06-84D5-502C443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96EE-7956-4FDA-8F5C-39068F13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E78C-9338-4F25-B81E-001CC9EE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73E5F-07C4-4CA0-89D8-5671451E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5D6-DC04-48E1-B297-9FB9325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96CBC-F9FC-4EC5-86EE-7C373051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2DC31-8B9E-4F23-9AF3-2902ECAA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00214-D4CE-44EE-9F51-866AAB7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6FA50-BE15-4961-87C3-1464B75D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41DB2-83DB-4710-9B6E-3EBF91BB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279FA-CA27-4EEC-BE2E-263C23B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815CE-6909-4A61-943C-3873FF8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3DCAA-06C0-4114-9EC1-63512E6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8EFB5-A542-4A25-9911-EACE8F0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A4E7A-2A61-4A43-9DC6-AE511713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BC2-2843-448D-8149-B306679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6FC7A-A65D-47A9-B658-ABFD2DED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66853-8196-4F6C-BF72-3C4766B6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C2AE-4E9C-4536-9672-23CBC8D7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F970-10FB-4B2A-97C1-B65AD13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1DCC-7054-436B-AF5E-F9181A8C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28ED-44AA-4898-9ADF-2380E20D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3E40-48A9-4FC5-98DB-355BEFAF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EE21-530D-4447-B5A2-2A4A635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CE4C-7453-4DE4-BED0-61BC3EA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D14E-E49D-4CAE-B827-D7212D79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6C7-E385-4DB4-9FA3-A041DC1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D996-D201-4CC5-9F27-563486BC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8AE0E-B1E9-4AB0-9E4F-72CB6D32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8E4F-5E39-491E-9614-3D81320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4F82-3925-47F7-BF13-5A1B5483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32494-28CB-4F45-AD92-FDE4690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2382-DF94-4E91-AF12-EEC2A98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EEA0-D4D0-45FD-AB26-6EFE583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B22F-DDDC-48BC-86B7-94A314A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216B-9524-49C4-AA0A-6B2D137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2FE3-CCFB-4B49-8E00-6AB840E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6A3-B215-4782-B8F2-D7205B6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BE2F-BEE0-4ABD-8572-F6CB5AD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0C0C7-5028-40AB-B3FB-6785473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7451-2A2B-4682-8D2B-1F9C626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A025-398D-4F63-823E-E4A33110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0AFA4-8C96-46EF-AFD3-886E64A1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02153-B97A-4D83-8247-2A19E2D9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50F6-4434-422D-9EDC-5735E66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AB6A-F0F3-41A6-A672-A8A7A73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09B37-C951-47C6-B4EC-08A205C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5EBE-8F3E-4F2A-BB62-9CB74BB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857-4A8A-48B6-9787-69631D7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824A-253C-474E-9105-C53E44C4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E0B71-DEC5-4342-8974-7C1AEB2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D3C4-B75A-4540-9F70-336BBEC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033E-8DA5-4901-B23B-F45CAC9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2FE0-7E50-4FF4-BCAD-00AE3057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9A26-2B4B-4413-8988-EA64799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3CC5-D17D-4DAA-9E8F-713D19FB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D1E2E-A70C-4FEF-B572-4418E3DC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7E73F-53AD-4ABF-807C-5D2ABC5E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603DE-6015-4605-922F-8518BF25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7AF-CFB0-4E97-8109-9FF06C76E3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0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170-2740-40D4-8782-F104BB28B1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A13-3724-4DD7-BEF7-88CC46192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8B8-9B30-4295-9507-A4C227CE16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DF7-7277-4A23-9A5B-8F41C75766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1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1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1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1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2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2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2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3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3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4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4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4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5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5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5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6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6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7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7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7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8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8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9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9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9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0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0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0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1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1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2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2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3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AD4-9577-410E-9CDE-95D76FEFA1E9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C5BC-74BE-4EDE-80A3-39BA138B0F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81C-DD43-4293-84D2-04AFFEB317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930-4547-499B-B601-4AC1D383D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D93-982D-4927-95C6-20E3DB8B0A5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1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1AD-C7F2-4E3D-A0AC-363207757B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A4F-0988-4735-9970-4895ADE50B0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4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4BA1-6EB4-49E5-90D5-C8AD8535E2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D737-6AA2-4380-9852-269CC1332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6966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`THE ABC`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`ABC`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 B C D E F G H I J K L M N O P Q R S T U V W Q R S T U V W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 Y Z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h, well you see, now I know the `ABC`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сставить буквы в алфавитном поряд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      L        N       G       A         P         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      F          I       E            C            W       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Расшифровать сл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1001880"/>
                <a:gridCol w="1000080"/>
                <a:gridCol w="1001880"/>
                <a:gridCol w="1000080"/>
                <a:gridCol w="1001520"/>
                <a:gridCol w="1000080"/>
                <a:gridCol w="1001880"/>
                <a:gridCol w="10000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уква и зв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                    [f]            L             [k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l]                                  [w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         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z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d]                    C                  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c]               [n]                 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s]                                      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Arial"/>
              </a:rPr>
              <a:t>Сложить слова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gd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xf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    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nimal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ffari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nahpe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t`s sing a so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`Clap your hands`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Thank you 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2-02T13:32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