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64A-33B5-4741-8911-2F87DDFE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F85-AC00-4CEF-A1D6-4619E3C8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4272C-12C4-4F90-89D5-D18B502F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9327D-B70C-433E-9BF0-A41F02B6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1650C-8081-4A41-9230-1001BA78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141A2-708F-43F3-8C52-323DDF60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863A9-7115-4D91-9D54-C8878BC2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48094-3808-4546-A62F-0D99F4F5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3FDAD-1C2A-463C-B01F-96C8AEB2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15982-315C-4F66-B678-B763A004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72DE3-5E1F-4056-B58B-2F0B79C7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50D25-9A30-4A01-B700-A75EE855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676-AD16-492B-8C52-208DC1BE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99458-E56E-4318-9EB8-83BF00CE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C37EA-9760-488A-B8CD-7E44B966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9A524-E874-4D75-8971-045B82E0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50B56-6E52-4B1F-AB25-28A382C0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22022-D539-4CC4-9186-DE343871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A4A7B-54A6-4E41-BDFC-1D6EB086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219BF-4CCF-41CD-AD4E-31DF674F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C3427-78E6-4E9D-AE5B-606437D9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66EEB-A486-416E-8962-E181D486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1DA38-3CBA-4F2F-AAAB-C4DA7C66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D584-1B06-4546-B2DC-A187E8C6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3C928-A949-4820-B401-60511A4B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DBAFF-ADCD-40DF-B321-0E21856B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A9902-1A6C-4A77-802E-AA552B2F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626BF-51BD-4C3A-B31F-5BECFFF3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9E903-A489-4C8A-878F-54C7F4DB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CDFB0-FFB4-4B7D-B39F-854F1F97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69A54-5CB1-46E4-B9BD-1A1D8D6F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45A2D-3766-49BB-A3F2-0334D618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429C8-FF35-4AE0-A3ED-73F03DC8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3DC5E-C0E9-4B6A-8B7D-25AD4AFA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6D35-E636-4FBC-B291-FCF65B68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3423A-A62E-4CD9-AF69-4E12EAF9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4995E-1905-4C31-AD28-FF363CEB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BDB7A-5858-4415-95F2-84C1CE2B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E2F7B-0566-4564-BE33-8292222A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096E1-3258-4636-8F7A-00F0F2EC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50E8E-9D56-466A-A91B-CDDF6B59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39606-EFFC-4696-8EA1-DB908390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005A6-613A-4693-9414-FC4DE545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E11C8-398B-48DB-9A6C-D3A9BD91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3C88F-BB10-49D1-A967-1402C8F4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3FEE-07B8-4CC6-8F82-17EF7A89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63DE3-E4AA-4BDE-9904-7EAFE8D0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06567-036D-4D80-A88D-5669B4C9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03119-F0B4-4AF2-9E6E-6FCF0799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A70D3-D4C3-488C-AA17-E9A0AC25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579A9-9ADB-48ED-B69E-090C6AD5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B4B14-6BF5-4B44-8A90-5E1F06E3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56C05-33C3-48E3-98EE-486FA4D9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588BCE-5F5F-4879-BCBC-C7C1EBC2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48AC2-2A33-4F1F-AB32-63B92EB0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747C3-D5DF-46F8-867D-96F89F4A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82E9-1FDA-4713-86EB-0AD1B334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C9DBE-F832-436A-913E-D0DF64E9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87C2B-36B5-47FC-853A-BB7E5154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AE66F-061E-4234-B7A6-C3ABA36C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232DC-99AD-4F95-A47F-400BB68D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2C2AA-A9EC-49EA-8CEE-C625E804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531D7-62FB-473F-9D8E-3F0F3AD0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C3F87-DD76-47EE-A852-579534A0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EC7D60-09C8-4045-B362-75AFF69F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68206-323D-482E-91E8-DFFBA40A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2415C-C819-42B6-B9C3-97296266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158A-DAC8-451D-AFFB-CC3592FD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558FA8-1D7D-4427-BF0C-03EB562F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7F302-6805-4D05-8867-44BA551B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B081B6-F0DB-4611-A3C8-B0004800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B45A02-45DF-4666-8C91-A660E3F2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4DC352-2014-4248-A9C9-5CFF1BE1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76DE2B-DB7C-4441-967E-F0E8610A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BAFEA-164B-4E15-B44E-F4575E30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D6E74-2511-4B21-B7A9-F626F85E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621E5-A7E6-47D2-A8F8-A733D40F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E821-9B16-418C-821A-C0B61AA0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F864-3EC3-475C-96DB-AAA59590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A90D-D328-43CF-B590-6FE13D91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2A9-3373-4ECF-9332-6BCA35FE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DEED-08B2-446F-B473-D2B39005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2D07-A5C8-4373-8FBB-184B0F64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F450-AE8D-437D-A209-12F1CA7D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D8E6-A8B2-4BCF-A656-9B9ACD53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7B5A-88D7-427B-82CF-2712B0A7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6A047-747F-4EBA-BED8-E8C3EFE4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BB0C-9838-4424-9C7E-110CDBDF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A147D-8AD5-4527-B125-BF516ED9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D414-E964-4255-81D8-EA0D97D2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06264-FC13-4BBB-9123-DF555F9C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5AB-9D91-4C53-82B1-ED31E63F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2B5E8-C56A-4B76-BDB3-0B42E898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8CC51-0455-4FFE-B558-75C8C99E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57312-E913-4311-BB47-C58DF26C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CFF6A-B189-4CBF-BFE6-2EFDE18D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E1644-36C3-4734-ADCA-295BEB2C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09E70-82D0-4A72-9760-4E9CB9CA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405F1-1702-4F0A-99ED-3DDC7FF5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539BC-56FE-45E9-AD3E-365E5AE5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3525C-28F1-4072-8430-97A94303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ED8A4-E494-43A3-9710-9E40B52F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67D-1664-45FE-A40F-AD24A904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267F5-E3CB-4ACB-8B29-AE023EB3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23472-B88B-49C5-BE22-51D46464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254BD-9E81-4D30-81C7-5D50435C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88C30-3CEB-4732-B42E-B6EDBA16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FF6DA-F5EC-4A95-A71D-B9A518E9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07EBE-2E91-40B0-A834-A794FB57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A2218-6A89-4F49-BF43-E46A37DB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46191-A0C5-4413-AAA0-E63CC029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FF291-11D9-418B-9A62-D9ABB52D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6D294-0A47-49D1-AB95-1801A03C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3CB-5F48-408F-9430-DCEAFE14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39347-8EC3-4BF5-A43A-307CD49B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785A2-1962-42EA-98BD-932B7DD8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95CC8-FFB1-438B-8715-97C7F66B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64ABE-46B2-47EC-BEF3-49DF8A84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99AD1-C5CB-4266-8E94-9FECB7CB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3DFDCF-C667-4989-971A-D0E31CD1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3005FF-2EC8-4A58-99D6-29666944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C12A2C-8D8A-4FFA-AAB7-95A29EE4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63360-4F33-4B6B-9F56-14D20635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CEC7B-79CE-488E-8229-7E942FE2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74F-10FA-4594-95FD-22EC2D73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77C16-68D7-4D06-80D5-28609788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22D35-57B5-46B4-9E95-3F882B25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35A30-B5A1-4736-AEDC-2EAF5660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25958-778F-4621-B79A-C96B287B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69436-65C5-457E-B9A5-2D824015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D0109-935D-4C3D-9371-0B79C0A3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A1DC5-DFB1-46BC-B79F-40BBF851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75AA5-865A-40D5-BAF8-31345459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7291C-86ED-435E-AE71-F8B680F2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B1F29-4222-4F52-909F-D2195E04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32DB-68E1-4049-972F-9D7053B7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18AA1-A24D-440A-8517-8FC614AA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CA12B-711E-4063-AD9A-0B87DF8A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7F6E7-8154-4389-84D6-E7162866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70292-A926-4DA4-BB66-44AF0505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CBFCD-1E7A-45BE-A7F7-78E979BE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9561E-2AAC-44DC-969C-52DDA71C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1480E-77A9-43E7-B56B-BAC4274D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C9C0E-51C7-4EEF-B039-B1B3C7FB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63D9C-6063-4F08-B891-2E0F3D94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5A86E-A2FC-4118-80DD-EAF21DED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FC6-82E5-48D3-B046-4B86F2BD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FAFE1-8EFA-4DED-A550-3C3136AE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6F203-7893-4BE2-A1BF-A89B7909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DEF82-1321-4963-A333-94141548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9CB75-5D1D-42B8-846D-5E9BDDA9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3B590-AA06-4D33-8EE6-40F4AD58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E9025-B7B5-4C10-88D0-6598AEED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E6224-98C7-47AD-8E71-782D13E2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386E6-E0D0-4F8E-8149-0BE85141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D0C2C-BC95-4AF5-AF23-4BC3B5AC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89022-6F01-42E3-9CB4-7F41A98E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0887-DD7C-4548-AEA8-C888B988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86AA8-207D-4753-A15D-7F852E0C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9D71D-EA0E-4B26-98B8-4B4C2085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79DCB-C9DA-48A3-9023-250DA086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D168A-47EE-4A83-8AE8-9FEA0D17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CAC03-5E1F-47CB-929A-0FA26675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18B8F-ED75-4C5B-AC29-CB01F174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B1715-3942-402A-A10C-39F5147F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0A587-204A-4697-8A7E-099A6D73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03383-621B-425B-BF43-2881B87E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9E9A9-B881-4843-A689-25BE0A25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7724-08C4-4700-9147-86142A5822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0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83EC-7F43-40EE-926F-9E25226E40E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4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6105-E691-4C14-B13D-534368A89B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9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6FCF-4DA5-49AE-BDFA-DAB90244D2B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142A-F0BF-4115-AD9A-E7DAD54AAD3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915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16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17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918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919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20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21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3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24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25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6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7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28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0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31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2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3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34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6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37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8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9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40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2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43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5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46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8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49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1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52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4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55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7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58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61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3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64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6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67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9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70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2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73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76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79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1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82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4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85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7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9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90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2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993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5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996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8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999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1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02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4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05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7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08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0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11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3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14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6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17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9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20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22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023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024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1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2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033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34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35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36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37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38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39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40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41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42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43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44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45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46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AD8B-8973-446E-AA2F-958C6A644343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FEE9-7924-428F-B1EE-45A8505A35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5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1C58-B0B4-4B4E-A60D-A914C6E837C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BDA0-BD68-44CB-B669-472517BEBC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3FB8-5B22-4089-A7E2-9570D0F8FB1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1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4360-7B4E-4B20-B8BC-ABECF714C31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37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7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7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7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38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8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8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8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8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8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9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9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9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0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0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0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1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1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1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1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2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2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2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3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3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3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4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4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4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5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5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5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6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6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6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6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7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7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7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8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A711-705E-45B6-AB5F-079035760469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4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5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5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5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5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6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7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ED05-8F8E-4E21-8A1A-1620C13150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4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4FAE-9CE3-42A8-B2E5-7B901C390C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69660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f7d47d"/>
                </a:solidFill>
                <a:latin typeface="Arial"/>
              </a:rPr>
              <a:t>`THE ABC`</a:t>
            </a:r>
            <a:endParaRPr b="0" lang="en-US" sz="8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`ABC`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 B C D E F G H I J K L M N O P Q R S T U V W Q R S T U V W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X Y Z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h, well you see, now I know the `ABC`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асставить буквы в алфавитном порядк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D      L        N       G       A         P         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H      F          I       E            C            W       M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Расшифровать слов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4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1001880"/>
                <a:gridCol w="1000080"/>
                <a:gridCol w="1001880"/>
                <a:gridCol w="1000080"/>
                <a:gridCol w="1001520"/>
                <a:gridCol w="1000080"/>
                <a:gridCol w="1001880"/>
                <a:gridCol w="100008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Буква и зв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                     [f]            L             [k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l]                                  [w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               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z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d]                    C                  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c]               [n]                  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s]                                      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Arial"/>
              </a:rPr>
              <a:t>Сложить слова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gd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xf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i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Verdana"/>
              </a:rPr>
              <a:t>                                       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Verdana"/>
              </a:rPr>
              <a:t>                                              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nimal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Verdana"/>
              </a:rPr>
              <a:t>                                               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Verdana"/>
              </a:rPr>
              <a:t>  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r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ffari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a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nahpe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        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                          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et`s sing a song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`Clap your hands`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/>
          </p:nvPr>
        </p:nvSpPr>
        <p:spPr>
          <a:xfrm>
            <a:off x="263520" y="762120"/>
            <a:ext cx="7386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7200" spc="-1" strike="noStrike">
                <a:solidFill>
                  <a:srgbClr val="2f1311"/>
                </a:solidFill>
                <a:latin typeface="Arial"/>
              </a:rPr>
              <a:t>Thank you 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2-02T13:32:5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