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37CF0-6487-44D2-AB81-33A9FD04C4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17E7A6-B607-416F-B2E1-1D3B38FF6A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629-22CC-45F2-B176-78805705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8362-5E42-4929-B1AF-6E745F3E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BC80E-619A-4B87-B367-653944B1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3BA91-C839-435C-8205-D002D08C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81DC5-2500-455D-85A8-85DBAE8E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44674-E11B-4E6C-AB6E-8DF6140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1E251-63EF-41C7-9E84-D035DF1E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23A5-81C3-4629-9165-EF0DE692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F3978-A1E6-4EF5-98E1-671E5D7F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18FA-B136-407D-A52D-6D3B630C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4612F-A07A-4A22-B33D-230381B1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C2630-43A9-4BA6-A3BA-66C07C9C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97A-F424-46D4-B41E-EC1EFAC9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E4FD0-42FA-4C1B-A660-F1BC1BF7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14B2D5-725C-4507-8B58-71FE29F2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AB602-514B-433A-A208-067102F4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6E9BC3-141C-48E7-BB7E-9CDA07E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36443-6FAD-49CE-AC2F-B5C537EE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52E809-BDE5-4CA1-A39E-E8DBDF6E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F78783-03B8-4121-A4F7-197F0321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1BA19-3BEB-46D5-88B3-AC251E6E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0C856-9635-467B-BF09-C2D196BF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245AC-7D8B-4B29-A433-96E2B60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5B14-F91B-4684-B3B1-185409BD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9723D-ECC2-402B-98F3-79929DEE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0055C-7F5D-4098-BE15-8CA35147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B663D-D6D9-4C6A-8D6B-4BF609DA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2C4BA9-7B6D-4560-9FF4-C5AFDC2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DE2BE-0952-4F2D-8304-821C0DFA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1376A-ECAB-46E2-A2F1-39E35EA6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F46C2-9017-43FA-A915-A9B8F0C3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BF2F0-54B8-4728-A779-A8169E1E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71263-4B8C-4B60-9AC4-AC318B47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8A2EF-06A4-486B-A172-04E631AF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A291-C56A-4973-8673-31D17D13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97285-A373-4CAA-AB0B-1ACBA04E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4E6C0-30A5-4CA2-8A2A-77FE389D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0E8A0-E09F-4392-9A0F-AD59A369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F0702-9810-40A2-B4D3-F101AE0C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21BE99-982E-475D-986C-6F8AEF9C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F32D3-1F23-4144-94FD-BD088C17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BD6C9-D459-426A-A957-73408EC1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7F402-B44C-4488-99EE-86BCB33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D41F8-FF9B-40CC-A9CD-E4502B56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E9BF8-079C-47B2-A2E0-75CF2B4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99D-FA4E-4FC1-BEDD-9F350EE7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2FDCD-03F3-45C9-BAA4-0EF8E0BE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F3441-F1E5-4662-B8D3-2E92B7E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431C8-40A1-4726-9469-720F755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46D7E5-2D72-44F4-94CC-138966E7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58643-5846-4098-8D1A-2743B160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3BE9-3AB7-4046-A5DB-5929C858D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451C-FC91-4D42-B207-1A5B27FF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DC70-1C36-4FE1-AE43-A4DACC65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7E11-AEA4-444B-B84F-2F209278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0BF4-A783-4240-AA86-2802D718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65E-EA3B-4F64-863F-E180C78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A3A-706A-443F-9E5B-34C0E3FF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0535-9863-4EC6-B03F-FA5D912E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5DC0-DE55-4091-9E3F-8542F80CF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7E50-71E4-4CD8-9522-B06BC836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AD47-13B0-446C-A263-614D990B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B1A47-5E85-4719-B824-8F292C99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C82C1-40B6-4906-807F-3AF4A450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12423-D2D2-45BF-BC99-3912E776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2FD8F-E747-4CEF-81F1-00EF7E38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BFAAC-7E0E-4959-9AF2-A9A36620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525-632B-444E-AB51-B25C83FF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F0785-43EE-4872-B2DB-31725B4F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20778-50E0-40AD-8CE9-A82373D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5ADBB-6F5F-47DB-B67D-1E3FC261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D455-9FCE-48EE-AA09-86372C0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8AF60-7F20-43F7-8037-29E99125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C38D-E120-4559-B78D-B42E4A50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9019-782F-469D-A2CA-CD3262B56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72CE-4024-4BAE-AD22-0D6EF80E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E21B1-AE2E-4A15-982C-E86185A8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8AA3B-A5D5-4360-900C-5B27156D9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DB7-12C7-44B4-9250-A6DAFFE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47C98-943F-4FEF-8E9B-6594F33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86B46-8E12-453C-8C57-C3296D45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B034A-DF93-44BE-A45F-6927204B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1C82C-988F-4685-B292-90CAB23C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872A-2CE7-48C0-A2AF-68D73AC6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22A3C-57B7-45FD-A24E-D22D44A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82A6E-3044-43AB-8271-B4DCCB195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9FC2-5A2E-42FC-A044-D6C93B016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3711C-4582-48C9-8682-E84A7CCB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DC59-B9C2-4C28-97F5-A80D3F58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76A-002F-43D1-B8B2-5A1F630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2730A-BC40-4CC7-8288-B8B1F462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24EA3-E1F5-44AB-BBB3-29F5FB42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28068-E251-4771-9935-A2FEAE48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5B45-DE48-4860-A7E8-EA9EBAAE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775C3-1387-475B-9992-C0E74F5B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DFAF-4249-462F-A13C-81298E54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E810A-309D-4F60-BFCC-6C4E1BC4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829E-0E26-4BB1-8342-0E5A0E2A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5CC00-7150-48FD-9443-271181D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5D5F2-24D8-4555-BB34-6B3094F1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D7E-5E76-499C-9FA6-1947506B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A8A7C-BF7E-4610-9C0B-4D6F4D6C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51ADA-D8BB-4229-9FD3-E421FC35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C8C45-4BD8-46E1-9193-9A11A58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A2682-7227-4874-812A-96CDE92A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7F988-B8F3-4D10-B49E-63D1C56E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43C0-BAB3-4FE2-BE04-CE165DE1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347EA-3DA5-463A-AC53-17F2919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C2375-EDB9-42AA-80A3-BB19ABC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D5477-49DE-4EB5-A1CD-70941C53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E1B64-E337-43C2-B54B-AE59E8D2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9FA-E69C-45CE-8B5A-62DF671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81E1E-AB19-4C59-BB29-3A168111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D527-423C-4AC8-9640-9E647B63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382EE-9705-450C-9A55-D2F870EF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EB56-C14A-4C83-AE43-E67A8897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6EF02-C4D1-423B-A566-6CDF4103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14E08-9F9B-44FA-81FB-C6AD2A6E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B44C6-9321-42D4-BC70-76ABF6FB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352F-91B0-4A53-A48D-7C570C8E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A9543-56BE-4E25-9FBC-48F35B2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82A73-3252-4B32-A9D7-6570879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7DA-8062-4D3D-B7A5-2D7A1CEF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62BC5-947C-47A4-B103-1F2BD2A3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1E488-6A6F-437A-80D7-FE6B366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82A68-0736-447A-8E48-05027BDB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02D21-0186-45C9-B9D4-3CF1FC36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84696-1993-44D3-A25D-86523D6E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ACCB2-D107-44D2-84A1-9358C1E0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2329-8ABE-4B0C-BA93-59AC74E8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7745F-B6AA-4D41-9A59-DD51521A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3040E-73BD-4014-9091-9897EC30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88035-24D1-4296-B90D-DDFB6217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288-0F99-44F1-976F-CAEB5B3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D04F7-7C8B-46BB-9781-6C943A9C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3C691-DC28-46FA-88DA-7B79675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49838-0413-46D9-846F-5B229200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82CE4-6A4E-4541-8A42-09EC3F11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F1957-2175-4FDC-9B5A-61759DDE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8D629-2B03-4DF0-880F-BD49474AE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895B8-E664-43F2-AF4E-EEF0F3FC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45031-6479-4786-B56A-121F14FB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4FD40-3E4D-431A-A0C0-C0E490D0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A6B06C-F302-4462-9DEF-F319618D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AB23FA-4A00-493A-A44C-806D522A31C8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11019-45C9-48F8-82BB-B40708A7A9E8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5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7D7D63-1B85-4D99-A523-62B66E3F3613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D16AC-9F2F-4B3E-B9E4-17713AEFF30D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6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Freeform 7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49" name="Freeform 7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C8CEF7-46A6-4968-8D9F-3E872DED4860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Freeform 6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66A9BF-C6FB-417A-A967-659B4C0495BB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Freeform 6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Freeform 7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Freeform 8"/>
          <p:cNvGrpSpPr/>
          <p:nvPr/>
        </p:nvGrpSpPr>
        <p:grpSpPr>
          <a:xfrm>
            <a:off x="-6480" y="5284800"/>
            <a:ext cx="9156960" cy="1457280"/>
            <a:chOff x="-6480" y="5284800"/>
            <a:chExt cx="9156960" cy="1457280"/>
          </a:xfrm>
        </p:grpSpPr>
        <p:pic>
          <p:nvPicPr>
            <p:cNvPr id="149" name="Freeform 8" descr=""/>
            <p:cNvPicPr/>
            <p:nvPr/>
          </p:nvPicPr>
          <p:blipFill>
            <a:blip r:embed="rId4"/>
            <a:stretch/>
          </p:blipFill>
          <p:spPr>
            <a:xfrm>
              <a:off x="-6480" y="5284800"/>
              <a:ext cx="9156960" cy="14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Rectangle 9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4d4d4d"/>
                </a:solidFill>
                <a:latin typeface="Gill Sans MT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A7806-C5D9-499D-9070-BB72475FABED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Freeform 7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Freeform 9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Freeform 10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E7B72-9F22-4330-88B2-9668458962FF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517EA0-ACC4-4126-A7A3-CCE0C000E21F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Freeform 6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7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8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DE2D6-E5C5-4E66-A4BE-87EEA7FBD5FB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Freeform 4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Freeform 5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ru-RU" sz="11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72D8B-4E41-4750-ACEF-AB858D246035}" type="slidenum">
              <a:rPr b="1" lang="ru-RU" sz="1100" spc="-1" strike="noStrike">
                <a:solidFill>
                  <a:srgbClr val="4d4d4d"/>
                </a:solidFill>
                <a:latin typeface="Corbe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Freeform 7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Freeform 9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d4d4d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d4d4d"/>
                </a:solidFill>
                <a:latin typeface="Corbe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EF85E-86FF-4794-9872-7177D07299DA}" type="slidenum">
              <a:rPr b="1" lang="en-US" sz="1100" spc="-1" strike="noStrike">
                <a:solidFill>
                  <a:srgbClr val="4d4d4d"/>
                </a:solidFill>
                <a:latin typeface="Gill Sans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45960" y="43920"/>
            <a:ext cx="7157880" cy="298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 ИСПОЛЬЗОВАНИЯ ЯЗЫКА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СОВРЕМЕННОМ ОБЩЕНИИ (НА МАТЕРИАЛЕ АНГЛИЙСКОГО ЯЗЫКА)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823680" y="2255400"/>
            <a:ext cx="776124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: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ники 9 Б класс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   «СОШ №1» г. Реутова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ой области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матов Виктор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овянникова Анастасия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атова Екатерина,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Научный руководитель</a:t>
            </a:r>
            <a:r>
              <a:rPr b="0" lang="ru-RU" sz="19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: 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282828"/>
                </a:solidFill>
                <a:latin typeface="Times New Roman"/>
                <a:ea typeface="Times New Roman"/>
              </a:rPr>
              <a:t>Щепетинникова Наталья Николаевна</a:t>
            </a:r>
            <a:endParaRPr b="0" lang="en-US" sz="19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Box 1"/>
          <p:cNvSpPr/>
          <p:nvPr/>
        </p:nvSpPr>
        <p:spPr>
          <a:xfrm>
            <a:off x="3141720" y="1525680"/>
            <a:ext cx="375444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оугольник 2"/>
          <p:cNvSpPr/>
          <p:nvPr/>
        </p:nvSpPr>
        <p:spPr>
          <a:xfrm>
            <a:off x="612720" y="166680"/>
            <a:ext cx="775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Аббревиатуры - слова, образованные сокращением словосочетания и читаемые по алфавитному названию начальных букв или по начальным звукам слов, входящих в него. Это самый распространенный способ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посл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лова, образованные способом редукции - максимальным сокращением образа слова до его фонетического варианта, с использованием букв, цифр за минимум нажатий. При этом орфография слова фонетическа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Смайлики. Они служат для передачи своего настроения или состоя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3"/>
          <p:cNvSpPr/>
          <p:nvPr/>
        </p:nvSpPr>
        <p:spPr>
          <a:xfrm>
            <a:off x="690480" y="4021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-1403280" y="-128520"/>
            <a:ext cx="952560" cy="228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4" name="Изображение 6" descr="Без заголовка.png"/>
          <p:cNvPicPr/>
          <p:nvPr/>
        </p:nvPicPr>
        <p:blipFill>
          <a:blip r:embed="rId1"/>
          <a:stretch/>
        </p:blipFill>
        <p:spPr>
          <a:xfrm>
            <a:off x="878040" y="171360"/>
            <a:ext cx="8021520" cy="2022480"/>
          </a:xfrm>
          <a:prstGeom prst="rect">
            <a:avLst/>
          </a:prstGeom>
          <a:ln w="0">
            <a:noFill/>
          </a:ln>
        </p:spPr>
      </p:pic>
      <p:pic>
        <p:nvPicPr>
          <p:cNvPr id="615" name="Изображение 10" descr="Без заголовка.png"/>
          <p:cNvPicPr/>
          <p:nvPr/>
        </p:nvPicPr>
        <p:blipFill>
          <a:blip r:embed="rId2"/>
          <a:stretch/>
        </p:blipFill>
        <p:spPr>
          <a:xfrm>
            <a:off x="993600" y="2676600"/>
            <a:ext cx="790128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Изображение 2" descr="Без заголовка.png"/>
          <p:cNvPicPr/>
          <p:nvPr/>
        </p:nvPicPr>
        <p:blipFill>
          <a:blip r:embed="rId1"/>
          <a:stretch/>
        </p:blipFill>
        <p:spPr>
          <a:xfrm>
            <a:off x="650880" y="919080"/>
            <a:ext cx="7464600" cy="31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838800" y="46836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 rot="16200000">
            <a:off x="1900080" y="-1660320"/>
            <a:ext cx="5375160" cy="892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 vert="eaVert">
            <a:normAutofit/>
          </a:bodyPr>
          <a:p>
            <a:pPr marL="684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4.</a:t>
            </a:r>
            <a:r>
              <a:rPr b="0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лияние СМС-арго на современный английский язык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ярность SMS-арго настолько велика, что он стал оказывать серьёзное влияние на современный английский язык. Мобильная связь и своеобразный SMS-язык проникают в самые разные области нашей жизни, оказывая влияние на культуру в целом. С лингвистической точки зрения для SMS-языка характерно обильное использование сокращений, пренебрежение к правилам пунктуации и правописания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номен SMS-языка возник благодаря совпадению трех тенденций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пространение и доступность высоких технологий (интернета и мобильной связи)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мление человека к мобильности в бизнесе и жизни, увлечение новыми коммуникационными технологиями;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743040" indent="-273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мление к рационализации языка за счёт экономии языковых средств и времени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-3300480" y="61920"/>
            <a:ext cx="154476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1755720" y="1411200"/>
            <a:ext cx="15955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 fontScale="61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1393920" y="1166760"/>
            <a:ext cx="64008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</a:t>
            </a:r>
            <a:r>
              <a:rPr b="1" lang="ru-RU" sz="2800" spc="-1" strike="noStrike">
                <a:solidFill>
                  <a:srgbClr val="d4d4d4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ьзуешься ли ты СМС – кам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2" name="Содержимое 7" descr=""/>
          <p:cNvPicPr/>
          <p:nvPr/>
        </p:nvPicPr>
        <p:blipFill>
          <a:blip r:embed="rId1"/>
          <a:stretch/>
        </p:blipFill>
        <p:spPr>
          <a:xfrm>
            <a:off x="297000" y="1881360"/>
            <a:ext cx="3759120" cy="3336840"/>
          </a:xfrm>
          <a:prstGeom prst="rect">
            <a:avLst/>
          </a:prstGeom>
          <a:ln w="0">
            <a:noFill/>
          </a:ln>
        </p:spPr>
      </p:pic>
      <p:pic>
        <p:nvPicPr>
          <p:cNvPr id="623" name="Содержимое 9" descr=""/>
          <p:cNvPicPr/>
          <p:nvPr/>
        </p:nvPicPr>
        <p:blipFill>
          <a:blip r:embed="rId2"/>
          <a:stretch/>
        </p:blipFill>
        <p:spPr>
          <a:xfrm>
            <a:off x="4749840" y="1881360"/>
            <a:ext cx="3759120" cy="3551040"/>
          </a:xfrm>
          <a:prstGeom prst="rect">
            <a:avLst/>
          </a:prstGeom>
          <a:ln w="0">
            <a:noFill/>
          </a:ln>
        </p:spPr>
      </p:pic>
      <p:sp>
        <p:nvSpPr>
          <p:cNvPr id="624" name="TextBox 6"/>
          <p:cNvSpPr/>
          <p:nvPr/>
        </p:nvSpPr>
        <p:spPr>
          <a:xfrm>
            <a:off x="2986200" y="210960"/>
            <a:ext cx="289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нкетирова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-958680" y="-4381200"/>
            <a:ext cx="45720" cy="9969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82280" y="611280"/>
            <a:ext cx="767556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х случаях ты пользуешься СМС -сообщениями?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27" name="Содержимое 6" descr=""/>
          <p:cNvPicPr/>
          <p:nvPr/>
        </p:nvPicPr>
        <p:blipFill>
          <a:blip r:embed="rId1"/>
          <a:stretch/>
        </p:blipFill>
        <p:spPr>
          <a:xfrm>
            <a:off x="731880" y="160344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28" name="Содержимое 7" descr=""/>
          <p:cNvPicPr/>
          <p:nvPr/>
        </p:nvPicPr>
        <p:blipFill>
          <a:blip r:embed="rId2"/>
          <a:stretch/>
        </p:blipFill>
        <p:spPr>
          <a:xfrm>
            <a:off x="4749840" y="160344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-4807080" y="-135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22360" y="336240"/>
            <a:ext cx="83311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99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 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способы написания СМС ты используешь?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1" name="Содержимое 7" descr=""/>
          <p:cNvPicPr/>
          <p:nvPr/>
        </p:nvPicPr>
        <p:blipFill>
          <a:blip r:embed="rId1"/>
          <a:stretch/>
        </p:blipFill>
        <p:spPr>
          <a:xfrm>
            <a:off x="635040" y="117468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32" name="Содержимое 6" descr=""/>
          <p:cNvPicPr/>
          <p:nvPr/>
        </p:nvPicPr>
        <p:blipFill>
          <a:blip r:embed="rId2"/>
          <a:stretch/>
        </p:blipFill>
        <p:spPr>
          <a:xfrm>
            <a:off x="4749840" y="117468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-6510240" y="-612720"/>
            <a:ext cx="156672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85840" y="372600"/>
            <a:ext cx="845496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 fontScale="86000"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</a:t>
            </a:r>
            <a:r>
              <a:rPr b="1" lang="ru-RU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аешь ли ты внимание на орфографию при написании СМС – сообщений?</a:t>
            </a:r>
            <a:r>
              <a:rPr b="0" lang="ru-RU" sz="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5" name="Содержимое 10" descr=""/>
          <p:cNvPicPr/>
          <p:nvPr/>
        </p:nvPicPr>
        <p:blipFill>
          <a:blip r:embed="rId1"/>
          <a:stretch/>
        </p:blipFill>
        <p:spPr>
          <a:xfrm>
            <a:off x="635040" y="180972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36" name="Содержимое 11" descr=""/>
          <p:cNvPicPr/>
          <p:nvPr/>
        </p:nvPicPr>
        <p:blipFill>
          <a:blip r:embed="rId2"/>
          <a:stretch/>
        </p:blipFill>
        <p:spPr>
          <a:xfrm>
            <a:off x="4749840" y="180972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-915840" y="-1403280"/>
            <a:ext cx="685800" cy="3506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3400" y="46008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)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ьзушь ли ты в написании СМС популярные аббревиатуры на англ. языке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9" name="Содержимое 6" descr=""/>
          <p:cNvPicPr/>
          <p:nvPr/>
        </p:nvPicPr>
        <p:blipFill>
          <a:blip r:embed="rId1"/>
          <a:stretch/>
        </p:blipFill>
        <p:spPr>
          <a:xfrm>
            <a:off x="635040" y="1808280"/>
            <a:ext cx="3759120" cy="3301920"/>
          </a:xfrm>
          <a:prstGeom prst="rect">
            <a:avLst/>
          </a:prstGeom>
          <a:ln w="0">
            <a:noFill/>
          </a:ln>
        </p:spPr>
      </p:pic>
      <p:pic>
        <p:nvPicPr>
          <p:cNvPr id="640" name="Содержимое 7" descr=""/>
          <p:cNvPicPr/>
          <p:nvPr/>
        </p:nvPicPr>
        <p:blipFill>
          <a:blip r:embed="rId2"/>
          <a:stretch/>
        </p:blipFill>
        <p:spPr>
          <a:xfrm>
            <a:off x="4749840" y="1808280"/>
            <a:ext cx="3759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-6567480" y="-1030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1204920" y="339840"/>
            <a:ext cx="6780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огом данного исследования являются следующие вывод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 СМС необходимо изучать, чтобы общаться на равных с носителями других языков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язык молодёжный, который помогает кратко и ёмко передать информацию разных видов и эффективно осуществлять коммуникативное общ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зык СМС – язык развивающийся и быстро меняющийся, поэтому требует постоянного пристального изу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языке СМС главное – это практика. Чем больше общаются люди, тем эффективнее использование терминов, знаков и символ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0620360" y="7221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-176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держание работы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651960"/>
            <a:ext cx="8113680" cy="4287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73000"/>
          </a:bodyPr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1. Возникновение СМС сообщений в современном мире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2. Влияние SMS-языка на различные сферы жизни человек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3. Классификация элементов языка SM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1 Аббревиатуры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2 Буквы и цифры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3 Смайлики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4. Влияние СМС-арго на современный английский язык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сок литератур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  <a:p>
            <a:pPr marL="49680">
              <a:lnSpc>
                <a:spcPct val="8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2"/>
          <p:cNvSpPr/>
          <p:nvPr/>
        </p:nvSpPr>
        <p:spPr>
          <a:xfrm>
            <a:off x="712800" y="85680"/>
            <a:ext cx="67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ь нашей рабо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ключается в попытке проанализировать использование языка СМС в молодёжной сред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Прямоугольник 3"/>
          <p:cNvSpPr/>
          <p:nvPr/>
        </p:nvSpPr>
        <p:spPr>
          <a:xfrm>
            <a:off x="712800" y="1471680"/>
            <a:ext cx="7597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ть различные источники получения информации по данной тем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ём анкетирования выяснить степень распространения СМС — сообщений в молодёжной сре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анализировать полученные результа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Прямоугольник 2"/>
          <p:cNvSpPr/>
          <p:nvPr/>
        </p:nvSpPr>
        <p:spPr>
          <a:xfrm>
            <a:off x="612720" y="122400"/>
            <a:ext cx="7999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 данной работы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научно-исследовательска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ранной темы очевидна. За последнее время язык СМС получил широкое распространение во всех сферах жизни. В связи с этим возникает необходимость  изучения тех изменений, которым он подвергается.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цен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енного исследования нам представляется в использовании материалов исследования в современном общении на примере английск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-3934080" y="-570960"/>
            <a:ext cx="962028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 rot="16200000">
            <a:off x="582840" y="801000"/>
            <a:ext cx="401652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 vert="eaVert">
            <a:normAutofit/>
          </a:bodyPr>
          <a:p>
            <a:pPr marL="6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думал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ейл Папуорт - инженер фирмы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dafon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Он же отправил первую в мире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у. Случилось это под Рождество, в 1992 году. В послании так и значилось: "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rry Christma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92". Однако после об этой новой технологии забыли. Лишь в 2000 году сотовые компании ввели услугу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rt Message Service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Прямоугольник 4"/>
          <p:cNvSpPr/>
          <p:nvPr/>
        </p:nvSpPr>
        <p:spPr>
          <a:xfrm>
            <a:off x="457200" y="0"/>
            <a:ext cx="82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1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озникновение СМС сообщений в современном ми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Изображение 3" descr="neil-papworth.jpg"/>
          <p:cNvPicPr/>
          <p:nvPr/>
        </p:nvPicPr>
        <p:blipFill>
          <a:blip r:embed="rId1"/>
          <a:stretch/>
        </p:blipFill>
        <p:spPr>
          <a:xfrm>
            <a:off x="6188040" y="1133640"/>
            <a:ext cx="23335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Рисунок 4" descr=""/>
          <p:cNvPicPr/>
          <p:nvPr/>
        </p:nvPicPr>
        <p:blipFill>
          <a:blip r:embed="rId1"/>
          <a:stretch/>
        </p:blipFill>
        <p:spPr>
          <a:xfrm>
            <a:off x="5724360" y="731880"/>
            <a:ext cx="3194280" cy="335916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64680" y="18360"/>
            <a:ext cx="2876760" cy="429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d4d4d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3600" y="423720"/>
            <a:ext cx="4024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менитая желтая улыбающаяся рожица появилась в начале 60-х — в так называемую эпоху хиппи. Представители страховой компании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e Mutual Life Assurance Cos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America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ешили поднять боевой дух своих сотрудников в процессе слияния крупных компаний. Они обратились к художнику Харви Бэлу, и тот нарисовал им первую фирменную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лыбку»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Прямоугольник 2"/>
          <p:cNvSpPr/>
          <p:nvPr/>
        </p:nvSpPr>
        <p:spPr>
          <a:xfrm>
            <a:off x="0" y="-9360"/>
            <a:ext cx="90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а 2.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лияние SMS-языка и случаи использования в различных сферах жизни челове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оугольник 1"/>
          <p:cNvSpPr/>
          <p:nvPr/>
        </p:nvSpPr>
        <p:spPr>
          <a:xfrm>
            <a:off x="3150360" y="123984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-язык в деловой сфер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392040" y="1816200"/>
            <a:ext cx="7551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деловой сфере встречается большое количество аббревиату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принятые в деловой документации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bt - about, dols - dollars, exps –expenses);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используемые в деловой переписке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1 st - street, sq - square, etc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в названиях фирм и корпораций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&amp;S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Journey and Study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кращения, используемые в рекламе для продвижения торговых марок 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аббревиатуры, встречающиеся в документах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8040" y="-170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3" name="Прямоугольник 4"/>
          <p:cNvSpPr/>
          <p:nvPr/>
        </p:nvSpPr>
        <p:spPr>
          <a:xfrm>
            <a:off x="2578680" y="27000"/>
            <a:ext cx="393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-арго в литературном язы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Прямоугольник 7"/>
          <p:cNvSpPr/>
          <p:nvPr/>
        </p:nvSpPr>
        <p:spPr>
          <a:xfrm>
            <a:off x="299880" y="623880"/>
            <a:ext cx="854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ярность SMS-арго настолько велика, что он стал оказывать серьезное влияние на современный английский язык. Все чаще происходит подмена живого языка языком аббревиатур и условных обозначен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т как выглядит знаменитый монолог Гамлета "Быть или не быть? Вот в чем вопрос"  в переводе на язык SM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b? Ntb? = ?” - To be or not to be?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is a ques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оугольник 9"/>
          <p:cNvSpPr/>
          <p:nvPr/>
        </p:nvSpPr>
        <p:spPr>
          <a:xfrm>
            <a:off x="1450800" y="2525760"/>
            <a:ext cx="60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-язык и церков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299880" y="3083040"/>
            <a:ext cx="8545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я цивилизации не обошли стороной и церковь. На сайтах в Интернете несколько лет назад описывались случаи перевода Библии на язык SM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еревод молитвы «Отче наш» (Lord’s Prayer) на SMS- язык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Dad @ hv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Our Father, who art in heav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Отче наш, сущий на небес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4giv r si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Forgive us our trespas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MS Mincho"/>
              </a:rPr>
              <a:t>Прости нам долги (грехи) наш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-2446200" y="-501480"/>
            <a:ext cx="1073160" cy="2043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 rot="16200000">
            <a:off x="2505960" y="-126000"/>
            <a:ext cx="3889080" cy="64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 vert="eaVert">
            <a:normAutofit/>
          </a:bodyPr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ествует масса элементов языка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Интернете, они же приводятся в современном Оксфордском словаре английского языка, уже создаются книги и справочники по этим словам. К сожалению, все эти сведения разрознены, недостаточно изучены, постоянно меняются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множестве словарей SMS нет хоть какой-нибудь классификации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примеру, возможна следующую классификацию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ббревиатур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квы и цифры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>
              <a:lnSpc>
                <a:spcPct val="90000"/>
              </a:lnSpc>
              <a:spcBef>
                <a:spcPts val="700"/>
              </a:spcBef>
              <a:buClr>
                <a:srgbClr val="86ce24"/>
              </a:buClr>
              <a:buSzPct val="8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йлики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6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685800" y="235080"/>
            <a:ext cx="780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лава 3. Классификация элементов языка SM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5T17:37:07Z</dcterms:created>
  <dc:creator>Сергей</dc:creator>
  <dc:description/>
  <dc:language>en-US</dc:language>
  <cp:lastModifiedBy>Natasha</cp:lastModifiedBy>
  <dcterms:modified xsi:type="dcterms:W3CDTF">2015-02-02T17:49:43Z</dcterms:modified>
  <cp:revision>66</cp:revision>
  <dc:subject/>
  <dc:title>Одиннадцатая городская научно-практическая конференция учащихся «Роль научно-исследовательской работы учащихся в выборе профессии» Секция: английский язык</dc:title>
</cp:coreProperties>
</file>