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1C7B0-4F03-4321-96B5-A11E1D18B3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BE95C-47C5-43BA-BAE3-6B01CD09DA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996-9F5C-43C2-B77C-082C69AB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B0D-E943-4325-AF06-08BB222A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256E8-EFAE-4D6F-A53C-EBAE9453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A44E4-1090-473E-A4D0-4D0CD591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BE238-59AB-4CC2-A82D-859C375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ED1C2-EE5D-4EDF-9CCD-606C0BC3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49F19-3E6C-401D-9648-57BBA0E3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DB47A-AAAA-4C37-8104-30D4146B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E24B5-D5B9-4825-9EFC-60BD5E3E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5C761-9290-442E-ADF9-67BF7BD2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E3621-68B4-40D4-8A60-1C185E29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4A664-23EB-41B3-A61A-B4D23FC1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A3E-4AFC-4D92-93CD-C0DF413B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6D684-338B-4921-8F2D-CFF83E51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15CA9-333B-456A-A4F2-5ED28719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90BD7-CD27-42EB-A50D-7409D4A0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F8BB2-6394-4F36-AE3B-DCFA1376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F5D1A-6F91-415D-BA89-7DFB9B73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0D51F-2663-47E0-900A-148AA9E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A130D-74EE-4A32-9FF6-9EAA5BED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7DB12-C50C-4721-B925-5A6689C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5DC9-5939-4BB3-8EF5-5FDE4CE2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6BC89-3925-48ED-BD34-FC28580C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0B1-C2AD-498F-9A47-883631D8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5ACC1-F16A-4FF9-87F0-EB86DDC9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AC1A8-E94A-47C9-AF25-E4C504DC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AB69-ED8F-433C-A53D-EEA32C11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92BF9-A006-43FC-96B9-D5755C5A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EFDF2-233C-47AB-BEAA-DA801CE9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D54FE-BB23-41F4-8E39-6884FA98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EF50-7769-44FC-994E-3A21E8A1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E3256-4387-40EA-9AD6-906F3633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3D048-49A8-41C1-A460-BD91A6C1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7BB6F-3790-4A7F-BE0E-954980D6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362B-7FF5-49ED-8E00-395B63EA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DDE50-8CC2-4D35-8ED3-F0CD6565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34D51-FBD0-4AE8-9AC8-921993F0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6EF8C-FA65-4CB4-AB3A-D6372176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0D3B5-31E9-45A8-BCBC-BA4D9773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76901-3A09-4412-B1C2-5301015E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65C13-90F2-4B5B-9375-B410C0B5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F7DEE-B034-4FE7-82B6-5516E1DA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31B2A-3479-4BA8-ABE0-E96C5E0A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2981D-99F2-4F78-98CE-49ACBA7F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E6484-F5A5-410A-B9F7-7493886E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61B2-8603-419C-8A70-366054C9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E2BE5-E2EF-4642-8244-787E5138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278BC-5097-4F0F-817E-5BC8C236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021E2-A743-49DF-8339-EF8D34DD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24012-87B5-4D54-A4CC-CF11EBB1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29304-5E57-46F2-A465-09EEAB2B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BC9B-4436-4E32-A3CC-CBC3D100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21EA-6CA6-427F-943F-23544D22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CFC2-9197-4260-9F2C-95CAAD62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2032-1E83-4D3C-A654-4DFDE663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49E4-ACBD-44BF-9453-8F5FF298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468-E307-411D-9F22-7C1E5A7F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D942-6EA9-4EFD-9A4E-C5FF664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7D47-FA2A-43BC-A214-C37D59B7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2B8E-F18B-4212-99DA-0B76EC4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CC5C-DEB8-436A-9306-F253EF9C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4044-A128-46AA-A235-C3609096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F7C5-BCFF-43A5-A112-B5747254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1B9D-1CEC-4E3C-B4B8-4785978F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A71F-045F-453F-9CFF-A6845301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70BE-1368-4A08-B44D-DB5DD5BF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ABC1-5D2A-4313-BEBC-2A27401F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E8C-184E-4985-99FC-F19312C4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F632-FE45-43DD-AF37-C3AEBA7A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4FF3-09D9-474D-BD13-70F6763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D701-58C8-4455-A3FC-E24B8BA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7C53-3828-4DEE-89F3-56E6B1D8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F46E-56F1-4F38-99A6-57648C75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27BF-69A5-42D2-8605-2266840B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2CB7-7CBA-4224-A168-62BEAF7D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6E2EF-F933-4EE7-9BEB-61E521A1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35E9-E871-41CF-ACC3-8352650B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BD051-CB62-4E2A-97FC-061D365C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122-12C6-4B1C-AADE-8B191F74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AFD8-1A96-4D9F-86AB-12EEDC10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CE09-98FB-44F0-9932-F0872683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423F-80F8-444C-9E66-9A97DDA2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1FFD-761B-4AFF-B2DE-40B4075E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9E66B-0D28-4EE0-A169-6C9CFEA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1A68-BA10-47BA-BF8C-CA8ACDB8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F9B69-9132-4C7D-BD2B-3BC7320A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16B8-D66E-4DD7-8F55-38E328B9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0103-54FA-4F95-BF9A-B786A1E6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D0CB-033D-4A1B-86A1-1CAABC52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E40-8DA9-4FF5-B915-916E021C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A2ED-16C8-4300-BD06-26A46F64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95A88-E82B-44EF-9731-C25D2437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59766-7833-4EA7-A8BF-A0B633C4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CD99-93EF-4D1E-B365-76C96DA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D1926-29BF-474F-84C2-2FFBC269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B5240-1105-4C88-A8BD-3235A29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E813F-9067-49B2-94A4-2CF8EDD9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F9A91-FC48-460E-9333-1B0D502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425B8-8B59-409A-BFBB-EAD3AFA1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D4ABE-5C18-47CE-AE40-31AC092A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ACA-4F4F-4969-8574-ADEB0E18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29D8-06B6-4FC3-8758-E9429E4D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CFE55-1235-4ACA-9D99-3838AFD9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652CC-C76E-4979-84BD-70203246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B4095-EFF8-4885-88F7-070CA247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C1BB4-E4B7-4898-9D97-99A85C38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154C-3138-4BEA-8CA1-0288740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83EB-0365-4E84-B713-00580781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2C37E-3E4D-4264-992A-4E69C200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05D6A-8B64-497B-AD7B-2B0BCBF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2724E-0BC5-4555-BBF9-D1B4965B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42B-C2C2-42BC-BEAF-6296EA1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3D1E-C4CD-4038-B9C7-2988644B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8402B-F177-4227-9BB1-FADCEA8B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708CB-45A3-4669-908B-A9706D46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A5BAB-E505-434A-BC23-C6AAC0F2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C9D98-C244-4630-A80A-06654EAE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2F43-4992-4E8D-9188-81737BB8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CC57D-61FC-4EAE-BE25-0BE3433E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1EB5-CC8C-4A07-912F-CEF60FE5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2A674-FADF-47AB-9CA7-8733EC4E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978A7-839D-4BA6-AD15-F5767869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990-75C9-4D23-A040-40540F0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702E9-DFB1-4993-86DC-E8D015B7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68033-4F4D-48D4-A203-06FF0766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1B7BA-71F9-4B7F-B7FB-DFDB934C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BADFE-0364-4F5F-8BFB-3B09C40F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B0CED-9160-4EF8-92D7-DFFDBC6E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A46A2-17A6-4542-874D-A2685DC4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667F-8CB9-4632-A70C-59819A78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35E2F-CB83-4D4B-91BD-0852ABD1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948F5-4D91-4D84-87E5-F001165E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29D1E-A2EA-4FCA-9408-95E6221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DC9-89BE-4869-8D82-F8924FF8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F1CB4-CF8F-473F-A7E3-D2A66492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B9161-698C-4BAE-B79D-6ACA9873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74ECD-13DD-476E-A222-4ADB1235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FC763-F74C-432C-ABB9-7118C9E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6A197-85EF-4721-A238-1DD37670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0111D-9876-48FF-88C7-4BE28722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74E83-EADD-4440-B890-BA158EAA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8E113-EAAA-423F-BACE-40EF2BB6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2884F-1A56-4F6A-9DE3-B348DC18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1ECC8-9B9A-4C13-9533-30658A43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C30D8-2296-4316-8783-91C2270C64E6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9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0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93C01-A4B7-4F4C-ADFF-FD2C9DE91B13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94CE7-2E54-49CF-A496-2B9BE5497FCC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71951-8E3B-4C16-9D36-921052A2935E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6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7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7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20F6C-0A7A-4787-828B-601854AD75AA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61414-9A4C-4988-A041-5175A25F9645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6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8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8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7221D-426E-4DFC-9366-45763580500B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1B5F8-CE88-4F2F-A706-85BCEE06F476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10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1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2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EF321-850C-44DD-9050-DFFF9B1BD89D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73C6D-F6AA-4D6E-BBC8-1CEB78A9EF7F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4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7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96A04-7F4E-4B27-9529-D4CCF8EA8BCD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7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37845-380B-44C8-868D-1D7E89D027EC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45960" y="43920"/>
            <a:ext cx="71578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ИСПОЛЬЗОВАНИЯ ЯЗЫКА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СОВРЕМЕННОМ ОБЩЕНИИ (НА МАТЕРИАЛЕ АНГЛИЙСКОГО ЯЗЫКА)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23680" y="2255400"/>
            <a:ext cx="776124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: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и 9 Б класс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   «СОШ №1» г. Реутова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овской област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матов Виктор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овянникова Анастасия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атова Екатерина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Научный руководитель</a:t>
            </a:r>
            <a:r>
              <a:rPr b="0" lang="ru-RU" sz="19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: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Щепетинникова Наталья Николаевн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"/>
          <p:cNvSpPr/>
          <p:nvPr/>
        </p:nvSpPr>
        <p:spPr>
          <a:xfrm>
            <a:off x="3141720" y="1525680"/>
            <a:ext cx="375444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2"/>
          <p:cNvSpPr/>
          <p:nvPr/>
        </p:nvSpPr>
        <p:spPr>
          <a:xfrm>
            <a:off x="612720" y="166680"/>
            <a:ext cx="775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Аббревиатуры - слова, образованные сокращением словосочетания и читаемые по алфавитному названию начальных букв или по начальным звукам слов, входящих в него. Это самый распространенный спосо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посл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лова, образованные способом редукции - максимальным сокращением образа слова до его фонетического варианта, с использованием букв, цифр за минимум нажатий. При этом орфография слова фонетическ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айлики. Они служат для передачи своего настроения или состо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690480" y="4021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1403280" y="-128520"/>
            <a:ext cx="952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4" name="Изображение 6" descr="Без заголовка.png"/>
          <p:cNvPicPr/>
          <p:nvPr/>
        </p:nvPicPr>
        <p:blipFill>
          <a:blip r:embed="rId1"/>
          <a:stretch/>
        </p:blipFill>
        <p:spPr>
          <a:xfrm>
            <a:off x="878040" y="171360"/>
            <a:ext cx="8021520" cy="2022480"/>
          </a:xfrm>
          <a:prstGeom prst="rect">
            <a:avLst/>
          </a:prstGeom>
          <a:ln w="0">
            <a:noFill/>
          </a:ln>
        </p:spPr>
      </p:pic>
      <p:pic>
        <p:nvPicPr>
          <p:cNvPr id="615" name="Изображение 10" descr="Без заголовка.png"/>
          <p:cNvPicPr/>
          <p:nvPr/>
        </p:nvPicPr>
        <p:blipFill>
          <a:blip r:embed="rId2"/>
          <a:stretch/>
        </p:blipFill>
        <p:spPr>
          <a:xfrm>
            <a:off x="993600" y="2676600"/>
            <a:ext cx="79012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Изображение 2" descr="Без заголовка.png"/>
          <p:cNvPicPr/>
          <p:nvPr/>
        </p:nvPicPr>
        <p:blipFill>
          <a:blip r:embed="rId1"/>
          <a:stretch/>
        </p:blipFill>
        <p:spPr>
          <a:xfrm>
            <a:off x="650880" y="919080"/>
            <a:ext cx="746460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838800" y="46836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 rot="16200000">
            <a:off x="1900080" y="-1660320"/>
            <a:ext cx="5375160" cy="892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 vert="eaVert">
            <a:normAutofit/>
          </a:bodyPr>
          <a:p>
            <a:pPr marL="68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4.</a:t>
            </a:r>
            <a:r>
              <a:rPr b="0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лияние СМС-арго на современный английский язык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ярность SMS-арго настолько велика, что он стал оказывать серьёзное влияние на современный английский язык. Мобильная связь и своеобразный SMS-язык проникают в самые разные области нашей жизни, оказывая влияние на культуру в целом. С лингвистической точки зрения для SMS-языка характерно обильное использование сокращений, пренебрежение к правилам пунктуации и правописания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номен SMS-языка возник благодаря совпадению трех тенденций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ие и доступность высоких технологий (интернета и мобильной связи)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емление человека к мобильности в бизнесе и жизни, увлечение новыми коммуникационными технологиями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емление к рационализации языка за счёт экономии языковых средств и времен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300480" y="61920"/>
            <a:ext cx="154476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1755720" y="1411200"/>
            <a:ext cx="15955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1393920" y="116676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d4d4d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уешься ли ты СМС – к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2" name="Содержимое 7" descr=""/>
          <p:cNvPicPr/>
          <p:nvPr/>
        </p:nvPicPr>
        <p:blipFill>
          <a:blip r:embed="rId1"/>
          <a:stretch/>
        </p:blipFill>
        <p:spPr>
          <a:xfrm>
            <a:off x="297000" y="1881360"/>
            <a:ext cx="3759120" cy="3336840"/>
          </a:xfrm>
          <a:prstGeom prst="rect">
            <a:avLst/>
          </a:prstGeom>
          <a:ln w="0">
            <a:noFill/>
          </a:ln>
        </p:spPr>
      </p:pic>
      <p:pic>
        <p:nvPicPr>
          <p:cNvPr id="623" name="Содержимое 9" descr=""/>
          <p:cNvPicPr/>
          <p:nvPr/>
        </p:nvPicPr>
        <p:blipFill>
          <a:blip r:embed="rId2"/>
          <a:stretch/>
        </p:blipFill>
        <p:spPr>
          <a:xfrm>
            <a:off x="4749840" y="1881360"/>
            <a:ext cx="3759120" cy="3551040"/>
          </a:xfrm>
          <a:prstGeom prst="rect">
            <a:avLst/>
          </a:prstGeom>
          <a:ln w="0">
            <a:noFill/>
          </a:ln>
        </p:spPr>
      </p:pic>
      <p:sp>
        <p:nvSpPr>
          <p:cNvPr id="624" name="TextBox 6"/>
          <p:cNvSpPr/>
          <p:nvPr/>
        </p:nvSpPr>
        <p:spPr>
          <a:xfrm>
            <a:off x="2986200" y="210960"/>
            <a:ext cx="289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нкетиров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-958680" y="-4381200"/>
            <a:ext cx="45720" cy="996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82280" y="611280"/>
            <a:ext cx="76755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их случаях ты пользуешься СМС -сообщениями?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7" name="Содержимое 6" descr=""/>
          <p:cNvPicPr/>
          <p:nvPr/>
        </p:nvPicPr>
        <p:blipFill>
          <a:blip r:embed="rId1"/>
          <a:stretch/>
        </p:blipFill>
        <p:spPr>
          <a:xfrm>
            <a:off x="731880" y="1603440"/>
            <a:ext cx="3759120" cy="3301920"/>
          </a:xfrm>
          <a:prstGeom prst="rect">
            <a:avLst/>
          </a:prstGeom>
          <a:ln w="0">
            <a:noFill/>
          </a:ln>
        </p:spPr>
      </p:pic>
      <p:pic>
        <p:nvPicPr>
          <p:cNvPr id="628" name="Содержимое 7" descr=""/>
          <p:cNvPicPr/>
          <p:nvPr/>
        </p:nvPicPr>
        <p:blipFill>
          <a:blip r:embed="rId2"/>
          <a:stretch/>
        </p:blipFill>
        <p:spPr>
          <a:xfrm>
            <a:off x="4749840" y="1603440"/>
            <a:ext cx="3759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-4807080" y="-135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22360" y="336240"/>
            <a:ext cx="83311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 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способы написания СМС ты используешь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1" name="Содержимое 7" descr=""/>
          <p:cNvPicPr/>
          <p:nvPr/>
        </p:nvPicPr>
        <p:blipFill>
          <a:blip r:embed="rId1"/>
          <a:stretch/>
        </p:blipFill>
        <p:spPr>
          <a:xfrm>
            <a:off x="635040" y="1174680"/>
            <a:ext cx="3759120" cy="3301920"/>
          </a:xfrm>
          <a:prstGeom prst="rect">
            <a:avLst/>
          </a:prstGeom>
          <a:ln w="0">
            <a:noFill/>
          </a:ln>
        </p:spPr>
      </p:pic>
      <p:pic>
        <p:nvPicPr>
          <p:cNvPr id="632" name="Содержимое 6" descr=""/>
          <p:cNvPicPr/>
          <p:nvPr/>
        </p:nvPicPr>
        <p:blipFill>
          <a:blip r:embed="rId2"/>
          <a:stretch/>
        </p:blipFill>
        <p:spPr>
          <a:xfrm>
            <a:off x="4749840" y="1174680"/>
            <a:ext cx="3759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6510240" y="-612720"/>
            <a:ext cx="156672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85840" y="372600"/>
            <a:ext cx="845496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 fontScale="8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</a:t>
            </a:r>
            <a:r>
              <a:rPr b="1" lang="ru-RU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щаешь ли ты внимание на орфографию при написании СМС – сообщений?</a:t>
            </a:r>
            <a:r>
              <a:rPr b="0" lang="ru-RU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5" name="Содержимое 10" descr=""/>
          <p:cNvPicPr/>
          <p:nvPr/>
        </p:nvPicPr>
        <p:blipFill>
          <a:blip r:embed="rId1"/>
          <a:stretch/>
        </p:blipFill>
        <p:spPr>
          <a:xfrm>
            <a:off x="635040" y="1809720"/>
            <a:ext cx="3759120" cy="3301920"/>
          </a:xfrm>
          <a:prstGeom prst="rect">
            <a:avLst/>
          </a:prstGeom>
          <a:ln w="0">
            <a:noFill/>
          </a:ln>
        </p:spPr>
      </p:pic>
      <p:pic>
        <p:nvPicPr>
          <p:cNvPr id="636" name="Содержимое 11" descr=""/>
          <p:cNvPicPr/>
          <p:nvPr/>
        </p:nvPicPr>
        <p:blipFill>
          <a:blip r:embed="rId2"/>
          <a:stretch/>
        </p:blipFill>
        <p:spPr>
          <a:xfrm>
            <a:off x="4749840" y="1809720"/>
            <a:ext cx="3759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915840" y="-1403280"/>
            <a:ext cx="685800" cy="350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3400" y="46008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шь ли ты в написании СМС популярные аббревиатуры на англ. языке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9" name="Содержимое 6" descr=""/>
          <p:cNvPicPr/>
          <p:nvPr/>
        </p:nvPicPr>
        <p:blipFill>
          <a:blip r:embed="rId1"/>
          <a:stretch/>
        </p:blipFill>
        <p:spPr>
          <a:xfrm>
            <a:off x="635040" y="1808280"/>
            <a:ext cx="3759120" cy="3301920"/>
          </a:xfrm>
          <a:prstGeom prst="rect">
            <a:avLst/>
          </a:prstGeom>
          <a:ln w="0">
            <a:noFill/>
          </a:ln>
        </p:spPr>
      </p:pic>
      <p:pic>
        <p:nvPicPr>
          <p:cNvPr id="640" name="Содержимое 7" descr=""/>
          <p:cNvPicPr/>
          <p:nvPr/>
        </p:nvPicPr>
        <p:blipFill>
          <a:blip r:embed="rId2"/>
          <a:stretch/>
        </p:blipFill>
        <p:spPr>
          <a:xfrm>
            <a:off x="4749840" y="1808280"/>
            <a:ext cx="3759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6567480" y="-103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1204920" y="339840"/>
            <a:ext cx="6780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ом данного исследования являются следующие вывод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зык СМС необходимо изучать, чтобы общаться на равных с носителями других языковых сист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язык молодёжный, который помогает кратко и ёмко передать информацию разных видов и эффективно осуществлять коммуникативное общ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зык СМС – язык развивающийся и быстро меняющийся, поэтому требует постоянного пристального из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языке СМС главное – это практика. Чем больше общаются люди, тем эффективнее использование терминов, знаков и симво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10620360" y="7221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-17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651960"/>
            <a:ext cx="81136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3000"/>
          </a:bodyPr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часть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1. Возникновение СМС сообщений в современном мир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2. Влияние SMS-языка на различные сферы жизни человек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3. Классификация элементов языка SM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Аббревиатуры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 Буквы и цифры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3 Смайлики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4. Влияние СМС-арго на современный английский язык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сок литерату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2"/>
          <p:cNvSpPr/>
          <p:nvPr/>
        </p:nvSpPr>
        <p:spPr>
          <a:xfrm>
            <a:off x="712800" y="856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нашей рабо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ключается в попытке проанализировать использование языка СМС в молодёжной сред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Прямоугольник 3"/>
          <p:cNvSpPr/>
          <p:nvPr/>
        </p:nvSpPr>
        <p:spPr>
          <a:xfrm>
            <a:off x="712800" y="1471680"/>
            <a:ext cx="75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ь различные источники получения информации по данной тем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ём анкетирования выяснить степень распространения СМС — сообщений в молодёжной сре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ть полученные результа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2"/>
          <p:cNvSpPr/>
          <p:nvPr/>
        </p:nvSpPr>
        <p:spPr>
          <a:xfrm>
            <a:off x="612720" y="122400"/>
            <a:ext cx="79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данной рабо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научно-исследовательск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ранной темы очевидна. За последнее время язык СМС получил широкое распространение во всех сферах жизни. В связи с этим возникает необходимость  изучения тех изменений, которым он подвергается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цен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олненного исследования нам представляется в использовании материалов исследования в современном общении на примере английск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934080" y="-570960"/>
            <a:ext cx="962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 rot="16200000">
            <a:off x="582840" y="801000"/>
            <a:ext cx="4016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 vert="eaVert">
            <a:normAutofit/>
          </a:bodyPr>
          <a:p>
            <a:pPr marL="6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думал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йл Папуорт - инженер фирм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dafo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н же отправил первую в мир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у. Случилось это под Рождество, в 1992 году. В послании так и значилось: 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ry Christma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92". Однако после об этой новой технологии забыли. Лишь в 2000 году сотовые компании ввели услугу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Message Servic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Прямоугольник 4"/>
          <p:cNvSpPr/>
          <p:nvPr/>
        </p:nvSpPr>
        <p:spPr>
          <a:xfrm>
            <a:off x="457200" y="0"/>
            <a:ext cx="82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зникновение СМС сообщений в современном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Изображение 3" descr="neil-papworth.jpg"/>
          <p:cNvPicPr/>
          <p:nvPr/>
        </p:nvPicPr>
        <p:blipFill>
          <a:blip r:embed="rId1"/>
          <a:stretch/>
        </p:blipFill>
        <p:spPr>
          <a:xfrm>
            <a:off x="6188040" y="1133640"/>
            <a:ext cx="23335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Рисунок 4" descr=""/>
          <p:cNvPicPr/>
          <p:nvPr/>
        </p:nvPicPr>
        <p:blipFill>
          <a:blip r:embed="rId1"/>
          <a:stretch/>
        </p:blipFill>
        <p:spPr>
          <a:xfrm>
            <a:off x="5724360" y="731880"/>
            <a:ext cx="3194280" cy="33591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64680" y="18360"/>
            <a:ext cx="2876760" cy="4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d4d4d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3600" y="423720"/>
            <a:ext cx="4024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менитая желтая улыбающаяся рожица появилась в начале 60-х — в так называемую эпоху хиппи. Представители страховой компании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Mutual Life Assurance Cos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merica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ешили поднять боевой дух своих сотрудников в процессе слияния крупных компаний. Они обратились к художнику Харви Бэлу, и тот нарисовал им первую фирменную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лыбку»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оугольник 2"/>
          <p:cNvSpPr/>
          <p:nvPr/>
        </p:nvSpPr>
        <p:spPr>
          <a:xfrm>
            <a:off x="0" y="-9360"/>
            <a:ext cx="90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2.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лияние SMS-языка и случаи использования в различных сферах жизни челове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Прямоугольник 1"/>
          <p:cNvSpPr/>
          <p:nvPr/>
        </p:nvSpPr>
        <p:spPr>
          <a:xfrm>
            <a:off x="3150360" y="12398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-язык в деловой сф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392040" y="1816200"/>
            <a:ext cx="7551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еловой сфере встречается большое количество аббревиату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я, принятые в деловой документаци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bt - about, dols - dollars, exps –expenses);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я, используемые в деловой переписк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1 st - street, sq - square, etc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я, в названиях фирм и корпораций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&amp;S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ourney and Stud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я, используемые в рекламе для продвижения торговых марок 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аббревиатуры, встречающиеся в документах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8040" y="-170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3" name="Прямоугольник 4"/>
          <p:cNvSpPr/>
          <p:nvPr/>
        </p:nvSpPr>
        <p:spPr>
          <a:xfrm>
            <a:off x="2578680" y="27000"/>
            <a:ext cx="39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-арго в литературном язы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Прямоугольник 7"/>
          <p:cNvSpPr/>
          <p:nvPr/>
        </p:nvSpPr>
        <p:spPr>
          <a:xfrm>
            <a:off x="299880" y="623880"/>
            <a:ext cx="85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ярность SMS-арго настолько велика, что он стал оказывать серьезное влияние на современный английский язык. Все чаще происходит подмена живого языка языком аббревиатур и условных обозна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как выглядит знаменитый монолог Гамлета "Быть или не быть? Вот в чем вопрос"  в переводе на язык S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b? Ntb? = ?” - To be or not to be?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s a ques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Прямоугольник 9"/>
          <p:cNvSpPr/>
          <p:nvPr/>
        </p:nvSpPr>
        <p:spPr>
          <a:xfrm>
            <a:off x="1450800" y="2525760"/>
            <a:ext cx="60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-язык и церк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299880" y="3083040"/>
            <a:ext cx="854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я цивилизации не обошли стороной и церковь. На сайтах в Интернете несколько лет назад описывались случаи перевода Библии на язык SM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еревод молитвы «Отче наш» (Lord’s Prayer) на SMS- язык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Dad @ hv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Our Father, who art in heav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Отче наш, сущий на небе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4giv r s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Forgive us our trespa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рости нам долги (грехи) на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2446200" y="-501480"/>
            <a:ext cx="10731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 rot="16200000">
            <a:off x="2505960" y="-126000"/>
            <a:ext cx="38890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 vert="eaVert">
            <a:normAutofit/>
          </a:bodyPr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масса элементов язык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Интернете, они же приводятся в современном Оксфордском словаре английского языка, уже создаются книги и справочники по этим словам. К сожалению, все эти сведения разрознены, недостаточно изучены, постоянно меняются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множестве словарей SMS нет хоть какой-нибудь классификации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имеру, возможна следующую классификацию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ббревиатур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ы и цифр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йл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685800" y="235080"/>
            <a:ext cx="780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ава 3. Классификация элементов языка SM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7:37:07Z</dcterms:created>
  <dc:creator>Сергей</dc:creator>
  <dc:description/>
  <dc:language>en-US</dc:language>
  <cp:lastModifiedBy>Natasha</cp:lastModifiedBy>
  <dcterms:modified xsi:type="dcterms:W3CDTF">2015-02-02T17:49:43Z</dcterms:modified>
  <cp:revision>66</cp:revision>
  <dc:subject/>
  <dc:title>Одиннадцатая городская научно-практическая конференция учащихся «Роль научно-исследовательской работы учащихся в выборе профессии» Секция: английский язык</dc:title>
</cp:coreProperties>
</file>