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28.png" ContentType="image/png"/>
  <Override PartName="/ppt/media/image29.jpeg" ContentType="image/jpeg"/>
  <Override PartName="/ppt/media/image4.png" ContentType="image/png"/>
  <Override PartName="/ppt/media/image3.png" ContentType="image/png"/>
  <Override PartName="/ppt/media/image26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47DC-3B6A-4773-9C74-83EE70281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CBFA-C9CD-4F84-BF90-3B1CD953D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C629-1C2E-4A64-A4CE-D225EC12D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DB2E-F550-416B-A8D2-035F6259C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957DC-D51F-4F8D-88D2-4757C1AD5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06FC6-EC1A-4A8E-B67C-A943122C8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DB5F7-72FF-4BA9-8079-3274CD9F0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607AA-87CF-4A4C-8F56-F03A39150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4EABC-EFAF-4B1D-A39F-C1EA9ABB4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1B167-8C5D-4469-93C0-0F9F9E6BF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5D628-1A3A-4FBE-AA99-B7B3A6F9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E04C-C7B4-42B6-81DA-DE5A179BF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DA4CA-0F49-48D8-A6CA-0190747B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75FCF-43A7-4988-B7CB-42305759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38AAF-4C38-44E3-957A-09779679B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8D60C-4FBD-4694-A679-207DE6F6F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098C4-287E-4FF5-AF17-3F77349F4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DA36-9D99-481A-B721-58F38BAE1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C7DE-1987-4317-8872-5FDA77440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0678-AF40-4FFF-98B0-FD74071B4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5080-A787-4840-91A9-F44E0BCE0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A640-41FA-490E-AAA2-BD828322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9F24-8C24-4F69-B265-649A55BA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569D-ABC2-4EF3-A21D-A50B1028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slideLayout" Target="../slideLayouts/slideLayout2.xml"/><Relationship Id="rId15" Type="http://schemas.openxmlformats.org/officeDocument/2006/relationships/slideLayout" Target="../slideLayouts/slideLayout3.xml"/><Relationship Id="rId16" Type="http://schemas.openxmlformats.org/officeDocument/2006/relationships/slideLayout" Target="../slideLayouts/slideLayout4.xml"/><Relationship Id="rId17" Type="http://schemas.openxmlformats.org/officeDocument/2006/relationships/slideLayout" Target="../slideLayouts/slideLayout5.xml"/><Relationship Id="rId18" Type="http://schemas.openxmlformats.org/officeDocument/2006/relationships/slideLayout" Target="../slideLayouts/slideLayout6.xml"/><Relationship Id="rId19" Type="http://schemas.openxmlformats.org/officeDocument/2006/relationships/slideLayout" Target="../slideLayouts/slideLayout7.xml"/><Relationship Id="rId20" Type="http://schemas.openxmlformats.org/officeDocument/2006/relationships/slideLayout" Target="../slideLayouts/slideLayout8.xml"/><Relationship Id="rId21" Type="http://schemas.openxmlformats.org/officeDocument/2006/relationships/slideLayout" Target="../slideLayouts/slideLayout9.xml"/><Relationship Id="rId22" Type="http://schemas.openxmlformats.org/officeDocument/2006/relationships/slideLayout" Target="../slideLayouts/slideLayout10.xml"/><Relationship Id="rId23" Type="http://schemas.openxmlformats.org/officeDocument/2006/relationships/slideLayout" Target="../slideLayouts/slideLayout11.xml"/><Relationship Id="rId2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8.png"/><Relationship Id="rId21" Type="http://schemas.openxmlformats.org/officeDocument/2006/relationships/slideLayout" Target="../slideLayouts/slideLayout13.xml"/><Relationship Id="rId22" Type="http://schemas.openxmlformats.org/officeDocument/2006/relationships/slideLayout" Target="../slideLayouts/slideLayout14.xml"/><Relationship Id="rId23" Type="http://schemas.openxmlformats.org/officeDocument/2006/relationships/slideLayout" Target="../slideLayouts/slideLayout15.xml"/><Relationship Id="rId24" Type="http://schemas.openxmlformats.org/officeDocument/2006/relationships/slideLayout" Target="../slideLayouts/slideLayout16.xml"/><Relationship Id="rId25" Type="http://schemas.openxmlformats.org/officeDocument/2006/relationships/slideLayout" Target="../slideLayouts/slideLayout17.xml"/><Relationship Id="rId26" Type="http://schemas.openxmlformats.org/officeDocument/2006/relationships/slideLayout" Target="../slideLayouts/slideLayout18.xml"/><Relationship Id="rId27" Type="http://schemas.openxmlformats.org/officeDocument/2006/relationships/slideLayout" Target="../slideLayouts/slideLayout19.xml"/><Relationship Id="rId28" Type="http://schemas.openxmlformats.org/officeDocument/2006/relationships/slideLayout" Target="../slideLayouts/slideLayout20.xml"/><Relationship Id="rId29" Type="http://schemas.openxmlformats.org/officeDocument/2006/relationships/slideLayout" Target="../slideLayouts/slideLayout21.xml"/><Relationship Id="rId30" Type="http://schemas.openxmlformats.org/officeDocument/2006/relationships/slideLayout" Target="../slideLayouts/slideLayout22.xml"/><Relationship Id="rId31" Type="http://schemas.openxmlformats.org/officeDocument/2006/relationships/slideLayout" Target="../slideLayouts/slideLayout23.xml"/><Relationship Id="rId3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6eb0"/>
            </a:gs>
            <a:gs pos="100000">
              <a:srgbClr val="61b9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18"/>
          <p:cNvGrpSpPr/>
          <p:nvPr/>
        </p:nvGrpSpPr>
        <p:grpSpPr>
          <a:xfrm>
            <a:off x="6558120" y="65160"/>
            <a:ext cx="2574720" cy="6797520"/>
            <a:chOff x="6558120" y="65160"/>
            <a:chExt cx="2574720" cy="6797520"/>
          </a:xfrm>
        </p:grpSpPr>
        <p:grpSp>
          <p:nvGrpSpPr>
            <p:cNvPr id="1" name="Group 62"/>
            <p:cNvGrpSpPr/>
            <p:nvPr/>
          </p:nvGrpSpPr>
          <p:grpSpPr>
            <a:xfrm>
              <a:off x="6967080" y="65160"/>
              <a:ext cx="2076120" cy="6590520"/>
              <a:chOff x="6967080" y="65160"/>
              <a:chExt cx="2076120" cy="6590520"/>
            </a:xfrm>
          </p:grpSpPr>
          <p:grpSp>
            <p:nvGrpSpPr>
              <p:cNvPr id="2" name="Group 44"/>
              <p:cNvGrpSpPr/>
              <p:nvPr/>
            </p:nvGrpSpPr>
            <p:grpSpPr>
              <a:xfrm>
                <a:off x="6967080" y="66600"/>
                <a:ext cx="1975320" cy="6589080"/>
                <a:chOff x="6967080" y="66600"/>
                <a:chExt cx="1975320" cy="6589080"/>
              </a:xfrm>
            </p:grpSpPr>
            <p:grpSp>
              <p:nvGrpSpPr>
                <p:cNvPr id="3" name="Freeform 233"/>
                <p:cNvGrpSpPr/>
                <p:nvPr/>
              </p:nvGrpSpPr>
              <p:grpSpPr>
                <a:xfrm>
                  <a:off x="7172280" y="66600"/>
                  <a:ext cx="699840" cy="804600"/>
                  <a:chOff x="7172280" y="66600"/>
                  <a:chExt cx="699840" cy="804600"/>
                </a:xfrm>
              </p:grpSpPr>
              <p:pic>
                <p:nvPicPr>
                  <p:cNvPr id="4" name="Freeform 2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2280" y="66600"/>
                    <a:ext cx="699840" cy="80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" name=""/>
                  <p:cNvSpPr/>
                  <p:nvPr/>
                </p:nvSpPr>
                <p:spPr>
                  <a:xfrm rot="879600">
                    <a:off x="7266240" y="153360"/>
                    <a:ext cx="506880" cy="633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" name="Freeform 25"/>
                <p:cNvGrpSpPr/>
                <p:nvPr/>
              </p:nvGrpSpPr>
              <p:grpSpPr>
                <a:xfrm>
                  <a:off x="7556760" y="2261520"/>
                  <a:ext cx="1017360" cy="1116360"/>
                  <a:chOff x="7556760" y="2261520"/>
                  <a:chExt cx="1017360" cy="1116360"/>
                </a:xfrm>
              </p:grpSpPr>
              <p:pic>
                <p:nvPicPr>
                  <p:cNvPr id="7" name="Freeform 2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72960" y="2299680"/>
                    <a:ext cx="983880" cy="10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" name=""/>
                  <p:cNvSpPr/>
                  <p:nvPr/>
                </p:nvSpPr>
                <p:spPr>
                  <a:xfrm rot="20016000">
                    <a:off x="7722000" y="2366640"/>
                    <a:ext cx="686160" cy="905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" name="Freeform 29"/>
                <p:cNvGrpSpPr/>
                <p:nvPr/>
              </p:nvGrpSpPr>
              <p:grpSpPr>
                <a:xfrm>
                  <a:off x="8079120" y="923760"/>
                  <a:ext cx="863280" cy="897840"/>
                  <a:chOff x="8079120" y="923760"/>
                  <a:chExt cx="863280" cy="897840"/>
                </a:xfrm>
              </p:grpSpPr>
              <p:pic>
                <p:nvPicPr>
                  <p:cNvPr id="10" name="Freeform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20520" y="923760"/>
                    <a:ext cx="781200" cy="89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" name=""/>
                  <p:cNvSpPr/>
                  <p:nvPr/>
                </p:nvSpPr>
                <p:spPr>
                  <a:xfrm rot="18879600">
                    <a:off x="8203320" y="1070640"/>
                    <a:ext cx="614160" cy="606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" name="Freeform 33"/>
                <p:cNvGrpSpPr/>
                <p:nvPr/>
              </p:nvGrpSpPr>
              <p:grpSpPr>
                <a:xfrm>
                  <a:off x="7329240" y="3949920"/>
                  <a:ext cx="1004040" cy="1212840"/>
                  <a:chOff x="7329240" y="3949920"/>
                  <a:chExt cx="1004040" cy="1212840"/>
                </a:xfrm>
              </p:grpSpPr>
              <p:pic>
                <p:nvPicPr>
                  <p:cNvPr id="13" name="Freeform 3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29240" y="3949920"/>
                    <a:ext cx="1004040" cy="12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" name=""/>
                  <p:cNvSpPr/>
                  <p:nvPr/>
                </p:nvSpPr>
                <p:spPr>
                  <a:xfrm rot="21141600">
                    <a:off x="7449120" y="4060800"/>
                    <a:ext cx="758160" cy="988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" name="Freeform 37"/>
                <p:cNvGrpSpPr/>
                <p:nvPr/>
              </p:nvGrpSpPr>
              <p:grpSpPr>
                <a:xfrm>
                  <a:off x="7470000" y="5125320"/>
                  <a:ext cx="1333440" cy="1530360"/>
                  <a:chOff x="7470000" y="5125320"/>
                  <a:chExt cx="1333440" cy="1530360"/>
                </a:xfrm>
              </p:grpSpPr>
              <p:pic>
                <p:nvPicPr>
                  <p:cNvPr id="16" name="Freeform 3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91600" y="5162760"/>
                    <a:ext cx="1293480" cy="14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" name=""/>
                  <p:cNvSpPr/>
                  <p:nvPr/>
                </p:nvSpPr>
                <p:spPr>
                  <a:xfrm rot="1068000">
                    <a:off x="7643520" y="5244840"/>
                    <a:ext cx="986040" cy="1290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Freeform 29"/>
                <p:cNvGrpSpPr/>
                <p:nvPr/>
              </p:nvGrpSpPr>
              <p:grpSpPr>
                <a:xfrm>
                  <a:off x="6967080" y="1839240"/>
                  <a:ext cx="863280" cy="897840"/>
                  <a:chOff x="6967080" y="1839240"/>
                  <a:chExt cx="863280" cy="897840"/>
                </a:xfrm>
              </p:grpSpPr>
              <p:pic>
                <p:nvPicPr>
                  <p:cNvPr id="19" name="Freeform 2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004880" y="1839240"/>
                    <a:ext cx="786240" cy="89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0" name=""/>
                  <p:cNvSpPr/>
                  <p:nvPr/>
                </p:nvSpPr>
                <p:spPr>
                  <a:xfrm rot="18879600">
                    <a:off x="7091280" y="1987200"/>
                    <a:ext cx="614160" cy="606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" name="Group 50"/>
              <p:cNvGrpSpPr/>
              <p:nvPr/>
            </p:nvGrpSpPr>
            <p:grpSpPr>
              <a:xfrm>
                <a:off x="7634880" y="92520"/>
                <a:ext cx="1408320" cy="5094000"/>
                <a:chOff x="7634880" y="92520"/>
                <a:chExt cx="1408320" cy="5094000"/>
              </a:xfrm>
            </p:grpSpPr>
            <p:grpSp>
              <p:nvGrpSpPr>
                <p:cNvPr id="22" name="Freeform 45"/>
                <p:cNvGrpSpPr/>
                <p:nvPr/>
              </p:nvGrpSpPr>
              <p:grpSpPr>
                <a:xfrm>
                  <a:off x="7853040" y="4004280"/>
                  <a:ext cx="970920" cy="1182240"/>
                  <a:chOff x="7853040" y="4004280"/>
                  <a:chExt cx="970920" cy="1182240"/>
                </a:xfrm>
              </p:grpSpPr>
              <p:pic>
                <p:nvPicPr>
                  <p:cNvPr id="23" name="Freeform 4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70680" y="4012200"/>
                    <a:ext cx="932760" cy="117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4" name=""/>
                  <p:cNvSpPr/>
                  <p:nvPr/>
                </p:nvSpPr>
                <p:spPr>
                  <a:xfrm rot="20600400">
                    <a:off x="7984440" y="4084200"/>
                    <a:ext cx="707760" cy="1022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" name="Freeform 49"/>
                <p:cNvGrpSpPr/>
                <p:nvPr/>
              </p:nvGrpSpPr>
              <p:grpSpPr>
                <a:xfrm>
                  <a:off x="7634880" y="1022760"/>
                  <a:ext cx="1074960" cy="1130040"/>
                  <a:chOff x="7634880" y="1022760"/>
                  <a:chExt cx="1074960" cy="1130040"/>
                </a:xfrm>
              </p:grpSpPr>
              <p:pic>
                <p:nvPicPr>
                  <p:cNvPr id="26" name="Freeform 4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710840" y="1025280"/>
                    <a:ext cx="923760" cy="111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7" name=""/>
                  <p:cNvSpPr/>
                  <p:nvPr/>
                </p:nvSpPr>
                <p:spPr>
                  <a:xfrm rot="19358400">
                    <a:off x="7852320" y="1121040"/>
                    <a:ext cx="640080" cy="933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" name="Freeform 53"/>
                <p:cNvGrpSpPr/>
                <p:nvPr/>
              </p:nvGrpSpPr>
              <p:grpSpPr>
                <a:xfrm>
                  <a:off x="8186760" y="92520"/>
                  <a:ext cx="856440" cy="960840"/>
                  <a:chOff x="8186760" y="92520"/>
                  <a:chExt cx="856440" cy="960840"/>
                </a:xfrm>
              </p:grpSpPr>
              <p:pic>
                <p:nvPicPr>
                  <p:cNvPr id="29" name="Freeform 5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232120" y="121320"/>
                    <a:ext cx="768240" cy="9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0" name=""/>
                  <p:cNvSpPr/>
                  <p:nvPr/>
                </p:nvSpPr>
                <p:spPr>
                  <a:xfrm rot="19929600">
                    <a:off x="8341200" y="173880"/>
                    <a:ext cx="547560" cy="797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" name="Freeform 53"/>
                <p:cNvSpPr/>
                <p:nvPr/>
              </p:nvSpPr>
              <p:spPr>
                <a:xfrm rot="1159800">
                  <a:off x="8326080" y="3222360"/>
                  <a:ext cx="369000" cy="536040"/>
                </a:xfrm>
                <a:prstGeom prst="pie">
                  <a:avLst/>
                </a:pr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53"/>
                <p:cNvSpPr/>
                <p:nvPr/>
              </p:nvSpPr>
              <p:spPr>
                <a:xfrm rot="20991000">
                  <a:off x="8618040" y="906120"/>
                  <a:ext cx="288000" cy="420480"/>
                </a:xfrm>
                <a:prstGeom prst="pie">
                  <a:avLst/>
                </a:pr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" name="Group 56"/>
              <p:cNvGrpSpPr/>
              <p:nvPr/>
            </p:nvGrpSpPr>
            <p:grpSpPr>
              <a:xfrm>
                <a:off x="7474680" y="65160"/>
                <a:ext cx="1542600" cy="5990040"/>
                <a:chOff x="7474680" y="65160"/>
                <a:chExt cx="1542600" cy="5990040"/>
              </a:xfrm>
            </p:grpSpPr>
            <p:sp>
              <p:nvSpPr>
                <p:cNvPr id="34" name="Freeform 69"/>
                <p:cNvSpPr/>
                <p:nvPr/>
              </p:nvSpPr>
              <p:spPr>
                <a:xfrm rot="474000">
                  <a:off x="7994520" y="4835160"/>
                  <a:ext cx="947520" cy="1160280"/>
                </a:xfrm>
                <a:prstGeom prst="pie">
                  <a:avLst/>
                </a:pr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73"/>
                <p:cNvSpPr/>
                <p:nvPr/>
              </p:nvSpPr>
              <p:spPr>
                <a:xfrm rot="20414400">
                  <a:off x="7592040" y="153360"/>
                  <a:ext cx="663480" cy="810720"/>
                </a:xfrm>
                <a:prstGeom prst="pie">
                  <a:avLst/>
                </a:pr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77"/>
                <p:cNvSpPr/>
                <p:nvPr/>
              </p:nvSpPr>
              <p:spPr>
                <a:xfrm rot="20957400">
                  <a:off x="7871400" y="3764160"/>
                  <a:ext cx="587520" cy="715680"/>
                </a:xfrm>
                <a:prstGeom prst="pie">
                  <a:avLst/>
                </a:prstGeom>
                <a:noFill/>
                <a:ln w="9360">
                  <a:solidFill>
                    <a:srgbClr val="feffff">
                      <a:alpha val="26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81"/>
                <p:cNvSpPr/>
                <p:nvPr/>
              </p:nvSpPr>
              <p:spPr>
                <a:xfrm rot="924000">
                  <a:off x="8017200" y="1767240"/>
                  <a:ext cx="702720" cy="854640"/>
                </a:xfrm>
                <a:prstGeom prst="pie">
                  <a:avLst/>
                </a:pr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" name="Freeform 8"/>
            <p:cNvGrpSpPr/>
            <p:nvPr/>
          </p:nvGrpSpPr>
          <p:grpSpPr>
            <a:xfrm>
              <a:off x="8136720" y="2695320"/>
              <a:ext cx="996120" cy="1370880"/>
              <a:chOff x="8136720" y="2695320"/>
              <a:chExt cx="996120" cy="1370880"/>
            </a:xfrm>
          </p:grpSpPr>
          <p:pic>
            <p:nvPicPr>
              <p:cNvPr id="39" name="Freeform 8" descr=""/>
              <p:cNvPicPr/>
              <p:nvPr/>
            </p:nvPicPr>
            <p:blipFill>
              <a:blip r:embed="rId11"/>
              <a:stretch/>
            </p:blipFill>
            <p:spPr>
              <a:xfrm>
                <a:off x="8136720" y="2695320"/>
                <a:ext cx="996120" cy="137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" name=""/>
              <p:cNvSpPr/>
              <p:nvPr/>
            </p:nvSpPr>
            <p:spPr>
              <a:xfrm>
                <a:off x="8238240" y="2805840"/>
                <a:ext cx="794880" cy="115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" name="Freeform 12"/>
            <p:cNvGrpSpPr/>
            <p:nvPr/>
          </p:nvGrpSpPr>
          <p:grpSpPr>
            <a:xfrm>
              <a:off x="6558120" y="5772960"/>
              <a:ext cx="1405080" cy="1089720"/>
              <a:chOff x="6558120" y="5772960"/>
              <a:chExt cx="1405080" cy="1089720"/>
            </a:xfrm>
          </p:grpSpPr>
          <p:pic>
            <p:nvPicPr>
              <p:cNvPr id="42" name="Freeform 12" descr=""/>
              <p:cNvPicPr/>
              <p:nvPr/>
            </p:nvPicPr>
            <p:blipFill>
              <a:blip r:embed="rId12"/>
              <a:stretch/>
            </p:blipFill>
            <p:spPr>
              <a:xfrm>
                <a:off x="6558120" y="5772960"/>
                <a:ext cx="1405080" cy="108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" name=""/>
              <p:cNvSpPr/>
              <p:nvPr/>
            </p:nvSpPr>
            <p:spPr>
              <a:xfrm>
                <a:off x="6668640" y="5889960"/>
                <a:ext cx="1183680" cy="85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" name="Freeform 16"/>
            <p:cNvSpPr/>
            <p:nvPr/>
          </p:nvSpPr>
          <p:spPr>
            <a:xfrm>
              <a:off x="8109000" y="6195960"/>
              <a:ext cx="896400" cy="540720"/>
            </a:xfrm>
            <a:prstGeom prst="pie">
              <a:avLst/>
            </a:prstGeom>
            <a:solidFill>
              <a:srgbClr val="feffff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8000"/>
          </a:bodyPr>
          <a:p>
            <a:pPr marL="301680" indent="-301680">
              <a:spcBef>
                <a:spcPts val="799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53760" indent="-251280">
              <a:spcBef>
                <a:spcPts val="799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005840" indent="-200880">
              <a:spcBef>
                <a:spcPts val="799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407960" indent="-200880">
              <a:spcBef>
                <a:spcPts val="799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1810440" indent="-200880">
              <a:spcBef>
                <a:spcPts val="799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1810440" indent="-200880">
              <a:spcBef>
                <a:spcPts val="799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1810440" indent="-200880">
              <a:spcBef>
                <a:spcPts val="799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6F4B7-2967-43BF-87D6-C2692AE9FC1C}" type="slidenum">
              <a:rPr b="0" lang="ru-RU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3"/>
    <p:sldLayoutId id="2147483650" r:id="rId14"/>
    <p:sldLayoutId id="2147483651" r:id="rId15"/>
    <p:sldLayoutId id="2147483652" r:id="rId16"/>
    <p:sldLayoutId id="2147483653" r:id="rId17"/>
    <p:sldLayoutId id="2147483654" r:id="rId18"/>
    <p:sldLayoutId id="2147483655" r:id="rId19"/>
    <p:sldLayoutId id="2147483656" r:id="rId20"/>
    <p:sldLayoutId id="2147483657" r:id="rId21"/>
    <p:sldLayoutId id="2147483658" r:id="rId22"/>
    <p:sldLayoutId id="2147483659" r:id="rId23"/>
    <p:sldLayoutId id="2147483660" r:id="rId2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6eb0"/>
            </a:gs>
            <a:gs pos="100000">
              <a:srgbClr val="61b9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18"/>
          <p:cNvGrpSpPr/>
          <p:nvPr/>
        </p:nvGrpSpPr>
        <p:grpSpPr>
          <a:xfrm>
            <a:off x="6558120" y="65160"/>
            <a:ext cx="2574720" cy="6797520"/>
            <a:chOff x="6558120" y="65160"/>
            <a:chExt cx="2574720" cy="6797520"/>
          </a:xfrm>
        </p:grpSpPr>
        <p:grpSp>
          <p:nvGrpSpPr>
            <p:cNvPr id="87" name="Group 62"/>
            <p:cNvGrpSpPr/>
            <p:nvPr/>
          </p:nvGrpSpPr>
          <p:grpSpPr>
            <a:xfrm>
              <a:off x="6967080" y="65160"/>
              <a:ext cx="2076120" cy="6590520"/>
              <a:chOff x="6967080" y="65160"/>
              <a:chExt cx="2076120" cy="6590520"/>
            </a:xfrm>
          </p:grpSpPr>
          <p:grpSp>
            <p:nvGrpSpPr>
              <p:cNvPr id="88" name="Group 44"/>
              <p:cNvGrpSpPr/>
              <p:nvPr/>
            </p:nvGrpSpPr>
            <p:grpSpPr>
              <a:xfrm>
                <a:off x="6967080" y="66600"/>
                <a:ext cx="1975320" cy="6589080"/>
                <a:chOff x="6967080" y="66600"/>
                <a:chExt cx="1975320" cy="6589080"/>
              </a:xfrm>
            </p:grpSpPr>
            <p:grpSp>
              <p:nvGrpSpPr>
                <p:cNvPr id="89" name="Freeform 233"/>
                <p:cNvGrpSpPr/>
                <p:nvPr/>
              </p:nvGrpSpPr>
              <p:grpSpPr>
                <a:xfrm>
                  <a:off x="7172280" y="66600"/>
                  <a:ext cx="699840" cy="804600"/>
                  <a:chOff x="7172280" y="66600"/>
                  <a:chExt cx="699840" cy="804600"/>
                </a:xfrm>
              </p:grpSpPr>
              <p:pic>
                <p:nvPicPr>
                  <p:cNvPr id="90" name="Freeform 2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2280" y="66600"/>
                    <a:ext cx="699840" cy="80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" name=""/>
                  <p:cNvSpPr/>
                  <p:nvPr/>
                </p:nvSpPr>
                <p:spPr>
                  <a:xfrm rot="879600">
                    <a:off x="7266240" y="153360"/>
                    <a:ext cx="506880" cy="633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Freeform 25"/>
                <p:cNvGrpSpPr/>
                <p:nvPr/>
              </p:nvGrpSpPr>
              <p:grpSpPr>
                <a:xfrm>
                  <a:off x="7556760" y="2261520"/>
                  <a:ext cx="1017360" cy="1116360"/>
                  <a:chOff x="7556760" y="2261520"/>
                  <a:chExt cx="1017360" cy="1116360"/>
                </a:xfrm>
              </p:grpSpPr>
              <p:pic>
                <p:nvPicPr>
                  <p:cNvPr id="93" name="Freeform 2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72960" y="2299680"/>
                    <a:ext cx="983880" cy="10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" name=""/>
                  <p:cNvSpPr/>
                  <p:nvPr/>
                </p:nvSpPr>
                <p:spPr>
                  <a:xfrm rot="20016000">
                    <a:off x="7722000" y="2366640"/>
                    <a:ext cx="686160" cy="905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Freeform 29"/>
                <p:cNvGrpSpPr/>
                <p:nvPr/>
              </p:nvGrpSpPr>
              <p:grpSpPr>
                <a:xfrm>
                  <a:off x="8079120" y="923760"/>
                  <a:ext cx="863280" cy="897840"/>
                  <a:chOff x="8079120" y="923760"/>
                  <a:chExt cx="863280" cy="897840"/>
                </a:xfrm>
              </p:grpSpPr>
              <p:pic>
                <p:nvPicPr>
                  <p:cNvPr id="96" name="Freeform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20520" y="923760"/>
                    <a:ext cx="781200" cy="89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" name=""/>
                  <p:cNvSpPr/>
                  <p:nvPr/>
                </p:nvSpPr>
                <p:spPr>
                  <a:xfrm rot="18879600">
                    <a:off x="8203320" y="1070640"/>
                    <a:ext cx="614160" cy="606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Freeform 33"/>
                <p:cNvGrpSpPr/>
                <p:nvPr/>
              </p:nvGrpSpPr>
              <p:grpSpPr>
                <a:xfrm>
                  <a:off x="7329240" y="3949920"/>
                  <a:ext cx="1004040" cy="1212840"/>
                  <a:chOff x="7329240" y="3949920"/>
                  <a:chExt cx="1004040" cy="1212840"/>
                </a:xfrm>
              </p:grpSpPr>
              <p:pic>
                <p:nvPicPr>
                  <p:cNvPr id="99" name="Freeform 3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29240" y="3949920"/>
                    <a:ext cx="1004040" cy="12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" name=""/>
                  <p:cNvSpPr/>
                  <p:nvPr/>
                </p:nvSpPr>
                <p:spPr>
                  <a:xfrm rot="21141600">
                    <a:off x="7449120" y="4060800"/>
                    <a:ext cx="758160" cy="988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Freeform 37"/>
                <p:cNvGrpSpPr/>
                <p:nvPr/>
              </p:nvGrpSpPr>
              <p:grpSpPr>
                <a:xfrm>
                  <a:off x="7470000" y="5125320"/>
                  <a:ext cx="1333440" cy="1530360"/>
                  <a:chOff x="7470000" y="5125320"/>
                  <a:chExt cx="1333440" cy="1530360"/>
                </a:xfrm>
              </p:grpSpPr>
              <p:pic>
                <p:nvPicPr>
                  <p:cNvPr id="102" name="Freeform 3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91600" y="5162760"/>
                    <a:ext cx="1293480" cy="14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3" name=""/>
                  <p:cNvSpPr/>
                  <p:nvPr/>
                </p:nvSpPr>
                <p:spPr>
                  <a:xfrm rot="1068000">
                    <a:off x="7643520" y="5244840"/>
                    <a:ext cx="986040" cy="1290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Freeform 29"/>
                <p:cNvGrpSpPr/>
                <p:nvPr/>
              </p:nvGrpSpPr>
              <p:grpSpPr>
                <a:xfrm>
                  <a:off x="6967080" y="1839240"/>
                  <a:ext cx="863280" cy="897840"/>
                  <a:chOff x="6967080" y="1839240"/>
                  <a:chExt cx="863280" cy="897840"/>
                </a:xfrm>
              </p:grpSpPr>
              <p:pic>
                <p:nvPicPr>
                  <p:cNvPr id="105" name="Freeform 2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004880" y="1839240"/>
                    <a:ext cx="786240" cy="89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6" name=""/>
                  <p:cNvSpPr/>
                  <p:nvPr/>
                </p:nvSpPr>
                <p:spPr>
                  <a:xfrm rot="18879600">
                    <a:off x="7091280" y="1987200"/>
                    <a:ext cx="614160" cy="606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50"/>
              <p:cNvGrpSpPr/>
              <p:nvPr/>
            </p:nvGrpSpPr>
            <p:grpSpPr>
              <a:xfrm>
                <a:off x="7634880" y="92520"/>
                <a:ext cx="1408320" cy="5094000"/>
                <a:chOff x="7634880" y="92520"/>
                <a:chExt cx="1408320" cy="5094000"/>
              </a:xfrm>
            </p:grpSpPr>
            <p:grpSp>
              <p:nvGrpSpPr>
                <p:cNvPr id="108" name="Freeform 45"/>
                <p:cNvGrpSpPr/>
                <p:nvPr/>
              </p:nvGrpSpPr>
              <p:grpSpPr>
                <a:xfrm>
                  <a:off x="7853040" y="4004280"/>
                  <a:ext cx="970920" cy="1182240"/>
                  <a:chOff x="7853040" y="4004280"/>
                  <a:chExt cx="970920" cy="1182240"/>
                </a:xfrm>
              </p:grpSpPr>
              <p:pic>
                <p:nvPicPr>
                  <p:cNvPr id="109" name="Freeform 4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70680" y="4012200"/>
                    <a:ext cx="932760" cy="117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0" name=""/>
                  <p:cNvSpPr/>
                  <p:nvPr/>
                </p:nvSpPr>
                <p:spPr>
                  <a:xfrm rot="20600400">
                    <a:off x="7984440" y="4084200"/>
                    <a:ext cx="707760" cy="1022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" name="Freeform 49"/>
                <p:cNvGrpSpPr/>
                <p:nvPr/>
              </p:nvGrpSpPr>
              <p:grpSpPr>
                <a:xfrm>
                  <a:off x="7634880" y="1022760"/>
                  <a:ext cx="1074960" cy="1130040"/>
                  <a:chOff x="7634880" y="1022760"/>
                  <a:chExt cx="1074960" cy="1130040"/>
                </a:xfrm>
              </p:grpSpPr>
              <p:pic>
                <p:nvPicPr>
                  <p:cNvPr id="112" name="Freeform 4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710840" y="1025280"/>
                    <a:ext cx="923760" cy="111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3" name=""/>
                  <p:cNvSpPr/>
                  <p:nvPr/>
                </p:nvSpPr>
                <p:spPr>
                  <a:xfrm rot="19358400">
                    <a:off x="7852320" y="1121040"/>
                    <a:ext cx="640080" cy="933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" name="Freeform 53"/>
                <p:cNvGrpSpPr/>
                <p:nvPr/>
              </p:nvGrpSpPr>
              <p:grpSpPr>
                <a:xfrm>
                  <a:off x="8186760" y="92520"/>
                  <a:ext cx="856440" cy="960840"/>
                  <a:chOff x="8186760" y="92520"/>
                  <a:chExt cx="856440" cy="960840"/>
                </a:xfrm>
              </p:grpSpPr>
              <p:pic>
                <p:nvPicPr>
                  <p:cNvPr id="115" name="Freeform 5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232120" y="121320"/>
                    <a:ext cx="768240" cy="9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6" name=""/>
                  <p:cNvSpPr/>
                  <p:nvPr/>
                </p:nvSpPr>
                <p:spPr>
                  <a:xfrm rot="19929600">
                    <a:off x="8341200" y="173880"/>
                    <a:ext cx="547560" cy="797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Freeform 53"/>
                <p:cNvSpPr/>
                <p:nvPr/>
              </p:nvSpPr>
              <p:spPr>
                <a:xfrm rot="1159800">
                  <a:off x="8326080" y="3222360"/>
                  <a:ext cx="369000" cy="536040"/>
                </a:xfrm>
                <a:prstGeom prst="pie">
                  <a:avLst/>
                </a:pr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Freeform 53"/>
                <p:cNvSpPr/>
                <p:nvPr/>
              </p:nvSpPr>
              <p:spPr>
                <a:xfrm rot="20991000">
                  <a:off x="8618040" y="906120"/>
                  <a:ext cx="288000" cy="420480"/>
                </a:xfrm>
                <a:prstGeom prst="pie">
                  <a:avLst/>
                </a:pr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" name="Group 56"/>
              <p:cNvGrpSpPr/>
              <p:nvPr/>
            </p:nvGrpSpPr>
            <p:grpSpPr>
              <a:xfrm>
                <a:off x="7474680" y="65160"/>
                <a:ext cx="1542600" cy="5990040"/>
                <a:chOff x="7474680" y="65160"/>
                <a:chExt cx="1542600" cy="5990040"/>
              </a:xfrm>
            </p:grpSpPr>
            <p:sp>
              <p:nvSpPr>
                <p:cNvPr id="120" name="Freeform 69"/>
                <p:cNvSpPr/>
                <p:nvPr/>
              </p:nvSpPr>
              <p:spPr>
                <a:xfrm rot="474000">
                  <a:off x="7994520" y="4835160"/>
                  <a:ext cx="947520" cy="1160280"/>
                </a:xfrm>
                <a:prstGeom prst="pie">
                  <a:avLst/>
                </a:pr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73"/>
                <p:cNvSpPr/>
                <p:nvPr/>
              </p:nvSpPr>
              <p:spPr>
                <a:xfrm rot="20414400">
                  <a:off x="7592040" y="153360"/>
                  <a:ext cx="663480" cy="810720"/>
                </a:xfrm>
                <a:prstGeom prst="pie">
                  <a:avLst/>
                </a:pr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Freeform 77"/>
                <p:cNvSpPr/>
                <p:nvPr/>
              </p:nvSpPr>
              <p:spPr>
                <a:xfrm rot="20957400">
                  <a:off x="7871400" y="3764160"/>
                  <a:ext cx="587520" cy="715680"/>
                </a:xfrm>
                <a:prstGeom prst="pie">
                  <a:avLst/>
                </a:prstGeom>
                <a:noFill/>
                <a:ln w="9360">
                  <a:solidFill>
                    <a:srgbClr val="feffff">
                      <a:alpha val="26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Freeform 81"/>
                <p:cNvSpPr/>
                <p:nvPr/>
              </p:nvSpPr>
              <p:spPr>
                <a:xfrm rot="924000">
                  <a:off x="8017200" y="1767240"/>
                  <a:ext cx="702720" cy="854640"/>
                </a:xfrm>
                <a:prstGeom prst="pie">
                  <a:avLst/>
                </a:pr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" name="Freeform 8"/>
            <p:cNvGrpSpPr/>
            <p:nvPr/>
          </p:nvGrpSpPr>
          <p:grpSpPr>
            <a:xfrm>
              <a:off x="8136720" y="2695320"/>
              <a:ext cx="996120" cy="1370880"/>
              <a:chOff x="8136720" y="2695320"/>
              <a:chExt cx="996120" cy="1370880"/>
            </a:xfrm>
          </p:grpSpPr>
          <p:pic>
            <p:nvPicPr>
              <p:cNvPr id="125" name="Freeform 8" descr=""/>
              <p:cNvPicPr/>
              <p:nvPr/>
            </p:nvPicPr>
            <p:blipFill>
              <a:blip r:embed="rId11"/>
              <a:stretch/>
            </p:blipFill>
            <p:spPr>
              <a:xfrm>
                <a:off x="8136720" y="2695320"/>
                <a:ext cx="996120" cy="137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"/>
              <p:cNvSpPr/>
              <p:nvPr/>
            </p:nvSpPr>
            <p:spPr>
              <a:xfrm>
                <a:off x="8238240" y="2805840"/>
                <a:ext cx="794880" cy="115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7" name="Freeform 12"/>
            <p:cNvGrpSpPr/>
            <p:nvPr/>
          </p:nvGrpSpPr>
          <p:grpSpPr>
            <a:xfrm>
              <a:off x="6558120" y="5772960"/>
              <a:ext cx="1405080" cy="1089720"/>
              <a:chOff x="6558120" y="5772960"/>
              <a:chExt cx="1405080" cy="1089720"/>
            </a:xfrm>
          </p:grpSpPr>
          <p:pic>
            <p:nvPicPr>
              <p:cNvPr id="128" name="Freeform 12" descr=""/>
              <p:cNvPicPr/>
              <p:nvPr/>
            </p:nvPicPr>
            <p:blipFill>
              <a:blip r:embed="rId12"/>
              <a:stretch/>
            </p:blipFill>
            <p:spPr>
              <a:xfrm>
                <a:off x="6558120" y="5772960"/>
                <a:ext cx="1405080" cy="108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"/>
              <p:cNvSpPr/>
              <p:nvPr/>
            </p:nvSpPr>
            <p:spPr>
              <a:xfrm>
                <a:off x="6668640" y="5889960"/>
                <a:ext cx="1183680" cy="85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0" name="Freeform 16"/>
            <p:cNvSpPr/>
            <p:nvPr/>
          </p:nvSpPr>
          <p:spPr>
            <a:xfrm>
              <a:off x="8109000" y="6195960"/>
              <a:ext cx="896400" cy="540720"/>
            </a:xfrm>
            <a:prstGeom prst="pie">
              <a:avLst/>
            </a:prstGeom>
            <a:solidFill>
              <a:srgbClr val="feffff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1" name="Oval 31"/>
          <p:cNvGrpSpPr/>
          <p:nvPr/>
        </p:nvGrpSpPr>
        <p:grpSpPr>
          <a:xfrm>
            <a:off x="5456160" y="1414440"/>
            <a:ext cx="1127160" cy="1120680"/>
            <a:chOff x="5456160" y="1414440"/>
            <a:chExt cx="1127160" cy="1120680"/>
          </a:xfrm>
        </p:grpSpPr>
        <p:pic>
          <p:nvPicPr>
            <p:cNvPr id="132" name="Oval 31" descr=""/>
            <p:cNvPicPr/>
            <p:nvPr/>
          </p:nvPicPr>
          <p:blipFill>
            <a:blip r:embed="rId13"/>
            <a:stretch/>
          </p:blipFill>
          <p:spPr>
            <a:xfrm>
              <a:off x="5456160" y="1414440"/>
              <a:ext cx="112716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5638680" y="1595520"/>
              <a:ext cx="768600" cy="76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" name="Oval 32"/>
          <p:cNvGrpSpPr/>
          <p:nvPr/>
        </p:nvGrpSpPr>
        <p:grpSpPr>
          <a:xfrm>
            <a:off x="5626080" y="1390680"/>
            <a:ext cx="871560" cy="865080"/>
            <a:chOff x="5626080" y="1390680"/>
            <a:chExt cx="871560" cy="865080"/>
          </a:xfrm>
        </p:grpSpPr>
        <p:pic>
          <p:nvPicPr>
            <p:cNvPr id="135" name="Oval 32" descr=""/>
            <p:cNvPicPr/>
            <p:nvPr/>
          </p:nvPicPr>
          <p:blipFill>
            <a:blip r:embed="rId14"/>
            <a:stretch/>
          </p:blipFill>
          <p:spPr>
            <a:xfrm>
              <a:off x="5626080" y="1390680"/>
              <a:ext cx="87156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5772240" y="1533600"/>
              <a:ext cx="5871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7" name="Oval 28"/>
          <p:cNvGrpSpPr/>
          <p:nvPr/>
        </p:nvGrpSpPr>
        <p:grpSpPr>
          <a:xfrm>
            <a:off x="5237280" y="1871640"/>
            <a:ext cx="633240" cy="646200"/>
            <a:chOff x="5237280" y="1871640"/>
            <a:chExt cx="633240" cy="646200"/>
          </a:xfrm>
        </p:grpSpPr>
        <p:pic>
          <p:nvPicPr>
            <p:cNvPr id="138" name="Oval 28" descr=""/>
            <p:cNvPicPr/>
            <p:nvPr/>
          </p:nvPicPr>
          <p:blipFill>
            <a:blip r:embed="rId15"/>
            <a:stretch/>
          </p:blipFill>
          <p:spPr>
            <a:xfrm>
              <a:off x="5237280" y="1871640"/>
              <a:ext cx="6332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345280" y="1982880"/>
              <a:ext cx="42516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" name="Oval 30"/>
          <p:cNvGrpSpPr/>
          <p:nvPr/>
        </p:nvGrpSpPr>
        <p:grpSpPr>
          <a:xfrm>
            <a:off x="5407200" y="1785960"/>
            <a:ext cx="517320" cy="523800"/>
            <a:chOff x="5407200" y="1785960"/>
            <a:chExt cx="517320" cy="523800"/>
          </a:xfrm>
        </p:grpSpPr>
        <p:pic>
          <p:nvPicPr>
            <p:cNvPr id="141" name="Oval 30" descr=""/>
            <p:cNvPicPr/>
            <p:nvPr/>
          </p:nvPicPr>
          <p:blipFill>
            <a:blip r:embed="rId16"/>
            <a:stretch/>
          </p:blipFill>
          <p:spPr>
            <a:xfrm>
              <a:off x="5407200" y="1785960"/>
              <a:ext cx="51732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5495760" y="1882800"/>
              <a:ext cx="34632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3" name="Oval 27"/>
          <p:cNvGrpSpPr/>
          <p:nvPr/>
        </p:nvGrpSpPr>
        <p:grpSpPr>
          <a:xfrm>
            <a:off x="4700520" y="2066760"/>
            <a:ext cx="285840" cy="285840"/>
            <a:chOff x="4700520" y="2066760"/>
            <a:chExt cx="285840" cy="285840"/>
          </a:xfrm>
        </p:grpSpPr>
        <p:pic>
          <p:nvPicPr>
            <p:cNvPr id="144" name="Oval 27" descr=""/>
            <p:cNvPicPr/>
            <p:nvPr/>
          </p:nvPicPr>
          <p:blipFill>
            <a:blip r:embed="rId17"/>
            <a:stretch/>
          </p:blipFill>
          <p:spPr>
            <a:xfrm>
              <a:off x="4700520" y="2066760"/>
              <a:ext cx="285840" cy="2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4756320" y="2120760"/>
              <a:ext cx="18072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6" name="Oval 29"/>
          <p:cNvGrpSpPr/>
          <p:nvPr/>
        </p:nvGrpSpPr>
        <p:grpSpPr>
          <a:xfrm>
            <a:off x="6114960" y="969840"/>
            <a:ext cx="285840" cy="292320"/>
            <a:chOff x="6114960" y="969840"/>
            <a:chExt cx="285840" cy="292320"/>
          </a:xfrm>
        </p:grpSpPr>
        <p:pic>
          <p:nvPicPr>
            <p:cNvPr id="147" name="Oval 29" descr=""/>
            <p:cNvPicPr/>
            <p:nvPr/>
          </p:nvPicPr>
          <p:blipFill>
            <a:blip r:embed="rId18"/>
            <a:stretch/>
          </p:blipFill>
          <p:spPr>
            <a:xfrm>
              <a:off x="6114960" y="969840"/>
              <a:ext cx="285840" cy="2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6168960" y="1030320"/>
              <a:ext cx="1825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9" name="Oval 33"/>
          <p:cNvGrpSpPr/>
          <p:nvPr/>
        </p:nvGrpSpPr>
        <p:grpSpPr>
          <a:xfrm>
            <a:off x="5041800" y="1878120"/>
            <a:ext cx="225360" cy="225360"/>
            <a:chOff x="5041800" y="1878120"/>
            <a:chExt cx="225360" cy="225360"/>
          </a:xfrm>
        </p:grpSpPr>
        <p:pic>
          <p:nvPicPr>
            <p:cNvPr id="150" name="Oval 33" descr=""/>
            <p:cNvPicPr/>
            <p:nvPr/>
          </p:nvPicPr>
          <p:blipFill>
            <a:blip r:embed="rId19"/>
            <a:stretch/>
          </p:blipFill>
          <p:spPr>
            <a:xfrm>
              <a:off x="5041800" y="187812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5087880" y="1924200"/>
              <a:ext cx="139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2" name="Oval 34"/>
          <p:cNvGrpSpPr/>
          <p:nvPr/>
        </p:nvGrpSpPr>
        <p:grpSpPr>
          <a:xfrm>
            <a:off x="6132600" y="1042920"/>
            <a:ext cx="225360" cy="225360"/>
            <a:chOff x="6132600" y="1042920"/>
            <a:chExt cx="225360" cy="225360"/>
          </a:xfrm>
        </p:grpSpPr>
        <p:pic>
          <p:nvPicPr>
            <p:cNvPr id="153" name="Oval 34" descr=""/>
            <p:cNvPicPr/>
            <p:nvPr/>
          </p:nvPicPr>
          <p:blipFill>
            <a:blip r:embed="rId20"/>
            <a:stretch/>
          </p:blipFill>
          <p:spPr>
            <a:xfrm>
              <a:off x="6132600" y="104292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6176880" y="1089000"/>
              <a:ext cx="139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8000"/>
          </a:bodyPr>
          <a:p>
            <a:pPr marL="301680" indent="-301680">
              <a:spcBef>
                <a:spcPts val="799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53760" indent="-251280">
              <a:spcBef>
                <a:spcPts val="799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005840" indent="-200880">
              <a:spcBef>
                <a:spcPts val="799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407960" indent="-200880">
              <a:spcBef>
                <a:spcPts val="799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1810440" indent="-200880">
              <a:spcBef>
                <a:spcPts val="799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1810440" indent="-200880">
              <a:spcBef>
                <a:spcPts val="799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1810440" indent="-200880">
              <a:spcBef>
                <a:spcPts val="799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74F5B-14DB-4A17-8BE5-9F7CBAF1742C}" type="slidenum">
              <a:rPr b="0" lang="ru-RU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1"/>
    <p:sldLayoutId id="2147483663" r:id="rId22"/>
    <p:sldLayoutId id="2147483664" r:id="rId23"/>
    <p:sldLayoutId id="2147483665" r:id="rId24"/>
    <p:sldLayoutId id="2147483666" r:id="rId25"/>
    <p:sldLayoutId id="2147483667" r:id="rId26"/>
    <p:sldLayoutId id="2147483668" r:id="rId27"/>
    <p:sldLayoutId id="2147483669" r:id="rId28"/>
    <p:sldLayoutId id="2147483670" r:id="rId29"/>
    <p:sldLayoutId id="2147483671" r:id="rId30"/>
    <p:sldLayoutId id="2147483672" r:id="rId31"/>
    <p:sldLayoutId id="2147483673" r:id="rId3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57160" y="214200"/>
            <a:ext cx="7416720" cy="101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аочный тур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урнира юных естествоиспытателе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143000" y="2286000"/>
            <a:ext cx="71136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8000" spc="-1" strike="noStrike">
                <a:solidFill>
                  <a:srgbClr val="002060"/>
                </a:solidFill>
                <a:latin typeface="Verdana"/>
              </a:rPr>
              <a:t>Задача №2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Подзаголовок 4"/>
          <p:cNvSpPr/>
          <p:nvPr/>
        </p:nvSpPr>
        <p:spPr>
          <a:xfrm>
            <a:off x="214200" y="3500280"/>
            <a:ext cx="871560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Verdana"/>
              </a:rPr>
              <a:t>Выполнила команда «Альянс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Verdana"/>
              </a:rPr>
              <a:t>МБОУ СОШ № 4 г.Шатуры им. Ф. Т. Жа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Verdana"/>
              </a:rPr>
              <a:t>Шатурского муниципального района Московской обла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Verdana"/>
              </a:rPr>
              <a:t>Руководитель – учитель физики МБОУ СОШ №4 г. Шатуры Ларина Татьяна Василье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Verdana"/>
              </a:rPr>
              <a:t>20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09800" y="333000"/>
            <a:ext cx="7124400" cy="126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бы проверить верность рассуждений, проведем опыт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0" name="Объект 5" descr=""/>
          <p:cNvPicPr/>
          <p:nvPr/>
        </p:nvPicPr>
        <p:blipFill>
          <a:blip r:embed="rId1"/>
          <a:stretch/>
        </p:blipFill>
        <p:spPr>
          <a:xfrm>
            <a:off x="3635280" y="1700280"/>
            <a:ext cx="5403960" cy="4052880"/>
          </a:xfrm>
          <a:prstGeom prst="rect">
            <a:avLst/>
          </a:prstGeom>
          <a:ln w="0">
            <a:noFill/>
          </a:ln>
        </p:spPr>
      </p:pic>
      <p:sp>
        <p:nvSpPr>
          <p:cNvPr id="231" name="TextBox 6"/>
          <p:cNvSpPr/>
          <p:nvPr/>
        </p:nvSpPr>
        <p:spPr>
          <a:xfrm>
            <a:off x="324000" y="1989000"/>
            <a:ext cx="2879640" cy="31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м понадобятс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вариу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ней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6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Объект 3" descr=""/>
          <p:cNvPicPr/>
          <p:nvPr/>
        </p:nvPicPr>
        <p:blipFill>
          <a:blip r:embed="rId1"/>
          <a:stretch/>
        </p:blipFill>
        <p:spPr>
          <a:xfrm>
            <a:off x="3564000" y="476280"/>
            <a:ext cx="5403960" cy="4052880"/>
          </a:xfrm>
          <a:prstGeom prst="rect">
            <a:avLst/>
          </a:prstGeom>
          <a:ln w="0">
            <a:noFill/>
          </a:ln>
        </p:spPr>
      </p:pic>
      <p:sp>
        <p:nvSpPr>
          <p:cNvPr id="233" name="TextBox 5"/>
          <p:cNvSpPr/>
          <p:nvPr/>
        </p:nvSpPr>
        <p:spPr>
          <a:xfrm>
            <a:off x="250920" y="620640"/>
            <a:ext cx="2881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мерим толщину льда. У нас получилось 3 с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ускаем лед в наполненный аквариу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д плавает, причем он выступает из воды на 3 миллиметра, то есть на 0,1 от толщины льд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TextBox 6" descr=""/>
          <p:cNvPicPr/>
          <p:nvPr/>
        </p:nvPicPr>
        <p:blipFill>
          <a:blip r:embed="rId2"/>
          <a:stretch/>
        </p:blipFill>
        <p:spPr>
          <a:xfrm>
            <a:off x="3340080" y="4645080"/>
            <a:ext cx="490860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75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75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75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280" y="476280"/>
            <a:ext cx="820908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6" name="Picture 2" descr="1600x900 река, зима, снег, лёд, макро картинки на рабочий стол обои фото скачать"/>
          <p:cNvPicPr/>
          <p:nvPr/>
        </p:nvPicPr>
        <p:blipFill>
          <a:blip r:embed="rId1"/>
          <a:stretch/>
        </p:blipFill>
        <p:spPr>
          <a:xfrm>
            <a:off x="1187280" y="1557360"/>
            <a:ext cx="683928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8720" y="33300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Лед на реке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1" name="Picture 2" descr="Молодой лёд"/>
          <p:cNvPicPr/>
          <p:nvPr/>
        </p:nvPicPr>
        <p:blipFill>
          <a:blip r:embed="rId1"/>
          <a:stretch/>
        </p:blipFill>
        <p:spPr>
          <a:xfrm>
            <a:off x="900000" y="1413000"/>
            <a:ext cx="762012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25080" y="3716280"/>
            <a:ext cx="7777080" cy="293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достав на реках большей части территории России наступает в октябре, а южных реках - в начале ноября. Лишь стремительная Ангара местами остается свободной ото льда до декабря, а иногда и до января.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щность льда на реках достигает 1-3 м. Мелкие реки промерзают до дна. На многих реках образуются ледяные перемычки на перекатах, в результате чего река превращается в цепь озер, приуроченных к речным плесам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3" name="Picture 2" descr="МЧС России"/>
          <p:cNvPicPr/>
          <p:nvPr/>
        </p:nvPicPr>
        <p:blipFill>
          <a:blip r:embed="rId1"/>
          <a:stretch/>
        </p:blipFill>
        <p:spPr>
          <a:xfrm>
            <a:off x="468360" y="189000"/>
            <a:ext cx="5457600" cy="34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75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75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75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Новостной сайт"/>
          <p:cNvPicPr/>
          <p:nvPr/>
        </p:nvPicPr>
        <p:blipFill>
          <a:blip r:embed="rId1"/>
          <a:stretch/>
        </p:blipFill>
        <p:spPr>
          <a:xfrm>
            <a:off x="900000" y="115920"/>
            <a:ext cx="3810240" cy="27241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0" y="1999800"/>
            <a:ext cx="9144000" cy="450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пределение толщины льда по акватории рек, озер, каналов и водохранилищ определяется закономерностями формирования ледяного покрова, условиями распределения снега на льду, морфометрическими и гидродинамическими характеристиками участка. Наибольшее различие в толщине льда и интенсивности ее нарастания по акватории наблюдается в начальный период ледостава, вследствие неодновременности установления ледостава по акватории, а  также вследствие различного характера процессов ледообразования на отдельных участках рек (плесы и перекаты) и озер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" dur="175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750"/>
                            </p:stCondLst>
                            <p:childTnLst>
                              <p:par>
                                <p:cTn id="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дача № 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1806480"/>
            <a:ext cx="89298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100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0" lang="ru-RU" sz="4400" spc="-1" strike="noStrike">
                <a:solidFill>
                  <a:srgbClr val="02376f"/>
                </a:solidFill>
                <a:latin typeface="Verdana"/>
              </a:rPr>
              <a:t>Вода в проруби, пробитой далеко от берега озера, находится на глубине 10 см. Какова толщина льда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71720" y="2356920"/>
            <a:ext cx="712440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как, прорубь находится далеко от берега, то краевые условия расположения льда не влияют на глубину воды в проруби, т. е. исключаем возможность того, что льдина лежит, опираясь на берег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Прямая соединительная линия 3" descr=""/>
          <p:cNvPicPr/>
          <p:nvPr/>
        </p:nvPicPr>
        <p:blipFill>
          <a:blip r:embed="rId1"/>
          <a:stretch/>
        </p:blipFill>
        <p:spPr>
          <a:xfrm>
            <a:off x="268200" y="2352600"/>
            <a:ext cx="8766360" cy="555840"/>
          </a:xfrm>
          <a:prstGeom prst="rect">
            <a:avLst/>
          </a:prstGeom>
          <a:ln w="0">
            <a:noFill/>
          </a:ln>
        </p:spPr>
      </p:pic>
      <p:grpSp>
        <p:nvGrpSpPr>
          <p:cNvPr id="211" name="Прямоугольник 1"/>
          <p:cNvGrpSpPr/>
          <p:nvPr/>
        </p:nvGrpSpPr>
        <p:grpSpPr>
          <a:xfrm>
            <a:off x="2212920" y="2541600"/>
            <a:ext cx="4937040" cy="1268280"/>
            <a:chOff x="2212920" y="2541600"/>
            <a:chExt cx="4937040" cy="1268280"/>
          </a:xfrm>
        </p:grpSpPr>
        <p:pic>
          <p:nvPicPr>
            <p:cNvPr id="212" name="Прямоугольник 1" descr=""/>
            <p:cNvPicPr/>
            <p:nvPr/>
          </p:nvPicPr>
          <p:blipFill>
            <a:blip r:embed="rId2"/>
            <a:stretch/>
          </p:blipFill>
          <p:spPr>
            <a:xfrm>
              <a:off x="2212920" y="2541600"/>
              <a:ext cx="493704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2236680" y="2565360"/>
              <a:ext cx="48974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4" name="Стрелка вверх 4"/>
          <p:cNvSpPr/>
          <p:nvPr/>
        </p:nvSpPr>
        <p:spPr>
          <a:xfrm>
            <a:off x="4417920" y="1125360"/>
            <a:ext cx="534960" cy="2016360"/>
          </a:xfrm>
          <a:prstGeom prst="upArrow">
            <a:avLst>
              <a:gd name="adj1" fmla="val 50000"/>
              <a:gd name="adj2" fmla="val 50011"/>
            </a:avLst>
          </a:prstGeom>
          <a:solidFill>
            <a:srgbClr val="002060"/>
          </a:solidFill>
          <a:ln cap="rnd" w="19080">
            <a:solidFill>
              <a:srgbClr val="828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Стрелка вверх 5"/>
          <p:cNvSpPr/>
          <p:nvPr/>
        </p:nvSpPr>
        <p:spPr>
          <a:xfrm rot="10800000">
            <a:off x="4417920" y="3300120"/>
            <a:ext cx="534960" cy="2017800"/>
          </a:xfrm>
          <a:prstGeom prst="upArrow">
            <a:avLst>
              <a:gd name="adj1" fmla="val 50000"/>
              <a:gd name="adj2" fmla="val 50012"/>
            </a:avLst>
          </a:prstGeom>
          <a:solidFill>
            <a:srgbClr val="002060"/>
          </a:solidFill>
          <a:ln cap="rnd" w="19080">
            <a:solidFill>
              <a:srgbClr val="828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TextBox 6" descr=""/>
          <p:cNvPicPr/>
          <p:nvPr/>
        </p:nvPicPr>
        <p:blipFill>
          <a:blip r:embed="rId3"/>
          <a:stretch/>
        </p:blipFill>
        <p:spPr>
          <a:xfrm>
            <a:off x="523800" y="755640"/>
            <a:ext cx="3395880" cy="1212840"/>
          </a:xfrm>
          <a:prstGeom prst="rect">
            <a:avLst/>
          </a:prstGeom>
          <a:ln w="0">
            <a:noFill/>
          </a:ln>
        </p:spPr>
      </p:pic>
      <p:pic>
        <p:nvPicPr>
          <p:cNvPr id="217" name="TextBox 7" descr=""/>
          <p:cNvPicPr/>
          <p:nvPr/>
        </p:nvPicPr>
        <p:blipFill>
          <a:blip r:embed="rId4"/>
          <a:stretch/>
        </p:blipFill>
        <p:spPr>
          <a:xfrm>
            <a:off x="506520" y="4303800"/>
            <a:ext cx="3687480" cy="1950840"/>
          </a:xfrm>
          <a:prstGeom prst="rect">
            <a:avLst/>
          </a:prstGeom>
          <a:ln w="0">
            <a:noFill/>
          </a:ln>
        </p:spPr>
      </p:pic>
      <p:sp>
        <p:nvSpPr>
          <p:cNvPr id="218" name="Овал 8"/>
          <p:cNvSpPr/>
          <p:nvPr/>
        </p:nvSpPr>
        <p:spPr>
          <a:xfrm>
            <a:off x="4643280" y="3143160"/>
            <a:ext cx="142920" cy="142920"/>
          </a:xfrm>
          <a:prstGeom prst="ellipse">
            <a:avLst/>
          </a:prstGeom>
          <a:solidFill>
            <a:srgbClr val="b2bdc1"/>
          </a:solidFill>
          <a:ln cap="rnd" w="19080">
            <a:solidFill>
              <a:srgbClr val="1f28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Box 9"/>
          <p:cNvSpPr/>
          <p:nvPr/>
        </p:nvSpPr>
        <p:spPr>
          <a:xfrm>
            <a:off x="5286240" y="1571760"/>
            <a:ext cx="7891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en-US" sz="4800" spc="-1" strike="noStrike" baseline="-25000">
                <a:solidFill>
                  <a:srgbClr val="ffffff"/>
                </a:solidFill>
                <a:latin typeface="Verdana"/>
              </a:rPr>
              <a:t>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0" name="Прямая со стрелкой 11"/>
          <p:cNvCxnSpPr/>
          <p:nvPr/>
        </p:nvCxnSpPr>
        <p:spPr>
          <a:xfrm>
            <a:off x="5285880" y="1356840"/>
            <a:ext cx="500760" cy="2520"/>
          </a:xfrm>
          <a:prstGeom prst="straightConnector1">
            <a:avLst/>
          </a:prstGeom>
          <a:ln cap="rnd" w="572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21" name="Rectangle 1"/>
          <p:cNvSpPr/>
          <p:nvPr/>
        </p:nvSpPr>
        <p:spPr>
          <a:xfrm>
            <a:off x="4311000" y="-69840"/>
            <a:ext cx="52200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</a:t>
            </a:r>
            <a:r>
              <a:rPr b="0" lang="en-US" sz="28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4311000" y="-69840"/>
            <a:ext cx="52200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</a:t>
            </a:r>
            <a:r>
              <a:rPr b="0" lang="en-US" sz="28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Box 15"/>
          <p:cNvSpPr/>
          <p:nvPr/>
        </p:nvSpPr>
        <p:spPr>
          <a:xfrm>
            <a:off x="5357880" y="4857840"/>
            <a:ext cx="10000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1" lang="en-US" sz="4800" spc="-1" strike="noStrike" baseline="-25000">
                <a:solidFill>
                  <a:srgbClr val="ffffff"/>
                </a:solidFill>
                <a:latin typeface="Verdana"/>
              </a:rPr>
              <a:t>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4" name="Прямая со стрелкой 17"/>
          <p:cNvCxnSpPr/>
          <p:nvPr/>
        </p:nvCxnSpPr>
        <p:spPr>
          <a:xfrm>
            <a:off x="5357520" y="4642920"/>
            <a:ext cx="857880" cy="2520"/>
          </a:xfrm>
          <a:prstGeom prst="straightConnector1">
            <a:avLst/>
          </a:prstGeom>
          <a:ln cap="rnd" w="5724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1384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ловие плавания тел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285840" y="1806480"/>
            <a:ext cx="8572320" cy="450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твердое тело, погруженное в жидкость, действуют архимедова сила F</a:t>
            </a:r>
            <a:r>
              <a:rPr b="1" i="1" lang="ru-RU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 сила тяжести mg. В зависимости от соотношения сил mg и F</a:t>
            </a:r>
            <a:r>
              <a:rPr b="1" i="1" lang="ru-RU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тело может тонуть, плавать или всплывать. Если mg &gt; F</a:t>
            </a:r>
            <a:r>
              <a:rPr b="1" i="1" lang="ru-RU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тело тонет; если mg = F</a:t>
            </a:r>
            <a:r>
              <a:rPr b="1" i="1" lang="ru-RU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то тело плавает внутри жидкости или на ее поверхности; если mg &lt; F</a:t>
            </a:r>
            <a:r>
              <a:rPr b="1" i="1" lang="ru-RU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то тело всплывает до тех пор, пока архимедова сила и сила тяжести не сравняются по модулю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ло плавает на поверхности, если р</a:t>
            </a:r>
            <a:r>
              <a:rPr b="1" i="1" lang="ru-RU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ж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р</a:t>
            </a:r>
            <a:r>
              <a:rPr b="1" i="1" lang="ru-RU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 тело тонет, если р</a:t>
            </a:r>
            <a:r>
              <a:rPr b="1" i="1" lang="ru-RU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&gt; р</a:t>
            </a:r>
            <a:r>
              <a:rPr b="1" i="1" lang="ru-RU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ж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 тело всплывает, если р</a:t>
            </a:r>
            <a:r>
              <a:rPr b="1" i="1" lang="ru-RU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&lt; р</a:t>
            </a:r>
            <a:r>
              <a:rPr b="1" i="1" lang="ru-RU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ж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75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75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75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75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75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75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9720" y="21384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шение задачи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009800" y="1806120"/>
            <a:ext cx="7124400" cy="435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4000"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ь Н - толщина льдины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-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ощадь льдины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=Fa -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ловие плавания льдины</a:t>
            </a:r>
            <a:br>
              <a:rPr sz="2400"/>
            </a:br>
            <a:r>
              <a:rPr b="1" i="1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ρ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×V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×g=</a:t>
            </a:r>
            <a:r>
              <a:rPr b="1" i="1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ρ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×g×V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, где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– объем вытесненной воды.</a:t>
            </a:r>
            <a:br>
              <a:rPr sz="2400"/>
            </a:br>
            <a:r>
              <a:rPr b="1" i="1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ρ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×S×H×g=</a:t>
            </a:r>
            <a:r>
              <a:rPr b="1" i="1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ρ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×g×(H-h)×S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h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толщина выступающей части льдины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-h) –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убина погружения льда.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00×H=1000×(H-0,1)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00×H=1000×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-100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×H=100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=1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: 1 метр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75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75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75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75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75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75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75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75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75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9T10:37:11Z</dcterms:created>
  <dc:creator>Сергей</dc:creator>
  <dc:description/>
  <dc:language>en-US</dc:language>
  <cp:lastModifiedBy>admin</cp:lastModifiedBy>
  <dcterms:modified xsi:type="dcterms:W3CDTF">2014-10-30T20:15:10Z</dcterms:modified>
  <cp:revision>15</cp:revision>
  <dc:subject/>
  <dc:title>Заочный турнир юных естествоиспытателей</dc:title>
</cp:coreProperties>
</file>