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99E-1260-4677-A923-467C4F20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921-7C94-48BD-BC2A-730F80F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252-49B5-45F7-8A77-EF3CC17A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65B-E63B-493E-A52B-22165E71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87FE-BA10-4843-BAE1-2202A1E9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4FC-1709-4C16-A828-0B9C46E4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CA6D-79DA-4742-B43F-BA3D8C58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19C0-F2F5-4EDE-81C4-EBB5C699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F23-C920-4F06-B84B-D037ECC8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3DC5-CC9B-46ED-8EB4-E9D660AB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7D94-11BF-46A8-A7BF-B23313A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7EF-5C65-4A2D-8E90-B1B74AAC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96FE-9F26-479D-8F2B-BA150FD6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3F24-D7A6-4DC4-9BED-4FA8B07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EC0D-1E6C-4391-9DA1-245FED79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F66-DDC7-49F2-8F57-C7B31891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2213-AFE2-425A-9A91-554DEAA1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C54-6176-4AD6-9658-F8E794E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1E2-5740-466E-884C-5BFAAF7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6DB-6469-4608-BE14-DC9B7DE3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562-8AFC-45FB-BE29-C6B42E00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9D8-08B0-4136-8CE1-045C176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97A-43E8-4EAE-95C2-0DF39C9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C63-74A2-479C-A2AF-CF25D1F6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1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26080" y="3222360"/>
                  <a:ext cx="369000" cy="5360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18040" y="906120"/>
                  <a:ext cx="288000" cy="4204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4520" y="4835160"/>
                  <a:ext cx="947520" cy="11602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2040" y="153360"/>
                  <a:ext cx="663480" cy="81072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400" y="3764160"/>
                  <a:ext cx="587520" cy="71568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7200" y="1767240"/>
                  <a:ext cx="702720" cy="854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09000" y="6195960"/>
              <a:ext cx="896400" cy="54072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C7F-C90E-40B9-8246-45C864674509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87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26080" y="3222360"/>
                  <a:ext cx="369000" cy="5360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18040" y="906120"/>
                  <a:ext cx="288000" cy="4204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4520" y="4835160"/>
                  <a:ext cx="947520" cy="116028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2040" y="153360"/>
                  <a:ext cx="663480" cy="81072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400" y="3764160"/>
                  <a:ext cx="587520" cy="71568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7200" y="1767240"/>
                  <a:ext cx="702720" cy="854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09000" y="6195960"/>
              <a:ext cx="896400" cy="54072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27160" cy="1120680"/>
            <a:chOff x="5456160" y="1414440"/>
            <a:chExt cx="1127160" cy="112068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27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1560" cy="865080"/>
            <a:chOff x="5626080" y="1390680"/>
            <a:chExt cx="871560" cy="86508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15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33240" cy="646200"/>
            <a:chOff x="5237280" y="1871640"/>
            <a:chExt cx="6332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33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7200" y="1785960"/>
            <a:ext cx="517320" cy="523800"/>
            <a:chOff x="5407200" y="1785960"/>
            <a:chExt cx="517320" cy="52380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7200" y="1785960"/>
              <a:ext cx="517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6760"/>
            <a:ext cx="285840" cy="285840"/>
            <a:chOff x="4700520" y="2066760"/>
            <a:chExt cx="285840" cy="2858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6760"/>
              <a:ext cx="285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14960" y="969840"/>
            <a:ext cx="285840" cy="292320"/>
            <a:chOff x="6114960" y="969840"/>
            <a:chExt cx="285840" cy="2923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14960" y="969840"/>
              <a:ext cx="28584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41800" y="1878120"/>
            <a:ext cx="225360" cy="225360"/>
            <a:chOff x="5041800" y="1878120"/>
            <a:chExt cx="225360" cy="22536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41800" y="18781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32600" y="1042920"/>
            <a:ext cx="225360" cy="225360"/>
            <a:chOff x="6132600" y="1042920"/>
            <a:chExt cx="225360" cy="22536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32600" y="10429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103-0680-4D79-A5FB-0E3F3F54E073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416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очный тур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урнира юных естествоиспытате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43000" y="2286000"/>
            <a:ext cx="7113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000" spc="-1" strike="noStrike">
                <a:solidFill>
                  <a:srgbClr val="002060"/>
                </a:solidFill>
                <a:latin typeface="Verdana"/>
              </a:rPr>
              <a:t>Задача №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Подзаголовок 4"/>
          <p:cNvSpPr/>
          <p:nvPr/>
        </p:nvSpPr>
        <p:spPr>
          <a:xfrm>
            <a:off x="214200" y="3500280"/>
            <a:ext cx="87156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Выполнила команда «Альянс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МБОУ СОШ № 4 г.Шатуры им. Ф. Т. Жа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Шатурского муниципального района Москов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Руководитель – учитель физики МБОУ СОШ №4 г. Шатуры Ларина Татьян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333000"/>
            <a:ext cx="71244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проверить верность рассуждений, проведем опы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Объект 5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5403960" cy="40528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>
            <a:off x="324000" y="1989000"/>
            <a:ext cx="2879640" cy="31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м понадобя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вари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5403960" cy="4052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/>
          <p:cNvSpPr/>
          <p:nvPr/>
        </p:nvSpPr>
        <p:spPr>
          <a:xfrm>
            <a:off x="250920" y="620640"/>
            <a:ext cx="28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им толщину льда. У нас получилось 3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ускаем лед в наполненный аквари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 плавает, причем он выступает из воды на 3 миллиметра, то есть на 0,1 от толщины ль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TextBox 6" descr=""/>
          <p:cNvPicPr/>
          <p:nvPr/>
        </p:nvPicPr>
        <p:blipFill>
          <a:blip r:embed="rId2"/>
          <a:stretch/>
        </p:blipFill>
        <p:spPr>
          <a:xfrm>
            <a:off x="3340080" y="4645080"/>
            <a:ext cx="49086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5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7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09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1600x900 река, зима, снег, лёд, макро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1187280" y="1557360"/>
            <a:ext cx="6839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8720" y="333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Лед на реке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2" descr="Молодой лёд"/>
          <p:cNvPicPr/>
          <p:nvPr/>
        </p:nvPicPr>
        <p:blipFill>
          <a:blip r:embed="rId1"/>
          <a:stretch/>
        </p:blipFill>
        <p:spPr>
          <a:xfrm>
            <a:off x="900000" y="141300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5080" y="3716280"/>
            <a:ext cx="7777080" cy="29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остав на реках большей части территории России наступает в октябре, а южных реках - в начале ноября. Лишь стремительная Ангара местами остается свободной ото льда до декабря, а иногда и до января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льда на реках достигает 1-3 м. Мелкие реки промерзают до дна. На многих реках образуются ледяные перемычки на перекатах, в результате чего река превращается в цепь озер, приуроченных к речным плеса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2" descr="МЧС России"/>
          <p:cNvPicPr/>
          <p:nvPr/>
        </p:nvPicPr>
        <p:blipFill>
          <a:blip r:embed="rId1"/>
          <a:stretch/>
        </p:blipFill>
        <p:spPr>
          <a:xfrm>
            <a:off x="468360" y="189000"/>
            <a:ext cx="54576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7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5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Новостной сайт"/>
          <p:cNvPicPr/>
          <p:nvPr/>
        </p:nvPicPr>
        <p:blipFill>
          <a:blip r:embed="rId1"/>
          <a:stretch/>
        </p:blipFill>
        <p:spPr>
          <a:xfrm>
            <a:off x="900000" y="115920"/>
            <a:ext cx="3810240" cy="2724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0" y="1999800"/>
            <a:ext cx="9144000" cy="450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ределение толщины льда по акватории рек, озер, каналов и водохранилищ определяется закономерностями формирования ледяного покрова, условиями распределения снега на льду, морфометрическими и гидродинамическими характеристиками участка. Наибольшее различие в толщине льда и интенсивности ее нарастания по акватории наблюдается в начальный период ледостава, вследствие неодновременности установления ледостава по акватории, а  также вследствие различного характера процессов ледообразования на отдельных участках рек (плесы и перекаты) и оз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5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ча №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806480"/>
            <a:ext cx="89298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4400" spc="-1" strike="noStrike">
                <a:solidFill>
                  <a:srgbClr val="02376f"/>
                </a:solidFill>
                <a:latin typeface="Verdana"/>
              </a:rPr>
              <a:t>Вода в проруби, пробитой далеко от берега озера, находится на глубине 10 см. Какова толщина льда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720" y="2356920"/>
            <a:ext cx="71244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как, прорубь находится далеко от берега, то краевые условия расположения льда не влияют на глубину воды в проруби, т. е. исключаем возможность того, что льдина лежит, опираясь на бере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268200" y="2352600"/>
            <a:ext cx="8766360" cy="555840"/>
          </a:xfrm>
          <a:prstGeom prst="rect">
            <a:avLst/>
          </a:prstGeom>
          <a:ln w="0">
            <a:noFill/>
          </a:ln>
        </p:spPr>
      </p:pic>
      <p:grpSp>
        <p:nvGrpSpPr>
          <p:cNvPr id="211" name="Прямоугольник 1"/>
          <p:cNvGrpSpPr/>
          <p:nvPr/>
        </p:nvGrpSpPr>
        <p:grpSpPr>
          <a:xfrm>
            <a:off x="2212920" y="2541600"/>
            <a:ext cx="4937040" cy="1268280"/>
            <a:chOff x="2212920" y="2541600"/>
            <a:chExt cx="4937040" cy="1268280"/>
          </a:xfrm>
        </p:grpSpPr>
        <p:pic>
          <p:nvPicPr>
            <p:cNvPr id="212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212920" y="2541600"/>
              <a:ext cx="49370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236680" y="2565360"/>
              <a:ext cx="4897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Стрелка вверх 4"/>
          <p:cNvSpPr/>
          <p:nvPr/>
        </p:nvSpPr>
        <p:spPr>
          <a:xfrm>
            <a:off x="4417920" y="1125360"/>
            <a:ext cx="534960" cy="201636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002060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трелка вверх 5"/>
          <p:cNvSpPr/>
          <p:nvPr/>
        </p:nvSpPr>
        <p:spPr>
          <a:xfrm rot="10800000">
            <a:off x="4417920" y="3300120"/>
            <a:ext cx="534960" cy="201780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002060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TextBox 6" descr=""/>
          <p:cNvPicPr/>
          <p:nvPr/>
        </p:nvPicPr>
        <p:blipFill>
          <a:blip r:embed="rId3"/>
          <a:stretch/>
        </p:blipFill>
        <p:spPr>
          <a:xfrm>
            <a:off x="523800" y="755640"/>
            <a:ext cx="3395880" cy="121284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7" descr=""/>
          <p:cNvPicPr/>
          <p:nvPr/>
        </p:nvPicPr>
        <p:blipFill>
          <a:blip r:embed="rId4"/>
          <a:stretch/>
        </p:blipFill>
        <p:spPr>
          <a:xfrm>
            <a:off x="506520" y="4303800"/>
            <a:ext cx="3687480" cy="1950840"/>
          </a:xfrm>
          <a:prstGeom prst="rect">
            <a:avLst/>
          </a:prstGeom>
          <a:ln w="0">
            <a:noFill/>
          </a:ln>
        </p:spPr>
      </p:pic>
      <p:sp>
        <p:nvSpPr>
          <p:cNvPr id="218" name="Овал 8"/>
          <p:cNvSpPr/>
          <p:nvPr/>
        </p:nvSpPr>
        <p:spPr>
          <a:xfrm>
            <a:off x="4643280" y="3143160"/>
            <a:ext cx="142920" cy="142920"/>
          </a:xfrm>
          <a:prstGeom prst="ellipse">
            <a:avLst/>
          </a:prstGeom>
          <a:solidFill>
            <a:srgbClr val="b2bdc1"/>
          </a:solidFill>
          <a:ln cap="rnd" w="19080">
            <a:solidFill>
              <a:srgbClr val="1f28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286240" y="1571760"/>
            <a:ext cx="789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Прямая со стрелкой 11"/>
          <p:cNvCxnSpPr/>
          <p:nvPr/>
        </p:nvCxnSpPr>
        <p:spPr>
          <a:xfrm>
            <a:off x="5285880" y="1356840"/>
            <a:ext cx="500760" cy="2520"/>
          </a:xfrm>
          <a:prstGeom prst="straightConnector1">
            <a:avLst/>
          </a:prstGeom>
          <a:ln cap="rnd"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21" name="Rectangle 1"/>
          <p:cNvSpPr/>
          <p:nvPr/>
        </p:nvSpPr>
        <p:spPr>
          <a:xfrm>
            <a:off x="4311000" y="-69840"/>
            <a:ext cx="522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4311000" y="-69840"/>
            <a:ext cx="522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357880" y="4857840"/>
            <a:ext cx="100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Verdana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Прямая со стрелкой 17"/>
          <p:cNvCxnSpPr/>
          <p:nvPr/>
        </p:nvCxnSpPr>
        <p:spPr>
          <a:xfrm>
            <a:off x="5357520" y="4642920"/>
            <a:ext cx="857880" cy="2520"/>
          </a:xfrm>
          <a:prstGeom prst="straightConnector1">
            <a:avLst/>
          </a:prstGeom>
          <a:ln cap="rnd"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е плавания тел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806480"/>
            <a:ext cx="8572320" cy="450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твердое тело, погруженное в жидкость, действуют архимедова сила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сила тяжести mg. В зависимости от соотношения сил mg и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ело может тонуть, плавать или всплывать. Если mg &gt;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ело тонет; если mg =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тело плавает внутри жидкости или на ее поверхности; если mg &lt; F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тело всплывает до тех пор, пока архимедова сила и сила тяжести не сравняются по модул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о плавает на поверхности, если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тело тонет, если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gt;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тело всплывает, если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р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7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75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09800" y="1806120"/>
            <a:ext cx="7124400" cy="43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ь Н - толщина льдины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льдины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=Fa 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е плавания льдины</a:t>
            </a:r>
            <a:br>
              <a:rPr sz="2400"/>
            </a:b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V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g=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g×V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, 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– объем вытесненной воды.</a:t>
            </a:r>
            <a:br>
              <a:rPr sz="2400"/>
            </a:b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S×H×g=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g×(H-h)×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толщина выступающей части льд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-h) –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бина погружения льда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0×H=1000×(H-0,1)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0×H=1000×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-100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H=100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=1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1 метр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75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75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75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0:37:11Z</dcterms:created>
  <dc:creator>Сергей</dc:creator>
  <dc:description/>
  <dc:language>en-US</dc:language>
  <cp:lastModifiedBy>admin</cp:lastModifiedBy>
  <dcterms:modified xsi:type="dcterms:W3CDTF">2014-10-30T20:15:10Z</dcterms:modified>
  <cp:revision>15</cp:revision>
  <dc:subject/>
  <dc:title>Заочный турнир юных естествоиспытателей</dc:title>
</cp:coreProperties>
</file>