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3F4-892E-4773-A4D1-574B3270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B6A-1551-49C7-8AFB-6DFAB9D3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03B-96DF-48B9-B04A-E7DA3DF3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D27-47BB-4B3A-8B94-7DB5868A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00ACC-BB97-44ED-9000-7A0E0D52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4CBB3-4A96-4373-B641-B1F4F8C9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0A396-5367-45A7-AC6A-DF91AB2F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925AC-AC40-4AF1-A84C-074AC7A7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E98AD-4564-4A12-936D-6577D4BB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945FB-5E82-495B-AA42-FF342C6F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90B96-208F-4DCA-8BEB-8EA697E6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E03-6CEC-4790-B095-CA978B92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7BCFD-FEFC-4DC6-A0A4-8D4AE8D2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30055-77ED-4D5D-9546-9FCD05F2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2D9FE-D56F-4579-A40F-F7C73D16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89096-AA47-42CE-A887-594476CA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7860A-3908-4BEE-B17E-BF8B186F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394-3A3A-4EB2-B29A-74A8A9E8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623-6971-40CA-9FC2-84B165C0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F52-0AF9-4208-A0A7-590CF318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959-83C7-4906-81F4-55B24FC1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7A7-4464-429E-8A75-D36C35F8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202-E7C6-4E3E-9B9B-3FCCB707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F56-546A-40DD-AD63-CFFD2655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F73A-A207-4B14-8EF0-7924CDD90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B0FB-AD3D-4F98-993E-26B21656ED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Е ЗДОРОВЬЕСБЕРЕГАЮЩИЕ ТЕХНОЛОГИИ В ДО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 Забота о здоровье —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. А. Сухомлин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Задачи здоровье сбере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здание адекватных условий для развит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обучен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оздоровления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здание положительного эмоционального настроя и снятие психо-эмоционального напря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рмы организац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доровье сберегающей работы в ДО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22" descr="47456002"/>
          <p:cNvPicPr/>
          <p:nvPr/>
        </p:nvPicPr>
        <p:blipFill>
          <a:blip r:embed="rId1"/>
          <a:stretch/>
        </p:blipFill>
        <p:spPr>
          <a:xfrm>
            <a:off x="152280" y="4876920"/>
            <a:ext cx="29196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89" name="Diagram 29"/>
          <p:cNvGrpSpPr/>
          <p:nvPr/>
        </p:nvGrpSpPr>
        <p:grpSpPr>
          <a:xfrm>
            <a:off x="2063520" y="1041840"/>
            <a:ext cx="5324760" cy="4662720"/>
            <a:chOff x="2063520" y="1041840"/>
            <a:chExt cx="5324760" cy="4662720"/>
          </a:xfrm>
        </p:grpSpPr>
        <p:sp>
          <p:nvSpPr>
            <p:cNvPr id="90" name="_s1028"/>
            <p:cNvSpPr/>
            <p:nvPr/>
          </p:nvSpPr>
          <p:spPr>
            <a:xfrm flipH="1" flipV="1">
              <a:off x="3661920" y="2707560"/>
              <a:ext cx="531720" cy="37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_s1029"/>
            <p:cNvSpPr/>
            <p:nvPr/>
          </p:nvSpPr>
          <p:spPr>
            <a:xfrm>
              <a:off x="2457360" y="1725840"/>
              <a:ext cx="1357200" cy="1210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СКАЗКОТЕРАПИЯ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1030"/>
            <p:cNvSpPr/>
            <p:nvPr/>
          </p:nvSpPr>
          <p:spPr>
            <a:xfrm flipH="1">
              <a:off x="3400200" y="3598200"/>
              <a:ext cx="665280" cy="13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_s1031"/>
            <p:cNvSpPr/>
            <p:nvPr/>
          </p:nvSpPr>
          <p:spPr>
            <a:xfrm>
              <a:off x="2063520" y="3261240"/>
              <a:ext cx="1357560" cy="1210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Музыкотерап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1032"/>
            <p:cNvSpPr/>
            <p:nvPr/>
          </p:nvSpPr>
          <p:spPr>
            <a:xfrm flipH="1">
              <a:off x="4134960" y="4007880"/>
              <a:ext cx="297000" cy="546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33"/>
            <p:cNvSpPr/>
            <p:nvPr/>
          </p:nvSpPr>
          <p:spPr>
            <a:xfrm>
              <a:off x="3163680" y="4493520"/>
              <a:ext cx="1357560" cy="1211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Игротренинги ,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Игротерапия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4"/>
            <p:cNvSpPr/>
            <p:nvPr/>
          </p:nvSpPr>
          <p:spPr>
            <a:xfrm>
              <a:off x="5019480" y="4006080"/>
              <a:ext cx="293760" cy="54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5"/>
            <p:cNvSpPr/>
            <p:nvPr/>
          </p:nvSpPr>
          <p:spPr>
            <a:xfrm>
              <a:off x="4929120" y="4493520"/>
              <a:ext cx="1357200" cy="1211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Гимнастика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Пальчиковая,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Для глаз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дыхательная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6"/>
            <p:cNvSpPr/>
            <p:nvPr/>
          </p:nvSpPr>
          <p:spPr>
            <a:xfrm>
              <a:off x="5384520" y="3595680"/>
              <a:ext cx="663840" cy="136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7"/>
            <p:cNvSpPr/>
            <p:nvPr/>
          </p:nvSpPr>
          <p:spPr>
            <a:xfrm>
              <a:off x="6030720" y="3262680"/>
              <a:ext cx="1357560" cy="1211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Подвижные 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спортивные игры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8"/>
            <p:cNvSpPr/>
            <p:nvPr/>
          </p:nvSpPr>
          <p:spPr>
            <a:xfrm flipV="1">
              <a:off x="5252760" y="2707560"/>
              <a:ext cx="533520" cy="378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9"/>
            <p:cNvSpPr/>
            <p:nvPr/>
          </p:nvSpPr>
          <p:spPr>
            <a:xfrm>
              <a:off x="5638680" y="1725840"/>
              <a:ext cx="1357200" cy="1210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инамически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паузы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40"/>
            <p:cNvSpPr/>
            <p:nvPr/>
          </p:nvSpPr>
          <p:spPr>
            <a:xfrm flipV="1">
              <a:off x="4724280" y="2251440"/>
              <a:ext cx="0" cy="607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41"/>
            <p:cNvSpPr/>
            <p:nvPr/>
          </p:nvSpPr>
          <p:spPr>
            <a:xfrm>
              <a:off x="4046400" y="1041840"/>
              <a:ext cx="1357200" cy="1210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ФИЗКУЛЬТУРН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ЗАНЯТ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42"/>
            <p:cNvSpPr/>
            <p:nvPr/>
          </p:nvSpPr>
          <p:spPr>
            <a:xfrm>
              <a:off x="4046400" y="2859120"/>
              <a:ext cx="1357200" cy="1210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форм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57200" y="291960"/>
          <a:ext cx="8229600" cy="5851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9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Физкультурное занятие</a:t>
                      </a:r>
                      <a:br>
                        <a:rPr sz="2000"/>
                      </a:b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нятия проводятся в соответствии с программой, перед занятием необходимо хорошо проветрить помещение .занятие проводится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3 раза в неделю в спортивном зале 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нний возраст - в групповой комнате 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ладший возраст – 15-2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ий возраст – 20-2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рший возраст – 25-3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Подвижные и спортив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</a:t>
                      </a: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 часть физкультурного занятия, на прогулке, в групповой комнате - малой, средней и высокой степени подвижности Ежедневно для всех возрастных групп. Игры подбираются в соответствии с возрастом ребенка, местом и временем ее проведения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9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Динамические паузы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 время занятий, 2-5 мин., по мере утомляемости детей. Рекомендуется для всех детей в качестве профилактики утомления. Могут включать в себя элементы гимнастики для глаз, дыхательной гимнастики и других в зависимости от вида занят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Игротреннинги и </a:t>
                      </a:r>
                      <a:r>
                        <a:rPr b="0" i="1" lang="ru-RU" sz="2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Игротер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свободное время, можно во второй половине дня. Время строго не фиксировано, в зависимости от задач, поставленных педагогом. Занятие может быть организовано не заметно для ребенка, посредством включения педагога в процесс игровой деятельности.</a:t>
                      </a: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291960"/>
          <a:ext cx="8305920" cy="5846760"/>
        </p:xfrm>
        <a:graphic>
          <a:graphicData uri="http://schemas.openxmlformats.org/drawingml/2006/table">
            <a:tbl>
              <a:tblPr/>
              <a:tblGrid>
                <a:gridCol w="2819520"/>
                <a:gridCol w="2743200"/>
                <a:gridCol w="2743200"/>
              </a:tblGrid>
              <a:tr h="6269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Музыкотерап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 Black"/>
                          <a:ea typeface="Aldhabi"/>
                        </a:rPr>
                        <a:t>ис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ьзуется в качестве вспомогательного средства, как часть других технологий, для снятия напряжения, повышения эмоционального настро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 различных формах физкультурно-оздоровительной работы; либо отдельные занятия 2-4 раза в месяц в зависимости от поставленных целей. Используются в качестве вспомогательного средства как часть других технологий; для снятия напряжения, повышения эмоционального настроя и п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Гимнастика пальчикова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с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ладшего возраста индивидуально либо с подгруппой ежедневно. Рекомендуется всем детям, особенно с речевыми проблемами. Проводится в любой удобный отрезок времени (в любое удобное время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Гимнастика для гла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</a:t>
                      </a: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жедневно по 3-5 мин. в любое свободное время в зависимости от интенсивности зрительной нагрузки с младшего возраста. Рекомендуется использовать наглядный материал, показ педагога</a:t>
                      </a: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Гимнастика дыхательна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в различных формах физкультурно-оздоровительной работы. Обеспечить проветривание помещения, педагогу дать детям инструкции об обязательной гигиене полости носа перед проведением процедур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Сказкотерапия</a:t>
                      </a: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для психотерапевтической и развивающей работы. Сказку может рассказывать взрослый, либо это может быть групповое рассказы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4 занятия в месяц по 30 мин.  Занятия используют для психологической терапевтической и развивающей работы. Сказку может рассказывать взрослый, либо это может быть группов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сказывание, где рассказчиком является не один человек, группа детей, а остальные дети повторяют за рассказчиками необходимые движ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520" y="304560"/>
            <a:ext cx="5867280" cy="1384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заимодействие ДОУ с родителями по вопросам охраны и укрепления здоровья детей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онные стенды в каждой группе, работают рубрики освещающие вопросы оздоровления без лекарств(комплексные упражнения для развития мелкой и общей моторики, пальчиковые игры ,упражнения для органов зрения и для профилактики нарушений опорно- двигательного  аппар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и и беседы с родителями по вопросам здоровье сбережения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общение родителей к участию физкультупно-массовых мероприятий ДОУ (соревнования ,спортивные праздники ,дни и недели здоровья ,встречи детей с родителями- спортсменами  ит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онные стенды медицинских работников о медицинской профилактической работе с детьми в Д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" descr="MP900442190[1]"/>
          <p:cNvPicPr/>
          <p:nvPr/>
        </p:nvPicPr>
        <p:blipFill>
          <a:blip r:embed="rId1"/>
          <a:stretch/>
        </p:blipFill>
        <p:spPr>
          <a:xfrm>
            <a:off x="457200" y="228600"/>
            <a:ext cx="22906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4:36:31Z</dcterms:created>
  <dc:creator>Оля Суродеева</dc:creator>
  <dc:description/>
  <dc:language>en-US</dc:language>
  <cp:lastModifiedBy>БелыйВетер</cp:lastModifiedBy>
  <dcterms:modified xsi:type="dcterms:W3CDTF">2014-04-24T07:32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