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50E-0A52-4F75-959E-0477CF24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754-6675-49D3-B963-1C77B73E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8D6-5C95-4F20-B9FD-2CD5FE10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13B-822E-4AB8-8B5C-245D361C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938C-2741-4AC7-8EFD-17DB7710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B074-AD72-4384-B62C-54F30E9A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BA26-9C2F-4937-9E49-02ED26F2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8DDB-E1C9-45C0-8A2A-34A6A0ED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08EE-7586-49E7-97F9-A1ED28B7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BA04-BE69-4D9A-911B-18FFB464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6200-68F0-4769-8D03-55EDF936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D93-F8E8-45C6-9711-D56B8081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6667-6F78-40E8-BEF6-13B0C7F6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2696-98E4-456D-A363-164A09D6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2AC7-3331-4099-9472-5A2995D9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6A28-2F27-42B9-9BBA-EC2AF743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99A0-9A7A-4563-BB2D-38468FAB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F10-CC1E-4B6D-A41F-5AC78E3B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BDF-3B4A-4FDD-BAE2-D18888BF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6B3-9FDA-4B05-871F-D5ECA103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AB6-E45A-4E5F-93C6-A8B67B01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BF3-3BE7-4115-849E-22AE2CBA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950-7F9B-4C44-9FC4-2103E24E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E07-7D24-4626-9FD2-FE517299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3841-DF48-41E2-95DC-D1521DCB9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D819-68DC-437E-A014-5EDD3FD376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gnesium.atomistry.com/" TargetMode="External"/><Relationship Id="rId2" Type="http://schemas.openxmlformats.org/officeDocument/2006/relationships/hyperlink" Target="http://i-iodine.info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гра «Звёздный  час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сль выражать числа десятью знаками…настолько простая, что…трудно понять на сколько она удивительна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П.С.Лап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ретий  эта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р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вопрос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ременная  достаточно  простая  и  удобная  десятичная  система  записи  чисел  была  заимствована  европейцами  у  арабов, которые  в  свою  очередь  переняли  её у  индусов. Поэтому  цифры. Которыми  мы  сейчас  пользуемся, европейцы  называют «арабскими», а  арабы – «индийски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 вопрос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ро (около  12 л), штоф (десятая часть  ведра), баррель (около  159 л),галлон (около 4 л), бушель (около 36 л), пинта (от 470 до 568 кубических  сантиметров)- единицы  измерения объёма. На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ус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 старину  использовались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едр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и  што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 вопрос 3 и вопрос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 всегда  результат  измерения  или  стоимости  товара  удавалось  выразить  натуральным числом. Приходилось  учитывать  и  части, доли  меры. Так  появились  дро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русском  языке  слово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об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появилось  в 17 веке, оно  происходит от  глагола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об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- разбивать, ломать  на  части. В  первых  учебниках  математики (в 17 веке) дроби  так и назывались - «ломаные числа». У других  народов название  дроби  также  связано  с  глаголами «ломать», «разбивать», «раздробля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м  европейским  учёным, который  стал  использовать  и  распространять  современную  запись  дробей, был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льян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упец  и  путешественник, сын  городского  писар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боначчи (Леонардо Пизанский)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202 году он  ввёл  слово  «дробь». Названия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ислитель» и «знаменатель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вёл в 18  веке Максим Плануд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ече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нах, учёный- математ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Четвёртый  эта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а   м    о   в    п    р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и   с    т    к    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мерные  отве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вар, отвар, рост, спектр, повестка,  пестик, порт, крест, рис, сорт, секта, пристав, корт, кипа, проект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ятый  этап – логические цепочк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 це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ар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дюй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 первый 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дюйм =25 мм =2 см 5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аршин = 7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м =1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км=100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прос втор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мет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иу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второй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- фигура, образованная  двумя  лучами, выходящими  из  одной 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ая   это  основное математическое  по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ервый эта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прос трет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;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;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;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;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      9     10   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на третий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;    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8;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;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;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     8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9     10   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прос четвёрт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кв.см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кв.м 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а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кв.к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г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на четвёртый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кв.см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кв.м 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а=100кв.м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га = 10 000кв.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кв.км = 1 000 000кв.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на пятый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 сотка = 1 а =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100 кв.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ина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ОЛУПЕРИМЕТ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меры  сл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, метр, ром, мор, перо, ритм, темп, мир, утро, рупор, поле, тол, лот, том, порт, плот, лето, метро, лом, мол, мул, репей, пот, тир, пир, упор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вёздный  ча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 – царица  на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фметика  - царица 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 вопрос 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ям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 вопрос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ям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а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вопрос 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ям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Ша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торой  эта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Пифаг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Иван Михайлович Сим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Эратосф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Архим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Николай Иванович  Лобаче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Lobachevsky 03 crop.jpg"/>
          <p:cNvPicPr/>
          <p:nvPr/>
        </p:nvPicPr>
        <p:blipFill>
          <a:blip r:embed="rId1"/>
          <a:stretch/>
        </p:blipFill>
        <p:spPr>
          <a:xfrm>
            <a:off x="6553080" y="3657600"/>
            <a:ext cx="1543320" cy="2538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http://www.piplz.ru/photo/Pifagor.jpg"/>
          <p:cNvPicPr/>
          <p:nvPr/>
        </p:nvPicPr>
        <p:blipFill>
          <a:blip r:embed="rId2"/>
          <a:stretch/>
        </p:blipFill>
        <p:spPr>
          <a:xfrm>
            <a:off x="685800" y="39625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Simonov Ivan Mikh-ch astronomer c1850.jpg"/>
          <p:cNvPicPr/>
          <p:nvPr/>
        </p:nvPicPr>
        <p:blipFill>
          <a:blip r:embed="rId3"/>
          <a:stretch/>
        </p:blipFill>
        <p:spPr>
          <a:xfrm>
            <a:off x="2590920" y="3886200"/>
            <a:ext cx="167616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http://go1.imgsmail.ru/imgpreview?key=http%3A//900igr.net/datai/algebra/Matematiki/0006-005-Eratosfen.jpg&amp;mb=imgdb_preview_108"/>
          <p:cNvPicPr/>
          <p:nvPr/>
        </p:nvPicPr>
        <p:blipFill>
          <a:blip r:embed="rId4"/>
          <a:stretch/>
        </p:blipFill>
        <p:spPr>
          <a:xfrm>
            <a:off x="4495680" y="4038480"/>
            <a:ext cx="1828800" cy="1866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&amp;Acy;&amp;rcy;&amp;khcy;&amp;icy;&amp;mcy;&amp;iecy;&amp;dcy;"/>
          <p:cNvPicPr/>
          <p:nvPr/>
        </p:nvPicPr>
        <p:blipFill>
          <a:blip r:embed="rId5"/>
          <a:stretch/>
        </p:blipFill>
        <p:spPr>
          <a:xfrm>
            <a:off x="6553080" y="137160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на вопрос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ратосфен-Эратосфен Киренский (Eratosthénes) (около 276-194 до н. э.), древнегреческий учёный. Он жил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Эратосфен родился в Африке, в Кирене. Учился сначала в Александрии, а затем в Афинах у известных наставников, поэта Каллимаха, грамматика Лисания, а также философов – стоика Аристона и платоника Аркесилая. Вероятно, именно благодаря столь широкому образованию и разнообразию интересов ок. 245 до н.э. Эратосфен получил от Птолемея III Эвергета приглашение вернуться в Александрию, чтобы стать воспитателем наследника престола и возглавить Александрийскую библиотеку. Эратосфен принял это предложение и занимал должность библиотекаря вплоть до своей кончины. Его научные таланты удостоились высокой оценки современника Эратосфена, Архимеда, который посвятил ему свою книгу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фод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т.е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самых больших загадок математики является расположение простых чисел в ряду всех натуральных чисел. Иногда два простых числа идут через одно, (например, 17 и 19, 29 и 31), а иногда подряд идет миллион составных чисел. Сейчас ученые знают уже довольно много о том, сколько простых чисел содержится среди первых натуральных чисел. В математике Эратосфена интересовал как раз вопрос о том, как найти все простые числа среди натуральных чисел от 1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 (Эратосфен считал 1 простым числом. Сейчас математики считают 1 числом особого вида, которое не относится ни к простым, ни к составным числам.) Он придумал для этого следующий способ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вычеркивают все числа, делящиеся на 2 (исключая само число 2). Потом берут первое из оставшихся чисел (а именно 3). Ясно, что это число - простое. Вычеркивают все идущие после него числа, делящиеся на 3. Первым оставшимся числом будет 5. Вычеркивают все идущие после него числа, делящиеся на 5, и т.д. Числа, которые уцелеют после всех вычеркиваний, и являются просты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как во времена Эратосфена писали на восковых табличках и не вычеркивали, а "выкалывали" цифры, то табличка после описанного процесса напоминала решето. Поэтому метод Эратосфена для нахождения простых чисел получил название "решето Эратосфен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http://go1.imgsmail.ru/imgpreview?key=http%3A//900igr.net/datai/algebra/Matematiki/0006-005-Eratosfen.jpg&amp;mb=imgdb_preview_108"/>
          <p:cNvPicPr/>
          <p:nvPr/>
        </p:nvPicPr>
        <p:blipFill>
          <a:blip r:embed="rId1"/>
          <a:stretch/>
        </p:blipFill>
        <p:spPr>
          <a:xfrm>
            <a:off x="7391520" y="2286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онов Иван Михайлович  родился в купеческой семье 20 июня 1794 г. в Астрахани. Первоначальное образование получил в Астраханской гимназии. Одним из его учителей был Егор Иванович Миллер, который всю свою жизнь посвятил просветительской деятельности. Воспитанник Дрезденской гимназии и Лейпцигского университета, он работал в Санкт-Петербурге, Астрахани и в Иркутске. В 1808 г. он был приглашен на должность адъюнкта по кафедре всемирной истории, географии и статистики Казанского университета. Вот в те времена Миллер и пригласил своего способного ученика Симонова для обучения в университет. Гороховец, ныне Владимирской области, — 10(22).1.1855], русский астроном, член-корреспондент Петербургской АН (с 1829). Профессор (с 1816) и ректор (с 1846) Казанского университета. В 1819—21 участвовал в кругосветной экспедиции Ф. Ф. Беллинсгаузена и М. П. Лазарева, открывшей Антарктиду, оставил подробное описание этого путешествия. Ему принадлежит, помимо многочисленных астрономических наблюдений и разработки их методики, конструкция отражательного прибора. С. одним из первых в России изучал земной магнетизм. По его инициативе в Казани были основаны две обсерватории — астрономическая (1833) и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магнит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43). В честь С. назван остров (о. Тувана-Итоло) в южной части Тихого океана и северо-восточный мыс на о. Петра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вопрос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7" descr="Simonov Ivan Mikh-ch astronomer c1850.jpg"/>
          <p:cNvPicPr/>
          <p:nvPr/>
        </p:nvPicPr>
        <p:blipFill>
          <a:blip r:embed="rId3"/>
          <a:stretch/>
        </p:blipFill>
        <p:spPr>
          <a:xfrm>
            <a:off x="7696080" y="152280"/>
            <a:ext cx="121932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т  на  вопрос  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ван  Михайлович  Симонов  и  Николай  Иванович  Лобачевский  были  ректорами  Казанского  универс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7" descr="Simonov Ivan Mikh-ch astronomer c1850.jpg"/>
          <p:cNvPicPr/>
          <p:nvPr/>
        </p:nvPicPr>
        <p:blipFill>
          <a:blip r:embed="rId1"/>
          <a:stretch/>
        </p:blipFill>
        <p:spPr>
          <a:xfrm>
            <a:off x="1219320" y="373392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Lobachevsky 03 crop.jpg"/>
          <p:cNvPicPr/>
          <p:nvPr/>
        </p:nvPicPr>
        <p:blipFill>
          <a:blip r:embed="rId2"/>
          <a:stretch/>
        </p:blipFill>
        <p:spPr>
          <a:xfrm>
            <a:off x="3962520" y="4038480"/>
            <a:ext cx="1523880" cy="198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3-01-29T17:00:5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