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wmf" ContentType="image/x-wmf"/>
  <Override PartName="/ppt/media/image29.png" ContentType="image/png"/>
  <Override PartName="/ppt/media/image14.wmf" ContentType="image/x-wmf"/>
  <Override PartName="/ppt/media/image9.jpeg" ContentType="image/jpeg"/>
  <Override PartName="/ppt/media/image11.png" ContentType="image/png"/>
  <Override PartName="/ppt/media/image12.png" ContentType="image/png"/>
  <Override PartName="/ppt/media/image32.jpeg" ContentType="image/jpeg"/>
  <Override PartName="/ppt/media/image13.wmf" ContentType="image/x-wmf"/>
  <Override PartName="/ppt/media/image35.png" ContentType="image/png"/>
  <Override PartName="/ppt/media/image43.jpeg" ContentType="image/jpeg"/>
  <Override PartName="/ppt/media/image5.png" ContentType="image/png"/>
  <Override PartName="/ppt/media/image31.png" ContentType="image/png"/>
  <Override PartName="/ppt/media/image28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15.wmf" ContentType="image/x-wmf"/>
  <Override PartName="/ppt/media/image41.jpeg" ContentType="image/jpeg"/>
  <Override PartName="/ppt/media/image39.jpeg" ContentType="image/jpeg"/>
  <Override PartName="/ppt/media/image8.png" ContentType="image/png"/>
  <Override PartName="/ppt/media/image16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EF58-4898-4AE6-A703-9B82ED6F6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E02E-F399-4D37-B16F-87C0304C1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E98BB-54A2-464B-9EEA-9E1A7DC4B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09193-ABE4-4C00-9DB8-84F0EC6E8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831AA-DF65-4E11-BBF1-76F0A4EB48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812AD-0D5D-4F3D-80CC-2E89EFB568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88C15-0B7D-471F-B289-0FDD335CFE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C05F0-C9F0-4A19-BEAA-BEB77C7A11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40ABE-F482-4B6C-8CCD-5C1A073452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9214-5186-473F-B60B-3F13752A08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7A3EE-0774-4F9C-A18F-5BD4FE669A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99454-00FC-4E1C-811C-E2777DC03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A845-3300-438A-9566-9B9648D76C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C9608-ECDA-4608-ADB3-73AA4303F8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A3B55-FDD2-4145-9AC7-DA9CA31BF5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4AD5-00C0-422A-8FE7-3FFD0A2FE3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B9F9F-8B52-4490-93A1-3FFA6E9C9A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F08A-838C-466D-8E2E-907DBB2F5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0026-BB53-4630-B365-51CEF7F7D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7898-4884-4086-A408-BB35EA115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8CC4-786C-402F-9B0C-E6E27C17F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ACDB-0D3C-4241-8421-0542DA377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C35F-E22D-452F-BA4C-368F49F00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D0D3-10F8-40AF-92FF-1F5973DB1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16000" y="6365520"/>
            <a:ext cx="54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A982-B2CF-411C-A786-2E739C30880E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B33A-1809-4EB9-AA05-F696338A8B68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0574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Устный журнал, посвященный выбору профессий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9" name="WordArt 5"/>
          <p:cNvSpPr txBox="1"/>
          <p:nvPr/>
        </p:nvSpPr>
        <p:spPr>
          <a:xfrm>
            <a:off x="685800" y="304920"/>
            <a:ext cx="8001000" cy="18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мире профессий</a:t>
            </a:r>
            <a:endParaRPr b="0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Ликбез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c2c84"/>
                </a:solidFill>
                <a:latin typeface="Arial"/>
              </a:rPr>
              <a:t>Пять типов профессий.</a:t>
            </a:r>
            <a:endParaRPr b="0" lang="en-US" sz="40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9900"/>
                </a:solidFill>
                <a:latin typeface="Arial"/>
              </a:rPr>
              <a:t>Третий тип: человек – человек.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едметом труда в этой профессии является другой человек, а характерной чертой деятельности – воздействие на других людей. К такому типу профессий относятся: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читель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рач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журналист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одавец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3" name="Picture 6" descr="Рисунок9"/>
          <p:cNvPicPr/>
          <p:nvPr/>
        </p:nvPicPr>
        <p:blipFill>
          <a:blip r:embed="rId5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6"/>
          <a:stretch/>
        </p:blipFill>
        <p:spPr>
          <a:xfrm>
            <a:off x="6629400" y="4114800"/>
            <a:ext cx="16257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500"/>
                            </p:stCondLst>
                            <p:childTnLst>
                              <p:par>
                                <p:cTn id="2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500"/>
                            </p:stCondLst>
                            <p:childTnLst>
                              <p:par>
                                <p:cTn id="2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Ликбез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Пять типов профессий.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Четвертый тип: человек–знаковая система</a:t>
            </a:r>
            <a:r>
              <a:rPr b="1" lang="ru-RU" sz="2800" spc="-1" strike="noStrike">
                <a:solidFill>
                  <a:srgbClr val="4597a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алисты такого типа используют в своем труде различные знаки: устная и письменная речь, цифры, химические и физические символы, ноты, схемы, карты, графики, рисунки, дорожные знаки. Это :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хгалтеры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ые,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, работающие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лабораториях, научных центрах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7" name="Picture 6" descr="Рисунок9"/>
          <p:cNvPicPr/>
          <p:nvPr/>
        </p:nvPicPr>
        <p:blipFill>
          <a:blip r:embed="rId5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6"/>
          <a:stretch/>
        </p:blipFill>
        <p:spPr>
          <a:xfrm>
            <a:off x="7391520" y="4419720"/>
            <a:ext cx="1143000" cy="1676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7"/>
          <a:stretch/>
        </p:blipFill>
        <p:spPr>
          <a:xfrm>
            <a:off x="4648320" y="4419720"/>
            <a:ext cx="186696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500"/>
                            </p:stCondLst>
                            <p:childTnLst>
                              <p:par>
                                <p:cTn id="2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Ликбез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ять типов профессий.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3c8c93"/>
                </a:solidFill>
                <a:latin typeface="Arial"/>
              </a:rPr>
              <a:t>Пятый тип: человек – художественный образ.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Людей этого типа отличает наличие живого образного мышления, художественная фантазия, талант. Это: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музыкант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художник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актер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дизайнеры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22" name="Picture 2" descr="C:\Documents and Settings\хозяин\Рабочий стол\Ольга\0009-015-Professii-02.png"/>
          <p:cNvPicPr/>
          <p:nvPr/>
        </p:nvPicPr>
        <p:blipFill>
          <a:blip r:embed="rId5"/>
          <a:stretch/>
        </p:blipFill>
        <p:spPr>
          <a:xfrm>
            <a:off x="6400800" y="38862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500"/>
                            </p:stCondLst>
                            <p:childTnLst>
                              <p:par>
                                <p:cTn id="3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500"/>
                            </p:stCondLst>
                            <p:childTnLst>
                              <p:par>
                                <p:cTn id="3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500"/>
                            </p:stCondLst>
                            <p:childTnLst>
                              <p:par>
                                <p:cTn id="3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Тест «Ты и твоя профессия»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огодняя ночь для вас – лучшее время, чтобы: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ыспаться;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посмотреть телевизор вместе с семьей;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оказаться в кругу друзей.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25" name="Picture 6" descr="пенал"/>
          <p:cNvPicPr/>
          <p:nvPr/>
        </p:nvPicPr>
        <p:blipFill>
          <a:blip r:embed="rId4"/>
          <a:stretch/>
        </p:blipFill>
        <p:spPr>
          <a:xfrm>
            <a:off x="7596360" y="4495680"/>
            <a:ext cx="965160" cy="17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500"/>
                            </p:stCondLst>
                            <p:childTnLst>
                              <p:par>
                                <p:cTn id="3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Тест «Ты и твоя профессия»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всех подарков, вы предпочли бы: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удочку, набор для вышивания;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коньки или лыжи;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турпутевку или билет на интересное представление.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28" name="Picture 7" descr="предметы"/>
          <p:cNvPicPr/>
          <p:nvPr/>
        </p:nvPicPr>
        <p:blipFill>
          <a:blip r:embed="rId4"/>
          <a:stretch/>
        </p:blipFill>
        <p:spPr>
          <a:xfrm>
            <a:off x="7378560" y="4495680"/>
            <a:ext cx="1229040" cy="190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500"/>
                            </p:stCondLst>
                            <p:childTnLst>
                              <p:par>
                                <p:cTn id="3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Тест «Ты и твоя профессия»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правляться в путешествие лучше всего: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 одиночку;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с семьей или друзьями;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с незнакомой группой, чтобы была возможность обрести новых друзей.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31" name="Picture 6" descr="Рисунок3"/>
          <p:cNvPicPr/>
          <p:nvPr/>
        </p:nvPicPr>
        <p:blipFill>
          <a:blip r:embed="rId4"/>
          <a:stretch/>
        </p:blipFill>
        <p:spPr>
          <a:xfrm>
            <a:off x="7086600" y="5584680"/>
            <a:ext cx="1573200" cy="12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500"/>
                            </p:stCondLst>
                            <p:childTnLst>
                              <p:par>
                                <p:cTn id="3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500"/>
                            </p:stCondLst>
                            <p:childTnLst>
                              <p:par>
                                <p:cTn id="4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Тест «Ты и твоя профессия»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3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бы вы оказались в одиночестве на острове или в лесу, то: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3360" indent="-60336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почувствовали бы полную свободу;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3360" indent="-60336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занялись бы поиском выхода или каким-нибудь делом;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3360" indent="-60336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ощутили бы тоску, неприкаянность, страх.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34" name="Picture 6" descr="Рисунок4"/>
          <p:cNvPicPr/>
          <p:nvPr/>
        </p:nvPicPr>
        <p:blipFill>
          <a:blip r:embed="rId4"/>
          <a:stretch/>
        </p:blipFill>
        <p:spPr>
          <a:xfrm>
            <a:off x="6553080" y="5562720"/>
            <a:ext cx="1676520" cy="10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500"/>
                            </p:stCondLst>
                            <p:childTnLst>
                              <p:par>
                                <p:cTn id="4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500"/>
                            </p:stCondLst>
                            <p:childTnLst>
                              <p:par>
                                <p:cTn id="4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Тест «Ты и твоя профессия»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c2c84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2c2c84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свое свободное время вы любите:</a:t>
            </a:r>
            <a:endParaRPr b="0" lang="en-US" sz="27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читать, посещать библиотеку, шахматную секцию, зоопарк, лес, ловить рыбу, мечтать;</a:t>
            </a:r>
            <a:endParaRPr b="0" lang="en-US" sz="27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рисовать, читать, заниматься спортом, музыкой, шитьем или вязанием, ходить в походы, разговаривать по телефону, смотреть телевизор.</a:t>
            </a:r>
            <a:endParaRPr b="0" lang="en-US" sz="27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76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заниматься спортом, танцами, играть в ансамбле, петь в хоре, участвовать в спектаклях и концертах, путешествовать с друзьями, ходить с компанией в кино</a:t>
            </a:r>
            <a:r>
              <a:rPr b="0" lang="ru-RU" sz="1900" spc="-1" strike="noStrike">
                <a:solidFill>
                  <a:srgbClr val="2c2c84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37" name="Picture 6" descr="Рисунок23"/>
          <p:cNvPicPr/>
          <p:nvPr/>
        </p:nvPicPr>
        <p:blipFill>
          <a:blip r:embed="rId4"/>
          <a:stretch/>
        </p:blipFill>
        <p:spPr>
          <a:xfrm>
            <a:off x="7162920" y="5638680"/>
            <a:ext cx="1652400" cy="9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500"/>
                            </p:stCondLst>
                            <p:childTnLst>
                              <p:par>
                                <p:cTn id="4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500"/>
                            </p:stCondLst>
                            <p:childTnLst>
                              <p:par>
                                <p:cTn id="4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500"/>
                            </p:stCondLst>
                            <p:childTnLst>
                              <p:par>
                                <p:cTn id="4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Тест «Ты и твоя профессия»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52480" y="1949400"/>
          <a:ext cx="7845480" cy="3927600"/>
        </p:xfrm>
        <a:graphic>
          <a:graphicData uri="http://schemas.openxmlformats.org/drawingml/2006/table">
            <a:tbl>
              <a:tblPr/>
              <a:tblGrid>
                <a:gridCol w="3922560"/>
                <a:gridCol w="3922920"/>
              </a:tblGrid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9900"/>
                      </a:solidFill>
                    </a:lnL>
                    <a:lnR w="38160">
                      <a:solidFill>
                        <a:srgbClr val="ff9900"/>
                      </a:solidFill>
                    </a:lnR>
                    <a:lnT w="38160">
                      <a:solidFill>
                        <a:srgbClr val="ff9900"/>
                      </a:solidFill>
                    </a:lnT>
                    <a:lnB w="381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1 бал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9900"/>
                      </a:solidFill>
                    </a:lnL>
                    <a:lnR w="38160">
                      <a:solidFill>
                        <a:srgbClr val="ff9900"/>
                      </a:solidFill>
                    </a:lnR>
                    <a:lnT w="38160">
                      <a:solidFill>
                        <a:srgbClr val="ff9900"/>
                      </a:solidFill>
                    </a:lnT>
                    <a:lnB w="381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9900"/>
                      </a:solidFill>
                    </a:lnL>
                    <a:lnR w="38160">
                      <a:solidFill>
                        <a:srgbClr val="ff9900"/>
                      </a:solidFill>
                    </a:lnR>
                    <a:lnT w="38160">
                      <a:solidFill>
                        <a:srgbClr val="ff9900"/>
                      </a:solidFill>
                    </a:lnT>
                    <a:lnB w="381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2 балл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9900"/>
                      </a:solidFill>
                    </a:lnL>
                    <a:lnR w="38160">
                      <a:solidFill>
                        <a:srgbClr val="ff9900"/>
                      </a:solidFill>
                    </a:lnR>
                    <a:lnT w="38160">
                      <a:solidFill>
                        <a:srgbClr val="ff9900"/>
                      </a:solidFill>
                    </a:lnT>
                    <a:lnB w="381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9900"/>
                      </a:solidFill>
                    </a:lnL>
                    <a:lnR w="38160">
                      <a:solidFill>
                        <a:srgbClr val="ff9900"/>
                      </a:solidFill>
                    </a:lnR>
                    <a:lnT w="38160">
                      <a:solidFill>
                        <a:srgbClr val="ff9900"/>
                      </a:solidFill>
                    </a:lnT>
                    <a:lnB w="381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3 бал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9900"/>
                      </a:solidFill>
                    </a:lnL>
                    <a:lnR w="38160">
                      <a:solidFill>
                        <a:srgbClr val="ff9900"/>
                      </a:solidFill>
                    </a:lnR>
                    <a:lnT w="38160">
                      <a:solidFill>
                        <a:srgbClr val="ff9900"/>
                      </a:solidFill>
                    </a:lnT>
                    <a:lnB w="381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20" descr="Рисунок2"/>
          <p:cNvPicPr/>
          <p:nvPr/>
        </p:nvPicPr>
        <p:blipFill>
          <a:blip r:embed="rId1"/>
          <a:stretch/>
        </p:blipFill>
        <p:spPr>
          <a:xfrm>
            <a:off x="6248520" y="5607000"/>
            <a:ext cx="2130480" cy="12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Тест «Ты и твоя профессия»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т 5 до 8 баллов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правило, это люди малообщительные, стеснительные, замкнутые. Они не любят шумных незнакомых компаний, встречи с незнакомыми людьми им доставляют беспокойство. Это значит, что им не очень подходят профессии, которые требуют активного общения (продавец, учитель, журналист и психолог). Зато они будут хорошо себя чувствовать в научной лаборатории или на собственной ферме, в питомнике, лесничестве, охотхозяйстве. Таким людям подойдет работа: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иста, 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есаря или токаря, 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хгалтера, 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тора ЭВМ.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43" name="Picture 6" descr="Рисунок6"/>
          <p:cNvPicPr/>
          <p:nvPr/>
        </p:nvPicPr>
        <p:blipFill>
          <a:blip r:embed="rId5"/>
          <a:stretch/>
        </p:blipFill>
        <p:spPr>
          <a:xfrm>
            <a:off x="5715000" y="4572000"/>
            <a:ext cx="2286000" cy="20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500"/>
                            </p:stCondLst>
                            <p:childTnLst>
                              <p:par>
                                <p:cTn id="5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5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500"/>
                            </p:stCondLst>
                            <p:childTnLst>
                              <p:par>
                                <p:cTn id="5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ыбор профессии – выбор будущего.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1" name="Picture 2" descr="C:\Users\я\Desktop\профи.jpg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Тест «Ты и твоя профессия»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т 9 до 12 баллов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  очень общительны и чувствуют себя прекрасно в любой компании. Они не боятся новых знакомств, легко сходятся с людьми. Но они могут обходиться длительное время и без общения. Таким подойдут любые профессии.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46" name="Picture 6" descr="Рисунок1"/>
          <p:cNvPicPr/>
          <p:nvPr/>
        </p:nvPicPr>
        <p:blipFill>
          <a:blip r:embed="rId2"/>
          <a:stretch/>
        </p:blipFill>
        <p:spPr>
          <a:xfrm>
            <a:off x="7010280" y="5410080"/>
            <a:ext cx="1627200" cy="11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500"/>
                            </p:stCondLst>
                            <p:childTnLst>
                              <p:par>
                                <p:cTn id="5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Тест «Ты и твоя профессия»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т 13 до 15 баллов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1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 общительные, но они не могут долго оставаться в одиночестве – в них слишком много энергии и силы. Таким людям лучше выбирать профессию, которая будет связана с большими коллективами людей, с активным общением: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1360" indent="-2613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гента по рекламе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1360" indent="-2613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мерческого директора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1360" indent="-2613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а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1360" indent="-2613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лера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1360" indent="-2613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я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1360" indent="-2613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окера,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1360" indent="-2613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нера.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49" name="Picture 6" descr="Рисунок8"/>
          <p:cNvPicPr/>
          <p:nvPr/>
        </p:nvPicPr>
        <p:blipFill>
          <a:blip r:embed="rId8"/>
          <a:stretch/>
        </p:blipFill>
        <p:spPr>
          <a:xfrm>
            <a:off x="6378480" y="3962520"/>
            <a:ext cx="2086200" cy="25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500"/>
                            </p:stCondLst>
                            <p:childTnLst>
                              <p:par>
                                <p:cTn id="5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500"/>
                            </p:stCondLst>
                            <p:childTnLst>
                              <p:par>
                                <p:cTn id="5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5500"/>
                            </p:stCondLst>
                            <p:childTnLst>
                              <p:par>
                                <p:cTn id="5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500"/>
                            </p:stCondLst>
                            <p:childTnLst>
                              <p:par>
                                <p:cTn id="5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40500"/>
                            </p:stCondLst>
                            <p:childTnLst>
                              <p:par>
                                <p:cTn id="5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Лента новостей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Ярмарка профессий.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Arial"/>
              </a:rPr>
              <a:t>Web</a:t>
            </a: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-программист, </a:t>
            </a:r>
            <a:r>
              <a:rPr b="1" lang="en-US" sz="2500" spc="-1" strike="noStrike">
                <a:solidFill>
                  <a:srgbClr val="c00000"/>
                </a:solidFill>
                <a:latin typeface="Arial"/>
              </a:rPr>
              <a:t>web</a:t>
            </a: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-дизайнер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– это специалист по созданию сайтов для глобальной сети Интернет.</a:t>
            </a:r>
            <a:endParaRPr b="0" lang="en-US" sz="25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Аудитор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500" spc="-1" strike="noStrike">
                <a:solidFill>
                  <a:srgbClr val="262673"/>
                </a:solidFill>
                <a:latin typeface="Arial"/>
              </a:rPr>
              <a:t> это специалист, который проверяет финансовую деятельность компании, оценивает ее успешность и эффективность.</a:t>
            </a:r>
            <a:endParaRPr b="0" lang="en-US" sz="25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Бренд-менеджер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– специалист, который придумывает образ продукта (бренд) и продвигает этот образ в массы</a:t>
            </a:r>
            <a:r>
              <a:rPr b="1" lang="ru-RU" sz="2500" spc="-1" strike="noStrike">
                <a:solidFill>
                  <a:srgbClr val="2c2c84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52" name="Picture 7" descr="Рисунок23"/>
          <p:cNvPicPr/>
          <p:nvPr/>
        </p:nvPicPr>
        <p:blipFill>
          <a:blip r:embed="rId4"/>
          <a:stretch/>
        </p:blipFill>
        <p:spPr>
          <a:xfrm>
            <a:off x="228600" y="228600"/>
            <a:ext cx="165276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500"/>
                            </p:stCondLst>
                            <p:childTnLst>
                              <p:par>
                                <p:cTn id="6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500"/>
                            </p:stCondLst>
                            <p:childTnLst>
                              <p:par>
                                <p:cTn id="6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Лента новостей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Ярмарка профессий.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огистик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специалист, регулирующий потоки: складские, транспортные, производственные. Транспортный логистик придумывает схемы перевозки грузов компании, складской логистик занимается организацией хранения продукции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аркетолог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– в переводе с латыни «знающий рынок». Специалист, изучающий рынок для того, чтобы узнать потребности покупателей, их вкусы и предпочтения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ерчендайзер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это человек, который следит за тем, как товар его фирмы представлен в крупных магазинах. Он обходит магазины, дает советы по размещению товара, по оформлению витрин. Этой специальности пока не обучают ни в одном учебном заведе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55" name="Picture 6" descr="Рисунок23"/>
          <p:cNvPicPr/>
          <p:nvPr/>
        </p:nvPicPr>
        <p:blipFill>
          <a:blip r:embed="rId4"/>
          <a:stretch/>
        </p:blipFill>
        <p:spPr>
          <a:xfrm>
            <a:off x="228600" y="228600"/>
            <a:ext cx="165276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500"/>
                            </p:stCondLst>
                            <p:childTnLst>
                              <p:par>
                                <p:cTn id="6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6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Занимательные факты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0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амые редкие профессии.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  <a:p>
            <a:pPr marL="210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  <a:p>
            <a:pPr marL="210600" indent="-210600" algn="just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итестер</a:t>
            </a:r>
            <a:r>
              <a:rPr b="1" lang="ru-RU" sz="3600" spc="-1" strike="noStrike">
                <a:solidFill>
                  <a:srgbClr val="2c2c84"/>
                </a:solidFill>
                <a:latin typeface="Arial"/>
              </a:rPr>
              <a:t> – дегустатор чая.</a:t>
            </a:r>
            <a:r>
              <a:rPr b="0" lang="ru-RU" sz="36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  <a:p>
            <a:pPr marL="210600" indent="-210600" algn="just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остижёр</a:t>
            </a:r>
            <a:r>
              <a:rPr b="1" lang="ru-RU" sz="3600" spc="-1" strike="noStrike">
                <a:solidFill>
                  <a:srgbClr val="2c2c84"/>
                </a:solidFill>
                <a:latin typeface="Arial"/>
              </a:rPr>
              <a:t> - это специалист по изготовлению париков, усов, бород и бакенбардов. </a:t>
            </a: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  <a:p>
            <a:pPr marL="2106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106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58" name="Picture 6" descr="Рисунок17"/>
          <p:cNvPicPr/>
          <p:nvPr/>
        </p:nvPicPr>
        <p:blipFill>
          <a:blip r:embed="rId3"/>
          <a:stretch/>
        </p:blipFill>
        <p:spPr>
          <a:xfrm>
            <a:off x="6400800" y="4829040"/>
            <a:ext cx="2289240" cy="20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5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0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Заголовок 1" descr=""/>
          <p:cNvPicPr/>
          <p:nvPr/>
        </p:nvPicPr>
        <p:blipFill>
          <a:blip r:embed="rId1"/>
          <a:stretch/>
        </p:blipFill>
        <p:spPr>
          <a:xfrm>
            <a:off x="907920" y="10944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test[1]"/>
          <p:cNvPicPr/>
          <p:nvPr/>
        </p:nvPicPr>
        <p:blipFill>
          <a:blip r:embed="rId2"/>
          <a:stretch/>
        </p:blipFill>
        <p:spPr>
          <a:xfrm>
            <a:off x="5867280" y="45244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я\Desktop\titester1.jpg"/>
          <p:cNvPicPr/>
          <p:nvPr/>
        </p:nvPicPr>
        <p:blipFill>
          <a:blip r:embed="rId3"/>
          <a:stretch/>
        </p:blipFill>
        <p:spPr>
          <a:xfrm>
            <a:off x="250920" y="1125360"/>
            <a:ext cx="2082600" cy="2776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C:\Users\я\Desktop\42ccc806e7f26.jpg"/>
          <p:cNvPicPr/>
          <p:nvPr/>
        </p:nvPicPr>
        <p:blipFill>
          <a:blip r:embed="rId4"/>
          <a:stretch/>
        </p:blipFill>
        <p:spPr>
          <a:xfrm>
            <a:off x="1187280" y="4005360"/>
            <a:ext cx="4094280" cy="263844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2"/>
          <p:cNvSpPr/>
          <p:nvPr/>
        </p:nvSpPr>
        <p:spPr>
          <a:xfrm>
            <a:off x="2340000" y="1413000"/>
            <a:ext cx="6632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тестер должен досконально знать ботанику, биохимию, географию, маркетинг чайной торговли, историю и особенности всех основных чайных плантаций в странах-производителях ч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Заголовок 1" descr=""/>
          <p:cNvPicPr/>
          <p:nvPr/>
        </p:nvPicPr>
        <p:blipFill>
          <a:blip r:embed="rId1"/>
          <a:stretch/>
        </p:blipFill>
        <p:spPr>
          <a:xfrm>
            <a:off x="907920" y="10944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постижор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528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Arial"/>
              </a:rPr>
              <a:t>Занимательные факты</a:t>
            </a: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52120" y="1294920"/>
            <a:ext cx="7845480" cy="45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амые редкие профессии.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Мастер спецэффектов</a:t>
            </a: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Актуарий</a:t>
            </a: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Копирайтер</a:t>
            </a: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Таксидермист</a:t>
            </a: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амые необычные професси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7720" y="1523880"/>
            <a:ext cx="785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рофессиональная соня 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Тестер пляжей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Трамбовщик 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Доильщик ядовитых змей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Переворачиватель пингвинов 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Собеседник.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Тестировщик мебели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 Тестировщик игр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яльщик в очереди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рофессиональная соня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71" name="Содержимое 3" descr="http://xn--80adka3bq0g.tv/images/content/prof.jpg"/>
          <p:cNvPicPr/>
          <p:nvPr/>
        </p:nvPicPr>
        <p:blipFill>
          <a:blip r:embed="rId1"/>
          <a:stretch/>
        </p:blipFill>
        <p:spPr>
          <a:xfrm>
            <a:off x="584280" y="1697040"/>
            <a:ext cx="779760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рофессия (от лат. 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profitere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– «объявлять своим делом»)</a:t>
            </a:r>
            <a:endParaRPr b="0" lang="en-US" sz="40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599840"/>
            <a:ext cx="824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означает род трудовой деятельности, требующий определённой подготовки и являющийся источником существования. Кроме того профессия  – это ещё и знания, умения, личные качества, необходимые для того, чтобы успешно заниматься данной работой, получая вознаграждение за свой труд.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Тестер пляжей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73" name="Содержимое 3" descr="http://xn--80adka3bq0g.tv/images/content/prof1.jpg"/>
          <p:cNvPicPr/>
          <p:nvPr/>
        </p:nvPicPr>
        <p:blipFill>
          <a:blip r:embed="rId1"/>
          <a:stretch/>
        </p:blipFill>
        <p:spPr>
          <a:xfrm>
            <a:off x="714240" y="1571760"/>
            <a:ext cx="7743960" cy="47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Трамбовщик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75" name="Содержимое 3" descr="http://xn--80adka3bq0g.tv/images/content/prof2.jpg"/>
          <p:cNvPicPr/>
          <p:nvPr/>
        </p:nvPicPr>
        <p:blipFill>
          <a:blip r:embed="rId1"/>
          <a:stretch/>
        </p:blipFill>
        <p:spPr>
          <a:xfrm>
            <a:off x="584280" y="1371600"/>
            <a:ext cx="79502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Доильщик ядовитых змей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77" name="Содержимое 3" descr="http://xn--80adka3bq0g.tv/images/content/prof4.jpg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обеседник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79" name="Содержимое 3" descr="http://xn--80adka3bq0g.tv/images/content/prof6.jpg"/>
          <p:cNvPicPr/>
          <p:nvPr/>
        </p:nvPicPr>
        <p:blipFill>
          <a:blip r:embed="rId1"/>
          <a:stretch/>
        </p:blipFill>
        <p:spPr>
          <a:xfrm>
            <a:off x="584280" y="1371600"/>
            <a:ext cx="77976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Тестировщик мебел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81" name="Содержимое 3" descr="http://xn--80adka3bq0g.tv/images/content/prof7.jpg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Тестировщик игр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83" name="Содержимое 3" descr="http://xn--80adka3bq0g.tv/images/content/prof8.jpg"/>
          <p:cNvPicPr/>
          <p:nvPr/>
        </p:nvPicPr>
        <p:blipFill>
          <a:blip r:embed="rId1"/>
          <a:stretch/>
        </p:blipFill>
        <p:spPr>
          <a:xfrm>
            <a:off x="685800" y="1295280"/>
            <a:ext cx="76960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тояльщик в очеред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85" name="Содержимое 3" descr="http://xn--80adka3bq0g.tv/images/content/prof9.jpg"/>
          <p:cNvPicPr/>
          <p:nvPr/>
        </p:nvPicPr>
        <p:blipFill>
          <a:blip r:embed="rId1"/>
          <a:stretch/>
        </p:blipFill>
        <p:spPr>
          <a:xfrm>
            <a:off x="642960" y="1371600"/>
            <a:ext cx="781524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иктор Гюго писал: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995640" y="1527120"/>
            <a:ext cx="4810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5600"/>
                <a:tab algn="l" pos="218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авильный выбор профессии позволяет реализовать свой творческий потенциал, избежать разочарования, оградить себя и свою семью от нищеты и неуверенности в завтрашнем дне.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255600"/>
                <a:tab algn="l" pos="218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88" name="Picture 2" descr="C:\Users\я\Desktop\гюго.gif"/>
          <p:cNvPicPr/>
          <p:nvPr/>
        </p:nvPicPr>
        <p:blipFill>
          <a:blip r:embed="rId2"/>
          <a:stretch/>
        </p:blipFill>
        <p:spPr>
          <a:xfrm>
            <a:off x="152280" y="1447920"/>
            <a:ext cx="3202200" cy="48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интересного вы узнали сегодня? </a:t>
            </a: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осталось в памяти? </a:t>
            </a: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 чем можно задуматься?</a:t>
            </a: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4"/>
          <p:cNvSpPr txBox="1"/>
          <p:nvPr/>
        </p:nvSpPr>
        <p:spPr>
          <a:xfrm>
            <a:off x="1752480" y="1828800"/>
            <a:ext cx="61722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</a:t>
            </a:r>
            <a:endParaRPr b="0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2" name="Picture 5" descr="ручка"/>
          <p:cNvPicPr/>
          <p:nvPr/>
        </p:nvPicPr>
        <p:blipFill>
          <a:blip r:embed="rId1"/>
          <a:stretch/>
        </p:blipFill>
        <p:spPr>
          <a:xfrm>
            <a:off x="685800" y="457200"/>
            <a:ext cx="147168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Чарльз Кеттеринг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00360" y="1371600"/>
            <a:ext cx="4338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Я интересуюсь своим будущим, потому что хочу провести в нем всю жизнь.</a:t>
            </a: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6" name="Picture 2" descr="D:\лето 2012 документация мамы\кл часы по профориентации 9 кл 26.03\i.jpg"/>
          <p:cNvPicPr/>
          <p:nvPr/>
        </p:nvPicPr>
        <p:blipFill>
          <a:blip r:embed="rId3"/>
          <a:stretch/>
        </p:blipFill>
        <p:spPr>
          <a:xfrm>
            <a:off x="324000" y="1609560"/>
            <a:ext cx="3960720" cy="42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31280" y="4800240"/>
            <a:ext cx="87123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ерись за то, к чему ты склонен, коль хочешь, чтоб в делах успешный был конец»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.А. Крылов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712800" y="-109440"/>
            <a:ext cx="7785000" cy="1950840"/>
          </a:xfrm>
          <a:prstGeom prst="rect">
            <a:avLst/>
          </a:prstGeom>
          <a:ln w="0">
            <a:noFill/>
          </a:ln>
        </p:spPr>
      </p:pic>
      <p:sp>
        <p:nvSpPr>
          <p:cNvPr id="89" name="Овал 3"/>
          <p:cNvSpPr/>
          <p:nvPr/>
        </p:nvSpPr>
        <p:spPr>
          <a:xfrm>
            <a:off x="2438280" y="2971800"/>
            <a:ext cx="2232000" cy="2209680"/>
          </a:xfrm>
          <a:prstGeom prst="ellipse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мо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Овал 5"/>
          <p:cNvGrpSpPr/>
          <p:nvPr/>
        </p:nvGrpSpPr>
        <p:grpSpPr>
          <a:xfrm>
            <a:off x="4400640" y="2859120"/>
            <a:ext cx="2274840" cy="2395440"/>
            <a:chOff x="4400640" y="2859120"/>
            <a:chExt cx="2274840" cy="2395440"/>
          </a:xfrm>
        </p:grpSpPr>
        <p:pic>
          <p:nvPicPr>
            <p:cNvPr id="91" name="Овал 5" descr=""/>
            <p:cNvPicPr/>
            <p:nvPr/>
          </p:nvPicPr>
          <p:blipFill>
            <a:blip r:embed="rId2"/>
            <a:stretch/>
          </p:blipFill>
          <p:spPr>
            <a:xfrm>
              <a:off x="4400640" y="2859120"/>
              <a:ext cx="227484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775040" y="3230640"/>
              <a:ext cx="15289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00000"/>
                  </a:solidFill>
                  <a:latin typeface="Arial"/>
                </a:rPr>
                <a:t>над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Овал 6"/>
          <p:cNvSpPr/>
          <p:nvPr/>
        </p:nvSpPr>
        <p:spPr>
          <a:xfrm>
            <a:off x="3419640" y="1447920"/>
            <a:ext cx="2253960" cy="2209680"/>
          </a:xfrm>
          <a:prstGeom prst="ellips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хоч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бедренный треугольник 8"/>
          <p:cNvSpPr/>
          <p:nvPr/>
        </p:nvSpPr>
        <p:spPr>
          <a:xfrm rot="10800000">
            <a:off x="3504960" y="3047760"/>
            <a:ext cx="2057400" cy="1600200"/>
          </a:xfrm>
          <a:prstGeom prst="triangle">
            <a:avLst>
              <a:gd name="adj" fmla="val 4823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10"/>
          <p:cNvCxnSpPr/>
          <p:nvPr/>
        </p:nvCxnSpPr>
        <p:spPr>
          <a:xfrm>
            <a:off x="1666440" y="990720"/>
            <a:ext cx="1607400" cy="21182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96" name="Picture 2" descr="C:\Users\я\Desktop\крылов.jpg"/>
          <p:cNvPicPr/>
          <p:nvPr/>
        </p:nvPicPr>
        <p:blipFill>
          <a:blip r:embed="rId3"/>
          <a:stretch/>
        </p:blipFill>
        <p:spPr>
          <a:xfrm>
            <a:off x="152280" y="2514600"/>
            <a:ext cx="2133720" cy="26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Рубр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роблем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Ликбез (ликвидация безграмотност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ес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Лента нов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Занимательные факт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амые необычные проф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Рисунок16"/>
          <p:cNvPicPr/>
          <p:nvPr/>
        </p:nvPicPr>
        <p:blipFill>
          <a:blip r:embed="rId7"/>
          <a:stretch/>
        </p:blipFill>
        <p:spPr>
          <a:xfrm>
            <a:off x="7162920" y="3124080"/>
            <a:ext cx="175248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роблема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c2c84"/>
                </a:solidFill>
                <a:latin typeface="Arial"/>
              </a:rPr>
              <a:t>Лишние люди на рынке труда</a:t>
            </a:r>
            <a:endParaRPr b="0" lang="en-US" sz="4000" spc="-1" strike="noStrike">
              <a:solidFill>
                <a:srgbClr val="2c2c84"/>
              </a:solidFill>
              <a:latin typeface="Arial"/>
            </a:endParaRPr>
          </a:p>
          <a:p>
            <a:pPr marL="266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55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падной Европе, по данным ООН, только 39 % молодых людей от 15 до 24 лет обеспечены работой, в России этот показатель ниже – 31 %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2" name="Picture 6" descr="Рисунок10"/>
          <p:cNvPicPr/>
          <p:nvPr/>
        </p:nvPicPr>
        <p:blipFill>
          <a:blip r:embed="rId2"/>
          <a:stretch/>
        </p:blipFill>
        <p:spPr>
          <a:xfrm>
            <a:off x="6172200" y="4356000"/>
            <a:ext cx="2130480" cy="20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5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Ликбез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ять типов профессий</a:t>
            </a:r>
            <a:endParaRPr b="0" lang="en-US" sz="40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Первый тип: человек – природа. 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 этих профессий имеют дело с живой и неживой природой: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теринар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гроном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дролог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ханизатор;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кторист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них характерен общий предмет труда: животные и растения, почва и воздушная среда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5" name="Picture 6" descr="Рисунок9"/>
          <p:cNvPicPr/>
          <p:nvPr/>
        </p:nvPicPr>
        <p:blipFill>
          <a:blip r:embed="rId6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7"/>
          <a:stretch/>
        </p:blipFill>
        <p:spPr>
          <a:xfrm>
            <a:off x="6400800" y="3505320"/>
            <a:ext cx="167652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Ликбез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40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торой тип: человек – техника. 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то могут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ыть: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етчик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одител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трос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окар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лесари,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ругие профессии, использующие технические устройства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9" name="Picture 6" descr="Рисунок9"/>
          <p:cNvPicPr/>
          <p:nvPr/>
        </p:nvPicPr>
        <p:blipFill>
          <a:blip r:embed="rId7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8"/>
          <a:stretch/>
        </p:blipFill>
        <p:spPr>
          <a:xfrm>
            <a:off x="4952880" y="2971800"/>
            <a:ext cx="260028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500"/>
                            </p:stCondLst>
                            <p:childTnLst>
                              <p:par>
                                <p:cTn id="1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500"/>
                            </p:stCondLst>
                            <p:childTnLst>
                              <p:par>
                                <p:cTn id="1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SS</cp:lastModifiedBy>
  <dcterms:modified xsi:type="dcterms:W3CDTF">2015-01-22T19:37:3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