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wmf" ContentType="image/x-wmf"/>
  <Override PartName="/ppt/media/image29.png" ContentType="image/png"/>
  <Override PartName="/ppt/media/image14.wmf" ContentType="image/x-wmf"/>
  <Override PartName="/ppt/media/image9.jpeg" ContentType="image/jpeg"/>
  <Override PartName="/ppt/media/image11.png" ContentType="image/png"/>
  <Override PartName="/ppt/media/image12.png" ContentType="image/png"/>
  <Override PartName="/ppt/media/image32.jpeg" ContentType="image/jpeg"/>
  <Override PartName="/ppt/media/image13.wmf" ContentType="image/x-wmf"/>
  <Override PartName="/ppt/media/image35.png" ContentType="image/png"/>
  <Override PartName="/ppt/media/image43.jpeg" ContentType="image/jpeg"/>
  <Override PartName="/ppt/media/image5.png" ContentType="image/png"/>
  <Override PartName="/ppt/media/image31.png" ContentType="image/png"/>
  <Override PartName="/ppt/media/image28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34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15.wmf" ContentType="image/x-wmf"/>
  <Override PartName="/ppt/media/image41.jpeg" ContentType="image/jpeg"/>
  <Override PartName="/ppt/media/image39.jpeg" ContentType="image/jpeg"/>
  <Override PartName="/ppt/media/image8.png" ContentType="image/png"/>
  <Override PartName="/ppt/media/image16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2863-B752-45F0-BCA2-CC4FDE7C43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D6BC-010B-4923-9CD9-084C4B949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8B222-FD15-4C5C-B244-1265B1212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638D-5DE1-4955-8C7E-F81FF40DF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F847-B3BD-4611-8613-2B1F84F950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43EB5-51AA-45EC-90EA-0A0C8904E5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8BD5-B24F-4048-A8C9-91637843A4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7A82A-6AF5-4BCD-8726-87EEADDF0A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F7095-9F37-4BE7-AEAB-9FD5CABEA5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95F0D-95D7-40A9-A227-D8A4935E2B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9329-D608-44E1-85A9-52F755B9D5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2578-A28B-4A33-AC99-8F1CF96D8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208D3-0858-4CE9-A491-1419CA5CB0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50AA-67CC-4001-8B8B-96FA9561A6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4A1D-8B5B-405A-AB3E-FDDC54D1DB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4C508-3DD2-46F0-8F84-D4914AACC6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496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57800" y="194940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85212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496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57800" y="4001040"/>
            <a:ext cx="25261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6E95-58AC-49AE-9B32-DBA05ADD3A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F0B6-2EA2-46C3-89CD-9B93A86AF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A8D9-0222-4B8E-9BD2-9CB7F9760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E4DA1-D943-48BF-98B4-248D043A26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307A-AE87-4F9C-86E6-0026546CA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D4643-FBF8-4FD6-9DCB-D07BEE957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72240" y="400104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30395-2354-4E8C-96EE-579A8CF7B5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212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2240" y="1949400"/>
            <a:ext cx="382824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2120" y="4001040"/>
            <a:ext cx="78454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DD54-BD42-44A3-9CC4-AD1D70ED0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16000" y="6365520"/>
            <a:ext cx="54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D3D-A4E2-4E95-BB11-D137FC3D15FA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1" marL="712800" indent="-18108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2" marL="1235160" indent="-228600">
              <a:spcBef>
                <a:spcPts val="550"/>
              </a:spcBef>
              <a:buClr>
                <a:srgbClr val="2c2c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3" marL="1643040" indent="-228600">
              <a:spcBef>
                <a:spcPts val="550"/>
              </a:spcBef>
              <a:buClr>
                <a:srgbClr val="2c2c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2c2c8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84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64B6-BCBD-4647-A964-058009825ECE}" type="slidenum"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png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0574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Устный журнал, посвященный выбору профессий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685800" y="304920"/>
            <a:ext cx="8001000" cy="18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ире профессий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2c84"/>
                </a:solidFill>
                <a:latin typeface="Arial"/>
              </a:rPr>
              <a:t>Пять типов профессий.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9900"/>
                </a:solidFill>
                <a:latin typeface="Arial"/>
              </a:rPr>
              <a:t>Третий тип: человек – человек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дметом труда в этой профессии является другой человек, а характерной чертой деятельности – воздействие на других людей. К такому типу профессий относятся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учитель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рач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журналист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давец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3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6"/>
          <a:stretch/>
        </p:blipFill>
        <p:spPr>
          <a:xfrm>
            <a:off x="6629400" y="4114800"/>
            <a:ext cx="162576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500"/>
                            </p:stCondLst>
                            <p:childTnLst>
                              <p:par>
                                <p:cTn id="2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Пять типов профессий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етвертый тип: человек–знаковая система</a:t>
            </a:r>
            <a:r>
              <a:rPr b="1" lang="ru-RU" sz="2800" spc="-1" strike="noStrike">
                <a:solidFill>
                  <a:srgbClr val="4597a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иалисты такого типа используют в своем труде различные знаки: устная и письменная речь, цифры, химические и физические символы, ноты, схемы, карты, графики, рисунки, дорожные знаки. Это 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хгалтеры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, работающие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лабораториях, научных центрах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17" name="Picture 6" descr="Рисунок9"/>
          <p:cNvPicPr/>
          <p:nvPr/>
        </p:nvPicPr>
        <p:blipFill>
          <a:blip r:embed="rId5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6"/>
          <a:stretch/>
        </p:blipFill>
        <p:spPr>
          <a:xfrm>
            <a:off x="7391520" y="44197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7"/>
          <a:stretch/>
        </p:blipFill>
        <p:spPr>
          <a:xfrm>
            <a:off x="4648320" y="4419720"/>
            <a:ext cx="1866960" cy="167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500"/>
                            </p:stCondLst>
                            <p:childTnLst>
                              <p:par>
                                <p:cTn id="2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5500"/>
                            </p:stCondLst>
                            <p:childTnLst>
                              <p:par>
                                <p:cTn id="2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Пять типов профессий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c8c93"/>
                </a:solidFill>
                <a:latin typeface="Arial"/>
              </a:rPr>
              <a:t>Пятый тип: человек – художественный образ.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Людей этого типа отличает наличие живого образного мышления, художественная фантазия, талант. Это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музыкант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художн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актер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дизайнеры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22" name="Picture 2" descr="C:\Documents and Settings\хозяин\Рабочий стол\Ольга\0009-015-Professii-02.png"/>
          <p:cNvPicPr/>
          <p:nvPr/>
        </p:nvPicPr>
        <p:blipFill>
          <a:blip r:embed="rId5"/>
          <a:stretch/>
        </p:blipFill>
        <p:spPr>
          <a:xfrm>
            <a:off x="6400800" y="3886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500"/>
                            </p:stCondLst>
                            <p:childTnLst>
                              <p:par>
                                <p:cTn id="30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500"/>
                            </p:stCondLst>
                            <p:childTnLst>
                              <p:par>
                                <p:cTn id="3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500"/>
                            </p:stCondLst>
                            <p:childTnLst>
                              <p:par>
                                <p:cTn id="3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2c84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вогодняя ночь для вас – лучшее время, чтобы: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ыспаться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посмотреть телевизор вместе с семьей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оказаться в кругу друзей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25" name="Picture 6" descr="пенал"/>
          <p:cNvPicPr/>
          <p:nvPr/>
        </p:nvPicPr>
        <p:blipFill>
          <a:blip r:embed="rId4"/>
          <a:stretch/>
        </p:blipFill>
        <p:spPr>
          <a:xfrm>
            <a:off x="7596360" y="4495680"/>
            <a:ext cx="965160" cy="17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3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всех подарков, вы предпочли бы: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удочку, набор для вышивания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коньки или лыжи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турпутевку или билет на интересное представление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28" name="Picture 7" descr="предметы"/>
          <p:cNvPicPr/>
          <p:nvPr/>
        </p:nvPicPr>
        <p:blipFill>
          <a:blip r:embed="rId4"/>
          <a:stretch/>
        </p:blipFill>
        <p:spPr>
          <a:xfrm>
            <a:off x="7378560" y="4495680"/>
            <a:ext cx="1229040" cy="19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500"/>
                            </p:stCondLst>
                            <p:childTnLst>
                              <p:par>
                                <p:cTn id="3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ляться в путешествие лучше всего: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в одиночку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с семьей или друзьями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с незнакомой группой, чтобы была возможность обрести новых друзей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31" name="Picture 6" descr="Рисунок3"/>
          <p:cNvPicPr/>
          <p:nvPr/>
        </p:nvPicPr>
        <p:blipFill>
          <a:blip r:embed="rId4"/>
          <a:stretch/>
        </p:blipFill>
        <p:spPr>
          <a:xfrm>
            <a:off x="7086600" y="5584680"/>
            <a:ext cx="157320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500"/>
                            </p:stCondLst>
                            <p:childTnLst>
                              <p:par>
                                <p:cTn id="3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0500"/>
                            </p:stCondLst>
                            <p:childTnLst>
                              <p:par>
                                <p:cTn id="4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3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бы вы оказались в одиночестве на острове или в лесу, то: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почувствовали бы полную свободу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занялись бы поиском выхода или каким-нибудь делом;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) ощутили бы тоску, неприкаянность, страх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34" name="Picture 6" descr="Рисунок4"/>
          <p:cNvPicPr/>
          <p:nvPr/>
        </p:nvPicPr>
        <p:blipFill>
          <a:blip r:embed="rId4"/>
          <a:stretch/>
        </p:blipFill>
        <p:spPr>
          <a:xfrm>
            <a:off x="6553080" y="5562720"/>
            <a:ext cx="1676520" cy="10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500"/>
                            </p:stCondLst>
                            <p:childTnLst>
                              <p:par>
                                <p:cTn id="4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4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5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2c2c84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свое свободное время вы любите: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) читать, посещать библиотеку, шахматную секцию, зоопарк, лес, ловить рыбу, мечтать;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75"/>
              </a:spcBef>
              <a:buSzPct val="10283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) рисовать, читать, заниматься спортом, музыкой, шитьем или вязанием, ходить в походы, разговаривать по телефону, смотреть телевизор.</a:t>
            </a:r>
            <a:endParaRPr b="0" lang="en-US" sz="2700" spc="-1" strike="noStrike">
              <a:solidFill>
                <a:srgbClr val="2c2c84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SzPct val="10283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) заниматься спортом, танцами, играть в ансамбле, петь в хоре, участвовать в спектаклях и концертах, путешествовать с друзьями, ходить с компанией в кино</a:t>
            </a:r>
            <a:r>
              <a:rPr b="0" lang="ru-RU" sz="19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37" name="Picture 6" descr="Рисунок23"/>
          <p:cNvPicPr/>
          <p:nvPr/>
        </p:nvPicPr>
        <p:blipFill>
          <a:blip r:embed="rId4"/>
          <a:stretch/>
        </p:blipFill>
        <p:spPr>
          <a:xfrm>
            <a:off x="7162920" y="5638680"/>
            <a:ext cx="1652400" cy="9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500"/>
                            </p:stCondLst>
                            <p:childTnLst>
                              <p:par>
                                <p:cTn id="4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52480" y="1949400"/>
          <a:ext cx="7845480" cy="3927600"/>
        </p:xfrm>
        <a:graphic>
          <a:graphicData uri="http://schemas.openxmlformats.org/drawingml/2006/table">
            <a:tbl>
              <a:tblPr/>
              <a:tblGrid>
                <a:gridCol w="3922560"/>
                <a:gridCol w="3922920"/>
              </a:tblGrid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1 бал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2 балл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</a:tr>
              <a:tr h="12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2c2c84"/>
                          </a:solidFill>
                          <a:latin typeface="Arial"/>
                        </a:rPr>
                        <a:t>3 бал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9900"/>
                      </a:solidFill>
                    </a:lnL>
                    <a:lnR w="38160">
                      <a:solidFill>
                        <a:srgbClr val="ff9900"/>
                      </a:solidFill>
                    </a:lnR>
                    <a:lnT w="38160">
                      <a:solidFill>
                        <a:srgbClr val="ff9900"/>
                      </a:solidFill>
                    </a:lnT>
                    <a:lnB w="38160">
                      <a:solidFill>
                        <a:srgbClr val="ff99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20" descr="Рисунок2"/>
          <p:cNvPicPr/>
          <p:nvPr/>
        </p:nvPicPr>
        <p:blipFill>
          <a:blip r:embed="rId1"/>
          <a:stretch/>
        </p:blipFill>
        <p:spPr>
          <a:xfrm>
            <a:off x="6248520" y="5607000"/>
            <a:ext cx="2130480" cy="125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5 до 8 баллов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правило, это люди малообщительные, стеснительные, замкнутые. Они не любят шумных незнакомых компаний, встречи с незнакомыми людьми им доставляют беспокойство. Это значит, что им не очень подходят профессии, которые требуют активного общения (продавец, учитель, журналист и психолог). Зато они будут хорошо себя чувствовать в научной лаборатории или на собственной ферме, в питомнике, лесничестве, охотхозяйстве. Таким людям подойдет работа: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граммиста,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саря или токаря,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хгалтера, 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ератора ЭВМ.</a:t>
            </a:r>
            <a:endParaRPr b="0" lang="en-US" sz="20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43" name="Picture 6" descr="Рисунок6"/>
          <p:cNvPicPr/>
          <p:nvPr/>
        </p:nvPicPr>
        <p:blipFill>
          <a:blip r:embed="rId5"/>
          <a:stretch/>
        </p:blipFill>
        <p:spPr>
          <a:xfrm>
            <a:off x="5715000" y="4572000"/>
            <a:ext cx="228600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500"/>
                            </p:stCondLst>
                            <p:childTnLst>
                              <p:par>
                                <p:cTn id="50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52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115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ыбор профессии – выбор будущего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1" name="Picture 2" descr="C:\Users\я\Desktop\профи.jpg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9 до 12 баллов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  очень общительны и чувствуют себя прекрасно в любой компании. Они не боятся новых знакомств, легко сходятся с людьми. Но они могут обходиться длительное время и без общения. Таким подойдут любые профессии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46" name="Picture 6" descr="Рисунок1"/>
          <p:cNvPicPr/>
          <p:nvPr/>
        </p:nvPicPr>
        <p:blipFill>
          <a:blip r:embed="rId2"/>
          <a:stretch/>
        </p:blipFill>
        <p:spPr>
          <a:xfrm>
            <a:off x="7010280" y="5410080"/>
            <a:ext cx="1627200" cy="118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500"/>
                            </p:stCondLst>
                            <p:childTnLst>
                              <p:par>
                                <p:cTn id="5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Тест «Ты и твоя профессия»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т 13 до 15 баллов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13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общительные, но они не могут долго оставаться в одиночестве – в них слишком много энергии и силы. Таким людям лучше выбирать профессию, которая будет связана с большими коллективами людей, с активным общением: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ента по рекламе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мерческого директора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авца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лера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я,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окера,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1360" indent="-2613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енера.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49" name="Picture 6" descr="Рисунок8"/>
          <p:cNvPicPr/>
          <p:nvPr/>
        </p:nvPicPr>
        <p:blipFill>
          <a:blip r:embed="rId8"/>
          <a:stretch/>
        </p:blipFill>
        <p:spPr>
          <a:xfrm>
            <a:off x="6378480" y="3962520"/>
            <a:ext cx="208620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500"/>
                            </p:stCondLst>
                            <p:childTnLst>
                              <p:par>
                                <p:cTn id="5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57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5500"/>
                            </p:stCondLst>
                            <p:childTnLst>
                              <p:par>
                                <p:cTn id="5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500"/>
                            </p:stCondLst>
                            <p:childTnLst>
                              <p:par>
                                <p:cTn id="5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40500"/>
                            </p:stCondLst>
                            <p:childTnLst>
                              <p:par>
                                <p:cTn id="59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0" fill="hold"/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рмарка профессий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Web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-программист, </a:t>
            </a:r>
            <a:r>
              <a:rPr b="1" lang="en-US" sz="2500" spc="-1" strike="noStrike">
                <a:solidFill>
                  <a:srgbClr val="c00000"/>
                </a:solidFill>
                <a:latin typeface="Arial"/>
              </a:rPr>
              <a:t>web</a:t>
            </a: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-дизайнер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– это специалист по созданию сайтов для глобальной сети Интернет.</a:t>
            </a:r>
            <a:endParaRPr b="0" lang="en-US" sz="25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Аудитор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500" spc="-1" strike="noStrike">
                <a:solidFill>
                  <a:srgbClr val="262673"/>
                </a:solidFill>
                <a:latin typeface="Arial"/>
              </a:rPr>
              <a:t> это специалист, который проверяет финансовую деятельность компании, оценивает ее успешность и эффективность.</a:t>
            </a:r>
            <a:endParaRPr b="0" lang="en-US" sz="25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Бренд-менеджер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– специалист, который придумывает образ продукта (бренд) и продвигает этот образ в массы</a:t>
            </a:r>
            <a:r>
              <a:rPr b="1" lang="ru-RU" sz="2500" spc="-1" strike="noStrike">
                <a:solidFill>
                  <a:srgbClr val="2c2c84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52" name="Picture 7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500"/>
                            </p:stCondLst>
                            <p:childTnLst>
                              <p:par>
                                <p:cTn id="6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Лента новостей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Ярмарка профессий.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огистик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специалист, регулирующий потоки: складские, транспортные, производственные. Транспортный логистик придумывает схемы перевозки грузов компании, складской логистик занимается организацией хранения продукции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аркетолог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– в переводе с латыни «знающий рынок». Специалист, изучающий рынок для того, чтобы узнать потребности покупателей, их вкусы и предпочтения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ерчендайзер</a:t>
            </a:r>
            <a:r>
              <a:rPr b="1" lang="ru-RU" sz="2400" spc="-1" strike="noStrike">
                <a:solidFill>
                  <a:srgbClr val="2c2c8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это человек, который следит за тем, как товар его фирмы представлен в крупных магазинах. Он обходит магазины, дает советы по размещению товара, по оформлению витрин. Этой специальности пока не обучают ни в одном учебном заведен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55" name="Picture 6" descr="Рисунок23"/>
          <p:cNvPicPr/>
          <p:nvPr/>
        </p:nvPicPr>
        <p:blipFill>
          <a:blip r:embed="rId4"/>
          <a:stretch/>
        </p:blipFill>
        <p:spPr>
          <a:xfrm>
            <a:off x="228600" y="228600"/>
            <a:ext cx="165276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500"/>
                            </p:stCondLst>
                            <p:childTnLst>
                              <p:par>
                                <p:cTn id="6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2c84"/>
                </a:solidFill>
                <a:latin typeface="Arial"/>
              </a:rPr>
              <a:t>Занимательные факты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10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амые редкие профессии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10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10600" indent="-210600" algn="just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итестер</a:t>
            </a:r>
            <a:r>
              <a:rPr b="1" lang="ru-RU" sz="3600" spc="-1" strike="noStrike">
                <a:solidFill>
                  <a:srgbClr val="2c2c84"/>
                </a:solidFill>
                <a:latin typeface="Arial"/>
              </a:rPr>
              <a:t> – дегустатор чая.</a:t>
            </a:r>
            <a:r>
              <a:rPr b="0" lang="ru-RU" sz="36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10600" indent="-210600" algn="just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стижёр</a:t>
            </a:r>
            <a:r>
              <a:rPr b="1" lang="ru-RU" sz="3600" spc="-1" strike="noStrike">
                <a:solidFill>
                  <a:srgbClr val="2c2c84"/>
                </a:solidFill>
                <a:latin typeface="Arial"/>
              </a:rPr>
              <a:t> - это специалист по изготовлению париков, усов, бород и бакенбардов. 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106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10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58" name="Picture 6" descr="Рисунок17"/>
          <p:cNvPicPr/>
          <p:nvPr/>
        </p:nvPicPr>
        <p:blipFill>
          <a:blip r:embed="rId3"/>
          <a:stretch/>
        </p:blipFill>
        <p:spPr>
          <a:xfrm>
            <a:off x="6400800" y="4829040"/>
            <a:ext cx="228924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Заголовок 1" descr=""/>
          <p:cNvPicPr/>
          <p:nvPr/>
        </p:nvPicPr>
        <p:blipFill>
          <a:blip r:embed="rId1"/>
          <a:stretch/>
        </p:blipFill>
        <p:spPr>
          <a:xfrm>
            <a:off x="907920" y="109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test[1]"/>
          <p:cNvPicPr/>
          <p:nvPr/>
        </p:nvPicPr>
        <p:blipFill>
          <a:blip r:embed="rId2"/>
          <a:stretch/>
        </p:blipFill>
        <p:spPr>
          <a:xfrm>
            <a:off x="5867280" y="45244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Users\я\Desktop\titester1.jpg"/>
          <p:cNvPicPr/>
          <p:nvPr/>
        </p:nvPicPr>
        <p:blipFill>
          <a:blip r:embed="rId3"/>
          <a:stretch/>
        </p:blipFill>
        <p:spPr>
          <a:xfrm>
            <a:off x="250920" y="1125360"/>
            <a:ext cx="2082600" cy="2776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C:\Users\я\Desktop\42ccc806e7f26.jpg"/>
          <p:cNvPicPr/>
          <p:nvPr/>
        </p:nvPicPr>
        <p:blipFill>
          <a:blip r:embed="rId4"/>
          <a:stretch/>
        </p:blipFill>
        <p:spPr>
          <a:xfrm>
            <a:off x="1187280" y="4005360"/>
            <a:ext cx="4094280" cy="263844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340000" y="1413000"/>
            <a:ext cx="6632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итестер должен досконально знать ботанику, биохимию, географию, маркетинг чайной торговли, историю и особенности всех основных чайных плантаций в странах-производителях ч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Заголовок 1" descr=""/>
          <p:cNvPicPr/>
          <p:nvPr/>
        </p:nvPicPr>
        <p:blipFill>
          <a:blip r:embed="rId1"/>
          <a:stretch/>
        </p:blipFill>
        <p:spPr>
          <a:xfrm>
            <a:off x="907920" y="10944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постижор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528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Занимательные факты</a:t>
            </a:r>
            <a:r>
              <a:rPr b="0" lang="ru-RU" sz="4400" spc="-1" strike="noStrike">
                <a:solidFill>
                  <a:srgbClr val="26267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52120" y="1294920"/>
            <a:ext cx="7845480" cy="45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Самые редкие профессии.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Мастер спецэффектов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Актуарий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Копирайтер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73"/>
                </a:solidFill>
                <a:latin typeface="Arial"/>
              </a:rPr>
              <a:t>Таксидермист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амые необычные професси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7720" y="1523880"/>
            <a:ext cx="785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Профессиональная соня 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Тестер пляжей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Трамбовщик 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Доильщик ядовитых змей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Переворачиватель пингвинов 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Собеседник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 Тестировщик мебели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 Тестировщик игр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яльщик в очереди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Профессиональная соня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1" name="Содержимое 3" descr="http://xn--80adka3bq0g.tv/images/content/prof.jpg"/>
          <p:cNvPicPr/>
          <p:nvPr/>
        </p:nvPicPr>
        <p:blipFill>
          <a:blip r:embed="rId1"/>
          <a:stretch/>
        </p:blipFill>
        <p:spPr>
          <a:xfrm>
            <a:off x="584280" y="1697040"/>
            <a:ext cx="779760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офессия (от лат. </a:t>
            </a: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rofitere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– «объявлять своим делом»)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599840"/>
            <a:ext cx="824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во означает род трудовой деятельности, требующий определённой подготовки и являющийся источником существования. Кроме того профессия  – это ещё и знания, умения, личные качества, необходимые для того, чтобы успешно заниматься данной работой, получая вознаграждение за свой труд. 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стер пляжей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3" name="Содержимое 3" descr="http://xn--80adka3bq0g.tv/images/content/prof1.jpg"/>
          <p:cNvPicPr/>
          <p:nvPr/>
        </p:nvPicPr>
        <p:blipFill>
          <a:blip r:embed="rId1"/>
          <a:stretch/>
        </p:blipFill>
        <p:spPr>
          <a:xfrm>
            <a:off x="714240" y="1571760"/>
            <a:ext cx="7743960" cy="47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рамбовщик</a:t>
            </a:r>
            <a:r>
              <a:rPr b="0" lang="ru-RU" sz="3200" spc="-1" strike="noStrike">
                <a:solidFill>
                  <a:srgbClr val="2c2c84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5" name="Содержимое 3" descr="http://xn--80adka3bq0g.tv/images/content/prof2.jpg"/>
          <p:cNvPicPr/>
          <p:nvPr/>
        </p:nvPicPr>
        <p:blipFill>
          <a:blip r:embed="rId1"/>
          <a:stretch/>
        </p:blipFill>
        <p:spPr>
          <a:xfrm>
            <a:off x="584280" y="1371600"/>
            <a:ext cx="79502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Доильщик ядовитых змей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7" name="Содержимое 3" descr="http://xn--80adka3bq0g.tv/images/content/prof4.jpg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обеседник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79" name="Содержимое 3" descr="http://xn--80adka3bq0g.tv/images/content/prof6.jpg"/>
          <p:cNvPicPr/>
          <p:nvPr/>
        </p:nvPicPr>
        <p:blipFill>
          <a:blip r:embed="rId1"/>
          <a:stretch/>
        </p:blipFill>
        <p:spPr>
          <a:xfrm>
            <a:off x="584280" y="1371600"/>
            <a:ext cx="779760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стировщик мебел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81" name="Содержимое 3" descr="http://xn--80adka3bq0g.tv/images/content/prof7.jpg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Тестировщик игр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83" name="Содержимое 3" descr="http://xn--80adka3bq0g.tv/images/content/prof8.jpg"/>
          <p:cNvPicPr/>
          <p:nvPr/>
        </p:nvPicPr>
        <p:blipFill>
          <a:blip r:embed="rId1"/>
          <a:stretch/>
        </p:blipFill>
        <p:spPr>
          <a:xfrm>
            <a:off x="685800" y="1295280"/>
            <a:ext cx="769608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тояльщик в очереди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85" name="Содержимое 3" descr="http://xn--80adka3bq0g.tv/images/content/prof9.jpg"/>
          <p:cNvPicPr/>
          <p:nvPr/>
        </p:nvPicPr>
        <p:blipFill>
          <a:blip r:embed="rId1"/>
          <a:stretch/>
        </p:blipFill>
        <p:spPr>
          <a:xfrm>
            <a:off x="642960" y="1371600"/>
            <a:ext cx="781524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Виктор Гюго писал: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995640" y="1527120"/>
            <a:ext cx="481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55600"/>
                <a:tab algn="l" pos="218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авильный выбор профессии позволяет реализовать свой творческий потенциал, избежать разочарования, оградить себя и свою семью от нищеты и неуверенности в завтрашнем дне.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255600"/>
                <a:tab algn="l" pos="2184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88" name="Picture 2" descr="C:\Users\я\Desktop\гюго.gif"/>
          <p:cNvPicPr/>
          <p:nvPr/>
        </p:nvPicPr>
        <p:blipFill>
          <a:blip r:embed="rId2"/>
          <a:stretch/>
        </p:blipFill>
        <p:spPr>
          <a:xfrm>
            <a:off x="152280" y="1447920"/>
            <a:ext cx="3202200" cy="48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2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52120" y="1949400"/>
            <a:ext cx="7845480" cy="39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интересного вы узнали сегодня? 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 осталось в памяти? 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 чем можно задуматься?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1752480" y="1828800"/>
            <a:ext cx="61722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2600">
                <a:solidFill>
                  <a:srgbClr val="ff99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2" name="Picture 5" descr="ручка"/>
          <p:cNvPicPr/>
          <p:nvPr/>
        </p:nvPicPr>
        <p:blipFill>
          <a:blip r:embed="rId1"/>
          <a:stretch/>
        </p:blipFill>
        <p:spPr>
          <a:xfrm>
            <a:off x="685800" y="457200"/>
            <a:ext cx="14716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0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Чарльз Кеттеринг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00360" y="1371600"/>
            <a:ext cx="4338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Я интересуюсь своим будущим, потому что хочу провести в нем всю жизнь.</a:t>
            </a:r>
            <a:endParaRPr b="0" lang="en-US" sz="3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6" name="Picture 2" descr="D:\лето 2012 документация мамы\кл часы по профориентации 9 кл 26.03\i.jpg"/>
          <p:cNvPicPr/>
          <p:nvPr/>
        </p:nvPicPr>
        <p:blipFill>
          <a:blip r:embed="rId3"/>
          <a:stretch/>
        </p:blipFill>
        <p:spPr>
          <a:xfrm>
            <a:off x="324000" y="1609560"/>
            <a:ext cx="3960720" cy="42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31280" y="4800240"/>
            <a:ext cx="87123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Берись за то, к чему ты склонен, коль хочешь, чтоб в делах успешный был конец»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.А. Крылов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712800" y="-109440"/>
            <a:ext cx="7785000" cy="1950840"/>
          </a:xfrm>
          <a:prstGeom prst="rect">
            <a:avLst/>
          </a:prstGeom>
          <a:ln w="0">
            <a:noFill/>
          </a:ln>
        </p:spPr>
      </p:pic>
      <p:sp>
        <p:nvSpPr>
          <p:cNvPr id="89" name="Овал 3"/>
          <p:cNvSpPr/>
          <p:nvPr/>
        </p:nvSpPr>
        <p:spPr>
          <a:xfrm>
            <a:off x="2438280" y="2971800"/>
            <a:ext cx="2232000" cy="2209680"/>
          </a:xfrm>
          <a:prstGeom prst="ellipse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Овал 5"/>
          <p:cNvGrpSpPr/>
          <p:nvPr/>
        </p:nvGrpSpPr>
        <p:grpSpPr>
          <a:xfrm>
            <a:off x="4400640" y="2859120"/>
            <a:ext cx="2274840" cy="2395440"/>
            <a:chOff x="4400640" y="2859120"/>
            <a:chExt cx="2274840" cy="2395440"/>
          </a:xfrm>
        </p:grpSpPr>
        <p:pic>
          <p:nvPicPr>
            <p:cNvPr id="91" name="Овал 5" descr=""/>
            <p:cNvPicPr/>
            <p:nvPr/>
          </p:nvPicPr>
          <p:blipFill>
            <a:blip r:embed="rId2"/>
            <a:stretch/>
          </p:blipFill>
          <p:spPr>
            <a:xfrm>
              <a:off x="4400640" y="2859120"/>
              <a:ext cx="227484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775040" y="3230640"/>
              <a:ext cx="152892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c00000"/>
                  </a:solidFill>
                  <a:latin typeface="Arial"/>
                </a:rPr>
                <a:t>над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Овал 6"/>
          <p:cNvSpPr/>
          <p:nvPr/>
        </p:nvSpPr>
        <p:spPr>
          <a:xfrm>
            <a:off x="3419640" y="1447920"/>
            <a:ext cx="2253960" cy="2209680"/>
          </a:xfrm>
          <a:prstGeom prst="ellipse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хоч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Равнобедренный треугольник 8"/>
          <p:cNvSpPr/>
          <p:nvPr/>
        </p:nvSpPr>
        <p:spPr>
          <a:xfrm rot="10800000">
            <a:off x="3504960" y="3047760"/>
            <a:ext cx="2057400" cy="1600200"/>
          </a:xfrm>
          <a:prstGeom prst="triangle">
            <a:avLst>
              <a:gd name="adj" fmla="val 48236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0"/>
          <p:cNvCxnSpPr/>
          <p:nvPr/>
        </p:nvCxnSpPr>
        <p:spPr>
          <a:xfrm>
            <a:off x="1666440" y="990720"/>
            <a:ext cx="1607400" cy="2118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96" name="Picture 2" descr="C:\Users\я\Desktop\крылов.jpg"/>
          <p:cNvPicPr/>
          <p:nvPr/>
        </p:nvPicPr>
        <p:blipFill>
          <a:blip r:embed="rId3"/>
          <a:stretch/>
        </p:blipFill>
        <p:spPr>
          <a:xfrm>
            <a:off x="152280" y="2514600"/>
            <a:ext cx="2133720" cy="26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Рубри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Проблем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Ликбез (ликвидация безграмотности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Тес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Лента новос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Занимательные факт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2268"/>
                </a:solidFill>
                <a:latin typeface="Arial"/>
              </a:rPr>
              <a:t>Самые необычные профе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Рисунок16"/>
          <p:cNvPicPr/>
          <p:nvPr/>
        </p:nvPicPr>
        <p:blipFill>
          <a:blip r:embed="rId7"/>
          <a:stretch/>
        </p:blipFill>
        <p:spPr>
          <a:xfrm>
            <a:off x="7162920" y="3124080"/>
            <a:ext cx="17524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Проблема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2c84"/>
                </a:solidFill>
                <a:latin typeface="Arial"/>
              </a:rPr>
              <a:t>Лишние люди на рынке труда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55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Западной Европе, по данным ООН, только 39 % молодых людей от 15 до 24 лет обеспечены работой, в России этот показатель ниже – 31 %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2" name="Picture 6" descr="Рисунок10"/>
          <p:cNvPicPr/>
          <p:nvPr/>
        </p:nvPicPr>
        <p:blipFill>
          <a:blip r:embed="rId2"/>
          <a:stretch/>
        </p:blipFill>
        <p:spPr>
          <a:xfrm>
            <a:off x="6172200" y="4356000"/>
            <a:ext cx="2130480" cy="20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500"/>
                            </p:stCondLst>
                            <p:childTnLst>
                              <p:par>
                                <p:cTn id="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Arial"/>
              </a:rPr>
              <a:t>Пять типов профессий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ервый тип: человек – природа. 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и этих профессий имеют дело с живой и неживой природой: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теринар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оном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дролог; 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ханизатор;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акторист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их характерен общий предмет труда: животные и растения, почва и воздушная среда.</a:t>
            </a:r>
            <a:endParaRPr b="0" lang="en-US" sz="24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5" name="Picture 6" descr="Рисунок9"/>
          <p:cNvPicPr/>
          <p:nvPr/>
        </p:nvPicPr>
        <p:blipFill>
          <a:blip r:embed="rId6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"/>
          <p:cNvPicPr/>
          <p:nvPr/>
        </p:nvPicPr>
        <p:blipFill>
          <a:blip r:embed="rId7"/>
          <a:stretch/>
        </p:blipFill>
        <p:spPr>
          <a:xfrm>
            <a:off x="6400800" y="3505320"/>
            <a:ext cx="167652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Arial"/>
              </a:rPr>
              <a:t>Ликбез</a:t>
            </a:r>
            <a:r>
              <a:rPr b="0" lang="ru-RU" sz="4400" spc="-1" strike="noStrike">
                <a:solidFill>
                  <a:srgbClr val="2c2c84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c8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c2c84"/>
                </a:solidFill>
                <a:latin typeface="Arial"/>
              </a:rPr>
              <a:t>Пять типов профессий</a:t>
            </a:r>
            <a:endParaRPr b="0" lang="en-US" sz="40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2c84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торой тип: человек – техника. </a:t>
            </a:r>
            <a:endParaRPr b="0" lang="en-US" sz="2800" spc="-1" strike="noStrike">
              <a:solidFill>
                <a:srgbClr val="2c2c84"/>
              </a:solidFill>
              <a:latin typeface="Arial"/>
            </a:endParaRPr>
          </a:p>
          <a:p>
            <a:pPr marL="26676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Это могу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ыть: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етчик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одител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атросы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окари, 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есари,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  <a:p>
            <a:pPr marL="266760" indent="-266760" algn="just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ругие профессии, использующие технические устройства.</a:t>
            </a:r>
            <a:endParaRPr b="0" lang="en-US" sz="2600" spc="-1" strike="noStrike">
              <a:solidFill>
                <a:srgbClr val="2c2c84"/>
              </a:solidFill>
              <a:latin typeface="Arial"/>
            </a:endParaRPr>
          </a:p>
        </p:txBody>
      </p:sp>
      <p:pic>
        <p:nvPicPr>
          <p:cNvPr id="109" name="Picture 6" descr="Рисунок9"/>
          <p:cNvPicPr/>
          <p:nvPr/>
        </p:nvPicPr>
        <p:blipFill>
          <a:blip r:embed="rId7"/>
          <a:stretch/>
        </p:blipFill>
        <p:spPr>
          <a:xfrm>
            <a:off x="228600" y="30492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8"/>
          <a:stretch/>
        </p:blipFill>
        <p:spPr>
          <a:xfrm>
            <a:off x="4952880" y="2971800"/>
            <a:ext cx="260028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5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SS</cp:lastModifiedBy>
  <dcterms:modified xsi:type="dcterms:W3CDTF">2015-01-22T19:37:3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