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34BA9-ECE4-4FDA-BA9F-D12AA4B27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D6CC-A395-4C2F-9D6C-2BBDD432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8DD6-055C-44E2-83F4-D3FD8A2D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DB2E-73E4-4E19-979A-F50DB91399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16B1-FB62-439C-812E-4210D514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29CD-462C-4C3A-94C2-62043046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EAC8-34BB-46D6-9280-1A2616EB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2BEF-F659-48E0-AFE1-AE344F7A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5514-7CE7-40D4-89B0-011F7343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E59D-ADB7-49FE-84C2-E56E935F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9922-9A0E-48DE-9680-BE64B221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24EE-B104-4E98-AB56-2843022D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EE553D-540C-4367-AEFE-79321766217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080" y="2205000"/>
            <a:ext cx="860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Космическая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60800" y="115920"/>
            <a:ext cx="39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 ГБДОУ детский сад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лининский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кт-Петербурга Анашкина Г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14120" y="4797360"/>
            <a:ext cx="560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детей среднего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уемые образовательные обл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циально-коммуникативное развити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ознавательное развитие», «Речевое развит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кт-Петербург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Луна – спутник Зем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22160" y="1700280"/>
            <a:ext cx="4313520" cy="403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7960" y="1700280"/>
            <a:ext cx="32716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В результате движения планеты вокруг Солнца, происходит смена времен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322280"/>
            <a:ext cx="8424720" cy="549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  <a:ea typeface="Microsoft YaHe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260280"/>
            <a:ext cx="8820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Цель: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познакомить детей с космической сис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Познакомить детей с космосом и планетами солнеч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Знакомство с окружающим ми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Познакомить детей с летательными аппара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Сформировать понятие о движении планеты вокруг Сол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Закрепить знания о временах года и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828720" y="-171360"/>
            <a:ext cx="105854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Microsoft YaHei"/>
              </a:rPr>
              <a:t>Земля – планета, на которой мы жив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4591080" cy="458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5643720"/>
            <a:ext cx="87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ЕМЛЯ, третья от Солнца больш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ета 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Microsoft YaHei"/>
              </a:rPr>
              <a:t>Все звезды между собой образуют созвезд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4200" y="1547640"/>
            <a:ext cx="8750520" cy="656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6:49:05Z</dcterms:created>
  <dc:creator>User</dc:creator>
  <dc:description/>
  <dc:language>en-US</dc:language>
  <cp:lastModifiedBy/>
  <dcterms:modified xsi:type="dcterms:W3CDTF">2015-02-03T17:13:15Z</dcterms:modified>
  <cp:revision>10</cp:revision>
  <dc:subject/>
  <dc:title>Слайд 1</dc:title>
</cp:coreProperties>
</file>