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48BA-1337-4097-8F0D-5378C6F24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F387-D98B-46CF-AEFA-B0BCDF2E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69D7-FC03-4276-806C-5F940550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F807-7118-4A0F-9928-F2ED74178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2434-D81C-44DE-99CD-C21356FC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BE00-AB4E-48ED-98FF-A4E8C42C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BA0C-52CA-49C1-962A-A9CD9043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765D-1F0D-4BFA-8929-73E41DDE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7B5D-E234-4286-9482-F0D559C6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0437-3A99-404E-A97D-B86FD540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6129-1E3D-44EF-B9DE-1A3DAAA8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C7A5-EED5-4E30-AAB8-A0774954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2C4F5A-87EE-4505-A352-DFCF42F6922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080" y="2205000"/>
            <a:ext cx="860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Космическая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60800" y="115920"/>
            <a:ext cx="39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 ГБДОУ детский сад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нинский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т-Петербурга Анашкина Г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14120" y="4797360"/>
            <a:ext cx="560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детей среднего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уемые образовательные об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циально-коммуникативное развити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ознавательное развитие», «Речевое развит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т-Петербург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Microsoft YaHei"/>
              </a:rPr>
              <a:t>Луна – спутник Зем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22160" y="1700280"/>
            <a:ext cx="4313520" cy="403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7960" y="1700280"/>
            <a:ext cx="32716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В результате движения планеты вокруг Солнца, происходит смена времен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322280"/>
            <a:ext cx="8424720" cy="549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Microsoft YaHe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260280"/>
            <a:ext cx="8820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Цель: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познакомить детей с космической сис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Познакомить детей с космосом и планетами солнеч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Знакомство с окружающим ми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Познакомить детей с летательными аппара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Сформировать понятие о движении планеты вокруг Сол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Microsoft YaHei"/>
              </a:rPr>
              <a:t>Закрепить знания о временах года и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828720" y="-171360"/>
            <a:ext cx="105854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Microsoft YaHei"/>
              </a:rPr>
              <a:t>Земля – планета, на которой мы жив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591080" cy="458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5643720"/>
            <a:ext cx="87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ета 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Microsoft YaHei"/>
              </a:rPr>
              <a:t>Все звезды между собой образуют созвезд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4200" y="1547640"/>
            <a:ext cx="8750520" cy="656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6:49:05Z</dcterms:created>
  <dc:creator>User</dc:creator>
  <dc:description/>
  <dc:language>en-US</dc:language>
  <cp:lastModifiedBy/>
  <dcterms:modified xsi:type="dcterms:W3CDTF">2015-02-03T17:13:15Z</dcterms:modified>
  <cp:revision>10</cp:revision>
  <dc:subject/>
  <dc:title>Слайд 1</dc:title>
</cp:coreProperties>
</file>