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22.jpeg" ContentType="image/jpeg"/>
  <Override PartName="/ppt/media/image11.gif" ContentType="image/gif"/>
  <Override PartName="/ppt/media/image6.gif" ContentType="image/gif"/>
  <Override PartName="/ppt/media/image9.png" ContentType="image/png"/>
  <Override PartName="/ppt/media/image23.jpeg" ContentType="image/jpeg"/>
  <Override PartName="/ppt/media/image19.png" ContentType="image/png"/>
  <Override PartName="/ppt/media/image3.jpeg" ContentType="image/jpeg"/>
  <Override PartName="/ppt/media/image18.gif" ContentType="image/gif"/>
  <Override PartName="/ppt/media/image17.jpeg" ContentType="image/jpeg"/>
  <Override PartName="/ppt/media/image16.png" ContentType="image/png"/>
  <Override PartName="/ppt/media/image4.png" ContentType="image/png"/>
  <Override PartName="/ppt/media/image24.gif" ContentType="image/gif"/>
  <Override PartName="/ppt/media/image15.gif" ContentType="image/gif"/>
  <Override PartName="/ppt/media/image20.png" ContentType="image/png"/>
  <Override PartName="/ppt/media/image1.png" ContentType="image/png"/>
  <Override PartName="/ppt/media/image21.gif" ContentType="image/gi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7F5-28F8-41D3-8361-DCA5F335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C73-26FA-482B-A672-92E84C6E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46F-FAEB-41A2-9A92-EA7FE60F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162-5C33-44D9-8892-46B98967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71F-5310-4DB3-B2ED-19A5DEB1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D46-B211-49A6-9DD5-441A556E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7D9-C38C-4619-9DD6-B74F92C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AA5-7D15-4BB9-B22A-1B912548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B55-9E7E-40EF-B489-5608760F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E24-C479-40CE-8DC5-AFC0C67D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1CC-2D7C-4B6F-9997-2E6AF1B5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498-A2E8-4344-8B7D-794F9593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D7AA-05DD-4DDF-9A24-92BCDA2CD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956520" y="1143000"/>
            <a:ext cx="405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В зоопарке, верь не ве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Проживает чудо-з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У него рука во л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Так похожа на тр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1"/>
          <a:stretch/>
        </p:blipFill>
        <p:spPr>
          <a:xfrm>
            <a:off x="838080" y="3328920"/>
            <a:ext cx="2362320" cy="170028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7">
            <a:hlinkClick r:id="" action="ppaction://hlinkshowjump?jump=previousslide"/>
          </p:cNvPr>
          <p:cNvSpPr/>
          <p:nvPr/>
        </p:nvSpPr>
        <p:spPr>
          <a:xfrm>
            <a:off x="990720" y="541008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51f9"/>
                </a:solidFill>
                <a:latin typeface="Comic Sans MS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5">
            <a:hlinkClick r:id="" action="ppaction://hlinkshowjump?jump=nextslide"/>
          </p:cNvPr>
          <p:cNvSpPr/>
          <p:nvPr/>
        </p:nvSpPr>
        <p:spPr>
          <a:xfrm>
            <a:off x="3886200" y="5410080"/>
            <a:ext cx="1600200" cy="53352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4756" h="21600">
                <a:moveTo>
                  <a:pt x="0" y="0"/>
                </a:moveTo>
                <a:lnTo>
                  <a:pt x="64756" y="0"/>
                </a:lnTo>
                <a:lnTo>
                  <a:pt x="64756" y="21600"/>
                </a:lnTo>
                <a:lnTo>
                  <a:pt x="0" y="21600"/>
                </a:lnTo>
                <a:close/>
              </a:path>
              <a:path fill="lightenLess" w="64756" h="21600">
                <a:moveTo>
                  <a:pt x="0" y="0"/>
                </a:moveTo>
                <a:lnTo>
                  <a:pt x="64756" y="0"/>
                </a:lnTo>
                <a:lnTo>
                  <a:pt x="63356" y="1400"/>
                </a:lnTo>
                <a:lnTo>
                  <a:pt x="1400" y="1400"/>
                </a:lnTo>
                <a:close/>
              </a:path>
              <a:path fill="darken" w="64756" h="21600">
                <a:moveTo>
                  <a:pt x="64756" y="0"/>
                </a:moveTo>
                <a:lnTo>
                  <a:pt x="64756" y="21600"/>
                </a:lnTo>
                <a:lnTo>
                  <a:pt x="63356" y="20200"/>
                </a:lnTo>
                <a:lnTo>
                  <a:pt x="63356" y="1400"/>
                </a:lnTo>
                <a:close/>
              </a:path>
              <a:path fill="darkenLess" w="64756" h="21600">
                <a:moveTo>
                  <a:pt x="64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6" y="20200"/>
                </a:lnTo>
                <a:close/>
              </a:path>
              <a:path fill="lighten" w="64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51f9"/>
                </a:solidFill>
                <a:latin typeface="Comic Sans MS"/>
              </a:rPr>
              <a:t>с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6">
            <a:hlinkClick r:id="" action="ppaction://hlinkshowjump?jump=previousslide"/>
          </p:cNvPr>
          <p:cNvSpPr/>
          <p:nvPr/>
        </p:nvSpPr>
        <p:spPr>
          <a:xfrm>
            <a:off x="6095880" y="5410080"/>
            <a:ext cx="2159280" cy="533520"/>
          </a:xfrm>
          <a:custGeom>
            <a:avLst/>
            <a:gdLst>
              <a:gd name="textAreaLeft" fmla="*/ 34560 w 2159280"/>
              <a:gd name="textAreaRight" fmla="*/ 2124720 w 2159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7376" h="21600">
                <a:moveTo>
                  <a:pt x="0" y="0"/>
                </a:moveTo>
                <a:lnTo>
                  <a:pt x="87376" y="0"/>
                </a:lnTo>
                <a:lnTo>
                  <a:pt x="87376" y="21600"/>
                </a:lnTo>
                <a:lnTo>
                  <a:pt x="0" y="21600"/>
                </a:lnTo>
                <a:close/>
              </a:path>
              <a:path fill="lightenLess" w="87376" h="21600">
                <a:moveTo>
                  <a:pt x="0" y="0"/>
                </a:moveTo>
                <a:lnTo>
                  <a:pt x="87376" y="0"/>
                </a:lnTo>
                <a:lnTo>
                  <a:pt x="85976" y="1400"/>
                </a:lnTo>
                <a:lnTo>
                  <a:pt x="1400" y="1400"/>
                </a:lnTo>
                <a:close/>
              </a:path>
              <a:path fill="darken" w="87376" h="21600">
                <a:moveTo>
                  <a:pt x="87376" y="0"/>
                </a:moveTo>
                <a:lnTo>
                  <a:pt x="87376" y="21600"/>
                </a:lnTo>
                <a:lnTo>
                  <a:pt x="85976" y="20200"/>
                </a:lnTo>
                <a:lnTo>
                  <a:pt x="85976" y="1400"/>
                </a:lnTo>
                <a:close/>
              </a:path>
              <a:path fill="darkenLess" w="87376" h="21600">
                <a:moveTo>
                  <a:pt x="87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976" y="20200"/>
                </a:lnTo>
                <a:close/>
              </a:path>
              <a:path fill="lighten" w="87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51f9"/>
                </a:solidFill>
                <a:latin typeface="Comic Sans MS"/>
              </a:rPr>
              <a:t>марты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monkey"/>
          <p:cNvPicPr/>
          <p:nvPr/>
        </p:nvPicPr>
        <p:blipFill>
          <a:blip r:embed="rId2"/>
          <a:stretch/>
        </p:blipFill>
        <p:spPr>
          <a:xfrm>
            <a:off x="6477120" y="3352680"/>
            <a:ext cx="1630080" cy="2038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Elephant"/>
          <p:cNvPicPr/>
          <p:nvPr/>
        </p:nvPicPr>
        <p:blipFill>
          <a:blip r:embed="rId3"/>
          <a:stretch/>
        </p:blipFill>
        <p:spPr>
          <a:xfrm>
            <a:off x="3581280" y="3292560"/>
            <a:ext cx="2057400" cy="185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34zf9"/>
          <p:cNvPicPr/>
          <p:nvPr/>
        </p:nvPicPr>
        <p:blipFill>
          <a:blip r:embed="rId1"/>
          <a:stretch/>
        </p:blipFill>
        <p:spPr>
          <a:xfrm rot="16200000">
            <a:off x="2520720" y="1276200"/>
            <a:ext cx="3873600" cy="4647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nextslide"/>
          </p:cNvPr>
          <p:cNvSpPr/>
          <p:nvPr/>
        </p:nvSpPr>
        <p:spPr>
          <a:xfrm>
            <a:off x="2514600" y="563868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_2eecf_856e1139_S"/>
          <p:cNvPicPr/>
          <p:nvPr/>
        </p:nvPicPr>
        <p:blipFill>
          <a:blip r:embed="rId2"/>
          <a:stretch/>
        </p:blipFill>
        <p:spPr>
          <a:xfrm>
            <a:off x="2971800" y="2859120"/>
            <a:ext cx="160020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cartoon-african-landscape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813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05200" y="1143000"/>
            <a:ext cx="380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51f9"/>
                </a:solidFill>
                <a:latin typeface="Comic Sans MS"/>
              </a:rPr>
              <a:t>Живет спокойно, не спеш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51f9"/>
                </a:solidFill>
                <a:latin typeface="Comic Sans MS"/>
              </a:rPr>
              <a:t>На всякий случай носит щ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51f9"/>
                </a:solidFill>
                <a:latin typeface="Comic Sans MS"/>
              </a:rPr>
              <a:t>Под ним не зная стр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51f9"/>
                </a:solidFill>
                <a:latin typeface="Comic Sans MS"/>
              </a:rPr>
              <a:t>Гу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ortois"/>
          <p:cNvPicPr/>
          <p:nvPr/>
        </p:nvPicPr>
        <p:blipFill>
          <a:blip r:embed="rId2"/>
          <a:stretch/>
        </p:blipFill>
        <p:spPr>
          <a:xfrm>
            <a:off x="6095880" y="4038480"/>
            <a:ext cx="256536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Snake"/>
          <p:cNvPicPr/>
          <p:nvPr/>
        </p:nvPicPr>
        <p:blipFill>
          <a:blip r:embed="rId3"/>
          <a:stretch/>
        </p:blipFill>
        <p:spPr>
          <a:xfrm>
            <a:off x="380880" y="4025880"/>
            <a:ext cx="2819520" cy="193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11909-Royalty-Free-RF-Clipart-Illustration-Of-A-Digital-Collage-Of-A-Cute-Tortoise-Hippo-Elephant-Giraffe-And-Snake"/>
          <p:cNvPicPr/>
          <p:nvPr/>
        </p:nvPicPr>
        <p:blipFill>
          <a:blip r:embed="rId4"/>
          <a:stretch/>
        </p:blipFill>
        <p:spPr>
          <a:xfrm>
            <a:off x="3276720" y="4038480"/>
            <a:ext cx="2527200" cy="19306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/>
          <p:cNvSpPr/>
          <p:nvPr/>
        </p:nvSpPr>
        <p:spPr>
          <a:xfrm>
            <a:off x="609480" y="6019920"/>
            <a:ext cx="1795680" cy="533160"/>
          </a:xfrm>
          <a:custGeom>
            <a:avLst/>
            <a:gdLst>
              <a:gd name="textAreaLeft" fmla="*/ 34560 w 1795680"/>
              <a:gd name="textAreaRight" fmla="*/ 1761120 w 1795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2714" h="21600">
                <a:moveTo>
                  <a:pt x="0" y="0"/>
                </a:moveTo>
                <a:lnTo>
                  <a:pt x="72714" y="0"/>
                </a:lnTo>
                <a:lnTo>
                  <a:pt x="72714" y="21600"/>
                </a:lnTo>
                <a:lnTo>
                  <a:pt x="0" y="21600"/>
                </a:lnTo>
                <a:close/>
              </a:path>
              <a:path fill="lightenLess" w="72714" h="21600">
                <a:moveTo>
                  <a:pt x="0" y="0"/>
                </a:moveTo>
                <a:lnTo>
                  <a:pt x="72714" y="0"/>
                </a:lnTo>
                <a:lnTo>
                  <a:pt x="71314" y="1400"/>
                </a:lnTo>
                <a:lnTo>
                  <a:pt x="1400" y="1400"/>
                </a:lnTo>
                <a:close/>
              </a:path>
              <a:path fill="darken" w="72714" h="21600">
                <a:moveTo>
                  <a:pt x="72714" y="0"/>
                </a:moveTo>
                <a:lnTo>
                  <a:pt x="72714" y="21600"/>
                </a:lnTo>
                <a:lnTo>
                  <a:pt x="71314" y="20200"/>
                </a:lnTo>
                <a:lnTo>
                  <a:pt x="71314" y="1400"/>
                </a:lnTo>
                <a:close/>
              </a:path>
              <a:path fill="darkenLess" w="72714" h="21600">
                <a:moveTo>
                  <a:pt x="72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314" y="20200"/>
                </a:lnTo>
                <a:close/>
              </a:path>
              <a:path fill="lighten" w="72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м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>
            <a:hlinkClick r:id="" action="ppaction://hlinkshowjump?jump=nextslide"/>
          </p:cNvPr>
          <p:cNvSpPr/>
          <p:nvPr/>
        </p:nvSpPr>
        <p:spPr>
          <a:xfrm>
            <a:off x="6324480" y="6019920"/>
            <a:ext cx="2159280" cy="533160"/>
          </a:xfrm>
          <a:custGeom>
            <a:avLst/>
            <a:gdLst>
              <a:gd name="textAreaLeft" fmla="*/ 34560 w 2159280"/>
              <a:gd name="textAreaRight" fmla="*/ 2124720 w 2159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7435" h="21600">
                <a:moveTo>
                  <a:pt x="0" y="0"/>
                </a:moveTo>
                <a:lnTo>
                  <a:pt x="87435" y="0"/>
                </a:lnTo>
                <a:lnTo>
                  <a:pt x="87435" y="21600"/>
                </a:lnTo>
                <a:lnTo>
                  <a:pt x="0" y="21600"/>
                </a:lnTo>
                <a:close/>
              </a:path>
              <a:path fill="lightenLess" w="87435" h="21600">
                <a:moveTo>
                  <a:pt x="0" y="0"/>
                </a:moveTo>
                <a:lnTo>
                  <a:pt x="87435" y="0"/>
                </a:lnTo>
                <a:lnTo>
                  <a:pt x="86035" y="1400"/>
                </a:lnTo>
                <a:lnTo>
                  <a:pt x="1400" y="1400"/>
                </a:lnTo>
                <a:close/>
              </a:path>
              <a:path fill="darken" w="87435" h="21600">
                <a:moveTo>
                  <a:pt x="87435" y="0"/>
                </a:moveTo>
                <a:lnTo>
                  <a:pt x="87435" y="21600"/>
                </a:lnTo>
                <a:lnTo>
                  <a:pt x="86035" y="20200"/>
                </a:lnTo>
                <a:lnTo>
                  <a:pt x="86035" y="1400"/>
                </a:lnTo>
                <a:close/>
              </a:path>
              <a:path fill="darkenLess" w="87435" h="21600">
                <a:moveTo>
                  <a:pt x="87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035" y="20200"/>
                </a:lnTo>
                <a:close/>
              </a:path>
              <a:path fill="lighten" w="87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ереп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3352680" y="6019920"/>
            <a:ext cx="2362320" cy="533160"/>
          </a:xfrm>
          <a:custGeom>
            <a:avLst/>
            <a:gdLst>
              <a:gd name="textAreaLeft" fmla="*/ 34560 w 2362320"/>
              <a:gd name="textAreaRight" fmla="*/ 2327760 w 2362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5655" h="21600">
                <a:moveTo>
                  <a:pt x="0" y="0"/>
                </a:moveTo>
                <a:lnTo>
                  <a:pt x="95655" y="0"/>
                </a:lnTo>
                <a:lnTo>
                  <a:pt x="95655" y="21600"/>
                </a:lnTo>
                <a:lnTo>
                  <a:pt x="0" y="21600"/>
                </a:lnTo>
                <a:close/>
              </a:path>
              <a:path fill="lightenLess" w="95655" h="21600">
                <a:moveTo>
                  <a:pt x="0" y="0"/>
                </a:moveTo>
                <a:lnTo>
                  <a:pt x="95655" y="0"/>
                </a:lnTo>
                <a:lnTo>
                  <a:pt x="94255" y="1400"/>
                </a:lnTo>
                <a:lnTo>
                  <a:pt x="1400" y="1400"/>
                </a:lnTo>
                <a:close/>
              </a:path>
              <a:path fill="darken" w="95655" h="21600">
                <a:moveTo>
                  <a:pt x="95655" y="0"/>
                </a:moveTo>
                <a:lnTo>
                  <a:pt x="95655" y="21600"/>
                </a:lnTo>
                <a:lnTo>
                  <a:pt x="94255" y="20200"/>
                </a:lnTo>
                <a:lnTo>
                  <a:pt x="94255" y="1400"/>
                </a:lnTo>
                <a:close/>
              </a:path>
              <a:path fill="darkenLess" w="95655" h="21600">
                <a:moveTo>
                  <a:pt x="95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55" y="20200"/>
                </a:lnTo>
                <a:close/>
              </a:path>
              <a:path fill="lighten" w="95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34zf9"/>
          <p:cNvPicPr/>
          <p:nvPr/>
        </p:nvPicPr>
        <p:blipFill>
          <a:blip r:embed="rId1"/>
          <a:stretch/>
        </p:blipFill>
        <p:spPr>
          <a:xfrm rot="16200000">
            <a:off x="2400120" y="876240"/>
            <a:ext cx="419112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nextslide"/>
          </p:cNvPr>
          <p:cNvSpPr/>
          <p:nvPr/>
        </p:nvSpPr>
        <p:spPr>
          <a:xfrm>
            <a:off x="2666880" y="5638680"/>
            <a:ext cx="3353040" cy="1143000"/>
          </a:xfrm>
          <a:custGeom>
            <a:avLst/>
            <a:gdLst>
              <a:gd name="textAreaLeft" fmla="*/ 73800 w 3353040"/>
              <a:gd name="textAreaRight" fmla="*/ 3279240 w 3353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51" h="21600">
                <a:moveTo>
                  <a:pt x="0" y="0"/>
                </a:moveTo>
                <a:lnTo>
                  <a:pt x="63351" y="0"/>
                </a:lnTo>
                <a:lnTo>
                  <a:pt x="63351" y="21600"/>
                </a:lnTo>
                <a:lnTo>
                  <a:pt x="0" y="21600"/>
                </a:lnTo>
                <a:close/>
              </a:path>
              <a:path fill="lightenLess" w="63351" h="21600">
                <a:moveTo>
                  <a:pt x="0" y="0"/>
                </a:moveTo>
                <a:lnTo>
                  <a:pt x="63351" y="0"/>
                </a:lnTo>
                <a:lnTo>
                  <a:pt x="61951" y="1400"/>
                </a:lnTo>
                <a:lnTo>
                  <a:pt x="1400" y="1400"/>
                </a:lnTo>
                <a:close/>
              </a:path>
              <a:path fill="darken" w="63351" h="21600">
                <a:moveTo>
                  <a:pt x="63351" y="0"/>
                </a:moveTo>
                <a:lnTo>
                  <a:pt x="63351" y="21600"/>
                </a:lnTo>
                <a:lnTo>
                  <a:pt x="61951" y="20200"/>
                </a:lnTo>
                <a:lnTo>
                  <a:pt x="61951" y="1400"/>
                </a:lnTo>
                <a:close/>
              </a:path>
              <a:path fill="darkenLess" w="63351" h="21600">
                <a:moveTo>
                  <a:pt x="63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51" y="20200"/>
                </a:lnTo>
                <a:close/>
              </a:path>
              <a:path fill="lighten" w="63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image004"/>
          <p:cNvPicPr/>
          <p:nvPr/>
        </p:nvPicPr>
        <p:blipFill>
          <a:blip r:embed="rId2"/>
          <a:stretch/>
        </p:blipFill>
        <p:spPr>
          <a:xfrm>
            <a:off x="2971800" y="2438280"/>
            <a:ext cx="16192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048120" y="11430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Comic Sans MS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572000" cy="2975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946840" y="3049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678680" y="55339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34zf9"/>
          <p:cNvPicPr/>
          <p:nvPr/>
        </p:nvPicPr>
        <p:blipFill>
          <a:blip r:embed="rId1"/>
          <a:stretch/>
        </p:blipFill>
        <p:spPr>
          <a:xfrm rot="16200000">
            <a:off x="2660400" y="767880"/>
            <a:ext cx="3746520" cy="4495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" action="ppaction://hlinkshowjump?jump=nextslide"/>
          </p:cNvPr>
          <p:cNvSpPr/>
          <p:nvPr/>
        </p:nvSpPr>
        <p:spPr>
          <a:xfrm>
            <a:off x="2666880" y="5486400"/>
            <a:ext cx="3353040" cy="1143000"/>
          </a:xfrm>
          <a:custGeom>
            <a:avLst/>
            <a:gdLst>
              <a:gd name="textAreaLeft" fmla="*/ 73800 w 3353040"/>
              <a:gd name="textAreaRight" fmla="*/ 3279240 w 3353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51" h="21600">
                <a:moveTo>
                  <a:pt x="0" y="0"/>
                </a:moveTo>
                <a:lnTo>
                  <a:pt x="63351" y="0"/>
                </a:lnTo>
                <a:lnTo>
                  <a:pt x="63351" y="21600"/>
                </a:lnTo>
                <a:lnTo>
                  <a:pt x="0" y="21600"/>
                </a:lnTo>
                <a:close/>
              </a:path>
              <a:path fill="lightenLess" w="63351" h="21600">
                <a:moveTo>
                  <a:pt x="0" y="0"/>
                </a:moveTo>
                <a:lnTo>
                  <a:pt x="63351" y="0"/>
                </a:lnTo>
                <a:lnTo>
                  <a:pt x="61951" y="1400"/>
                </a:lnTo>
                <a:lnTo>
                  <a:pt x="1400" y="1400"/>
                </a:lnTo>
                <a:close/>
              </a:path>
              <a:path fill="darken" w="63351" h="21600">
                <a:moveTo>
                  <a:pt x="63351" y="0"/>
                </a:moveTo>
                <a:lnTo>
                  <a:pt x="63351" y="21600"/>
                </a:lnTo>
                <a:lnTo>
                  <a:pt x="61951" y="20200"/>
                </a:lnTo>
                <a:lnTo>
                  <a:pt x="61951" y="1400"/>
                </a:lnTo>
                <a:close/>
              </a:path>
              <a:path fill="darkenLess" w="63351" h="21600">
                <a:moveTo>
                  <a:pt x="63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51" y="20200"/>
                </a:lnTo>
                <a:close/>
              </a:path>
              <a:path fill="lighten" w="63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love-elephant3"/>
          <p:cNvPicPr/>
          <p:nvPr/>
        </p:nvPicPr>
        <p:blipFill>
          <a:blip r:embed="rId2"/>
          <a:stretch/>
        </p:blipFill>
        <p:spPr>
          <a:xfrm>
            <a:off x="3276720" y="2133720"/>
            <a:ext cx="14284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79720" y="1073160"/>
            <a:ext cx="422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Хозяин лес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Просыпается вес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А зимой под вьюжный 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Спит в избушке сне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tiger"/>
          <p:cNvPicPr/>
          <p:nvPr/>
        </p:nvPicPr>
        <p:blipFill>
          <a:blip r:embed="rId1"/>
          <a:stretch/>
        </p:blipFill>
        <p:spPr>
          <a:xfrm>
            <a:off x="4419720" y="4038480"/>
            <a:ext cx="1549440" cy="21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pig"/>
          <p:cNvPicPr/>
          <p:nvPr/>
        </p:nvPicPr>
        <p:blipFill>
          <a:blip r:embed="rId2"/>
          <a:stretch/>
        </p:blipFill>
        <p:spPr>
          <a:xfrm>
            <a:off x="1143000" y="4114800"/>
            <a:ext cx="2057400" cy="194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bear"/>
          <p:cNvPicPr/>
          <p:nvPr/>
        </p:nvPicPr>
        <p:blipFill>
          <a:blip r:embed="rId3"/>
          <a:stretch/>
        </p:blipFill>
        <p:spPr>
          <a:xfrm>
            <a:off x="6934320" y="4038480"/>
            <a:ext cx="1944720" cy="20383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4"/>
          <p:cNvSpPr/>
          <p:nvPr/>
        </p:nvSpPr>
        <p:spPr>
          <a:xfrm>
            <a:off x="1295280" y="6172200"/>
            <a:ext cx="1903680" cy="533520"/>
          </a:xfrm>
          <a:custGeom>
            <a:avLst/>
            <a:gdLst>
              <a:gd name="textAreaLeft" fmla="*/ 34560 w 1903680"/>
              <a:gd name="textAreaRight" fmla="*/ 1869120 w 1903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35" h="21600">
                <a:moveTo>
                  <a:pt x="0" y="0"/>
                </a:moveTo>
                <a:lnTo>
                  <a:pt x="77035" y="0"/>
                </a:lnTo>
                <a:lnTo>
                  <a:pt x="77035" y="21600"/>
                </a:lnTo>
                <a:lnTo>
                  <a:pt x="0" y="21600"/>
                </a:lnTo>
                <a:close/>
              </a:path>
              <a:path fill="lightenLess" w="77035" h="21600">
                <a:moveTo>
                  <a:pt x="0" y="0"/>
                </a:moveTo>
                <a:lnTo>
                  <a:pt x="77035" y="0"/>
                </a:lnTo>
                <a:lnTo>
                  <a:pt x="75635" y="1400"/>
                </a:lnTo>
                <a:lnTo>
                  <a:pt x="1400" y="1400"/>
                </a:lnTo>
                <a:close/>
              </a:path>
              <a:path fill="darken" w="77035" h="21600">
                <a:moveTo>
                  <a:pt x="77035" y="0"/>
                </a:moveTo>
                <a:lnTo>
                  <a:pt x="77035" y="21600"/>
                </a:lnTo>
                <a:lnTo>
                  <a:pt x="75635" y="20200"/>
                </a:lnTo>
                <a:lnTo>
                  <a:pt x="75635" y="1400"/>
                </a:lnTo>
                <a:close/>
              </a:path>
              <a:path fill="darkenLess" w="77035" h="21600">
                <a:moveTo>
                  <a:pt x="7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35" y="20200"/>
                </a:lnTo>
                <a:close/>
              </a:path>
              <a:path fill="lighten" w="7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ви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4267080" y="6172200"/>
            <a:ext cx="1903680" cy="533520"/>
          </a:xfrm>
          <a:custGeom>
            <a:avLst/>
            <a:gdLst>
              <a:gd name="textAreaLeft" fmla="*/ 34560 w 1903680"/>
              <a:gd name="textAreaRight" fmla="*/ 1869120 w 1903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35" h="21600">
                <a:moveTo>
                  <a:pt x="0" y="0"/>
                </a:moveTo>
                <a:lnTo>
                  <a:pt x="77035" y="0"/>
                </a:lnTo>
                <a:lnTo>
                  <a:pt x="77035" y="21600"/>
                </a:lnTo>
                <a:lnTo>
                  <a:pt x="0" y="21600"/>
                </a:lnTo>
                <a:close/>
              </a:path>
              <a:path fill="lightenLess" w="77035" h="21600">
                <a:moveTo>
                  <a:pt x="0" y="0"/>
                </a:moveTo>
                <a:lnTo>
                  <a:pt x="77035" y="0"/>
                </a:lnTo>
                <a:lnTo>
                  <a:pt x="75635" y="1400"/>
                </a:lnTo>
                <a:lnTo>
                  <a:pt x="1400" y="1400"/>
                </a:lnTo>
                <a:close/>
              </a:path>
              <a:path fill="darken" w="77035" h="21600">
                <a:moveTo>
                  <a:pt x="77035" y="0"/>
                </a:moveTo>
                <a:lnTo>
                  <a:pt x="77035" y="21600"/>
                </a:lnTo>
                <a:lnTo>
                  <a:pt x="75635" y="20200"/>
                </a:lnTo>
                <a:lnTo>
                  <a:pt x="75635" y="1400"/>
                </a:lnTo>
                <a:close/>
              </a:path>
              <a:path fill="darkenLess" w="77035" h="21600">
                <a:moveTo>
                  <a:pt x="7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35" y="20200"/>
                </a:lnTo>
                <a:close/>
              </a:path>
              <a:path fill="lighten" w="7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>
            <a:hlinkClick r:id="" action="ppaction://hlinkshowjump?jump=nextslide"/>
          </p:cNvPr>
          <p:cNvSpPr/>
          <p:nvPr/>
        </p:nvSpPr>
        <p:spPr>
          <a:xfrm>
            <a:off x="6934320" y="6172200"/>
            <a:ext cx="1903320" cy="533520"/>
          </a:xfrm>
          <a:custGeom>
            <a:avLst/>
            <a:gdLst>
              <a:gd name="textAreaLeft" fmla="*/ 34560 w 1903320"/>
              <a:gd name="textAreaRight" fmla="*/ 1868760 w 1903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20" h="21600">
                <a:moveTo>
                  <a:pt x="0" y="0"/>
                </a:moveTo>
                <a:lnTo>
                  <a:pt x="77020" y="0"/>
                </a:lnTo>
                <a:lnTo>
                  <a:pt x="77020" y="21600"/>
                </a:lnTo>
                <a:lnTo>
                  <a:pt x="0" y="21600"/>
                </a:lnTo>
                <a:close/>
              </a:path>
              <a:path fill="lightenLess" w="77020" h="21600">
                <a:moveTo>
                  <a:pt x="0" y="0"/>
                </a:moveTo>
                <a:lnTo>
                  <a:pt x="77020" y="0"/>
                </a:lnTo>
                <a:lnTo>
                  <a:pt x="75620" y="1400"/>
                </a:lnTo>
                <a:lnTo>
                  <a:pt x="1400" y="1400"/>
                </a:lnTo>
                <a:close/>
              </a:path>
              <a:path fill="darken" w="77020" h="21600">
                <a:moveTo>
                  <a:pt x="77020" y="0"/>
                </a:moveTo>
                <a:lnTo>
                  <a:pt x="77020" y="21600"/>
                </a:lnTo>
                <a:lnTo>
                  <a:pt x="75620" y="20200"/>
                </a:lnTo>
                <a:lnTo>
                  <a:pt x="75620" y="1400"/>
                </a:lnTo>
                <a:close/>
              </a:path>
              <a:path fill="darkenLess" w="77020" h="21600">
                <a:moveTo>
                  <a:pt x="77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20" y="20200"/>
                </a:lnTo>
                <a:close/>
              </a:path>
              <a:path fill="lighten" w="77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wood"/>
          <p:cNvPicPr/>
          <p:nvPr/>
        </p:nvPicPr>
        <p:blipFill>
          <a:blip r:embed="rId4"/>
          <a:stretch/>
        </p:blipFill>
        <p:spPr>
          <a:xfrm>
            <a:off x="5029200" y="0"/>
            <a:ext cx="411480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>
            <a:hlinkClick r:id="" action="ppaction://hlinkshowjump?jump=nextslide"/>
          </p:cNvPr>
          <p:cNvSpPr/>
          <p:nvPr/>
        </p:nvSpPr>
        <p:spPr>
          <a:xfrm>
            <a:off x="2743200" y="548640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romantic-bears8"/>
          <p:cNvPicPr/>
          <p:nvPr/>
        </p:nvPicPr>
        <p:blipFill>
          <a:blip r:embed="rId1"/>
          <a:stretch/>
        </p:blipFill>
        <p:spPr>
          <a:xfrm>
            <a:off x="297180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34zf9"/>
          <p:cNvPicPr/>
          <p:nvPr/>
        </p:nvPicPr>
        <p:blipFill>
          <a:blip r:embed="rId2"/>
          <a:stretch/>
        </p:blipFill>
        <p:spPr>
          <a:xfrm rot="16200000">
            <a:off x="2444760" y="946080"/>
            <a:ext cx="38736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cartoon-african-landscape"/>
          <p:cNvPicPr/>
          <p:nvPr/>
        </p:nvPicPr>
        <p:blipFill>
          <a:blip r:embed="rId1"/>
          <a:stretch/>
        </p:blipFill>
        <p:spPr>
          <a:xfrm>
            <a:off x="0" y="0"/>
            <a:ext cx="4876920" cy="381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6705720" y="40384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400360" y="1752480"/>
            <a:ext cx="26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В Африке жи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1f9"/>
                </a:solidFill>
                <a:latin typeface="Comic Sans MS"/>
              </a:rPr>
              <a:t>Бананы ж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thumb_LK_67"/>
          <p:cNvPicPr/>
          <p:nvPr/>
        </p:nvPicPr>
        <p:blipFill>
          <a:blip r:embed="rId2"/>
          <a:stretch/>
        </p:blipFill>
        <p:spPr>
          <a:xfrm>
            <a:off x="6705720" y="3809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11909-Royalty-Free-RF-Clipart-Illustration-Of-A-Digital-Collage-Of-A-Cute-Tortoise-Hippo-Elephant-Giraffe-And-Snake"/>
          <p:cNvPicPr/>
          <p:nvPr/>
        </p:nvPicPr>
        <p:blipFill>
          <a:blip r:embed="rId3"/>
          <a:stretch/>
        </p:blipFill>
        <p:spPr>
          <a:xfrm>
            <a:off x="2895480" y="3936960"/>
            <a:ext cx="2527560" cy="1930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monkey"/>
          <p:cNvPicPr/>
          <p:nvPr/>
        </p:nvPicPr>
        <p:blipFill>
          <a:blip r:embed="rId4"/>
          <a:stretch/>
        </p:blipFill>
        <p:spPr>
          <a:xfrm>
            <a:off x="762120" y="3981600"/>
            <a:ext cx="1447560" cy="18097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1"/>
          <p:cNvSpPr/>
          <p:nvPr/>
        </p:nvSpPr>
        <p:spPr>
          <a:xfrm>
            <a:off x="3048120" y="6019920"/>
            <a:ext cx="2361960" cy="533160"/>
          </a:xfrm>
          <a:custGeom>
            <a:avLst/>
            <a:gdLst>
              <a:gd name="textAreaLeft" fmla="*/ 34560 w 2361960"/>
              <a:gd name="textAreaRight" fmla="*/ 2327400 w 2361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5640" h="21600">
                <a:moveTo>
                  <a:pt x="0" y="0"/>
                </a:moveTo>
                <a:lnTo>
                  <a:pt x="95640" y="0"/>
                </a:lnTo>
                <a:lnTo>
                  <a:pt x="95640" y="21600"/>
                </a:lnTo>
                <a:lnTo>
                  <a:pt x="0" y="21600"/>
                </a:lnTo>
                <a:close/>
              </a:path>
              <a:path fill="lightenLess" w="95640" h="21600">
                <a:moveTo>
                  <a:pt x="0" y="0"/>
                </a:moveTo>
                <a:lnTo>
                  <a:pt x="95640" y="0"/>
                </a:lnTo>
                <a:lnTo>
                  <a:pt x="94241" y="1400"/>
                </a:lnTo>
                <a:lnTo>
                  <a:pt x="1400" y="1400"/>
                </a:lnTo>
                <a:close/>
              </a:path>
              <a:path fill="darken" w="95640" h="21600">
                <a:moveTo>
                  <a:pt x="95640" y="0"/>
                </a:moveTo>
                <a:lnTo>
                  <a:pt x="95640" y="21600"/>
                </a:lnTo>
                <a:lnTo>
                  <a:pt x="94241" y="20200"/>
                </a:lnTo>
                <a:lnTo>
                  <a:pt x="94241" y="1400"/>
                </a:lnTo>
                <a:close/>
              </a:path>
              <a:path fill="darkenLess" w="95640" h="21600">
                <a:moveTo>
                  <a:pt x="95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241" y="20200"/>
                </a:lnTo>
                <a:close/>
              </a:path>
              <a:path fill="lighten" w="95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еге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6553080" y="6019920"/>
            <a:ext cx="2000520" cy="533160"/>
          </a:xfrm>
          <a:custGeom>
            <a:avLst/>
            <a:gdLst>
              <a:gd name="textAreaLeft" fmla="*/ 34560 w 2000520"/>
              <a:gd name="textAreaRight" fmla="*/ 1965960 w 2000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1007" h="21600">
                <a:moveTo>
                  <a:pt x="0" y="0"/>
                </a:moveTo>
                <a:lnTo>
                  <a:pt x="81007" y="0"/>
                </a:lnTo>
                <a:lnTo>
                  <a:pt x="81007" y="21600"/>
                </a:lnTo>
                <a:lnTo>
                  <a:pt x="0" y="21600"/>
                </a:lnTo>
                <a:close/>
              </a:path>
              <a:path fill="lightenLess" w="81007" h="21600">
                <a:moveTo>
                  <a:pt x="0" y="0"/>
                </a:moveTo>
                <a:lnTo>
                  <a:pt x="81007" y="0"/>
                </a:lnTo>
                <a:lnTo>
                  <a:pt x="79607" y="1400"/>
                </a:lnTo>
                <a:lnTo>
                  <a:pt x="1400" y="1400"/>
                </a:lnTo>
                <a:close/>
              </a:path>
              <a:path fill="darken" w="81007" h="21600">
                <a:moveTo>
                  <a:pt x="81007" y="0"/>
                </a:moveTo>
                <a:lnTo>
                  <a:pt x="81007" y="21600"/>
                </a:lnTo>
                <a:lnTo>
                  <a:pt x="79607" y="20200"/>
                </a:lnTo>
                <a:lnTo>
                  <a:pt x="79607" y="1400"/>
                </a:lnTo>
                <a:close/>
              </a:path>
              <a:path fill="darkenLess" w="81007" h="21600">
                <a:moveTo>
                  <a:pt x="81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607" y="20200"/>
                </a:lnTo>
                <a:close/>
              </a:path>
              <a:path fill="lighten" w="81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аб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>
            <a:hlinkClick r:id="" action="ppaction://hlinkshowjump?jump=nextslide"/>
          </p:cNvPr>
          <p:cNvSpPr/>
          <p:nvPr/>
        </p:nvSpPr>
        <p:spPr>
          <a:xfrm>
            <a:off x="304920" y="6019920"/>
            <a:ext cx="2158920" cy="533160"/>
          </a:xfrm>
          <a:custGeom>
            <a:avLst/>
            <a:gdLst>
              <a:gd name="textAreaLeft" fmla="*/ 34560 w 2158920"/>
              <a:gd name="textAreaRight" fmla="*/ 2124360 w 21589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7420" h="21600">
                <a:moveTo>
                  <a:pt x="0" y="0"/>
                </a:moveTo>
                <a:lnTo>
                  <a:pt x="87420" y="0"/>
                </a:lnTo>
                <a:lnTo>
                  <a:pt x="87420" y="21600"/>
                </a:lnTo>
                <a:lnTo>
                  <a:pt x="0" y="21600"/>
                </a:lnTo>
                <a:close/>
              </a:path>
              <a:path fill="lightenLess" w="87420" h="21600">
                <a:moveTo>
                  <a:pt x="0" y="0"/>
                </a:moveTo>
                <a:lnTo>
                  <a:pt x="87420" y="0"/>
                </a:lnTo>
                <a:lnTo>
                  <a:pt x="86020" y="1400"/>
                </a:lnTo>
                <a:lnTo>
                  <a:pt x="1400" y="1400"/>
                </a:lnTo>
                <a:close/>
              </a:path>
              <a:path fill="darken" w="87420" h="21600">
                <a:moveTo>
                  <a:pt x="87420" y="0"/>
                </a:moveTo>
                <a:lnTo>
                  <a:pt x="87420" y="21600"/>
                </a:lnTo>
                <a:lnTo>
                  <a:pt x="86020" y="20200"/>
                </a:lnTo>
                <a:lnTo>
                  <a:pt x="86020" y="1400"/>
                </a:lnTo>
                <a:close/>
              </a:path>
              <a:path fill="darkenLess" w="87420" h="21600">
                <a:moveTo>
                  <a:pt x="87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020" y="20200"/>
                </a:lnTo>
                <a:close/>
              </a:path>
              <a:path fill="lighten" w="87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арты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4zf9"/>
          <p:cNvPicPr/>
          <p:nvPr/>
        </p:nvPicPr>
        <p:blipFill>
          <a:blip r:embed="rId1"/>
          <a:stretch/>
        </p:blipFill>
        <p:spPr>
          <a:xfrm rot="16200000">
            <a:off x="2540160" y="851040"/>
            <a:ext cx="4063680" cy="487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" action="ppaction://hlinkshowjump?jump=nextslide"/>
          </p:cNvPr>
          <p:cNvSpPr/>
          <p:nvPr/>
        </p:nvSpPr>
        <p:spPr>
          <a:xfrm>
            <a:off x="2514600" y="556272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monyet-loncat-hihihi"/>
          <p:cNvPicPr/>
          <p:nvPr/>
        </p:nvPicPr>
        <p:blipFill>
          <a:blip r:embed="rId2"/>
          <a:stretch/>
        </p:blipFill>
        <p:spPr>
          <a:xfrm>
            <a:off x="2590920" y="18288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cartoon-african-landscape"/>
          <p:cNvPicPr/>
          <p:nvPr/>
        </p:nvPicPr>
        <p:blipFill>
          <a:blip r:embed="rId1"/>
          <a:stretch/>
        </p:blipFill>
        <p:spPr>
          <a:xfrm>
            <a:off x="0" y="0"/>
            <a:ext cx="502920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109480" y="990720"/>
            <a:ext cx="383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Лошадь как лошад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Но только в полос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Видел когда-ниб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Лошадь-матроску</a:t>
            </a:r>
            <a:r>
              <a:rPr b="0" lang="en-US" sz="2800" spc="-1" strike="noStrike">
                <a:solidFill>
                  <a:srgbClr val="6951f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zebra"/>
          <p:cNvPicPr/>
          <p:nvPr/>
        </p:nvPicPr>
        <p:blipFill>
          <a:blip r:embed="rId2"/>
          <a:stretch/>
        </p:blipFill>
        <p:spPr>
          <a:xfrm>
            <a:off x="838080" y="3795840"/>
            <a:ext cx="2210040" cy="20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tiger"/>
          <p:cNvPicPr/>
          <p:nvPr/>
        </p:nvPicPr>
        <p:blipFill>
          <a:blip r:embed="rId3"/>
          <a:stretch/>
        </p:blipFill>
        <p:spPr>
          <a:xfrm>
            <a:off x="4038480" y="3753000"/>
            <a:ext cx="1660680" cy="226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orse-"/>
          <p:cNvPicPr/>
          <p:nvPr/>
        </p:nvPicPr>
        <p:blipFill>
          <a:blip r:embed="rId4"/>
          <a:stretch/>
        </p:blipFill>
        <p:spPr>
          <a:xfrm>
            <a:off x="6248520" y="3824280"/>
            <a:ext cx="2438280" cy="19670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9"/>
          <p:cNvSpPr/>
          <p:nvPr/>
        </p:nvSpPr>
        <p:spPr>
          <a:xfrm>
            <a:off x="3962520" y="6019920"/>
            <a:ext cx="1903320" cy="533160"/>
          </a:xfrm>
          <a:custGeom>
            <a:avLst/>
            <a:gdLst>
              <a:gd name="textAreaLeft" fmla="*/ 34560 w 1903320"/>
              <a:gd name="textAreaRight" fmla="*/ 1868760 w 1903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072" h="21600">
                <a:moveTo>
                  <a:pt x="0" y="0"/>
                </a:moveTo>
                <a:lnTo>
                  <a:pt x="77072" y="0"/>
                </a:lnTo>
                <a:lnTo>
                  <a:pt x="77072" y="21600"/>
                </a:lnTo>
                <a:lnTo>
                  <a:pt x="0" y="21600"/>
                </a:lnTo>
                <a:close/>
              </a:path>
              <a:path fill="lightenLess" w="77072" h="21600">
                <a:moveTo>
                  <a:pt x="0" y="0"/>
                </a:moveTo>
                <a:lnTo>
                  <a:pt x="77072" y="0"/>
                </a:lnTo>
                <a:lnTo>
                  <a:pt x="75672" y="1400"/>
                </a:lnTo>
                <a:lnTo>
                  <a:pt x="1400" y="1400"/>
                </a:lnTo>
                <a:close/>
              </a:path>
              <a:path fill="darken" w="77072" h="21600">
                <a:moveTo>
                  <a:pt x="77072" y="0"/>
                </a:moveTo>
                <a:lnTo>
                  <a:pt x="77072" y="21600"/>
                </a:lnTo>
                <a:lnTo>
                  <a:pt x="75672" y="20200"/>
                </a:lnTo>
                <a:lnTo>
                  <a:pt x="75672" y="1400"/>
                </a:lnTo>
                <a:close/>
              </a:path>
              <a:path fill="darkenLess" w="77072" h="21600">
                <a:moveTo>
                  <a:pt x="77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72" y="20200"/>
                </a:lnTo>
                <a:close/>
              </a:path>
              <a:path fill="lighten" w="77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>
            <a:hlinkClick r:id="" action="ppaction://hlinkshowjump?jump=nextslide"/>
          </p:cNvPr>
          <p:cNvSpPr/>
          <p:nvPr/>
        </p:nvSpPr>
        <p:spPr>
          <a:xfrm>
            <a:off x="1143000" y="6019920"/>
            <a:ext cx="1903320" cy="533160"/>
          </a:xfrm>
          <a:custGeom>
            <a:avLst/>
            <a:gdLst>
              <a:gd name="textAreaLeft" fmla="*/ 34560 w 1903320"/>
              <a:gd name="textAreaRight" fmla="*/ 1868760 w 1903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072" h="21600">
                <a:moveTo>
                  <a:pt x="0" y="0"/>
                </a:moveTo>
                <a:lnTo>
                  <a:pt x="77072" y="0"/>
                </a:lnTo>
                <a:lnTo>
                  <a:pt x="77072" y="21600"/>
                </a:lnTo>
                <a:lnTo>
                  <a:pt x="0" y="21600"/>
                </a:lnTo>
                <a:close/>
              </a:path>
              <a:path fill="lightenLess" w="77072" h="21600">
                <a:moveTo>
                  <a:pt x="0" y="0"/>
                </a:moveTo>
                <a:lnTo>
                  <a:pt x="77072" y="0"/>
                </a:lnTo>
                <a:lnTo>
                  <a:pt x="75672" y="1400"/>
                </a:lnTo>
                <a:lnTo>
                  <a:pt x="1400" y="1400"/>
                </a:lnTo>
                <a:close/>
              </a:path>
              <a:path fill="darken" w="77072" h="21600">
                <a:moveTo>
                  <a:pt x="77072" y="0"/>
                </a:moveTo>
                <a:lnTo>
                  <a:pt x="77072" y="21600"/>
                </a:lnTo>
                <a:lnTo>
                  <a:pt x="75672" y="20200"/>
                </a:lnTo>
                <a:lnTo>
                  <a:pt x="75672" y="1400"/>
                </a:lnTo>
                <a:close/>
              </a:path>
              <a:path fill="darkenLess" w="77072" h="21600">
                <a:moveTo>
                  <a:pt x="77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72" y="20200"/>
                </a:lnTo>
                <a:close/>
              </a:path>
              <a:path fill="lighten" w="77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з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6553080" y="6019920"/>
            <a:ext cx="1903680" cy="533160"/>
          </a:xfrm>
          <a:custGeom>
            <a:avLst/>
            <a:gdLst>
              <a:gd name="textAreaLeft" fmla="*/ 34560 w 1903680"/>
              <a:gd name="textAreaRight" fmla="*/ 1869120 w 1903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087" h="21600">
                <a:moveTo>
                  <a:pt x="0" y="0"/>
                </a:moveTo>
                <a:lnTo>
                  <a:pt x="77087" y="0"/>
                </a:lnTo>
                <a:lnTo>
                  <a:pt x="77087" y="21600"/>
                </a:lnTo>
                <a:lnTo>
                  <a:pt x="0" y="21600"/>
                </a:lnTo>
                <a:close/>
              </a:path>
              <a:path fill="lightenLess" w="77087" h="21600">
                <a:moveTo>
                  <a:pt x="0" y="0"/>
                </a:moveTo>
                <a:lnTo>
                  <a:pt x="77087" y="0"/>
                </a:lnTo>
                <a:lnTo>
                  <a:pt x="75687" y="1400"/>
                </a:lnTo>
                <a:lnTo>
                  <a:pt x="1400" y="1400"/>
                </a:lnTo>
                <a:close/>
              </a:path>
              <a:path fill="darken" w="77087" h="21600">
                <a:moveTo>
                  <a:pt x="77087" y="0"/>
                </a:moveTo>
                <a:lnTo>
                  <a:pt x="77087" y="21600"/>
                </a:lnTo>
                <a:lnTo>
                  <a:pt x="75687" y="20200"/>
                </a:lnTo>
                <a:lnTo>
                  <a:pt x="75687" y="1400"/>
                </a:lnTo>
                <a:close/>
              </a:path>
              <a:path fill="darkenLess" w="77087" h="21600">
                <a:moveTo>
                  <a:pt x="77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87" y="20200"/>
                </a:lnTo>
                <a:close/>
              </a:path>
              <a:path fill="lighten" w="77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Молодец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" action="ppaction://hlinkshowjump?jump=nextslide"/>
          </p:cNvPr>
          <p:cNvSpPr/>
          <p:nvPr/>
        </p:nvSpPr>
        <p:spPr>
          <a:xfrm>
            <a:off x="2666880" y="5486400"/>
            <a:ext cx="3353040" cy="1143000"/>
          </a:xfrm>
          <a:custGeom>
            <a:avLst/>
            <a:gdLst>
              <a:gd name="textAreaLeft" fmla="*/ 73800 w 3353040"/>
              <a:gd name="textAreaRight" fmla="*/ 3279240 w 3353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51" h="21600">
                <a:moveTo>
                  <a:pt x="0" y="0"/>
                </a:moveTo>
                <a:lnTo>
                  <a:pt x="63351" y="0"/>
                </a:lnTo>
                <a:lnTo>
                  <a:pt x="63351" y="21600"/>
                </a:lnTo>
                <a:lnTo>
                  <a:pt x="0" y="21600"/>
                </a:lnTo>
                <a:close/>
              </a:path>
              <a:path fill="lightenLess" w="63351" h="21600">
                <a:moveTo>
                  <a:pt x="0" y="0"/>
                </a:moveTo>
                <a:lnTo>
                  <a:pt x="63351" y="0"/>
                </a:lnTo>
                <a:lnTo>
                  <a:pt x="61951" y="1400"/>
                </a:lnTo>
                <a:lnTo>
                  <a:pt x="1400" y="1400"/>
                </a:lnTo>
                <a:close/>
              </a:path>
              <a:path fill="darken" w="63351" h="21600">
                <a:moveTo>
                  <a:pt x="63351" y="0"/>
                </a:moveTo>
                <a:lnTo>
                  <a:pt x="63351" y="21600"/>
                </a:lnTo>
                <a:lnTo>
                  <a:pt x="61951" y="20200"/>
                </a:lnTo>
                <a:lnTo>
                  <a:pt x="61951" y="1400"/>
                </a:lnTo>
                <a:close/>
              </a:path>
              <a:path fill="darkenLess" w="63351" h="21600">
                <a:moveTo>
                  <a:pt x="63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51" y="20200"/>
                </a:lnTo>
                <a:close/>
              </a:path>
              <a:path fill="lighten" w="63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лед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23"/>
          <p:cNvPicPr/>
          <p:nvPr/>
        </p:nvPicPr>
        <p:blipFill>
          <a:blip r:embed="rId1"/>
          <a:stretch/>
        </p:blipFill>
        <p:spPr>
          <a:xfrm>
            <a:off x="31240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34zf9"/>
          <p:cNvPicPr/>
          <p:nvPr/>
        </p:nvPicPr>
        <p:blipFill>
          <a:blip r:embed="rId2"/>
          <a:stretch/>
        </p:blipFill>
        <p:spPr>
          <a:xfrm rot="16200000">
            <a:off x="2660400" y="920160"/>
            <a:ext cx="37465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107720" y="685800"/>
            <a:ext cx="320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Длинное ух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Комочек п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Прыгает лов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1f9"/>
                </a:solidFill>
                <a:latin typeface="Comic Sans MS"/>
              </a:rPr>
              <a:t>Любит морко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abbit"/>
          <p:cNvPicPr/>
          <p:nvPr/>
        </p:nvPicPr>
        <p:blipFill>
          <a:blip r:embed="rId2"/>
          <a:stretch/>
        </p:blipFill>
        <p:spPr>
          <a:xfrm>
            <a:off x="6781680" y="3583080"/>
            <a:ext cx="1981440" cy="196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orse-"/>
          <p:cNvPicPr/>
          <p:nvPr/>
        </p:nvPicPr>
        <p:blipFill>
          <a:blip r:embed="rId3"/>
          <a:stretch/>
        </p:blipFill>
        <p:spPr>
          <a:xfrm>
            <a:off x="609480" y="3487680"/>
            <a:ext cx="2743200" cy="221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pig"/>
          <p:cNvPicPr/>
          <p:nvPr/>
        </p:nvPicPr>
        <p:blipFill>
          <a:blip r:embed="rId4"/>
          <a:stretch/>
        </p:blipFill>
        <p:spPr>
          <a:xfrm>
            <a:off x="3809880" y="3546360"/>
            <a:ext cx="2210040" cy="20923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0"/>
          <p:cNvSpPr/>
          <p:nvPr/>
        </p:nvSpPr>
        <p:spPr>
          <a:xfrm>
            <a:off x="990720" y="5943600"/>
            <a:ext cx="1903320" cy="533520"/>
          </a:xfrm>
          <a:custGeom>
            <a:avLst/>
            <a:gdLst>
              <a:gd name="textAreaLeft" fmla="*/ 34560 w 1903320"/>
              <a:gd name="textAreaRight" fmla="*/ 1868760 w 1903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20" h="21600">
                <a:moveTo>
                  <a:pt x="0" y="0"/>
                </a:moveTo>
                <a:lnTo>
                  <a:pt x="77020" y="0"/>
                </a:lnTo>
                <a:lnTo>
                  <a:pt x="77020" y="21600"/>
                </a:lnTo>
                <a:lnTo>
                  <a:pt x="0" y="21600"/>
                </a:lnTo>
                <a:close/>
              </a:path>
              <a:path fill="lightenLess" w="77020" h="21600">
                <a:moveTo>
                  <a:pt x="0" y="0"/>
                </a:moveTo>
                <a:lnTo>
                  <a:pt x="77020" y="0"/>
                </a:lnTo>
                <a:lnTo>
                  <a:pt x="75620" y="1400"/>
                </a:lnTo>
                <a:lnTo>
                  <a:pt x="1400" y="1400"/>
                </a:lnTo>
                <a:close/>
              </a:path>
              <a:path fill="darken" w="77020" h="21600">
                <a:moveTo>
                  <a:pt x="77020" y="0"/>
                </a:moveTo>
                <a:lnTo>
                  <a:pt x="77020" y="21600"/>
                </a:lnTo>
                <a:lnTo>
                  <a:pt x="75620" y="20200"/>
                </a:lnTo>
                <a:lnTo>
                  <a:pt x="75620" y="1400"/>
                </a:lnTo>
                <a:close/>
              </a:path>
              <a:path fill="darkenLess" w="77020" h="21600">
                <a:moveTo>
                  <a:pt x="77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20" y="20200"/>
                </a:lnTo>
                <a:close/>
              </a:path>
              <a:path fill="lighten" w="77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3887640" y="5943600"/>
            <a:ext cx="1903680" cy="533520"/>
          </a:xfrm>
          <a:custGeom>
            <a:avLst/>
            <a:gdLst>
              <a:gd name="textAreaLeft" fmla="*/ 34560 w 1903680"/>
              <a:gd name="textAreaRight" fmla="*/ 1869120 w 1903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35" h="21600">
                <a:moveTo>
                  <a:pt x="0" y="0"/>
                </a:moveTo>
                <a:lnTo>
                  <a:pt x="77035" y="0"/>
                </a:lnTo>
                <a:lnTo>
                  <a:pt x="77035" y="21600"/>
                </a:lnTo>
                <a:lnTo>
                  <a:pt x="0" y="21600"/>
                </a:lnTo>
                <a:close/>
              </a:path>
              <a:path fill="lightenLess" w="77035" h="21600">
                <a:moveTo>
                  <a:pt x="0" y="0"/>
                </a:moveTo>
                <a:lnTo>
                  <a:pt x="77035" y="0"/>
                </a:lnTo>
                <a:lnTo>
                  <a:pt x="75635" y="1400"/>
                </a:lnTo>
                <a:lnTo>
                  <a:pt x="1400" y="1400"/>
                </a:lnTo>
                <a:close/>
              </a:path>
              <a:path fill="darken" w="77035" h="21600">
                <a:moveTo>
                  <a:pt x="77035" y="0"/>
                </a:moveTo>
                <a:lnTo>
                  <a:pt x="77035" y="21600"/>
                </a:lnTo>
                <a:lnTo>
                  <a:pt x="75635" y="20200"/>
                </a:lnTo>
                <a:lnTo>
                  <a:pt x="75635" y="1400"/>
                </a:lnTo>
                <a:close/>
              </a:path>
              <a:path fill="darkenLess" w="77035" h="21600">
                <a:moveTo>
                  <a:pt x="7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35" y="20200"/>
                </a:lnTo>
                <a:close/>
              </a:path>
              <a:path fill="lighten" w="7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ви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>
            <a:hlinkClick r:id="" action="ppaction://hlinkshowjump?jump=nextslide"/>
          </p:cNvPr>
          <p:cNvSpPr/>
          <p:nvPr/>
        </p:nvSpPr>
        <p:spPr>
          <a:xfrm>
            <a:off x="6629400" y="5867280"/>
            <a:ext cx="2158920" cy="533520"/>
          </a:xfrm>
          <a:custGeom>
            <a:avLst/>
            <a:gdLst>
              <a:gd name="textAreaLeft" fmla="*/ 34560 w 2158920"/>
              <a:gd name="textAreaRight" fmla="*/ 2124360 w 2158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7361" h="21600">
                <a:moveTo>
                  <a:pt x="0" y="0"/>
                </a:moveTo>
                <a:lnTo>
                  <a:pt x="87361" y="0"/>
                </a:lnTo>
                <a:lnTo>
                  <a:pt x="87361" y="21600"/>
                </a:lnTo>
                <a:lnTo>
                  <a:pt x="0" y="21600"/>
                </a:lnTo>
                <a:close/>
              </a:path>
              <a:path fill="lightenLess" w="87361" h="21600">
                <a:moveTo>
                  <a:pt x="0" y="0"/>
                </a:moveTo>
                <a:lnTo>
                  <a:pt x="87361" y="0"/>
                </a:lnTo>
                <a:lnTo>
                  <a:pt x="85961" y="1400"/>
                </a:lnTo>
                <a:lnTo>
                  <a:pt x="1400" y="1400"/>
                </a:lnTo>
                <a:close/>
              </a:path>
              <a:path fill="darken" w="87361" h="21600">
                <a:moveTo>
                  <a:pt x="87361" y="0"/>
                </a:moveTo>
                <a:lnTo>
                  <a:pt x="87361" y="21600"/>
                </a:lnTo>
                <a:lnTo>
                  <a:pt x="85961" y="20200"/>
                </a:lnTo>
                <a:lnTo>
                  <a:pt x="85961" y="1400"/>
                </a:lnTo>
                <a:close/>
              </a:path>
              <a:path fill="darkenLess" w="87361" h="21600">
                <a:moveTo>
                  <a:pt x="87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961" y="20200"/>
                </a:lnTo>
                <a:close/>
              </a:path>
              <a:path fill="lighten" w="87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ро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03T07:28:3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