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1CC5E-0D22-4968-93B7-18930D5D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8E7EA-3E26-4BD6-AFA8-CFF01D8C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2012DA-ED65-4842-85C1-69C52538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FB571B-E532-4479-92E8-13CA572A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93732B-55D6-4C45-BF77-3BF9A6A3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C76609-0656-4B14-8C7E-501DC43F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174F58-C362-4B98-9940-F597EEDC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65C05B-761B-4449-A49C-D5627769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3898FD-2FD4-4CAF-B76B-7B9DE55E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F6FE67-772C-4C15-B360-9D9E60DA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3B4B7C-0BE3-4FA8-AE79-768FAC29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82A1A4-ADA3-43E3-B4C9-640C3454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74D6E-C44F-421C-B74F-D20ECA06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38B1DE-1ED2-4D1E-AE56-53256B59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ED1372-D121-4E64-B517-FA8EBE42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7838A0-3751-4C4F-9A56-E7F191BD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FC5EAF-8916-479D-9DCB-B4A57C21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1BDD13-50CE-44CA-861A-829C6916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E772B9-FA4B-4510-9C25-E33D7D48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D3350D-F6F1-41E0-AEB0-C03284D0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0AE3BA-11A4-4DB0-8022-3A487853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61A94A-976C-418A-A8F0-442AE7A5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02121B-4421-4D8E-81E8-72988CB2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D5E48-5F34-4F2A-9825-834BD7C1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1E6AD3-B170-47B6-A99E-EC83CFAFD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A22389-FFB0-446E-8B3C-B7C6C224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D492CF-F6F8-42B2-ADE1-064D98B3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4E03C3-6043-4E0D-98F4-08115F03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E9DDE4-EF3A-49B7-AAA0-759E0E30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2AA52C-96F9-4D49-99A4-88FECA27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17186B-DF68-4134-B005-C9A1BF20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CB66DF-080C-4804-AEFD-2B23F922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03E92E-8283-45C7-A407-BD393A72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57C825-AB58-4751-AB30-DAF6A142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3F40-8216-4E41-89E6-A9607639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E0D470-C3CD-4CC6-815C-19C63EA6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CAF339-A215-45C1-85C1-1D17EE12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E24145-37D1-47E0-B93B-89D10F8C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787EC1-2E71-4527-B39F-9BD589E1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73BDA9-656B-4227-85D2-745E3A1A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8371C3-359D-4E9C-84A4-E9798133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F8AD67-BEDC-4B14-BFDB-7E7EFAAC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E39D30-AF73-44C1-8678-4FAD1622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6D1237-38B9-4C39-A503-DDDDD70A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A18750-B318-4715-AA54-9FCBC079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8BAA-E4AB-45A7-B5BB-4E0D8AD6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897974-F5CA-4CCA-8E2B-728D99BA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0B87DE-02B0-488D-B9AB-5351668A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8AE530-E6A5-4CCB-A841-2DD32935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E8C529-7163-41BC-99B6-75E75FC9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CDBEA5-D7F0-43DB-A582-E77C6C0A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6B05-C146-48FE-9531-071FFC3C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AABF-2C39-43C5-B621-70A7F1D5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7AD7-AF22-4F99-91B9-736408A6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4454-2EFF-4F63-936C-B1ED251C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DE7C-5C2C-4759-8826-FD6BAC51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40A8E-731A-4599-A202-2467979E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BB4A-59B2-4116-8F3B-54CB6B3D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AA88-708F-4A9A-A495-D81CB746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FE5E-E640-4B86-967D-27C47511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DA01-D3ED-40F9-BB3A-B3EB4AE9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ACD1-CEAD-4292-A816-3307375E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2CE41D-CB07-470D-B5DC-EECE3B1E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7E564-B7C2-4884-8F49-477DA56C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ACEF1-012F-4209-BB4D-F800D250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E54D73-0E5D-4997-B461-21EF8F5D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2A36BC-BE90-4E8F-B9F6-21AF1ABA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F972C-7F76-4A01-BDD4-7749787A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B44E4-D70A-427A-B4DD-CACC06CE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1E08EE-CF1C-45E0-8CF9-EECD8631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8E11F0-5E8B-495D-867E-23856754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4F28C6-B6B0-4FEF-9B8B-7F691F80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0AC57C-032F-4642-A93B-6A0A9D6C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A66380-7E80-48DD-B1BD-29CB75C6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34B2B4-07E0-41C3-ADFA-F8EE08A9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7ADE12-B86C-4E76-9182-81341AF6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DE3823-A52A-443E-8292-9BAE11FD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B8F043-CD71-46FD-B6C6-5C3BFCEF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88123-6725-44D2-9251-38AAEB6B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5A4C2E-7818-4720-B7EC-C4103983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7B4206-9C1E-4F36-8459-C0BE36C4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9A7D26-9BBF-400A-A2EB-15C9A195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E82155-48E0-434F-9100-F08ADAB9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0CD655-4E38-48F5-8454-31A71517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62800B-0683-4C9B-8286-DFFA9B6D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5A792B-F20B-49B5-8F1F-2C9C0FEE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AD7D2A-A532-448E-A00A-2338892F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3AC854-0CF2-4D33-A654-9742A1FC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44077B-B3B6-468E-A108-246A3CD9C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05F0B-8D7E-4470-9141-2376DF2D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E424CF-AF83-4D5A-9477-9BD83463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700FA9-B2CD-4F94-A86F-7AD852B8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2796AA-DC86-4B2D-910E-77697A56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5230A2-3E57-4B05-8477-622D7AAF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F60718-3941-4541-9755-3E6FDAA9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0F4FE9-4E6A-4CF1-A5D4-509ACEEC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1AEDBC-360F-4EB8-856A-C290849F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16F474-FD67-4707-A88C-38B0B9B5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7D5008-E1AB-41DE-BE79-FACE8617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21014A-F16B-4AD3-9E86-125AB600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96566-ECD2-4130-9E70-537B0469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15AAF5-8F20-408A-B412-FD8ED044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C81F8B-0423-4C45-9499-24B45009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B6C9A9-E84D-445A-AE5C-52F161B6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F7FDF9-2FCD-4E6D-9156-4198F2DF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11D8ED-B787-44A2-B5C6-86B42021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6811CA-C1D6-44CB-BFE7-2F9F413A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A43BDE-4324-41EE-9306-D7C22CAB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E42D23-4E3D-469C-9E0B-98A698E7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9BE01A-A39F-4D66-9F59-58C1FA0E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54CBF1-FBE9-4B23-B475-E210541A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0684A-3D8F-4E7E-85F3-85858A80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354B80-35D8-411D-BF47-09B607F2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317E34-53D0-4928-A2F9-882840E3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B2BB25-3C83-4594-8365-2E02C989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7221A3-3E74-4556-A816-E011A2B7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EE8032-2041-49B8-8009-48EB6865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965CC8-A71D-4794-8C0B-EAB566D1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902BAF-83FB-48E2-B67A-BD3234C1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616289-2BEC-422A-ACCA-0AFE9C03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73619B-2406-4582-9280-615A2DF4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638B0C-9363-4758-9704-86899ECA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222EA-F8D2-4CBB-AD34-5F45E99C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948BCB-7778-4479-AE4B-FAC80880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BE5A3F-EDCE-46D2-A134-37205120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335973-51AE-4185-996E-4DA190AF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78D274-1DA9-45F2-A7EC-C72C178AA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B5358B-1548-4322-AD63-8EB4A903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F8088D-FF59-49C5-825B-A8D41D56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8ED1BB-099C-448E-8CB4-0ED89DE8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604420-6508-4EBA-BF59-D48E651A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72833B-DD83-4D61-AE7A-7F84D1C9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8C7C15-4DB7-4A88-81F3-05EAB156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71081-CE6A-4E48-A328-DCE643AE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B75BF0-033E-4C68-AB41-538A27ED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99B393-0DC4-4E16-A7CB-BEEDE6E1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9E23CB-D1EF-440B-AF9F-57066140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51C839-0BE2-4793-BB0A-F775220F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ED0FF2-984F-4D59-8927-817559CD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7D0AEC-2D5D-4EAB-8B93-161F2D33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F6377D-98EC-49AF-BC3D-B2A59EE4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002F49-6BF5-49ED-B681-C1820B3F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0EE36A-2A06-46E6-9422-E72895B4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EBA918-D896-4259-812A-8E9DC375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467B-E1C5-4D26-BE24-F323217395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5369-45BF-4C29-BB15-92108897B4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9924-D308-4B87-BA8D-8EB7579F8A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C4EF-E63C-4912-BA97-8925573F2E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C59B-65AF-467A-88B1-D4CCE3D06A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95CF-A3F0-44D8-BBBF-5C6B172657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9F45-43C0-4970-AA20-DF02ECC24D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8E48-C08C-44CC-8AAD-8AECC05765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CB11-20BC-4059-84F8-591C99AE36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E01D-2C2C-4163-9EAC-277F2EDD36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9623-E05B-447F-B172-89CF534819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A8A0-3E1F-4D6A-BA90-B265B63096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0" spc="-1" strike="noStrike">
                <a:solidFill>
                  <a:srgbClr val="ff0000"/>
                </a:solidFill>
                <a:latin typeface="Monotype Corsiva"/>
              </a:rPr>
              <a:t>Фигурное катание</a:t>
            </a:r>
            <a:endParaRPr b="1" lang="en-US" sz="1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357120" y="495288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МБОУНОШ г. Покров 1 класс «а»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Прыж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38" name="Picture 4" descr="120px-Andrei_Lutai_-_skok"/>
          <p:cNvPicPr/>
          <p:nvPr/>
        </p:nvPicPr>
        <p:blipFill>
          <a:blip r:embed="rId1"/>
          <a:stretch/>
        </p:blipFill>
        <p:spPr>
          <a:xfrm>
            <a:off x="4952880" y="228600"/>
            <a:ext cx="3048120" cy="6400800"/>
          </a:xfrm>
          <a:prstGeom prst="rect">
            <a:avLst/>
          </a:prstGeom>
          <a:ln w="0">
            <a:noFill/>
          </a:ln>
        </p:spPr>
      </p:pic>
      <p:sp>
        <p:nvSpPr>
          <p:cNvPr id="539" name="Прямоугольник 5"/>
          <p:cNvSpPr/>
          <p:nvPr/>
        </p:nvSpPr>
        <p:spPr>
          <a:xfrm>
            <a:off x="4952880" y="228600"/>
            <a:ext cx="3048120" cy="6400800"/>
          </a:xfrm>
          <a:prstGeom prst="rect">
            <a:avLst/>
          </a:prstGeom>
          <a:noFill/>
          <a:ln w="414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Парное катание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Поддерж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2" name="Picture 4" descr="220px-Gregory_petukhov"/>
          <p:cNvPicPr/>
          <p:nvPr/>
        </p:nvPicPr>
        <p:blipFill>
          <a:blip r:embed="rId1"/>
          <a:stretch/>
        </p:blipFill>
        <p:spPr>
          <a:xfrm>
            <a:off x="533520" y="2133720"/>
            <a:ext cx="3657600" cy="34909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" descr="220px-Siudek_&amp;_Siudek_Lift_2_-_2006_Skate_America"/>
          <p:cNvPicPr/>
          <p:nvPr/>
        </p:nvPicPr>
        <p:blipFill>
          <a:blip r:embed="rId2"/>
          <a:stretch/>
        </p:blipFill>
        <p:spPr>
          <a:xfrm>
            <a:off x="5181480" y="1066680"/>
            <a:ext cx="3708360" cy="5562720"/>
          </a:xfrm>
          <a:prstGeom prst="rect">
            <a:avLst/>
          </a:prstGeom>
          <a:ln w="0">
            <a:noFill/>
          </a:ln>
        </p:spPr>
      </p:pic>
      <p:sp>
        <p:nvSpPr>
          <p:cNvPr id="544" name="Прямоугольник 7"/>
          <p:cNvSpPr/>
          <p:nvPr/>
        </p:nvSpPr>
        <p:spPr>
          <a:xfrm>
            <a:off x="5181480" y="1031760"/>
            <a:ext cx="3708360" cy="5597640"/>
          </a:xfrm>
          <a:prstGeom prst="rect">
            <a:avLst/>
          </a:prstGeom>
          <a:noFill/>
          <a:ln w="414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Прямоугольник 8"/>
          <p:cNvSpPr/>
          <p:nvPr/>
        </p:nvSpPr>
        <p:spPr>
          <a:xfrm>
            <a:off x="533520" y="2133720"/>
            <a:ext cx="3657600" cy="3490920"/>
          </a:xfrm>
          <a:prstGeom prst="rect">
            <a:avLst/>
          </a:prstGeom>
          <a:noFill/>
          <a:ln w="414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Подкрут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7" name="Picture 4" descr="220px-Meagan_Duhamel_&amp;_Craig_Buntin_Twist_2008_TEB"/>
          <p:cNvPicPr/>
          <p:nvPr/>
        </p:nvPicPr>
        <p:blipFill>
          <a:blip r:embed="rId1"/>
          <a:stretch/>
        </p:blipFill>
        <p:spPr>
          <a:xfrm>
            <a:off x="4648320" y="380880"/>
            <a:ext cx="4011480" cy="5943600"/>
          </a:xfrm>
          <a:prstGeom prst="rect">
            <a:avLst/>
          </a:prstGeom>
          <a:ln w="0">
            <a:noFill/>
          </a:ln>
        </p:spPr>
      </p:pic>
      <p:sp>
        <p:nvSpPr>
          <p:cNvPr id="548" name="Прямоугольник 5"/>
          <p:cNvSpPr/>
          <p:nvPr/>
        </p:nvSpPr>
        <p:spPr>
          <a:xfrm>
            <a:off x="4648320" y="380880"/>
            <a:ext cx="4011480" cy="5943600"/>
          </a:xfrm>
          <a:prstGeom prst="rect">
            <a:avLst/>
          </a:prstGeom>
          <a:noFill/>
          <a:ln w="414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Выброс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50" name="Picture 4" descr="220px-Shen_Xue_and_Zhao_Hongbo_(SP)_Olympics_2010"/>
          <p:cNvPicPr/>
          <p:nvPr/>
        </p:nvPicPr>
        <p:blipFill>
          <a:blip r:embed="rId1"/>
          <a:stretch/>
        </p:blipFill>
        <p:spPr>
          <a:xfrm>
            <a:off x="4194000" y="304920"/>
            <a:ext cx="4475160" cy="6324480"/>
          </a:xfrm>
          <a:prstGeom prst="rect">
            <a:avLst/>
          </a:prstGeom>
          <a:ln w="0">
            <a:noFill/>
          </a:ln>
        </p:spPr>
      </p:pic>
      <p:sp>
        <p:nvSpPr>
          <p:cNvPr id="551" name="Прямоугольник 5"/>
          <p:cNvSpPr/>
          <p:nvPr/>
        </p:nvSpPr>
        <p:spPr>
          <a:xfrm>
            <a:off x="4194000" y="304920"/>
            <a:ext cx="4475160" cy="6324480"/>
          </a:xfrm>
          <a:prstGeom prst="rect">
            <a:avLst/>
          </a:prstGeom>
          <a:noFill/>
          <a:ln w="414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Тоде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53" name="Picture 4" descr="300px-Rus-nat-petrova-tikhonov"/>
          <p:cNvPicPr/>
          <p:nvPr/>
        </p:nvPicPr>
        <p:blipFill>
          <a:blip r:embed="rId1"/>
          <a:stretch/>
        </p:blipFill>
        <p:spPr>
          <a:xfrm>
            <a:off x="609480" y="1084320"/>
            <a:ext cx="7848720" cy="5545080"/>
          </a:xfrm>
          <a:prstGeom prst="rect">
            <a:avLst/>
          </a:prstGeom>
          <a:ln w="0">
            <a:noFill/>
          </a:ln>
        </p:spPr>
      </p:pic>
      <p:sp>
        <p:nvSpPr>
          <p:cNvPr id="554" name="Прямоугольник 5"/>
          <p:cNvSpPr/>
          <p:nvPr/>
        </p:nvSpPr>
        <p:spPr>
          <a:xfrm>
            <a:off x="609480" y="1084320"/>
            <a:ext cx="7848720" cy="5545080"/>
          </a:xfrm>
          <a:prstGeom prst="rect">
            <a:avLst/>
          </a:prstGeom>
          <a:noFill/>
          <a:ln w="414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Известные фигуристы России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Евгений Плющенк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57" name="Picture 2" descr="http://i.eurosport.ru/2014/01/21/1169484-21056640-640-360.jpg"/>
          <p:cNvPicPr/>
          <p:nvPr/>
        </p:nvPicPr>
        <p:blipFill>
          <a:blip r:embed="rId1"/>
          <a:stretch/>
        </p:blipFill>
        <p:spPr>
          <a:xfrm>
            <a:off x="1676520" y="2514600"/>
            <a:ext cx="6095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Ирина Слуцка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59" name="Picture 2" descr="http://www.gazeta.ru/files/547292/slutskaya1.jpg"/>
          <p:cNvPicPr/>
          <p:nvPr/>
        </p:nvPicPr>
        <p:blipFill>
          <a:blip r:embed="rId1"/>
          <a:stretch/>
        </p:blipFill>
        <p:spPr>
          <a:xfrm>
            <a:off x="4599000" y="304920"/>
            <a:ext cx="396252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3"/>
          <p:cNvSpPr/>
          <p:nvPr/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Татьяна Волосожар и Максим Траньков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61" name="Picture 4" descr="http://img.gazeta.ru/files3/729/4936729/TASS_4099860-pic4_zoom-1000x1000-74718.jpg"/>
          <p:cNvPicPr/>
          <p:nvPr/>
        </p:nvPicPr>
        <p:blipFill>
          <a:blip r:embed="rId1"/>
          <a:stretch/>
        </p:blipFill>
        <p:spPr>
          <a:xfrm>
            <a:off x="1905120" y="1676520"/>
            <a:ext cx="69912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4"/>
          <p:cNvSpPr/>
          <p:nvPr/>
        </p:nvSpPr>
        <p:spPr>
          <a:xfrm>
            <a:off x="380880" y="1498680"/>
            <a:ext cx="3733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Фигурное катание — конькобежный вид спорта. Основная идея -передвижение спортсменов по льду с выполнением дополнительных элементов под музыкальное сопровождени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3" name="Picture 5" descr="230px-Tanith_Belbin_&amp;_Benjamin_Agosto_SlLi_2009_Worlds"/>
          <p:cNvPicPr/>
          <p:nvPr/>
        </p:nvPicPr>
        <p:blipFill>
          <a:blip r:embed="rId1"/>
          <a:stretch/>
        </p:blipFill>
        <p:spPr>
          <a:xfrm>
            <a:off x="4648320" y="380880"/>
            <a:ext cx="4012920" cy="6019920"/>
          </a:xfrm>
          <a:prstGeom prst="rect">
            <a:avLst/>
          </a:prstGeom>
          <a:ln w="0">
            <a:noFill/>
          </a:ln>
        </p:spPr>
      </p:pic>
      <p:sp>
        <p:nvSpPr>
          <p:cNvPr id="514" name="Прямоугольник 1"/>
          <p:cNvSpPr/>
          <p:nvPr/>
        </p:nvSpPr>
        <p:spPr>
          <a:xfrm>
            <a:off x="4648320" y="380880"/>
            <a:ext cx="4012920" cy="6019920"/>
          </a:xfrm>
          <a:prstGeom prst="rect">
            <a:avLst/>
          </a:prstGeom>
          <a:noFill/>
          <a:ln w="414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4" descr="467px-Skating_pair"/>
          <p:cNvPicPr/>
          <p:nvPr/>
        </p:nvPicPr>
        <p:blipFill>
          <a:blip r:embed="rId1"/>
          <a:stretch/>
        </p:blipFill>
        <p:spPr>
          <a:xfrm>
            <a:off x="762120" y="380880"/>
            <a:ext cx="4448160" cy="57056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5"/>
          <p:cNvSpPr/>
          <p:nvPr/>
        </p:nvSpPr>
        <p:spPr>
          <a:xfrm>
            <a:off x="5923080" y="392040"/>
            <a:ext cx="2743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Самые первые коньки были— костяные коньки, выполненные из конечностей крупных животных.  Потом были железные конь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7" name="Прямоугольник 5"/>
          <p:cNvSpPr/>
          <p:nvPr/>
        </p:nvSpPr>
        <p:spPr>
          <a:xfrm>
            <a:off x="765000" y="380880"/>
            <a:ext cx="4445280" cy="5705640"/>
          </a:xfrm>
          <a:prstGeom prst="rect">
            <a:avLst/>
          </a:prstGeom>
          <a:noFill/>
          <a:ln w="414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151920" y="3049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Первые клубы любителей фигурного катания появились в XVIII веке в Англии в городе Эдинбурге (1742 г.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9" name="Picture 4" descr="150px-Edgar_Magde_Syers"/>
          <p:cNvPicPr/>
          <p:nvPr/>
        </p:nvPicPr>
        <p:blipFill>
          <a:blip r:embed="rId1"/>
          <a:stretch/>
        </p:blipFill>
        <p:spPr>
          <a:xfrm>
            <a:off x="2514600" y="1905120"/>
            <a:ext cx="4278240" cy="4876560"/>
          </a:xfrm>
          <a:prstGeom prst="rect">
            <a:avLst/>
          </a:prstGeom>
          <a:ln w="0">
            <a:noFill/>
          </a:ln>
        </p:spPr>
      </p:pic>
      <p:sp>
        <p:nvSpPr>
          <p:cNvPr id="520" name="Прямоугольник 5"/>
          <p:cNvSpPr/>
          <p:nvPr/>
        </p:nvSpPr>
        <p:spPr>
          <a:xfrm>
            <a:off x="2514600" y="1905120"/>
            <a:ext cx="4278240" cy="4876560"/>
          </a:xfrm>
          <a:prstGeom prst="rect">
            <a:avLst/>
          </a:prstGeom>
          <a:noFill/>
          <a:ln w="414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На I Конгрессе конькобежцев в 1871 году фигурное катание было признано как вид спор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22" name="Picture 4" descr="150px-Bundesarchiv_Bild_102-05422,_Eiskunstlauf,_Österreichisches_Meisterpaar"/>
          <p:cNvPicPr/>
          <p:nvPr/>
        </p:nvPicPr>
        <p:blipFill>
          <a:blip r:embed="rId1"/>
          <a:stretch/>
        </p:blipFill>
        <p:spPr>
          <a:xfrm>
            <a:off x="2438280" y="1523880"/>
            <a:ext cx="3792600" cy="5257800"/>
          </a:xfrm>
          <a:prstGeom prst="rect">
            <a:avLst/>
          </a:prstGeom>
          <a:ln w="0">
            <a:noFill/>
          </a:ln>
        </p:spPr>
      </p:pic>
      <p:sp>
        <p:nvSpPr>
          <p:cNvPr id="523" name="Прямоугольник 5"/>
          <p:cNvSpPr/>
          <p:nvPr/>
        </p:nvSpPr>
        <p:spPr>
          <a:xfrm>
            <a:off x="2438280" y="1523880"/>
            <a:ext cx="3792600" cy="5257800"/>
          </a:xfrm>
          <a:prstGeom prst="rect">
            <a:avLst/>
          </a:prstGeom>
          <a:noFill/>
          <a:ln w="414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151920" y="9144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Первые соревнования по фигурному катанию проходили только среди мужчин. В 1901 году в чемпионатах стали участвовать женщин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Первые соревнования, по парному кутанию, прошли только в 1908 году в России, в Санкт-Петербург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25" name="Picture 4" descr="150px-Bundesarchiv_Bild_183-E0109-0002-003,_Annerose_Baier,_Eberhard_Rüger"/>
          <p:cNvPicPr/>
          <p:nvPr/>
        </p:nvPicPr>
        <p:blipFill>
          <a:blip r:embed="rId1"/>
          <a:stretch/>
        </p:blipFill>
        <p:spPr>
          <a:xfrm>
            <a:off x="5092560" y="609480"/>
            <a:ext cx="3714840" cy="5029200"/>
          </a:xfrm>
          <a:prstGeom prst="rect">
            <a:avLst/>
          </a:prstGeom>
          <a:ln w="0">
            <a:noFill/>
          </a:ln>
        </p:spPr>
      </p:pic>
      <p:sp>
        <p:nvSpPr>
          <p:cNvPr id="526" name="Прямоугольник 5"/>
          <p:cNvSpPr/>
          <p:nvPr/>
        </p:nvSpPr>
        <p:spPr>
          <a:xfrm>
            <a:off x="5092560" y="609480"/>
            <a:ext cx="3714840" cy="5029200"/>
          </a:xfrm>
          <a:prstGeom prst="rect">
            <a:avLst/>
          </a:prstGeom>
          <a:noFill/>
          <a:ln w="414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Шаг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28" name="Picture 4" descr="220px-Forwardcrossover"/>
          <p:cNvPicPr/>
          <p:nvPr/>
        </p:nvPicPr>
        <p:blipFill>
          <a:blip r:embed="rId1"/>
          <a:stretch/>
        </p:blipFill>
        <p:spPr>
          <a:xfrm>
            <a:off x="2666880" y="1808280"/>
            <a:ext cx="6019920" cy="489744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5"/>
          <p:cNvSpPr/>
          <p:nvPr/>
        </p:nvSpPr>
        <p:spPr>
          <a:xfrm>
            <a:off x="380880" y="152280"/>
            <a:ext cx="8382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В фигурном катании можно выделить 4 основных элемента: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Прямоугольник 6"/>
          <p:cNvSpPr/>
          <p:nvPr/>
        </p:nvSpPr>
        <p:spPr>
          <a:xfrm>
            <a:off x="2666880" y="1808280"/>
            <a:ext cx="6019920" cy="4897440"/>
          </a:xfrm>
          <a:prstGeom prst="rect">
            <a:avLst/>
          </a:prstGeom>
          <a:noFill/>
          <a:ln w="414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Спирал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32" name="Picture 4" descr="100px-Jenni_Vahamaa_2008_Junior_Worlds"/>
          <p:cNvPicPr/>
          <p:nvPr/>
        </p:nvPicPr>
        <p:blipFill>
          <a:blip r:embed="rId1"/>
          <a:stretch/>
        </p:blipFill>
        <p:spPr>
          <a:xfrm>
            <a:off x="3936960" y="457200"/>
            <a:ext cx="3911760" cy="5867280"/>
          </a:xfrm>
          <a:prstGeom prst="rect">
            <a:avLst/>
          </a:prstGeom>
          <a:ln w="0">
            <a:noFill/>
          </a:ln>
        </p:spPr>
      </p:pic>
      <p:sp>
        <p:nvSpPr>
          <p:cNvPr id="533" name="Прямоугольник 5"/>
          <p:cNvSpPr/>
          <p:nvPr/>
        </p:nvSpPr>
        <p:spPr>
          <a:xfrm>
            <a:off x="3936960" y="457200"/>
            <a:ext cx="3911760" cy="5867280"/>
          </a:xfrm>
          <a:prstGeom prst="rect">
            <a:avLst/>
          </a:prstGeom>
          <a:noFill/>
          <a:ln w="414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Вращ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35" name="Picture 4" descr="Sasha_Cohen_Biellmann"/>
          <p:cNvPicPr/>
          <p:nvPr/>
        </p:nvPicPr>
        <p:blipFill>
          <a:blip r:embed="rId1"/>
          <a:stretch/>
        </p:blipFill>
        <p:spPr>
          <a:xfrm>
            <a:off x="4419720" y="762120"/>
            <a:ext cx="3657600" cy="5486400"/>
          </a:xfrm>
          <a:prstGeom prst="rect">
            <a:avLst/>
          </a:prstGeom>
          <a:ln w="0">
            <a:noFill/>
          </a:ln>
        </p:spPr>
      </p:pic>
      <p:sp>
        <p:nvSpPr>
          <p:cNvPr id="536" name="Прямоугольник 5"/>
          <p:cNvSpPr/>
          <p:nvPr/>
        </p:nvSpPr>
        <p:spPr>
          <a:xfrm>
            <a:off x="4419720" y="762120"/>
            <a:ext cx="3657600" cy="5486400"/>
          </a:xfrm>
          <a:prstGeom prst="rect">
            <a:avLst/>
          </a:prstGeom>
          <a:noFill/>
          <a:ln w="414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NA7 X64</cp:lastModifiedBy>
  <dcterms:modified xsi:type="dcterms:W3CDTF">2014-02-05T15:04:1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