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0B97-4F60-4614-9105-F5A10CCB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2987-D0E7-4784-9A4D-8F414C22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70A5BE-BBEC-4477-B903-68CDD8A3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43F911-FCB3-4E79-846E-8E3DC214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5144C8-792A-4464-B5E9-05DB05A3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A9383C-4EC0-4BFA-87F5-0CB7E748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D8C318-3AD2-4222-B5B3-04512416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5765B5-7869-44E8-AD43-A05E7C13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C5E9F0-BC3D-4884-85D5-11C6022C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EFCAE6-C5E5-4F37-B517-05C1F148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EF9F8B-0962-41AE-A772-76CEC0D4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9B253F-F170-4A3D-9751-3A00F525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562B-B6D9-4CB1-8FEF-7C5735AB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06120D-4000-4421-88DB-227EFE31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703B7D-D952-4FD2-BCC6-210FC607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80D321-D394-4C87-BDDD-0E24BADC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770E8A-6F0F-4761-B540-F9047E60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4AF917-6180-42C8-AE8E-DFC75C33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2CDB54-8618-48E2-A5F9-09134ED3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6AEBAA-DC17-4B49-9B3A-0009E2F5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44B77E-BC52-42FE-82A1-6B713E5D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92B525-B7D3-464E-BE28-7F5B3CD2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AB1C88-4BD5-44B0-B148-AEA30509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F7264-2268-4557-9599-D614BA55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4E7D02-2FAF-4FB0-A6EC-C1806FB8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35FB0B-A63A-4EC6-9999-021D3D3E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11C819-847F-4B36-8486-99F3B814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FD75F7-E5B7-4F49-A9E3-1F91117D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223FE3-A7BE-4966-AF53-58064389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29DA14-C41B-4440-9C94-F080B107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37AA4F-9E01-49BD-AA66-26A73597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14B9FA-290F-49E1-A732-F8207BB2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6629CD-FDB1-47EA-AA6A-8C0F3925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B16721-2D00-4180-867D-4A4F9D33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F3F3-6372-4309-B900-1E5ABBD6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475DE1-9269-45EF-A6C3-8AD58CF6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BC9086-DA8C-4075-9C66-0841A546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8BE43F-77F2-4F8D-9120-FF435F0E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92B3DB-DF8D-44F4-A319-4E470A81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521048-C531-44C6-B4FD-2347436A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5BE29A-BB1A-420F-BCAC-506CBBA6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AA626B-B157-44CE-A606-6CEE1422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02D1FC-EB3B-481A-B647-8A8389DA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0277E9-ABCF-434D-B3F5-711907C5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DF0065-6DCF-4605-B245-D722F841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3A9B-3D53-484E-98DB-F11CAC92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3DDAC6-A619-4D7B-9832-D4BCA6EA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DA32BC-4C7B-43C3-89B2-5810BD64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2F4D7A-A12D-4778-BB6D-CAFBC268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7D170C-2FF4-4F8B-8581-46504016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E6AD0D-6CDF-4E9A-BAE5-8FAAF5B9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FA8E-0418-4D71-88BA-8FCF41A1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23F7-4ADC-43C4-8E5B-FE3FCD88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F957-42DC-4086-87D7-9613B715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0EB5-A5D0-4E9E-AE97-9123B7C6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0A68-3069-4EE0-8D82-97D42FAE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8092D-3944-4E95-971D-071392B5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A1DB-7BBC-45C4-A2F3-ACD779E8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A0F6-8CB4-43E0-8BA1-F00F280F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5F60-320E-4FC3-BAC4-9D134236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9422-7C3E-41F8-87F8-197454FA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44BF-6859-4A2C-A6B6-3D40F1C3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CA3E3-C623-43B3-9875-F4F58E0E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D0570-1E6E-487C-869A-B3B0EF44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ADACC-4A15-4E82-9530-51BD0C0E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C6610-0E90-4F91-BA9D-7926AA77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07C94-0374-4449-874E-2091FFAA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EEC2-BA05-49DE-A701-0367D9F0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49203-76BF-4919-BA98-CD9AEF7E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86F70-C8EF-4483-BAE2-22A1225A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732B5-CE26-4E15-9A6A-0B4D6BEB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13166-72DC-499B-AB31-57FE964D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B3A81-7B03-4FB5-9A21-18348A51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D397E-ED51-47F7-BCBD-4D4DD527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77755-620B-4F98-8E1B-88CA5B89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E2D51-FAAC-40F0-99FD-24DEC11D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AA144-F56D-48F6-83C6-AB84216C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2B798-0245-4940-8A48-6F7965A2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EC42-2778-4FC7-B250-12F2274D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12079E-9EF5-48BC-ABED-3F1DAE27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858D3F-F996-4F3E-884A-B5E9ABD9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600CC3-088A-4C0E-AA3B-8FF55C47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38E3C1-B128-4CA6-952B-C967A3F1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450937-F99E-4A23-BBAC-2C1811DC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8DDA38-36F0-4C5C-B6E1-204EF361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24259A-7322-44C7-A2A4-23A33B93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B5E51-3257-42DE-BC0D-0B8E19FD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E2462F-1E56-4011-AEDD-0E6A17A3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3D8B4-A091-4E4F-89F5-F66B4654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4A1A4-8350-4409-82D7-A58AB714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304DD1-E838-4E3C-A8F1-1C3802F1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6FB56-CD16-4E2A-BBAE-0F076E39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3BFA1-D04F-4C51-A462-095A37E2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82ED8-AB01-446E-BB17-E0487EF7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D79195-1D4C-490C-B14E-BC3E02F2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1166D-BF29-480D-9719-C3A0D7C9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ECD5A-18DF-46F9-B010-3674BE76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81148-8F94-480F-9DE8-AD0770A4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CAB9E3-20F3-44BC-BFF7-AFE8FB8F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44D3E-6638-453F-AFA0-2C699919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C3599-FF9C-46CE-9729-4A270885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DFB37-2FDE-45ED-ABB1-E50CA8C7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933EE3-23C2-493D-8F8F-A9BDE032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5F2A3-43A8-4FBC-9C84-21EB7806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3D135-4251-476A-95DA-0385D115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3D4ADA-59EA-4FFF-BAC6-D11BD8AB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0EC3C4-A78C-4F36-AAD7-B498A87A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3961C5-D29C-41AD-91CC-D25CB5FB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B42897-945A-44E9-AA7D-67A32FD2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1E3031-9D2E-4255-A8A8-20C0341A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8024D-E113-402C-8732-B5D057AE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780C9-5F3A-4221-BC33-1EA05703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0A478-6B2F-4925-9AB4-EFCE33BB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F650E5-3096-48BF-BCE1-1B3C9C99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79328-F230-45AB-B8D1-02508EAE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F2482-817A-43C4-BF49-FACF1DF8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819A1-799D-4579-BABE-E5E59D9C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84ABF-AB54-4B66-A0DC-DC683EB0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8FFAE1-D82E-4613-B52B-47D8B735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4CCE67-F792-482C-A042-F91BD436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BC42A-C716-4AC4-B2B0-A01248F1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F634D2-E5BE-400E-991A-C6BBABA9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E9E02-FDC4-4499-8FE2-047A2D65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EAEA7D-3258-4863-9CF1-722054BE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3896B0-EF4A-4F2D-8A72-A075E2D7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A0834-F7D3-4F50-B9D0-76E4DF8B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D742A-1217-44D3-9A29-3D4355DC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FF6BBC-0E7C-444E-B92B-BF1D1ECC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1DA9DB-F195-493B-A379-306B0A3D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32F223-A7D4-413D-B4FD-50BF03C5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88CA07-AE8C-48AF-A3F0-E547EAE4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9BC5A2-879A-431E-B341-F2964AC9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EC1A5B-8FB9-4AB6-BB6C-1555935A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960E7-E689-44B5-A961-AEDDF2D0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825053-BA47-4DAC-B874-0556C381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8DEBF9-9176-4A34-9BFF-ECC8FC6D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564160-E890-4D19-971D-D708D446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CEEB35-49A2-4E2C-A989-07DCE65A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0B6326-009B-467F-BB79-EEA9C448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E48EF7-DE78-49C6-9E47-32F82142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67C164-923A-49A4-AFDC-5BCD49F6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75F57B-D01C-49D4-A4AB-E557BB63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8A0BC3-7324-4447-B9FE-C2EEB37F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506AE6-148C-4F01-A7AB-B5CCDD0D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4CA6-1665-4CCD-8AEB-121D247858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447A-5F6A-4D7E-9544-4750B6A308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D47A-2F25-4157-AD46-D00DFB9406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22CF-C252-4D7B-81C6-318C12CC95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3C99-9C76-4005-A0A6-611865A6BF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C839-04AD-47EC-9C06-A952D3F4CA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02C5-6B9E-42A5-A32F-B9FF75FDCB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DF4D-FD72-4A5A-B878-0E27BA2EB2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6DE3-991E-48B1-89DD-22EE4C766F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F906-E4AF-4C22-BBB9-090409C809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3B90-A48E-4540-B6E6-F5239CBB10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4533-3399-4329-9C85-8D56122F66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0" spc="-1" strike="noStrike">
                <a:solidFill>
                  <a:srgbClr val="ff0000"/>
                </a:solidFill>
                <a:latin typeface="Monotype Corsiva"/>
              </a:rPr>
              <a:t>Фигурное катание</a:t>
            </a:r>
            <a:endParaRPr b="1" lang="en-US" sz="1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357120" y="49528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МБОУНОШ г. Покров 1 класс «а»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Прыж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8" name="Picture 4" descr="120px-Andrei_Lutai_-_skok"/>
          <p:cNvPicPr/>
          <p:nvPr/>
        </p:nvPicPr>
        <p:blipFill>
          <a:blip r:embed="rId1"/>
          <a:stretch/>
        </p:blipFill>
        <p:spPr>
          <a:xfrm>
            <a:off x="4952880" y="228600"/>
            <a:ext cx="3048120" cy="6400800"/>
          </a:xfrm>
          <a:prstGeom prst="rect">
            <a:avLst/>
          </a:prstGeom>
          <a:ln w="0">
            <a:noFill/>
          </a:ln>
        </p:spPr>
      </p:pic>
      <p:sp>
        <p:nvSpPr>
          <p:cNvPr id="539" name="Прямоугольник 5"/>
          <p:cNvSpPr/>
          <p:nvPr/>
        </p:nvSpPr>
        <p:spPr>
          <a:xfrm>
            <a:off x="4952880" y="228600"/>
            <a:ext cx="3048120" cy="640080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арное катание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Поддерж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2" name="Picture 4" descr="220px-Gregory_petukhov"/>
          <p:cNvPicPr/>
          <p:nvPr/>
        </p:nvPicPr>
        <p:blipFill>
          <a:blip r:embed="rId1"/>
          <a:stretch/>
        </p:blipFill>
        <p:spPr>
          <a:xfrm>
            <a:off x="533520" y="2133720"/>
            <a:ext cx="3657600" cy="34909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220px-Siudek_&amp;_Siudek_Lift_2_-_2006_Skate_America"/>
          <p:cNvPicPr/>
          <p:nvPr/>
        </p:nvPicPr>
        <p:blipFill>
          <a:blip r:embed="rId2"/>
          <a:stretch/>
        </p:blipFill>
        <p:spPr>
          <a:xfrm>
            <a:off x="5181480" y="1066680"/>
            <a:ext cx="3708360" cy="556272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7"/>
          <p:cNvSpPr/>
          <p:nvPr/>
        </p:nvSpPr>
        <p:spPr>
          <a:xfrm>
            <a:off x="5181480" y="1031760"/>
            <a:ext cx="3708360" cy="559764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Прямоугольник 8"/>
          <p:cNvSpPr/>
          <p:nvPr/>
        </p:nvSpPr>
        <p:spPr>
          <a:xfrm>
            <a:off x="533520" y="2133720"/>
            <a:ext cx="3657600" cy="349092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Подкрут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7" name="Picture 4" descr="220px-Meagan_Duhamel_&amp;_Craig_Buntin_Twist_2008_TEB"/>
          <p:cNvPicPr/>
          <p:nvPr/>
        </p:nvPicPr>
        <p:blipFill>
          <a:blip r:embed="rId1"/>
          <a:stretch/>
        </p:blipFill>
        <p:spPr>
          <a:xfrm>
            <a:off x="4648320" y="380880"/>
            <a:ext cx="4011480" cy="594360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5"/>
          <p:cNvSpPr/>
          <p:nvPr/>
        </p:nvSpPr>
        <p:spPr>
          <a:xfrm>
            <a:off x="4648320" y="380880"/>
            <a:ext cx="4011480" cy="594360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Выброс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0" name="Picture 4" descr="220px-Shen_Xue_and_Zhao_Hongbo_(SP)_Olympics_2010"/>
          <p:cNvPicPr/>
          <p:nvPr/>
        </p:nvPicPr>
        <p:blipFill>
          <a:blip r:embed="rId1"/>
          <a:stretch/>
        </p:blipFill>
        <p:spPr>
          <a:xfrm>
            <a:off x="4194000" y="304920"/>
            <a:ext cx="4475160" cy="6324480"/>
          </a:xfrm>
          <a:prstGeom prst="rect">
            <a:avLst/>
          </a:prstGeom>
          <a:ln w="0">
            <a:noFill/>
          </a:ln>
        </p:spPr>
      </p:pic>
      <p:sp>
        <p:nvSpPr>
          <p:cNvPr id="551" name="Прямоугольник 5"/>
          <p:cNvSpPr/>
          <p:nvPr/>
        </p:nvSpPr>
        <p:spPr>
          <a:xfrm>
            <a:off x="4194000" y="304920"/>
            <a:ext cx="4475160" cy="632448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Тоде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3" name="Picture 4" descr="300px-Rus-nat-petrova-tikhonov"/>
          <p:cNvPicPr/>
          <p:nvPr/>
        </p:nvPicPr>
        <p:blipFill>
          <a:blip r:embed="rId1"/>
          <a:stretch/>
        </p:blipFill>
        <p:spPr>
          <a:xfrm>
            <a:off x="609480" y="1084320"/>
            <a:ext cx="7848720" cy="5545080"/>
          </a:xfrm>
          <a:prstGeom prst="rect">
            <a:avLst/>
          </a:prstGeom>
          <a:ln w="0">
            <a:noFill/>
          </a:ln>
        </p:spPr>
      </p:pic>
      <p:sp>
        <p:nvSpPr>
          <p:cNvPr id="554" name="Прямоугольник 5"/>
          <p:cNvSpPr/>
          <p:nvPr/>
        </p:nvSpPr>
        <p:spPr>
          <a:xfrm>
            <a:off x="609480" y="1084320"/>
            <a:ext cx="7848720" cy="554508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Известные фигуристы России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Евгений Плющенк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7" name="Picture 2" descr="http://i.eurosport.ru/2014/01/21/1169484-21056640-640-360.jpg"/>
          <p:cNvPicPr/>
          <p:nvPr/>
        </p:nvPicPr>
        <p:blipFill>
          <a:blip r:embed="rId1"/>
          <a:stretch/>
        </p:blipFill>
        <p:spPr>
          <a:xfrm>
            <a:off x="1676520" y="251460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Ирина Слуцка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9" name="Picture 2" descr="http://www.gazeta.ru/files/547292/slutskaya1.jpg"/>
          <p:cNvPicPr/>
          <p:nvPr/>
        </p:nvPicPr>
        <p:blipFill>
          <a:blip r:embed="rId1"/>
          <a:stretch/>
        </p:blipFill>
        <p:spPr>
          <a:xfrm>
            <a:off x="4599000" y="304920"/>
            <a:ext cx="396252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3"/>
          <p:cNvSpPr/>
          <p:nvPr/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Татьяна Волосожар и Максим Транько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1" name="Picture 4" descr="http://img.gazeta.ru/files3/729/4936729/TASS_4099860-pic4_zoom-1000x1000-74718.jpg"/>
          <p:cNvPicPr/>
          <p:nvPr/>
        </p:nvPicPr>
        <p:blipFill>
          <a:blip r:embed="rId1"/>
          <a:stretch/>
        </p:blipFill>
        <p:spPr>
          <a:xfrm>
            <a:off x="1905120" y="1676520"/>
            <a:ext cx="69912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4"/>
          <p:cNvSpPr/>
          <p:nvPr/>
        </p:nvSpPr>
        <p:spPr>
          <a:xfrm>
            <a:off x="380880" y="1498680"/>
            <a:ext cx="373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Фигурное катание — конькобежный вид спорта. Основная идея -передвижение спортсменов по льду с выполнением дополнительных элементов под музыкальное сопровожд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5" descr="230px-Tanith_Belbin_&amp;_Benjamin_Agosto_SlLi_2009_Worlds"/>
          <p:cNvPicPr/>
          <p:nvPr/>
        </p:nvPicPr>
        <p:blipFill>
          <a:blip r:embed="rId1"/>
          <a:stretch/>
        </p:blipFill>
        <p:spPr>
          <a:xfrm>
            <a:off x="4648320" y="380880"/>
            <a:ext cx="4012920" cy="601992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1"/>
          <p:cNvSpPr/>
          <p:nvPr/>
        </p:nvSpPr>
        <p:spPr>
          <a:xfrm>
            <a:off x="4648320" y="380880"/>
            <a:ext cx="4012920" cy="601992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467px-Skating_pair"/>
          <p:cNvPicPr/>
          <p:nvPr/>
        </p:nvPicPr>
        <p:blipFill>
          <a:blip r:embed="rId1"/>
          <a:stretch/>
        </p:blipFill>
        <p:spPr>
          <a:xfrm>
            <a:off x="762120" y="380880"/>
            <a:ext cx="4448160" cy="57056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5"/>
          <p:cNvSpPr/>
          <p:nvPr/>
        </p:nvSpPr>
        <p:spPr>
          <a:xfrm>
            <a:off x="5923080" y="392040"/>
            <a:ext cx="2743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Самые первые коньки были— костяные коньки, выполненные из конечностей крупных животных.  Потом были железные конь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Прямоугольник 5"/>
          <p:cNvSpPr/>
          <p:nvPr/>
        </p:nvSpPr>
        <p:spPr>
          <a:xfrm>
            <a:off x="765000" y="380880"/>
            <a:ext cx="4445280" cy="570564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Первые клубы любителей фигурного катания появились в XVIII веке в Англии в городе Эдинбурге (1742 г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9" name="Picture 4" descr="150px-Edgar_Magde_Syers"/>
          <p:cNvPicPr/>
          <p:nvPr/>
        </p:nvPicPr>
        <p:blipFill>
          <a:blip r:embed="rId1"/>
          <a:stretch/>
        </p:blipFill>
        <p:spPr>
          <a:xfrm>
            <a:off x="2514600" y="1905120"/>
            <a:ext cx="4278240" cy="487656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5"/>
          <p:cNvSpPr/>
          <p:nvPr/>
        </p:nvSpPr>
        <p:spPr>
          <a:xfrm>
            <a:off x="2514600" y="1905120"/>
            <a:ext cx="4278240" cy="487656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На I Конгрессе конькобежцев в 1871 году фигурное катание было признано как вид спор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2" name="Picture 4" descr="150px-Bundesarchiv_Bild_102-05422,_Eiskunstlauf,_Österreichisches_Meisterpaar"/>
          <p:cNvPicPr/>
          <p:nvPr/>
        </p:nvPicPr>
        <p:blipFill>
          <a:blip r:embed="rId1"/>
          <a:stretch/>
        </p:blipFill>
        <p:spPr>
          <a:xfrm>
            <a:off x="2438280" y="1523880"/>
            <a:ext cx="3792600" cy="5257800"/>
          </a:xfrm>
          <a:prstGeom prst="rect">
            <a:avLst/>
          </a:prstGeom>
          <a:ln w="0">
            <a:noFill/>
          </a:ln>
        </p:spPr>
      </p:pic>
      <p:sp>
        <p:nvSpPr>
          <p:cNvPr id="523" name="Прямоугольник 5"/>
          <p:cNvSpPr/>
          <p:nvPr/>
        </p:nvSpPr>
        <p:spPr>
          <a:xfrm>
            <a:off x="2438280" y="1523880"/>
            <a:ext cx="3792600" cy="525780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51920" y="9144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Первые соревнования по фигурному катанию проходили только среди мужчин. В 1901 году в чемпионатах стали участвовать женщи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Первые соревнования, по парному кутанию, прошли только в 1908 году в России, в Санкт-Петербург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5" name="Picture 4" descr="150px-Bundesarchiv_Bild_183-E0109-0002-003,_Annerose_Baier,_Eberhard_Rüger"/>
          <p:cNvPicPr/>
          <p:nvPr/>
        </p:nvPicPr>
        <p:blipFill>
          <a:blip r:embed="rId1"/>
          <a:stretch/>
        </p:blipFill>
        <p:spPr>
          <a:xfrm>
            <a:off x="5092560" y="609480"/>
            <a:ext cx="3714840" cy="502920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5"/>
          <p:cNvSpPr/>
          <p:nvPr/>
        </p:nvSpPr>
        <p:spPr>
          <a:xfrm>
            <a:off x="5092560" y="609480"/>
            <a:ext cx="3714840" cy="502920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Шаг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8" name="Picture 4" descr="220px-Forwardcrossover"/>
          <p:cNvPicPr/>
          <p:nvPr/>
        </p:nvPicPr>
        <p:blipFill>
          <a:blip r:embed="rId1"/>
          <a:stretch/>
        </p:blipFill>
        <p:spPr>
          <a:xfrm>
            <a:off x="2666880" y="180828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5"/>
          <p:cNvSpPr/>
          <p:nvPr/>
        </p:nvSpPr>
        <p:spPr>
          <a:xfrm>
            <a:off x="380880" y="1522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В фигурном катании можно выделить 4 основных элемента: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Прямоугольник 6"/>
          <p:cNvSpPr/>
          <p:nvPr/>
        </p:nvSpPr>
        <p:spPr>
          <a:xfrm>
            <a:off x="2666880" y="1808280"/>
            <a:ext cx="6019920" cy="489744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Спира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2" name="Picture 4" descr="100px-Jenni_Vahamaa_2008_Junior_Worlds"/>
          <p:cNvPicPr/>
          <p:nvPr/>
        </p:nvPicPr>
        <p:blipFill>
          <a:blip r:embed="rId1"/>
          <a:stretch/>
        </p:blipFill>
        <p:spPr>
          <a:xfrm>
            <a:off x="3936960" y="457200"/>
            <a:ext cx="3911760" cy="5867280"/>
          </a:xfrm>
          <a:prstGeom prst="rect">
            <a:avLst/>
          </a:prstGeom>
          <a:ln w="0">
            <a:noFill/>
          </a:ln>
        </p:spPr>
      </p:pic>
      <p:sp>
        <p:nvSpPr>
          <p:cNvPr id="533" name="Прямоугольник 5"/>
          <p:cNvSpPr/>
          <p:nvPr/>
        </p:nvSpPr>
        <p:spPr>
          <a:xfrm>
            <a:off x="3936960" y="457200"/>
            <a:ext cx="3911760" cy="586728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Вращ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5" name="Picture 4" descr="Sasha_Cohen_Biellmann"/>
          <p:cNvPicPr/>
          <p:nvPr/>
        </p:nvPicPr>
        <p:blipFill>
          <a:blip r:embed="rId1"/>
          <a:stretch/>
        </p:blipFill>
        <p:spPr>
          <a:xfrm>
            <a:off x="4419720" y="76212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536" name="Прямоугольник 5"/>
          <p:cNvSpPr/>
          <p:nvPr/>
        </p:nvSpPr>
        <p:spPr>
          <a:xfrm>
            <a:off x="4419720" y="762120"/>
            <a:ext cx="3657600" cy="5486400"/>
          </a:xfrm>
          <a:prstGeom prst="rect">
            <a:avLst/>
          </a:prstGeom>
          <a:noFill/>
          <a:ln w="414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A7 X64</cp:lastModifiedBy>
  <dcterms:modified xsi:type="dcterms:W3CDTF">2014-02-05T15:04:1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