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FE64-AF62-4F54-BF70-196106C14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F8C7-8A8E-44E1-83D8-0E42C966E4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5C10-F23C-4E16-A5BA-76909D0FAD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B32-E296-4784-8A02-B0017803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C94-36EF-468B-A656-97C7CF38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4EC-DF1F-4EB2-A162-DE03117D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D7B-BEFC-4B9F-B997-FC14C447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976A3-9596-4B42-A035-4B33B8AF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2A20C-B94F-40C5-86BC-0B7D8F6F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B27C0-C8D4-4A47-B436-BC06DCEC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43A97-9F2B-4B99-A624-5A5272A7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11EE1-B575-4043-83CC-AA669F9C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202B7-84D7-4A54-BD5D-6F802266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EB8F7-E5AB-4C07-9AE9-785197B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F63-7A98-4079-974D-7CF21F04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AE23D-76F9-4E1F-A90B-47F76D1F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CD280-2CDF-4B1A-8E0A-8D5947CF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ABC57-44F4-4F56-86C8-8E37D6E3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6819B-0D1B-4719-8CC8-C63DC82B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5E955-B082-476A-8B0B-009D4721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807-349E-434B-9239-53015CF9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8A9-7F09-45B3-ABF5-A2350968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733-AC89-4A40-8935-D968361C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E5B-B387-4747-88D9-D6EC6247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46A-0905-47A6-A339-8BB925B8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3C3-D2A2-49CA-AFB8-AC6929F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AB2-DA78-415C-862E-71262BA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b0f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6503-90B1-484A-B259-824EA6BC3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b0f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2483-FD24-489A-BF92-2C1D3812CF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14760" y="291960"/>
            <a:ext cx="39290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2d2d2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213920"/>
            <a:ext cx="81439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Архитектура Кубани и Краснодара. Храмовое строительство.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00720" y="5493960"/>
            <a:ext cx="46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19ff"/>
                </a:solidFill>
                <a:latin typeface="Times New Roman"/>
              </a:rPr>
              <a:t>Гречишкина Т.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19ff"/>
                </a:solidFill>
                <a:latin typeface="Times New Roman"/>
              </a:rPr>
              <a:t>МАОУ лиц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19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d519ff"/>
                </a:solidFill>
                <a:latin typeface="Times New Roman"/>
              </a:rPr>
              <a:t>пгт Афип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8001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Храм святого пророка Илии( архитектор Н. Г. Петин)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28800" y="1785960"/>
            <a:ext cx="4038480" cy="38988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ьинская Братская церковь ( 1892 -1907),построенная в память о безвременно умерших во время страшного поветрия холеры, налетевшего на Екатеринодар летом 1892 г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Рисунок 4" descr="Безимени-1.png"/>
          <p:cNvPicPr/>
          <p:nvPr/>
        </p:nvPicPr>
        <p:blipFill>
          <a:blip r:embed="rId1"/>
          <a:stretch/>
        </p:blipFill>
        <p:spPr>
          <a:xfrm>
            <a:off x="5357880" y="1714680"/>
            <a:ext cx="3085920" cy="40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Times New Roman"/>
              </a:rPr>
              <a:t>Разрушение церквей на Кубани в 20-30 годы 20 столетия 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28440" y="1714680"/>
            <a:ext cx="3214440" cy="2428560"/>
          </a:xfrm>
          <a:prstGeom prst="rect">
            <a:avLst/>
          </a:prstGeom>
          <a:solidFill>
            <a:srgbClr val="00277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меет на плахе наш Белый собор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мите папахи, смотрите в уп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А.Домбровск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Рисунок 4" descr="раз.png"/>
          <p:cNvPicPr/>
          <p:nvPr/>
        </p:nvPicPr>
        <p:blipFill>
          <a:blip r:embed="rId1"/>
          <a:srcRect l="1808" t="2331" r="2635" b="4686"/>
          <a:stretch/>
        </p:blipFill>
        <p:spPr>
          <a:xfrm>
            <a:off x="5286240" y="1714680"/>
            <a:ext cx="2934000" cy="2214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714240" y="4429080"/>
            <a:ext cx="7643880" cy="2226960"/>
          </a:xfrm>
          <a:prstGeom prst="rect">
            <a:avLst/>
          </a:prstGeom>
          <a:solidFill>
            <a:srgbClr val="002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тская власть пришла на Кубань весной 1920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ты принимали решения о разрушении храм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о уничтожено и закрыто 164 прих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9680" y="4714920"/>
            <a:ext cx="3786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Свято- Троицкий собор, </a:t>
            </a:r>
            <a:br>
              <a:rPr sz="2800"/>
            </a:b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Выселковский район </a:t>
            </a:r>
            <a:br>
              <a:rPr sz="2800"/>
            </a:b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(1914 г.)</a:t>
            </a:r>
            <a:endParaRPr b="0" lang="en-US" sz="28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4920" y="1213920"/>
            <a:ext cx="4038480" cy="357372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гонь от пылающих икон был выше здания. Жители станицы Новодонецкой на долгие годы остались без православного хра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71680" y="407196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то- Вознесен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ам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нской рай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714920" y="1285920"/>
            <a:ext cx="4000320" cy="3429000"/>
          </a:xfrm>
          <a:prstGeom prst="rect">
            <a:avLst/>
          </a:prstGeom>
          <a:gradFill rotWithShape="0">
            <a:gsLst>
              <a:gs pos="0">
                <a:srgbClr val="001d85"/>
              </a:gs>
              <a:gs pos="100000">
                <a:srgbClr val="0029b5"/>
              </a:gs>
            </a:gsLst>
            <a:lin ang="16200000"/>
          </a:gradFill>
          <a:ln w="9360">
            <a:solidFill>
              <a:srgbClr val="00319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бор чудом уцел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1933 году было реше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овать его под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ернохранилищ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9" descr="дин.png"/>
          <p:cNvPicPr/>
          <p:nvPr/>
        </p:nvPicPr>
        <p:blipFill>
          <a:blip r:embed="rId1"/>
          <a:srcRect l="4925" t="5585" r="4925" b="5585"/>
          <a:stretch/>
        </p:blipFill>
        <p:spPr>
          <a:xfrm>
            <a:off x="785880" y="1285920"/>
            <a:ext cx="2982960" cy="250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8" descr="Безимени-3.png"/>
          <p:cNvPicPr/>
          <p:nvPr/>
        </p:nvPicPr>
        <p:blipFill>
          <a:blip r:embed="rId2"/>
          <a:srcRect l="0" t="6216" r="0" b="0"/>
          <a:stretch/>
        </p:blipFill>
        <p:spPr>
          <a:xfrm>
            <a:off x="571680" y="1214280"/>
            <a:ext cx="3416040" cy="278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99720" y="3214800"/>
            <a:ext cx="7358040" cy="292896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рождение и строительство новых храмов – единственно верный путь, благословенный Госпо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век. Возврат духовных традиций происходит по всей Куба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Выноска-облако 12"/>
          <p:cNvSpPr/>
          <p:nvPr/>
        </p:nvSpPr>
        <p:spPr>
          <a:xfrm>
            <a:off x="2643120" y="714240"/>
            <a:ext cx="4071960" cy="2214720"/>
          </a:xfrm>
          <a:prstGeom prst="cloudCallout">
            <a:avLst>
              <a:gd name="adj1" fmla="val -38407"/>
              <a:gd name="adj2" fmla="val 13185"/>
            </a:avLst>
          </a:prstGeom>
          <a:gradFill rotWithShape="0">
            <a:gsLst>
              <a:gs pos="0">
                <a:srgbClr val="008ecd"/>
              </a:gs>
              <a:gs pos="100000">
                <a:srgbClr val="00beff"/>
              </a:gs>
            </a:gsLst>
            <a:lin ang="16200000"/>
          </a:gradFill>
          <a:ln w="9360">
            <a:solidFill>
              <a:srgbClr val="00af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Твори добро и забывай об этом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857840" y="2643120"/>
            <a:ext cx="400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рам Рождества        Христ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TextBox 6" descr=""/>
          <p:cNvPicPr/>
          <p:nvPr/>
        </p:nvPicPr>
        <p:blipFill>
          <a:blip r:embed="rId1"/>
          <a:stretch/>
        </p:blipFill>
        <p:spPr>
          <a:xfrm>
            <a:off x="4992840" y="3700440"/>
            <a:ext cx="3895560" cy="26211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0"/>
          <p:cNvSpPr/>
          <p:nvPr/>
        </p:nvSpPr>
        <p:spPr>
          <a:xfrm>
            <a:off x="571680" y="3000240"/>
            <a:ext cx="37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вято – Николь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Рисунок 7" descr="б г.png"/>
          <p:cNvPicPr/>
          <p:nvPr/>
        </p:nvPicPr>
        <p:blipFill>
          <a:blip r:embed="rId2"/>
          <a:srcRect l="15205" t="7954" r="15293" b="14526"/>
          <a:stretch/>
        </p:blipFill>
        <p:spPr>
          <a:xfrm>
            <a:off x="1428840" y="642960"/>
            <a:ext cx="1933560" cy="2357280"/>
          </a:xfrm>
          <a:prstGeom prst="rect">
            <a:avLst/>
          </a:prstGeom>
          <a:ln w="9360">
            <a:solidFill>
              <a:srgbClr val="00349e"/>
            </a:solidFill>
            <a:miter/>
          </a:ln>
        </p:spPr>
      </p:pic>
      <p:pic>
        <p:nvPicPr>
          <p:cNvPr id="158" name="Рисунок 8" descr="Безим.png"/>
          <p:cNvPicPr/>
          <p:nvPr/>
        </p:nvPicPr>
        <p:blipFill>
          <a:blip r:embed="rId3"/>
          <a:srcRect l="9694" t="8631" r="18385" b="14149"/>
          <a:stretch/>
        </p:blipFill>
        <p:spPr>
          <a:xfrm>
            <a:off x="5715000" y="571680"/>
            <a:ext cx="2071800" cy="22906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grpSp>
        <p:nvGrpSpPr>
          <p:cNvPr id="159" name="Прямоугольник 8"/>
          <p:cNvGrpSpPr/>
          <p:nvPr/>
        </p:nvGrpSpPr>
        <p:grpSpPr>
          <a:xfrm>
            <a:off x="353880" y="3706920"/>
            <a:ext cx="4121280" cy="2577960"/>
            <a:chOff x="353880" y="3706920"/>
            <a:chExt cx="4121280" cy="2577960"/>
          </a:xfrm>
        </p:grpSpPr>
        <p:pic>
          <p:nvPicPr>
            <p:cNvPr id="16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53880" y="3706920"/>
              <a:ext cx="412128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00040" y="3786120"/>
              <a:ext cx="37861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9 декабря 1997года     произошла закладка Свято - Никольского   храма в селе Белая Глина, который строится на пожертвования селян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56840" y="1357200"/>
            <a:ext cx="69296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2d2d2"/>
                </a:solidFill>
                <a:latin typeface="Arial"/>
              </a:rPr>
              <a:t>Задание:</a:t>
            </a:r>
            <a:r>
              <a:rPr b="0" lang="ru-RU" sz="4000" spc="-1" strike="noStrike">
                <a:solidFill>
                  <a:srgbClr val="d2d2d2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d2d2d2"/>
                </a:solidFill>
                <a:latin typeface="Arial"/>
              </a:rPr>
              <a:t>выполнить</a:t>
            </a:r>
            <a:r>
              <a:rPr b="0" lang="ru-RU" sz="4000" spc="-1" strike="noStrike">
                <a:solidFill>
                  <a:srgbClr val="d2d2d2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d2d2d2"/>
                </a:solidFill>
                <a:latin typeface="Arial"/>
              </a:rPr>
              <a:t>эскиз храма</a:t>
            </a:r>
            <a:br>
              <a:rPr sz="4000"/>
            </a:br>
            <a:endParaRPr b="0" lang="en-US" sz="48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857760" y="2928960"/>
            <a:ext cx="2214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к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уп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бараб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заком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апс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порт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В конце урока вы должны ответить на вопросы: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71680" y="1643040"/>
            <a:ext cx="8105760" cy="465768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Назовите знаменитых архитекторов Кубани конца19- начала 20 веков, принимавших участие в строительстве храмовых постро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акой стиль архитектуры они использовал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Когда и почему были разрушены храмы на Кубан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Как вы считаете, повлияло ли разрушение православных храмов на духовные ценности кубанцев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Назовите действующие храмы Краснодара, построенные в конце 19 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2d2d2"/>
                </a:solidFill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05120"/>
            <a:ext cx="804384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ыполнить презентацию на тему: «Самый красивый храм  моего посёлк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285840" y="57168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хожане в храме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230760" y="3286080"/>
            <a:ext cx="35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м Христа Спасителя  в Москве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3714840" y="3286080"/>
            <a:ext cx="54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drevo.pravbeseda.ru/images/001/00000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2500200" y="57168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xpam-xpicta.ru/gal/ico/images/DSC04682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214200" y="435780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м во имя иконы Божьей Матери «Целительница», г. Краснодар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3000240" y="4786200"/>
            <a:ext cx="58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temples.ru/private/f000150/150_0006512b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300600" y="142920"/>
            <a:ext cx="430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о – Невский собор, г. Краснодар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11"/>
          <p:cNvSpPr/>
          <p:nvPr/>
        </p:nvSpPr>
        <p:spPr>
          <a:xfrm>
            <a:off x="4596840" y="14292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kubanphoto.ru/photos/4323/9122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14200" y="92880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- Троицкий храм, г. Краснодар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14"/>
          <p:cNvSpPr/>
          <p:nvPr/>
        </p:nvSpPr>
        <p:spPr>
          <a:xfrm>
            <a:off x="3857760" y="857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temples.ru/private/f000150/150_0002532b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714240" y="335772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214200" y="1428840"/>
            <a:ext cx="464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-Екатерининский храм, г.Краснодар -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4521600" y="1428840"/>
            <a:ext cx="31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darkaterina.narod.ru/kat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225360" y="3786120"/>
            <a:ext cx="42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м Святого пророка Илии , г.Краснодар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16"/>
          <p:cNvSpPr/>
          <p:nvPr/>
        </p:nvSpPr>
        <p:spPr>
          <a:xfrm>
            <a:off x="4584240" y="378612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krasnodarskiy-kray.ru/5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17"/>
          <p:cNvSpPr/>
          <p:nvPr/>
        </p:nvSpPr>
        <p:spPr>
          <a:xfrm>
            <a:off x="214200" y="1928880"/>
            <a:ext cx="607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- Вознесенский храм, Динской район – фото из филь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214200" y="2357280"/>
            <a:ext cx="64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 – Троицкий собор, Выселковский район - фото из филь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21"/>
          <p:cNvSpPr/>
          <p:nvPr/>
        </p:nvSpPr>
        <p:spPr>
          <a:xfrm>
            <a:off x="214200" y="2786040"/>
            <a:ext cx="65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 – Никольский храм, село Белая Глина – авторское фо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22"/>
          <p:cNvSpPr/>
          <p:nvPr/>
        </p:nvSpPr>
        <p:spPr>
          <a:xfrm>
            <a:off x="357120" y="52149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м Рождества  Христова, г Краснодар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3"/>
          <p:cNvSpPr/>
          <p:nvPr/>
        </p:nvSpPr>
        <p:spPr>
          <a:xfrm>
            <a:off x="3143160" y="5572080"/>
            <a:ext cx="514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://www.yuga.ru/media/hram_rozhdestva_b0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3929040" y="1000080"/>
            <a:ext cx="4429080" cy="4357800"/>
          </a:xfrm>
          <a:prstGeom prst="rect">
            <a:avLst/>
          </a:prstGeom>
          <a:gradFill rotWithShape="0">
            <a:gsLst>
              <a:gs pos="0">
                <a:srgbClr val="001d85"/>
              </a:gs>
              <a:gs pos="100000">
                <a:srgbClr val="0029b5"/>
              </a:gs>
            </a:gsLst>
            <a:lin ang="16200000"/>
          </a:gradFill>
          <a:ln w="9360">
            <a:solidFill>
              <a:srgbClr val="00319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онце 18 века Россия воевала с Турцией за  выход к берегам Чёрного моря. Активное участие в этой борьбе принимали казаки. За это царица Екатерина даровала им землю, на которой переселенцы стали возводить хра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4" descr="екат.png"/>
          <p:cNvPicPr/>
          <p:nvPr/>
        </p:nvPicPr>
        <p:blipFill>
          <a:blip r:embed="rId1"/>
          <a:stretch/>
        </p:blipFill>
        <p:spPr>
          <a:xfrm>
            <a:off x="669960" y="950760"/>
            <a:ext cx="2732040" cy="4211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71520" y="642960"/>
            <a:ext cx="3071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0" y="1500120"/>
            <a:ext cx="4191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а молитву созывает, а сам в церкви не бывает…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Выше церкви ленточка…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Спиной к стене, а лицом к избе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Тень, тень, потетень, выше города плетень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865320" y="2214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ок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143240" y="30718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795560" y="39290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к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939280" y="47862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рк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5286240" y="1571760"/>
            <a:ext cx="3500640" cy="407196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е слово с язы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не слет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леют лиц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тянется ко лбу ру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б друг за друга помол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. Просян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http://www.xpam-xpicta.ru/gal/ico/images/DSC04682.jpg"/>
          <p:cNvPicPr/>
          <p:nvPr/>
        </p:nvPicPr>
        <p:blipFill>
          <a:blip r:embed="rId1"/>
          <a:stretch/>
        </p:blipFill>
        <p:spPr>
          <a:xfrm>
            <a:off x="571680" y="2000160"/>
            <a:ext cx="4286160" cy="3286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2214720" y="2142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составляет синтез храмового искус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5286240" y="1714680"/>
            <a:ext cx="3714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пис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ески, иконы, церковная утвар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ежда    священнослуж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ей, музыка, содержание священных кни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В конце урока вы должны ответить на вопросы: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643040"/>
            <a:ext cx="8105760" cy="465768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Назовите знаменитых архитекторов Кубани конца19- начала 20 веков, принимавших участие в строительстве храмовых постро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акой стиль архитектуры они использовал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Когда и почему были разрушены храмы на Кубан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Как вы считаете, повлияло ли разрушение православных храмов на духовные ценности кубанцев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Назовите действующие храмы Краснодара, построенные в конце 19 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Безимени-1.png"/>
          <p:cNvPicPr/>
          <p:nvPr/>
        </p:nvPicPr>
        <p:blipFill>
          <a:blip r:embed="rId1"/>
          <a:stretch/>
        </p:blipFill>
        <p:spPr>
          <a:xfrm>
            <a:off x="1643040" y="2500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3075120" y="2571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00840" y="2500200"/>
            <a:ext cx="2214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к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уп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бараб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заком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апс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порт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360960" y="3000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218040" y="350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2646720" y="4000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146840" y="4143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3000240" y="4214880"/>
            <a:ext cx="3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000080" y="642960"/>
            <a:ext cx="6715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Устройство Московского храма Христа Спасител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6715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Сравните с устройством Московского храма</a:t>
            </a:r>
            <a:endParaRPr b="0" lang="en-US" sz="28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29280" y="1428840"/>
            <a:ext cx="2214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крес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упо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бараб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закома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апс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пор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00040" y="4143240"/>
            <a:ext cx="7358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Храм во имя иконы Божьей Матери </a:t>
            </a:r>
            <a:br>
              <a:rPr sz="2800"/>
            </a:br>
            <a:r>
              <a:rPr b="0" lang="ru-RU" sz="2800" spc="-1" strike="noStrike">
                <a:solidFill>
                  <a:srgbClr val="d2d2d2"/>
                </a:solidFill>
                <a:latin typeface="Arial"/>
              </a:rPr>
              <a:t>«Целительница», г. Краснод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85880" y="5143680"/>
            <a:ext cx="7858080" cy="13572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ен на территории Краснодарского краевого консультативно- диагностического центра. Два купола украшены звезд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http://www.temples.ru/private/f000150/150_0006512b.jpg"/>
          <p:cNvPicPr/>
          <p:nvPr/>
        </p:nvPicPr>
        <p:blipFill>
          <a:blip r:embed="rId1"/>
          <a:stretch/>
        </p:blipFill>
        <p:spPr>
          <a:xfrm>
            <a:off x="1071720" y="1000080"/>
            <a:ext cx="4000320" cy="2998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2"/>
          <p:cNvSpPr/>
          <p:nvPr/>
        </p:nvSpPr>
        <p:spPr>
          <a:xfrm>
            <a:off x="3357720" y="10000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2646720" y="114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3218040" y="157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2146680" y="2000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1932120" y="2571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2789640" y="2214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d2d2"/>
                </a:solidFill>
                <a:latin typeface="Times New Roman"/>
              </a:rPr>
              <a:t>Александро – Невский собор первоначально  был деревянным. В 1872 г. архитекторы Иван и Алексей Черники на месте войскового деревянного построили новый каменный . В годы советской власти он был разрушен. Восстановлен в 2006 г. </a:t>
            </a:r>
            <a:br>
              <a:rPr sz="2800"/>
            </a:br>
            <a:endParaRPr b="0" lang="en-US" sz="28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2928960" y="228600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честь кого он назван 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428920" y="1428840"/>
            <a:ext cx="4191120" cy="48578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 назван в честь новгородского князя Александра Невского, поднявшего русский народ в 1240 году на борьбу со шведами. Остаток жизни он провёл в церкви и  впоследствии был канонизирован в свят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2229480" y="714240"/>
            <a:ext cx="45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 храм в Краснода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8" descr="ал.png"/>
          <p:cNvPicPr/>
          <p:nvPr/>
        </p:nvPicPr>
        <p:blipFill>
          <a:blip r:embed="rId1"/>
          <a:stretch/>
        </p:blipFill>
        <p:spPr>
          <a:xfrm>
            <a:off x="2928960" y="2500200"/>
            <a:ext cx="270828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52862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Екатеринодарские соборы</a:t>
            </a:r>
            <a:br>
              <a:rPr sz="3200"/>
            </a:b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 архитектора</a:t>
            </a:r>
            <a:br>
              <a:rPr sz="3200"/>
            </a:br>
            <a:r>
              <a:rPr b="0" lang="ru-RU" sz="3200" spc="-1" strike="noStrike">
                <a:solidFill>
                  <a:srgbClr val="d2d2d2"/>
                </a:solidFill>
                <a:latin typeface="Arial"/>
              </a:rPr>
              <a:t> И. К. Мальгерба</a:t>
            </a:r>
            <a:endParaRPr b="0" lang="en-US" sz="32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71680" y="5000760"/>
            <a:ext cx="328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то- Троицкий храм. (1899-1910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429080" y="5000760"/>
            <a:ext cx="407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то-Екатеринин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ам ( 1900- 1914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8" descr="екате.pn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643720" y="2643120"/>
            <a:ext cx="2786040" cy="2117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Безимени-2.png"/>
          <p:cNvPicPr/>
          <p:nvPr/>
        </p:nvPicPr>
        <p:blipFill>
          <a:blip r:embed="rId2"/>
          <a:stretch/>
        </p:blipFill>
        <p:spPr>
          <a:xfrm>
            <a:off x="669960" y="2548080"/>
            <a:ext cx="2987640" cy="219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И"/>
          <p:cNvPicPr/>
          <p:nvPr/>
        </p:nvPicPr>
        <p:blipFill>
          <a:blip r:embed="rId3"/>
          <a:stretch/>
        </p:blipFill>
        <p:spPr>
          <a:xfrm>
            <a:off x="6278400" y="426960"/>
            <a:ext cx="1506600" cy="176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45:57Z</dcterms:created>
  <dc:creator>СЕМЬЯ</dc:creator>
  <dc:description/>
  <dc:language>en-US</dc:language>
  <cp:lastModifiedBy>User</cp:lastModifiedBy>
  <dcterms:modified xsi:type="dcterms:W3CDTF">2015-02-03T16:31:22Z</dcterms:modified>
  <cp:revision>196</cp:revision>
  <dc:subject/>
  <dc:title>Слайд 1</dc:title>
</cp:coreProperties>
</file>