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A87-2D3F-4A59-B63A-85956467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9BD-C112-4D04-AD01-F9EC9E68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36D-696E-4439-9E2B-41AE6B22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EC3-7974-4B3A-9F9E-CE3E9D4F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E6CA-DF35-49C4-9A3A-E6F2969D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2C55-6B88-4778-B9EC-F8186C0F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6B17-DAAE-4F07-836B-B949E20A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2DBD-9DDD-4143-B5DF-FC27BA0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82E2-95EE-40D5-8C0E-EDCBDAE1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04EB-7B77-41F4-9160-3F0A094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6F5A-7C66-48FE-BB63-5D9E843B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6FF-5752-49C8-B4D3-5FCD393B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CF6C-92C6-48C2-B07F-C2FA4EE6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E490-5C28-4596-9D61-DD815792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EBDB-563C-4AA7-9472-AC3AB8CB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6CF7-46CF-4584-831E-EC00C4A3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B2EE-1607-4444-823C-6DCD6840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7CF-D863-4B2D-BF4B-FD4851CE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A93-893B-493E-A9AE-555B4C2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AFF-45DA-4777-ADAC-5F60E37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410-F3D4-43B8-A3E2-731B0DF5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E94-A34E-4D3D-A21A-07E8BDFC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9DC-28D1-4DD4-A69C-407667C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9EF-5474-4579-AD75-13691462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38E3-825F-4D37-BA9D-401F8E35AD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FE88-700C-41B4-AC87-75EB78F8BB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olnet.ee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olnet.ee/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olnet.ee/" TargetMode="External"/><Relationship Id="rId2" Type="http://schemas.openxmlformats.org/officeDocument/2006/relationships/image" Target="../media/image32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35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olnet.ee/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g.encyc.yandex.net/illustrations/krugosvet/pictures/f/f0/1006271-PH05273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4945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Классный час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4 ноября 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ДЕНЬ НАРОДНОГО ЕДИНСТВА</a:t>
            </a:r>
            <a:r>
              <a:rPr b="0" lang="en-US" sz="3200" spc="-1" strike="noStrike">
                <a:solidFill>
                  <a:srgbClr val="7c13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—</a:t>
            </a:r>
            <a:r>
              <a:rPr b="0" lang="en-US" sz="3200" spc="-1" strike="noStrike">
                <a:solidFill>
                  <a:srgbClr val="7c1302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День воинской славы России</a:t>
            </a: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76360" y="18900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 № 85 г. Н.Новг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6048360" cy="2460600"/>
          </a:xfrm>
          <a:prstGeom prst="rect">
            <a:avLst/>
          </a:prstGeom>
          <a:ln w="76320">
            <a:solidFill>
              <a:srgbClr val="5f5f5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2" name=""/>
          <p:cNvSpPr/>
          <p:nvPr/>
        </p:nvSpPr>
        <p:spPr>
          <a:xfrm>
            <a:off x="1979640" y="5950080"/>
            <a:ext cx="50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ябликова Н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122040"/>
            <a:ext cx="746136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1302"/>
                </a:solidFill>
                <a:latin typeface="Arial"/>
              </a:rPr>
              <a:t>ЛЖЕДМИТРИЙ II </a:t>
            </a:r>
            <a:br>
              <a:rPr sz="3600"/>
            </a:br>
            <a:r>
              <a:rPr b="1" lang="en-US" sz="3600" spc="-1" strike="noStrike">
                <a:solidFill>
                  <a:srgbClr val="7c1302"/>
                </a:solidFill>
                <a:latin typeface="Arial"/>
              </a:rPr>
              <a:t>- «Тушинский вор» 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362040" cy="43686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"/>
          <p:cNvSpPr/>
          <p:nvPr/>
        </p:nvSpPr>
        <p:spPr>
          <a:xfrm>
            <a:off x="169236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22400"/>
            <a:ext cx="7532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Польский король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Сигизмунд III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157560" cy="43210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9" name=""/>
          <p:cNvSpPr/>
          <p:nvPr/>
        </p:nvSpPr>
        <p:spPr>
          <a:xfrm>
            <a:off x="18381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715000" cy="45957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Дворянин  </a:t>
            </a:r>
            <a:br>
              <a:rPr sz="3500"/>
            </a:b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Прокопий Петрович Ляпунов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522600" cy="4570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"/>
          <p:cNvSpPr/>
          <p:nvPr/>
        </p:nvSpPr>
        <p:spPr>
          <a:xfrm>
            <a:off x="161928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Патриарх Гермоген </a:t>
            </a:r>
            <a:br>
              <a:rPr sz="3500"/>
            </a:br>
            <a:r>
              <a:rPr b="0" i="1" lang="ru-RU" sz="2800" spc="-1" strike="noStrike">
                <a:solidFill>
                  <a:srgbClr val="7c1302"/>
                </a:solidFill>
                <a:latin typeface="Arial"/>
              </a:rPr>
              <a:t>(правление 1606-1612 г.г.)</a:t>
            </a: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240000" cy="32400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звал русский народ выступать против захватч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360" y="4076640"/>
            <a:ext cx="2128680" cy="21290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47640" y="981000"/>
            <a:ext cx="1946520" cy="25923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рянин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пий Петрович Ляпу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триарх Гермо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Купец 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Козьма Минин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06360" y="2222640"/>
            <a:ext cx="2540160" cy="34034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9" name=""/>
          <p:cNvSpPr/>
          <p:nvPr/>
        </p:nvSpPr>
        <p:spPr>
          <a:xfrm>
            <a:off x="2341440" y="566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90960" y="2467080"/>
            <a:ext cx="3552840" cy="29145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750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Князь </a:t>
            </a:r>
            <a:br>
              <a:rPr sz="3500"/>
            </a:b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Дмитрий Михайлович Пожарский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174840" cy="44118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4" name=""/>
          <p:cNvSpPr/>
          <p:nvPr/>
        </p:nvSpPr>
        <p:spPr>
          <a:xfrm>
            <a:off x="161928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2129040" cy="21290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960720" cy="25084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Минин и Пожарский.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художник Скотти М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атриарх Гермо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1816200"/>
            <a:ext cx="5473800" cy="43592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8675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Россия — священная наша держава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Россия — любимая наша страна.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Могучая воля, великая слава —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Твоё достоянье на все времен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Славься, Отечество наше свободное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Братских народов союз вековой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Предками данная мудрость народная!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Славься, страна! Мы гордимся тобой!...</a:t>
            </a:r>
            <a:br>
              <a:rPr sz="3000"/>
            </a:br>
            <a:br>
              <a:rPr sz="26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23720" cy="1600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77080" y="1268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549360"/>
            <a:ext cx="2664000" cy="1150920"/>
          </a:xfrm>
          <a:custGeom>
            <a:avLst/>
            <a:gdLst>
              <a:gd name="textAreaLeft" fmla="*/ 74520 w 2664000"/>
              <a:gd name="textAreaRight" fmla="*/ 2589480 w 266400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49988" h="21600">
                <a:moveTo>
                  <a:pt x="0" y="0"/>
                </a:moveTo>
                <a:lnTo>
                  <a:pt x="49988" y="0"/>
                </a:lnTo>
                <a:lnTo>
                  <a:pt x="49988" y="21600"/>
                </a:lnTo>
                <a:lnTo>
                  <a:pt x="0" y="21600"/>
                </a:lnTo>
                <a:close/>
              </a:path>
              <a:path fill="lightenLess" w="49988" h="21600">
                <a:moveTo>
                  <a:pt x="0" y="0"/>
                </a:moveTo>
                <a:lnTo>
                  <a:pt x="49988" y="0"/>
                </a:lnTo>
                <a:lnTo>
                  <a:pt x="48588" y="1400"/>
                </a:lnTo>
                <a:lnTo>
                  <a:pt x="1400" y="1400"/>
                </a:lnTo>
                <a:close/>
              </a:path>
              <a:path fill="darken" w="49988" h="21600">
                <a:moveTo>
                  <a:pt x="49988" y="0"/>
                </a:moveTo>
                <a:lnTo>
                  <a:pt x="49988" y="21600"/>
                </a:lnTo>
                <a:lnTo>
                  <a:pt x="48588" y="20200"/>
                </a:lnTo>
                <a:lnTo>
                  <a:pt x="48588" y="1400"/>
                </a:lnTo>
                <a:close/>
              </a:path>
              <a:path fill="darkenLess" w="49988" h="21600">
                <a:moveTo>
                  <a:pt x="49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8" y="20200"/>
                </a:lnTo>
                <a:close/>
              </a:path>
              <a:path fill="lighten" w="49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993300"/>
            </a:solidFill>
            <a:miter/>
          </a:ln>
          <a:effectLst>
            <a:outerShdw dist="107932" dir="189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М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49360"/>
            <a:ext cx="3905280" cy="57261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0" y="3141360"/>
            <a:ext cx="403848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Памятник</a:t>
            </a: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Минину и Пожарскому на Красной площ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36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Иван Осипович Сусанин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365640" cy="45352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40000" y="5942160"/>
            <a:ext cx="6597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6057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Избрание Михаила Федоровича Романова на царство</a:t>
            </a:r>
            <a:br>
              <a:rPr sz="3600"/>
            </a:br>
            <a:r>
              <a:rPr b="0" i="1" lang="ru-RU" sz="2800" spc="-1" strike="noStrike">
                <a:solidFill>
                  <a:srgbClr val="7c1302"/>
                </a:solidFill>
                <a:latin typeface="Arial"/>
              </a:rPr>
              <a:t>художник А. Кившенко.</a:t>
            </a:r>
            <a:r>
              <a:rPr b="1" lang="ru-RU" sz="22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16000" y="2127240"/>
            <a:ext cx="5832360" cy="39466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122040"/>
            <a:ext cx="760572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Патриарх Филарет – 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Фёдор Никитич Романов  </a:t>
            </a:r>
            <a:br>
              <a:rPr sz="3600"/>
            </a:b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37" name="" descr="Фёдор Никитич Романов (патриарх Филарет)"/>
          <p:cNvPicPr/>
          <p:nvPr/>
        </p:nvPicPr>
        <p:blipFill>
          <a:blip r:embed="rId1"/>
          <a:stretch/>
        </p:blipFill>
        <p:spPr>
          <a:xfrm>
            <a:off x="2268360" y="1628640"/>
            <a:ext cx="3940200" cy="48056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79640" y="6216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Иван Осипович Сусанин завёл врагов в лес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42" name="" descr="Susanindeath (396x274, 45Kb)"/>
          <p:cNvPicPr/>
          <p:nvPr/>
        </p:nvPicPr>
        <p:blipFill>
          <a:blip r:embed="rId1"/>
          <a:stretch/>
        </p:blipFill>
        <p:spPr>
          <a:xfrm>
            <a:off x="1116000" y="1628640"/>
            <a:ext cx="6408720" cy="44341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302"/>
                </a:solidFill>
                <a:latin typeface="Arial"/>
              </a:rPr>
              <a:t>Подвиг Ивана Сусанина.</a:t>
            </a:r>
            <a:r>
              <a:rPr b="1" lang="ru-RU" sz="2600" spc="-1" strike="noStrike">
                <a:solidFill>
                  <a:srgbClr val="7c1302"/>
                </a:solidFill>
                <a:latin typeface="Arial"/>
              </a:rPr>
              <a:t> </a:t>
            </a:r>
            <a:br>
              <a:rPr sz="2600"/>
            </a:br>
            <a:r>
              <a:rPr b="0" i="1" lang="ru-RU" sz="2800" spc="-1" strike="noStrike">
                <a:solidFill>
                  <a:srgbClr val="7c1302"/>
                </a:solidFill>
                <a:latin typeface="Arial"/>
              </a:rPr>
              <a:t>Художник М. Скотти </a:t>
            </a:r>
            <a:br>
              <a:rPr sz="2800"/>
            </a:br>
            <a:endParaRPr b="1" lang="en-US" sz="28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45" name="" descr="Скотти М.И. Иван Сусанин. 1851 г."/>
          <p:cNvPicPr/>
          <p:nvPr/>
        </p:nvPicPr>
        <p:blipFill>
          <a:blip r:embed="rId1"/>
          <a:stretch/>
        </p:blipFill>
        <p:spPr>
          <a:xfrm>
            <a:off x="2313000" y="1719360"/>
            <a:ext cx="4518000" cy="44114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Иван Сусанин. </a:t>
            </a:r>
            <a:r>
              <a:rPr b="0" i="1" lang="ru-RU" sz="2800" spc="-1" strike="noStrike">
                <a:solidFill>
                  <a:srgbClr val="7c1302"/>
                </a:solidFill>
                <a:latin typeface="Arial"/>
              </a:rPr>
              <a:t>Фаюстов М.В. 2003 г.</a:t>
            </a:r>
            <a:r>
              <a:rPr b="1" lang="ru-RU" sz="35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197760" cy="42894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9" name=""/>
          <p:cNvSpPr/>
          <p:nvPr/>
        </p:nvSpPr>
        <p:spPr>
          <a:xfrm>
            <a:off x="1258920" y="580536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0" y="4869000"/>
            <a:ext cx="37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2960" y="549360"/>
            <a:ext cx="3298680" cy="51847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Дореволюционный памятни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Михаилу Романову и Ивану Осиповичу  Сусан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в Костроме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1302"/>
                </a:solidFill>
                <a:latin typeface="Arial"/>
              </a:rPr>
              <a:t>Памятник Ивану Осиповичу  Сусанину в Костроме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2589120" cy="48783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4 ноября – день Казанской иконы  Пресвятой Богородицы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4760" y="1700280"/>
            <a:ext cx="2954520" cy="44305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И до наших дней эта икона особо почитается русским православным народ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6836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Казанский собор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В благодарность за помощь и заступничество князь Дмитрий Пожарский на свои средства построил в 20-х годах XVII века деревянный собор во имя Казанской иконы Божией Мате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125360"/>
            <a:ext cx="4103640" cy="3202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788508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565440" y="189000"/>
            <a:ext cx="1609920" cy="19447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день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динства всех российских народ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день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пасения Росс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 самой большой опасности, которая когда-либо ей грози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озрожденный празд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 своей истори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 ноя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день 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альных д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не сомнительных марш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4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8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5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392720" cy="4338720"/>
          </a:xfrm>
          <a:prstGeom prst="rect">
            <a:avLst/>
          </a:prstGeom>
          <a:ln w="76320">
            <a:solidFill>
              <a:srgbClr val="5f5f5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5148360" y="3068640"/>
            <a:ext cx="2808360" cy="1008000"/>
          </a:xfrm>
          <a:custGeom>
            <a:avLst/>
            <a:gdLst>
              <a:gd name="textAreaLeft" fmla="*/ 65160 w 2808360"/>
              <a:gd name="textAreaRight" fmla="*/ 2743200 w 28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993300"/>
            </a:solidFill>
            <a:miter/>
          </a:ln>
          <a:effectLst>
            <a:outerShdw dist="107932" dir="189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2400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8675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Россия — священная наша держава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Россия — любимая наша страна.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Могучая воля, великая слава —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Твоё достоянье на все времен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Славься, Отечество наше свободное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Братских народов союз вековой,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Предками данная мудрость народная!</a:t>
            </a:r>
            <a:br>
              <a:rPr sz="3000"/>
            </a:b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Славься, страна! Мы гордимся тобой!...</a:t>
            </a:r>
            <a:br>
              <a:rPr sz="3000"/>
            </a:br>
            <a:br>
              <a:rPr sz="26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23720" cy="1600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877080" y="1268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348000" y="549360"/>
            <a:ext cx="2664000" cy="1150920"/>
          </a:xfrm>
          <a:custGeom>
            <a:avLst/>
            <a:gdLst>
              <a:gd name="textAreaLeft" fmla="*/ 74520 w 2664000"/>
              <a:gd name="textAreaRight" fmla="*/ 2589480 w 266400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49988" h="21600">
                <a:moveTo>
                  <a:pt x="0" y="0"/>
                </a:moveTo>
                <a:lnTo>
                  <a:pt x="49988" y="0"/>
                </a:lnTo>
                <a:lnTo>
                  <a:pt x="49988" y="21600"/>
                </a:lnTo>
                <a:lnTo>
                  <a:pt x="0" y="21600"/>
                </a:lnTo>
                <a:close/>
              </a:path>
              <a:path fill="lightenLess" w="49988" h="21600">
                <a:moveTo>
                  <a:pt x="0" y="0"/>
                </a:moveTo>
                <a:lnTo>
                  <a:pt x="49988" y="0"/>
                </a:lnTo>
                <a:lnTo>
                  <a:pt x="48588" y="1400"/>
                </a:lnTo>
                <a:lnTo>
                  <a:pt x="1400" y="1400"/>
                </a:lnTo>
                <a:close/>
              </a:path>
              <a:path fill="darken" w="49988" h="21600">
                <a:moveTo>
                  <a:pt x="49988" y="0"/>
                </a:moveTo>
                <a:lnTo>
                  <a:pt x="49988" y="21600"/>
                </a:lnTo>
                <a:lnTo>
                  <a:pt x="48588" y="20200"/>
                </a:lnTo>
                <a:lnTo>
                  <a:pt x="48588" y="1400"/>
                </a:lnTo>
                <a:close/>
              </a:path>
              <a:path fill="darkenLess" w="49988" h="21600">
                <a:moveTo>
                  <a:pt x="49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8" y="20200"/>
                </a:lnTo>
                <a:close/>
              </a:path>
              <a:path fill="lighten" w="49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993300"/>
            </a:solidFill>
            <a:miter/>
          </a:ln>
          <a:effectLst>
            <a:outerShdw dist="107932" dir="189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М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8101080" y="6093000"/>
            <a:ext cx="576360" cy="54900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676" h="21600">
                <a:moveTo>
                  <a:pt x="0" y="0"/>
                </a:moveTo>
                <a:lnTo>
                  <a:pt x="22676" y="0"/>
                </a:lnTo>
                <a:lnTo>
                  <a:pt x="22676" y="21600"/>
                </a:lnTo>
                <a:lnTo>
                  <a:pt x="0" y="21600"/>
                </a:lnTo>
                <a:close/>
              </a:path>
              <a:path fill="lightenLess" w="22676" h="21600">
                <a:moveTo>
                  <a:pt x="0" y="0"/>
                </a:moveTo>
                <a:lnTo>
                  <a:pt x="22676" y="0"/>
                </a:lnTo>
                <a:lnTo>
                  <a:pt x="21276" y="1400"/>
                </a:lnTo>
                <a:lnTo>
                  <a:pt x="1400" y="1400"/>
                </a:lnTo>
                <a:close/>
              </a:path>
              <a:path fill="darken" w="22676" h="21600">
                <a:moveTo>
                  <a:pt x="22676" y="0"/>
                </a:moveTo>
                <a:lnTo>
                  <a:pt x="22676" y="21600"/>
                </a:lnTo>
                <a:lnTo>
                  <a:pt x="21276" y="20200"/>
                </a:lnTo>
                <a:lnTo>
                  <a:pt x="21276" y="1400"/>
                </a:lnTo>
                <a:close/>
              </a:path>
              <a:path fill="darkenLess" w="22676" h="21600">
                <a:moveTo>
                  <a:pt x="22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76" y="20200"/>
                </a:lnTo>
                <a:close/>
              </a:path>
              <a:path fill="lighten" w="22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76" h="21600">
                <a:moveTo>
                  <a:pt x="11338" y="3837"/>
                </a:moveTo>
                <a:lnTo>
                  <a:pt x="13914" y="6448"/>
                </a:lnTo>
                <a:lnTo>
                  <a:pt x="13914" y="4707"/>
                </a:lnTo>
                <a:lnTo>
                  <a:pt x="15690" y="4707"/>
                </a:lnTo>
                <a:lnTo>
                  <a:pt x="15690" y="8224"/>
                </a:lnTo>
                <a:lnTo>
                  <a:pt x="18301" y="10800"/>
                </a:lnTo>
                <a:lnTo>
                  <a:pt x="16647" y="10800"/>
                </a:lnTo>
                <a:lnTo>
                  <a:pt x="16647" y="17989"/>
                </a:lnTo>
                <a:lnTo>
                  <a:pt x="6029" y="17989"/>
                </a:lnTo>
                <a:lnTo>
                  <a:pt x="6029" y="10800"/>
                </a:lnTo>
                <a:lnTo>
                  <a:pt x="4375" y="10800"/>
                </a:lnTo>
                <a:close/>
              </a:path>
              <a:path fill="darkenLess" w="22676" h="21600">
                <a:moveTo>
                  <a:pt x="13914" y="6448"/>
                </a:moveTo>
                <a:lnTo>
                  <a:pt x="13914" y="4707"/>
                </a:lnTo>
                <a:lnTo>
                  <a:pt x="15690" y="4707"/>
                </a:lnTo>
                <a:lnTo>
                  <a:pt x="15690" y="8224"/>
                </a:lnTo>
                <a:close/>
              </a:path>
              <a:path fill="darkenLess" w="22676" h="21600">
                <a:moveTo>
                  <a:pt x="10415" y="14299"/>
                </a:moveTo>
                <a:lnTo>
                  <a:pt x="12260" y="14299"/>
                </a:lnTo>
                <a:lnTo>
                  <a:pt x="12260" y="17989"/>
                </a:lnTo>
                <a:lnTo>
                  <a:pt x="16647" y="17989"/>
                </a:lnTo>
                <a:lnTo>
                  <a:pt x="16647" y="10800"/>
                </a:lnTo>
                <a:lnTo>
                  <a:pt x="6029" y="10800"/>
                </a:lnTo>
                <a:lnTo>
                  <a:pt x="6029" y="17989"/>
                </a:lnTo>
                <a:lnTo>
                  <a:pt x="10415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Речь Посполитая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1. Как называлось государство, которое вмешивалось в дела России в Смутное время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4537080" cy="355464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Прокопий Петрович Ляпунов 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2. Кто возглавил первое ополчение 1611 год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111480" cy="41418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Ополчение во главе с Мининым и Пожарским взяло Китай-город. 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3. Какое историческое событие произошло 4 ноября (22 октября по старому стилю) 1612 год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473720" cy="36543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Иван Осипович Сусанин 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4. Как звали национального героя того времени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Скотти М.И. Иван Сусанин. 1851 г."/>
          <p:cNvPicPr/>
          <p:nvPr/>
        </p:nvPicPr>
        <p:blipFill>
          <a:blip r:embed="rId1"/>
          <a:stretch/>
        </p:blipFill>
        <p:spPr>
          <a:xfrm>
            <a:off x="2411280" y="1844640"/>
            <a:ext cx="4475160" cy="43704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Борис Годунов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5. Кто стал царём Российского государства после Ивана Грозно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421080" cy="4813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5892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Лжедмитрия II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6. Кого из претендентов на Московский трон называли "тушинским вором"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362040" cy="43686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6057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Казанский собор на Красной площади в Москве. 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7.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В благодарность за помощь и заступничество князь Пожарский на свои средства построил в 20-х годах XVII века деревянный собор во имя Казанской иконы Божией Матери. О каком Храме идёт реч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2060640"/>
            <a:ext cx="5040360" cy="39322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С воцарением Михаила Романова.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8. С каким событием связано окончание Смутного времени на Рус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5832360" cy="394668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47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c1302"/>
                </a:solidFill>
                <a:latin typeface="Arial"/>
              </a:rPr>
              <a:t>В 1649 году </a:t>
            </a:r>
            <a:br>
              <a:rPr sz="9600"/>
            </a:br>
            <a:endParaRPr b="1" lang="en-US" sz="9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9.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В каком году впервые было установлено Празднование в честь Казанской иконы Пресвятой Богородицы 4 ноябр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День народного единства.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Как называется государственный праздник, который мы отмечаем 4 ноябр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392720" cy="4338720"/>
          </a:xfrm>
          <a:prstGeom prst="rect">
            <a:avLst/>
          </a:prstGeom>
          <a:ln w="76320">
            <a:solidFill>
              <a:srgbClr val="5f5f5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0" name="">
            <a:hlinkClick r:id="rId2" action="ppaction://hlinksldjump"/>
          </p:cNvPr>
          <p:cNvSpPr/>
          <p:nvPr/>
        </p:nvSpPr>
        <p:spPr>
          <a:xfrm>
            <a:off x="788508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73480" cy="59040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5148360" y="2852640"/>
            <a:ext cx="3313080" cy="1440000"/>
          </a:xfrm>
          <a:custGeom>
            <a:avLst/>
            <a:gdLst>
              <a:gd name="textAreaLeft" fmla="*/ 93240 w 3313080"/>
              <a:gd name="textAreaRight" fmla="*/ 3219840 w 331308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49689" h="21600">
                <a:moveTo>
                  <a:pt x="0" y="0"/>
                </a:moveTo>
                <a:lnTo>
                  <a:pt x="49689" y="0"/>
                </a:lnTo>
                <a:lnTo>
                  <a:pt x="49689" y="21600"/>
                </a:lnTo>
                <a:lnTo>
                  <a:pt x="0" y="21600"/>
                </a:lnTo>
                <a:close/>
              </a:path>
              <a:path fill="lightenLess" w="49689" h="21600">
                <a:moveTo>
                  <a:pt x="0" y="0"/>
                </a:moveTo>
                <a:lnTo>
                  <a:pt x="49689" y="0"/>
                </a:lnTo>
                <a:lnTo>
                  <a:pt x="48289" y="1400"/>
                </a:lnTo>
                <a:lnTo>
                  <a:pt x="1400" y="1400"/>
                </a:lnTo>
                <a:close/>
              </a:path>
              <a:path fill="darken" w="49689" h="21600">
                <a:moveTo>
                  <a:pt x="49689" y="0"/>
                </a:moveTo>
                <a:lnTo>
                  <a:pt x="49689" y="21600"/>
                </a:lnTo>
                <a:lnTo>
                  <a:pt x="48289" y="20200"/>
                </a:lnTo>
                <a:lnTo>
                  <a:pt x="48289" y="1400"/>
                </a:lnTo>
                <a:close/>
              </a:path>
              <a:path fill="darkenLess" w="49689" h="21600">
                <a:moveTo>
                  <a:pt x="496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89" y="20200"/>
                </a:lnTo>
                <a:close/>
              </a:path>
              <a:path fill="lighten" w="496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993300"/>
            </a:solidFill>
            <a:miter/>
          </a:ln>
          <a:effectLst>
            <a:outerShdw dist="107932" dir="189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АЗ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c1302"/>
                </a:solidFill>
                <a:latin typeface="Arial"/>
              </a:rPr>
              <a:t>Иван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IV Васильевич </a:t>
            </a:r>
            <a:r>
              <a:rPr b="0" lang="en-US" sz="3500" spc="-1" strike="noStrike">
                <a:solidFill>
                  <a:srgbClr val="7c1302"/>
                </a:solidFill>
                <a:latin typeface="Arial"/>
              </a:rPr>
              <a:t>Грозный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7c1302"/>
                </a:solidFill>
                <a:latin typeface="Arial"/>
              </a:rPr>
              <a:t>(25.08.1530-18.03.1584)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521160" cy="48243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-1764720" y="5516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http: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Царь </a:t>
            </a:r>
            <a:br>
              <a:rPr sz="3500"/>
            </a:br>
            <a:r>
              <a:rPr b="0" lang="en-US" sz="3500" spc="-1" strike="noStrike">
                <a:solidFill>
                  <a:srgbClr val="7c1302"/>
                </a:solidFill>
                <a:latin typeface="Arial"/>
              </a:rPr>
              <a:t>Борис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Фёдорович </a:t>
            </a:r>
            <a:r>
              <a:rPr b="0" lang="en-US" sz="3500" spc="-1" strike="noStrike">
                <a:solidFill>
                  <a:srgbClr val="7c1302"/>
                </a:solidFill>
                <a:latin typeface="Arial"/>
              </a:rPr>
              <a:t>Годунов</a:t>
            </a: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421080" cy="481320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4" name=""/>
          <p:cNvSpPr/>
          <p:nvPr/>
        </p:nvSpPr>
        <p:spPr>
          <a:xfrm>
            <a:off x="205092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697440" cy="531792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7" name=""/>
          <p:cNvSpPr/>
          <p:nvPr/>
        </p:nvSpPr>
        <p:spPr>
          <a:xfrm>
            <a:off x="176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Лжедмитрий I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687920" cy="4687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564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2:01:32Z</dcterms:created>
  <dc:creator>Елена</dc:creator>
  <dc:description/>
  <dc:language>en-US</dc:language>
  <cp:lastModifiedBy>User</cp:lastModifiedBy>
  <dcterms:modified xsi:type="dcterms:W3CDTF">2015-02-03T14:16:18Z</dcterms:modified>
  <cp:revision>133</cp:revision>
  <dc:subject/>
  <dc:title>День народного единства</dc:title>
</cp:coreProperties>
</file>