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47A9-238F-418A-9A27-0DF931930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DFE9-93E2-4BEF-859E-52136AB9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6761-2CD0-4A1D-B934-E2776155C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FD06-2D1E-486E-BE44-9020587E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D9C8-441B-4AD7-9ADA-C38E15F7A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5018-C96D-44F5-B8FA-10ED82E9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9D68-CBC0-4CFE-9216-AD62E0E6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33BD-E329-459D-8B08-63870C25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3F86-9296-4202-9C3D-3ADF333B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AE68-8134-4002-816F-2A7E4597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C7E9-CDF1-489E-814F-30B3C7BB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B272-D50B-4BE9-BFDD-9B728162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127A-B762-498F-8D2A-725CD947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5647-BE46-496A-983F-9B2B86EB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FA01-F90C-4C7F-AF61-F9120FDF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F911-468C-4858-B50F-A0A0E60A6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3103-FFB7-48F7-B8CB-BDCE82E37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49DC-1AD9-4106-838F-56A86070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DD05-F27D-4D45-BEAC-F48691D3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768A-D9F7-493A-B44D-CE310424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51D2-57D4-4667-A0B1-F73BF130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8A8F-62DF-46FC-98F8-A1648664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9E31-86BD-4A5A-ACAF-AB1B1FA6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8B9A-0F18-4AEE-957A-B0C22070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08E7-FAA3-49DD-9F51-EC6F4799918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73BB-5666-40E4-BC7F-90506DE20B7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olnet.ee/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solnet.ee/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solnet.ee/" TargetMode="External"/><Relationship Id="rId2" Type="http://schemas.openxmlformats.org/officeDocument/2006/relationships/image" Target="../media/image32.jpeg"/><Relationship Id="rId3" Type="http://schemas.openxmlformats.org/officeDocument/2006/relationships/slide" Target="slide5.xml"/><Relationship Id="rId4" Type="http://schemas.openxmlformats.org/officeDocument/2006/relationships/slideLayout" Target="../slideLayouts/slideLayout1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" Target="slide35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solnet.ee/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" Target="slide3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6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mg.encyc.yandex.net/illustrations/krugosvet/pictures/f/f0/1006271-PH05273.jpg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4945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Comic Sans MS"/>
              </a:rPr>
              <a:t>Классный час</a:t>
            </a:r>
            <a:br>
              <a:rPr sz="3200"/>
            </a:br>
            <a:r>
              <a:rPr b="0" lang="en-US" sz="3200" spc="-1" strike="noStrike">
                <a:solidFill>
                  <a:srgbClr val="993300"/>
                </a:solidFill>
                <a:latin typeface="Comic Sans MS"/>
              </a:rPr>
              <a:t>4 ноября </a:t>
            </a:r>
            <a:br>
              <a:rPr sz="3200"/>
            </a:br>
            <a:r>
              <a:rPr b="1" lang="en-US" sz="3200" spc="-1" strike="noStrike">
                <a:solidFill>
                  <a:srgbClr val="993300"/>
                </a:solidFill>
                <a:latin typeface="Comic Sans MS"/>
              </a:rPr>
              <a:t>ДЕНЬ НАРОДНОГО ЕДИНСТВА</a:t>
            </a:r>
            <a:r>
              <a:rPr b="0" lang="en-US" sz="3200" spc="-1" strike="noStrike">
                <a:solidFill>
                  <a:srgbClr val="7c130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3300"/>
                </a:solidFill>
                <a:latin typeface="Comic Sans MS"/>
              </a:rPr>
              <a:t>—</a:t>
            </a:r>
            <a:r>
              <a:rPr b="0" lang="en-US" sz="3200" spc="-1" strike="noStrike">
                <a:solidFill>
                  <a:srgbClr val="7c1302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993300"/>
                </a:solidFill>
                <a:latin typeface="Comic Sans MS"/>
              </a:rPr>
              <a:t>День воинской славы России</a:t>
            </a:r>
            <a:endParaRPr b="1" lang="en-US" sz="32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476360" y="189000"/>
            <a:ext cx="64008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 средняя общеобразовательная школа № 85 г. Н.Новгор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55640" y="3357720"/>
            <a:ext cx="6048360" cy="2460600"/>
          </a:xfrm>
          <a:prstGeom prst="rect">
            <a:avLst/>
          </a:prstGeom>
          <a:ln w="76320">
            <a:solidFill>
              <a:srgbClr val="5f5f5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2" name=""/>
          <p:cNvSpPr/>
          <p:nvPr/>
        </p:nvSpPr>
        <p:spPr>
          <a:xfrm>
            <a:off x="1979640" y="5950080"/>
            <a:ext cx="500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ябликова Н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122040"/>
            <a:ext cx="746136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c1302"/>
                </a:solidFill>
                <a:latin typeface="Arial"/>
              </a:rPr>
              <a:t>ЛЖЕДМИТРИЙ II </a:t>
            </a:r>
            <a:br>
              <a:rPr sz="3600"/>
            </a:br>
            <a:r>
              <a:rPr b="1" lang="en-US" sz="3600" spc="-1" strike="noStrike">
                <a:solidFill>
                  <a:srgbClr val="7c1302"/>
                </a:solidFill>
                <a:latin typeface="Arial"/>
              </a:rPr>
              <a:t>- «Тушинский вор» </a:t>
            </a:r>
            <a:br>
              <a:rPr sz="3600"/>
            </a:b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556000" y="1773360"/>
            <a:ext cx="3362040" cy="436860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5" name=""/>
          <p:cNvSpPr/>
          <p:nvPr/>
        </p:nvSpPr>
        <p:spPr>
          <a:xfrm>
            <a:off x="1692360" y="6021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22400"/>
            <a:ext cx="7532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Польский король </a:t>
            </a:r>
            <a:br>
              <a:rPr sz="3900"/>
            </a:b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Сигизмунд III 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627280" y="1844640"/>
            <a:ext cx="3157560" cy="432108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9" name=""/>
          <p:cNvSpPr/>
          <p:nvPr/>
        </p:nvSpPr>
        <p:spPr>
          <a:xfrm>
            <a:off x="183816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403280" y="981000"/>
            <a:ext cx="5715000" cy="459576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7c1302"/>
                </a:solidFill>
                <a:latin typeface="Arial"/>
              </a:rPr>
              <a:t>Дворянин  </a:t>
            </a:r>
            <a:br>
              <a:rPr sz="3500"/>
            </a:br>
            <a:r>
              <a:rPr b="1" lang="ru-RU" sz="3500" spc="-1" strike="noStrike">
                <a:solidFill>
                  <a:srgbClr val="7c1302"/>
                </a:solidFill>
                <a:latin typeface="Arial"/>
              </a:rPr>
              <a:t>Прокопий Петрович Ляпунов </a:t>
            </a:r>
            <a:endParaRPr b="1" lang="en-US" sz="35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522600" cy="457020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5" name=""/>
          <p:cNvSpPr/>
          <p:nvPr/>
        </p:nvSpPr>
        <p:spPr>
          <a:xfrm>
            <a:off x="1619280" y="5950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7c1302"/>
                </a:solidFill>
                <a:latin typeface="Arial"/>
              </a:rPr>
              <a:t>Патриарх Гермоген </a:t>
            </a:r>
            <a:br>
              <a:rPr sz="3500"/>
            </a:br>
            <a:r>
              <a:rPr b="0" i="1" lang="ru-RU" sz="2800" spc="-1" strike="noStrike">
                <a:solidFill>
                  <a:srgbClr val="7c1302"/>
                </a:solidFill>
                <a:latin typeface="Arial"/>
              </a:rPr>
              <a:t>(правление 1606-1612 г.г.)</a:t>
            </a:r>
            <a:r>
              <a:rPr b="1" lang="ru-RU" sz="3500" spc="-1" strike="noStrike">
                <a:solidFill>
                  <a:srgbClr val="7c1302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987640" y="1557360"/>
            <a:ext cx="3240000" cy="324000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501336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звал русский народ выступать против захватч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16000" y="566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476360" y="4076640"/>
            <a:ext cx="2128680" cy="212904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547640" y="981000"/>
            <a:ext cx="1946520" cy="259236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орянин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копий Петрович Ляпу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триарх Гермог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Купец </a:t>
            </a:r>
            <a:br>
              <a:rPr sz="3900"/>
            </a:b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Козьма Минин 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206360" y="2222640"/>
            <a:ext cx="2540160" cy="340344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09" name=""/>
          <p:cNvSpPr/>
          <p:nvPr/>
        </p:nvSpPr>
        <p:spPr>
          <a:xfrm>
            <a:off x="2341440" y="5661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890960" y="2467080"/>
            <a:ext cx="3552840" cy="291456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11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920" y="122400"/>
            <a:ext cx="7750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Arial"/>
              </a:rPr>
              <a:t>Князь </a:t>
            </a:r>
            <a:br>
              <a:rPr sz="3500"/>
            </a:br>
            <a:r>
              <a:rPr b="1" lang="en-US" sz="3500" spc="-1" strike="noStrike">
                <a:solidFill>
                  <a:srgbClr val="7c1302"/>
                </a:solidFill>
                <a:latin typeface="Arial"/>
              </a:rPr>
              <a:t>Дмитрий Михайлович Пожарский </a:t>
            </a:r>
            <a:endParaRPr b="1" lang="en-US" sz="35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916360" y="1844640"/>
            <a:ext cx="3174840" cy="441180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14" name=""/>
          <p:cNvSpPr/>
          <p:nvPr/>
        </p:nvSpPr>
        <p:spPr>
          <a:xfrm>
            <a:off x="1619280" y="6237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763640" y="3860640"/>
            <a:ext cx="2129040" cy="212904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11280" y="907920"/>
            <a:ext cx="3960720" cy="250848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Минин и Пожарский. </a:t>
            </a:r>
            <a:br>
              <a:rPr sz="2800"/>
            </a:b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художник Скотти М.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Патриарх Гермог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619280" y="1816200"/>
            <a:ext cx="5473800" cy="435924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8000" y="1773000"/>
            <a:ext cx="86756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Arial"/>
              </a:rPr>
              <a:t>Россия — священная наша держава,</a:t>
            </a:r>
            <a:br>
              <a:rPr sz="3000"/>
            </a:br>
            <a:r>
              <a:rPr b="1" lang="en-US" sz="3000" spc="-1" strike="noStrike">
                <a:solidFill>
                  <a:srgbClr val="993300"/>
                </a:solidFill>
                <a:latin typeface="Arial"/>
              </a:rPr>
              <a:t>Россия — любимая наша страна.</a:t>
            </a:r>
            <a:br>
              <a:rPr sz="3000"/>
            </a:br>
            <a:r>
              <a:rPr b="1" lang="en-US" sz="3000" spc="-1" strike="noStrike">
                <a:solidFill>
                  <a:srgbClr val="993300"/>
                </a:solidFill>
                <a:latin typeface="Arial"/>
              </a:rPr>
              <a:t>Могучая воля, великая слава —</a:t>
            </a:r>
            <a:br>
              <a:rPr sz="3000"/>
            </a:br>
            <a:r>
              <a:rPr b="1" lang="en-US" sz="3000" spc="-1" strike="noStrike">
                <a:solidFill>
                  <a:srgbClr val="993300"/>
                </a:solidFill>
                <a:latin typeface="Arial"/>
              </a:rPr>
              <a:t>Твоё достоянье на все времена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Arial"/>
              </a:rPr>
              <a:t>Славься, Отечество наше свободное,</a:t>
            </a:r>
            <a:br>
              <a:rPr sz="3000"/>
            </a:br>
            <a:r>
              <a:rPr b="1" lang="en-US" sz="3000" spc="-1" strike="noStrike">
                <a:solidFill>
                  <a:srgbClr val="993300"/>
                </a:solidFill>
                <a:latin typeface="Arial"/>
              </a:rPr>
              <a:t>Братских народов союз вековой,</a:t>
            </a:r>
            <a:br>
              <a:rPr sz="3000"/>
            </a:br>
            <a:r>
              <a:rPr b="1" lang="en-US" sz="3000" spc="-1" strike="noStrike">
                <a:solidFill>
                  <a:srgbClr val="993300"/>
                </a:solidFill>
                <a:latin typeface="Arial"/>
              </a:rPr>
              <a:t>Предками данная мудрость народная!</a:t>
            </a:r>
            <a:br>
              <a:rPr sz="3000"/>
            </a:br>
            <a:r>
              <a:rPr b="1" lang="en-US" sz="3000" spc="-1" strike="noStrike">
                <a:solidFill>
                  <a:srgbClr val="993300"/>
                </a:solidFill>
                <a:latin typeface="Arial"/>
              </a:rPr>
              <a:t>Славься, страна! Мы гордимся тобой!...</a:t>
            </a:r>
            <a:br>
              <a:rPr sz="3000"/>
            </a:br>
            <a:br>
              <a:rPr sz="26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323720" cy="160020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877080" y="1268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48000" y="549360"/>
            <a:ext cx="2664000" cy="1150920"/>
          </a:xfrm>
          <a:custGeom>
            <a:avLst/>
            <a:gdLst>
              <a:gd name="textAreaLeft" fmla="*/ 74520 w 2664000"/>
              <a:gd name="textAreaRight" fmla="*/ 2589480 w 2664000"/>
              <a:gd name="textAreaTop" fmla="*/ 74520 h 1150920"/>
              <a:gd name="textAreaBottom" fmla="*/ 1076400 h 1150920"/>
            </a:gdLst>
            <a:ahLst/>
            <a:rect l="textAreaLeft" t="textAreaTop" r="textAreaRight" b="textAreaBottom"/>
            <a:pathLst>
              <a:path w="49988" h="21600">
                <a:moveTo>
                  <a:pt x="0" y="0"/>
                </a:moveTo>
                <a:lnTo>
                  <a:pt x="49988" y="0"/>
                </a:lnTo>
                <a:lnTo>
                  <a:pt x="49988" y="21600"/>
                </a:lnTo>
                <a:lnTo>
                  <a:pt x="0" y="21600"/>
                </a:lnTo>
                <a:close/>
              </a:path>
              <a:path fill="lightenLess" w="49988" h="21600">
                <a:moveTo>
                  <a:pt x="0" y="0"/>
                </a:moveTo>
                <a:lnTo>
                  <a:pt x="49988" y="0"/>
                </a:lnTo>
                <a:lnTo>
                  <a:pt x="48588" y="1400"/>
                </a:lnTo>
                <a:lnTo>
                  <a:pt x="1400" y="1400"/>
                </a:lnTo>
                <a:close/>
              </a:path>
              <a:path fill="darken" w="49988" h="21600">
                <a:moveTo>
                  <a:pt x="49988" y="0"/>
                </a:moveTo>
                <a:lnTo>
                  <a:pt x="49988" y="21600"/>
                </a:lnTo>
                <a:lnTo>
                  <a:pt x="48588" y="20200"/>
                </a:lnTo>
                <a:lnTo>
                  <a:pt x="48588" y="1400"/>
                </a:lnTo>
                <a:close/>
              </a:path>
              <a:path fill="darkenLess" w="49988" h="21600">
                <a:moveTo>
                  <a:pt x="49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88" y="20200"/>
                </a:lnTo>
                <a:close/>
              </a:path>
              <a:path fill="lighten" w="49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2600">
            <a:solidFill>
              <a:srgbClr val="993300"/>
            </a:solidFill>
            <a:miter/>
          </a:ln>
          <a:effectLst>
            <a:outerShdw dist="107932" dir="18900000" blurRad="0" rotWithShape="0">
              <a:srgbClr val="cc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ИМ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22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549360"/>
            <a:ext cx="3905280" cy="572616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0" y="3141360"/>
            <a:ext cx="403848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Памятник</a:t>
            </a:r>
            <a:br>
              <a:rPr sz="2800"/>
            </a:b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Минину и Пожарскому на Красной площ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00360" y="6021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Иван Осипович Сусанин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3365640" cy="453528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340000" y="5942160"/>
            <a:ext cx="6597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6057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1302"/>
                </a:solidFill>
                <a:latin typeface="Arial"/>
              </a:rPr>
              <a:t>Избрание Михаила Федоровича Романова на царство</a:t>
            </a:r>
            <a:br>
              <a:rPr sz="3600"/>
            </a:br>
            <a:r>
              <a:rPr b="0" i="1" lang="ru-RU" sz="2800" spc="-1" strike="noStrike">
                <a:solidFill>
                  <a:srgbClr val="7c1302"/>
                </a:solidFill>
                <a:latin typeface="Arial"/>
              </a:rPr>
              <a:t>художник А. Кившенко.</a:t>
            </a:r>
            <a:r>
              <a:rPr b="1" lang="ru-RU" sz="2200" spc="-1" strike="noStrike">
                <a:solidFill>
                  <a:srgbClr val="7c1302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116000" y="2127240"/>
            <a:ext cx="5832360" cy="394668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35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4920" y="122040"/>
            <a:ext cx="760572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Патриарх Филарет – </a:t>
            </a:r>
            <a:br>
              <a:rPr sz="3600"/>
            </a:b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Фёдор Никитич Романов  </a:t>
            </a:r>
            <a:br>
              <a:rPr sz="3600"/>
            </a:b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237" name="" descr="Фёдор Никитич Романов (патриарх Филарет)"/>
          <p:cNvPicPr/>
          <p:nvPr/>
        </p:nvPicPr>
        <p:blipFill>
          <a:blip r:embed="rId1"/>
          <a:stretch/>
        </p:blipFill>
        <p:spPr>
          <a:xfrm>
            <a:off x="2268360" y="1628640"/>
            <a:ext cx="3940200" cy="480564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04292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979640" y="62164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Иван Осипович Сусанин завёл врагов в лес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242" name="" descr="Susanindeath (396x274, 45Kb)"/>
          <p:cNvPicPr/>
          <p:nvPr/>
        </p:nvPicPr>
        <p:blipFill>
          <a:blip r:embed="rId1"/>
          <a:stretch/>
        </p:blipFill>
        <p:spPr>
          <a:xfrm>
            <a:off x="1116000" y="1628640"/>
            <a:ext cx="6408720" cy="443412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43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1302"/>
                </a:solidFill>
                <a:latin typeface="Arial"/>
              </a:rPr>
              <a:t>Подвиг Ивана Сусанина.</a:t>
            </a:r>
            <a:r>
              <a:rPr b="1" lang="ru-RU" sz="2600" spc="-1" strike="noStrike">
                <a:solidFill>
                  <a:srgbClr val="7c1302"/>
                </a:solidFill>
                <a:latin typeface="Arial"/>
              </a:rPr>
              <a:t> </a:t>
            </a:r>
            <a:br>
              <a:rPr sz="2600"/>
            </a:br>
            <a:r>
              <a:rPr b="0" i="1" lang="ru-RU" sz="2800" spc="-1" strike="noStrike">
                <a:solidFill>
                  <a:srgbClr val="7c1302"/>
                </a:solidFill>
                <a:latin typeface="Arial"/>
              </a:rPr>
              <a:t>Художник М. Скотти </a:t>
            </a:r>
            <a:br>
              <a:rPr sz="2800"/>
            </a:br>
            <a:endParaRPr b="1" lang="en-US" sz="28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245" name="" descr="Скотти М.И. Иван Сусанин. 1851 г."/>
          <p:cNvPicPr/>
          <p:nvPr/>
        </p:nvPicPr>
        <p:blipFill>
          <a:blip r:embed="rId1"/>
          <a:stretch/>
        </p:blipFill>
        <p:spPr>
          <a:xfrm>
            <a:off x="2313000" y="1719360"/>
            <a:ext cx="4518000" cy="441144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7c1302"/>
                </a:solidFill>
                <a:latin typeface="Arial"/>
              </a:rPr>
              <a:t>Иван Сусанин. </a:t>
            </a:r>
            <a:r>
              <a:rPr b="0" i="1" lang="ru-RU" sz="2800" spc="-1" strike="noStrike">
                <a:solidFill>
                  <a:srgbClr val="7c1302"/>
                </a:solidFill>
                <a:latin typeface="Arial"/>
              </a:rPr>
              <a:t>Фаюстов М.В. 2003 г.</a:t>
            </a:r>
            <a:r>
              <a:rPr b="1" lang="ru-RU" sz="3500" spc="-1" strike="noStrike">
                <a:solidFill>
                  <a:srgbClr val="7c1302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6197760" cy="428940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49" name=""/>
          <p:cNvSpPr/>
          <p:nvPr/>
        </p:nvSpPr>
        <p:spPr>
          <a:xfrm>
            <a:off x="1258920" y="5805360"/>
            <a:ext cx="64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0" y="4869000"/>
            <a:ext cx="378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912960" y="549360"/>
            <a:ext cx="3298680" cy="518472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3300"/>
                </a:solidFill>
                <a:latin typeface="Arial"/>
              </a:rPr>
              <a:t>Дореволюционный памятник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Михаилу Романову и Ивану Осиповичу  Сусанин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в Костроме.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c1302"/>
                </a:solidFill>
                <a:latin typeface="Arial"/>
              </a:rPr>
              <a:t>Памятник Ивану Осиповичу  Сусанину в Костроме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2589120" cy="487836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Arial"/>
              </a:rPr>
              <a:t>4 ноября – день Казанской иконы  Пресвятой Богородицы </a:t>
            </a:r>
            <a:endParaRPr b="1" lang="en-US" sz="35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2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04760" y="1700280"/>
            <a:ext cx="2954520" cy="443052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И до наших дней эта икона особо почитается русским православным народ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68360" y="587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000" y="-3164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Казанский собор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3300"/>
                </a:solidFill>
                <a:latin typeface="Arial"/>
              </a:rPr>
              <a:t>В благодарность за помощь и заступничество князь Дмитрий Пожарский на свои средства построил в 20-х годах XVII века деревянный собор во имя Казанской иконы Божией Матер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76364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1125360"/>
            <a:ext cx="4103640" cy="320220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67" name="">
            <a:hlinkClick r:id="rId3" action="ppaction://hlinksldjump"/>
          </p:cNvPr>
          <p:cNvSpPr/>
          <p:nvPr/>
        </p:nvSpPr>
        <p:spPr>
          <a:xfrm>
            <a:off x="7885080" y="587700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8" y="7493"/>
                </a:moveTo>
                <a:lnTo>
                  <a:pt x="8636" y="7493"/>
                </a:lnTo>
                <a:lnTo>
                  <a:pt x="8636" y="12828"/>
                </a:lnTo>
                <a:cubicBezTo>
                  <a:pt x="8636" y="13751"/>
                  <a:pt x="9437" y="14482"/>
                  <a:pt x="10472" y="14482"/>
                </a:cubicBezTo>
                <a:lnTo>
                  <a:pt x="12135" y="14482"/>
                </a:lnTo>
                <a:cubicBezTo>
                  <a:pt x="13171" y="14482"/>
                  <a:pt x="13971" y="13751"/>
                  <a:pt x="13971" y="12828"/>
                </a:cubicBezTo>
                <a:lnTo>
                  <a:pt x="13971" y="7493"/>
                </a:lnTo>
                <a:lnTo>
                  <a:pt x="12135" y="7493"/>
                </a:lnTo>
                <a:lnTo>
                  <a:pt x="15642" y="3985"/>
                </a:lnTo>
                <a:lnTo>
                  <a:pt x="19315" y="7493"/>
                </a:lnTo>
                <a:lnTo>
                  <a:pt x="17479" y="7493"/>
                </a:lnTo>
                <a:lnTo>
                  <a:pt x="17479" y="12828"/>
                </a:lnTo>
                <a:cubicBezTo>
                  <a:pt x="17479" y="15596"/>
                  <a:pt x="14903" y="18155"/>
                  <a:pt x="12135" y="18155"/>
                </a:cubicBezTo>
                <a:lnTo>
                  <a:pt x="10472" y="18155"/>
                </a:lnTo>
                <a:cubicBezTo>
                  <a:pt x="7705" y="18155"/>
                  <a:pt x="5128" y="15596"/>
                  <a:pt x="5128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3565440" y="189000"/>
            <a:ext cx="1609920" cy="194472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4 ноябр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это день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единства всех российских народ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4 ноябр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это день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спасения Росс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т самой большой опасности, которая когда-либо ей грози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4 ноябр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это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возрожденный праздни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о своей историе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4 ноябр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это день 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реальных де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а не сомнительных марш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340"/>
                            </p:stCondLst>
                            <p:childTnLst>
                              <p:par>
                                <p:cTn id="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580"/>
                            </p:stCondLst>
                            <p:childTnLst>
                              <p:par>
                                <p:cTn id="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7500"/>
                            </p:stCondLst>
                            <p:childTnLst>
                              <p:par>
                                <p:cTn id="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4392720" cy="4338720"/>
          </a:xfrm>
          <a:prstGeom prst="rect">
            <a:avLst/>
          </a:prstGeom>
          <a:ln w="76320">
            <a:solidFill>
              <a:srgbClr val="5f5f5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72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rId2" action="ppaction://hlinksldjump"/>
          </p:cNvPr>
          <p:cNvSpPr/>
          <p:nvPr/>
        </p:nvSpPr>
        <p:spPr>
          <a:xfrm>
            <a:off x="5148360" y="3068640"/>
            <a:ext cx="2808360" cy="1008000"/>
          </a:xfrm>
          <a:custGeom>
            <a:avLst/>
            <a:gdLst>
              <a:gd name="textAreaLeft" fmla="*/ 65160 w 2808360"/>
              <a:gd name="textAreaRight" fmla="*/ 2743200 w 280836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60165" h="21600">
                <a:moveTo>
                  <a:pt x="0" y="0"/>
                </a:moveTo>
                <a:lnTo>
                  <a:pt x="60165" y="0"/>
                </a:lnTo>
                <a:lnTo>
                  <a:pt x="60165" y="21600"/>
                </a:lnTo>
                <a:lnTo>
                  <a:pt x="0" y="21600"/>
                </a:lnTo>
                <a:close/>
              </a:path>
              <a:path fill="lightenLess" w="60165" h="21600">
                <a:moveTo>
                  <a:pt x="0" y="0"/>
                </a:moveTo>
                <a:lnTo>
                  <a:pt x="60165" y="0"/>
                </a:lnTo>
                <a:lnTo>
                  <a:pt x="58765" y="1400"/>
                </a:lnTo>
                <a:lnTo>
                  <a:pt x="1400" y="1400"/>
                </a:lnTo>
                <a:close/>
              </a:path>
              <a:path fill="darken" w="60165" h="21600">
                <a:moveTo>
                  <a:pt x="60165" y="0"/>
                </a:moveTo>
                <a:lnTo>
                  <a:pt x="60165" y="21600"/>
                </a:lnTo>
                <a:lnTo>
                  <a:pt x="58765" y="20200"/>
                </a:lnTo>
                <a:lnTo>
                  <a:pt x="58765" y="1400"/>
                </a:lnTo>
                <a:close/>
              </a:path>
              <a:path fill="darkenLess" w="60165" h="21600">
                <a:moveTo>
                  <a:pt x="60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765" y="20200"/>
                </a:lnTo>
                <a:close/>
              </a:path>
              <a:path fill="lighten" w="60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2600">
            <a:solidFill>
              <a:srgbClr val="993300"/>
            </a:solidFill>
            <a:miter/>
          </a:ln>
          <a:effectLst>
            <a:outerShdw dist="107932" dir="18900000" blurRad="0" rotWithShape="0">
              <a:srgbClr val="cc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ИКТО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124000" y="616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68000" y="1773000"/>
            <a:ext cx="86756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Arial"/>
              </a:rPr>
              <a:t>Россия — священная наша держава,</a:t>
            </a:r>
            <a:br>
              <a:rPr sz="3000"/>
            </a:br>
            <a:r>
              <a:rPr b="1" lang="en-US" sz="3000" spc="-1" strike="noStrike">
                <a:solidFill>
                  <a:srgbClr val="993300"/>
                </a:solidFill>
                <a:latin typeface="Arial"/>
              </a:rPr>
              <a:t>Россия — любимая наша страна.</a:t>
            </a:r>
            <a:br>
              <a:rPr sz="3000"/>
            </a:br>
            <a:r>
              <a:rPr b="1" lang="en-US" sz="3000" spc="-1" strike="noStrike">
                <a:solidFill>
                  <a:srgbClr val="993300"/>
                </a:solidFill>
                <a:latin typeface="Arial"/>
              </a:rPr>
              <a:t>Могучая воля, великая слава —</a:t>
            </a:r>
            <a:br>
              <a:rPr sz="3000"/>
            </a:br>
            <a:r>
              <a:rPr b="1" lang="en-US" sz="3000" spc="-1" strike="noStrike">
                <a:solidFill>
                  <a:srgbClr val="993300"/>
                </a:solidFill>
                <a:latin typeface="Arial"/>
              </a:rPr>
              <a:t>Твоё достоянье на все времена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Arial"/>
              </a:rPr>
              <a:t>Славься, Отечество наше свободное,</a:t>
            </a:r>
            <a:br>
              <a:rPr sz="3000"/>
            </a:br>
            <a:r>
              <a:rPr b="1" lang="en-US" sz="3000" spc="-1" strike="noStrike">
                <a:solidFill>
                  <a:srgbClr val="993300"/>
                </a:solidFill>
                <a:latin typeface="Arial"/>
              </a:rPr>
              <a:t>Братских народов союз вековой,</a:t>
            </a:r>
            <a:br>
              <a:rPr sz="3000"/>
            </a:br>
            <a:r>
              <a:rPr b="1" lang="en-US" sz="3000" spc="-1" strike="noStrike">
                <a:solidFill>
                  <a:srgbClr val="993300"/>
                </a:solidFill>
                <a:latin typeface="Arial"/>
              </a:rPr>
              <a:t>Предками данная мудрость народная!</a:t>
            </a:r>
            <a:br>
              <a:rPr sz="3000"/>
            </a:br>
            <a:r>
              <a:rPr b="1" lang="en-US" sz="3000" spc="-1" strike="noStrike">
                <a:solidFill>
                  <a:srgbClr val="993300"/>
                </a:solidFill>
                <a:latin typeface="Arial"/>
              </a:rPr>
              <a:t>Славься, страна! Мы гордимся тобой!...</a:t>
            </a:r>
            <a:br>
              <a:rPr sz="3000"/>
            </a:br>
            <a:br>
              <a:rPr sz="26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323720" cy="160020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6877080" y="1268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348000" y="549360"/>
            <a:ext cx="2664000" cy="1150920"/>
          </a:xfrm>
          <a:custGeom>
            <a:avLst/>
            <a:gdLst>
              <a:gd name="textAreaLeft" fmla="*/ 74520 w 2664000"/>
              <a:gd name="textAreaRight" fmla="*/ 2589480 w 2664000"/>
              <a:gd name="textAreaTop" fmla="*/ 74520 h 1150920"/>
              <a:gd name="textAreaBottom" fmla="*/ 1076400 h 1150920"/>
            </a:gdLst>
            <a:ahLst/>
            <a:rect l="textAreaLeft" t="textAreaTop" r="textAreaRight" b="textAreaBottom"/>
            <a:pathLst>
              <a:path w="49988" h="21600">
                <a:moveTo>
                  <a:pt x="0" y="0"/>
                </a:moveTo>
                <a:lnTo>
                  <a:pt x="49988" y="0"/>
                </a:lnTo>
                <a:lnTo>
                  <a:pt x="49988" y="21600"/>
                </a:lnTo>
                <a:lnTo>
                  <a:pt x="0" y="21600"/>
                </a:lnTo>
                <a:close/>
              </a:path>
              <a:path fill="lightenLess" w="49988" h="21600">
                <a:moveTo>
                  <a:pt x="0" y="0"/>
                </a:moveTo>
                <a:lnTo>
                  <a:pt x="49988" y="0"/>
                </a:lnTo>
                <a:lnTo>
                  <a:pt x="48588" y="1400"/>
                </a:lnTo>
                <a:lnTo>
                  <a:pt x="1400" y="1400"/>
                </a:lnTo>
                <a:close/>
              </a:path>
              <a:path fill="darken" w="49988" h="21600">
                <a:moveTo>
                  <a:pt x="49988" y="0"/>
                </a:moveTo>
                <a:lnTo>
                  <a:pt x="49988" y="21600"/>
                </a:lnTo>
                <a:lnTo>
                  <a:pt x="48588" y="20200"/>
                </a:lnTo>
                <a:lnTo>
                  <a:pt x="48588" y="1400"/>
                </a:lnTo>
                <a:close/>
              </a:path>
              <a:path fill="darkenLess" w="49988" h="21600">
                <a:moveTo>
                  <a:pt x="49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88" y="20200"/>
                </a:lnTo>
                <a:close/>
              </a:path>
              <a:path fill="lighten" w="49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2600">
            <a:solidFill>
              <a:srgbClr val="993300"/>
            </a:solidFill>
            <a:miter/>
          </a:ln>
          <a:effectLst>
            <a:outerShdw dist="107932" dir="18900000" blurRad="0" rotWithShape="0">
              <a:srgbClr val="cc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ИМ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>
            <a:hlinkClick r:id="" action="ppaction://hlinkshowjump?jump=firstslide"/>
          </p:cNvPr>
          <p:cNvSpPr/>
          <p:nvPr/>
        </p:nvSpPr>
        <p:spPr>
          <a:xfrm>
            <a:off x="8101080" y="6093000"/>
            <a:ext cx="576360" cy="54900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22676" h="21600">
                <a:moveTo>
                  <a:pt x="0" y="0"/>
                </a:moveTo>
                <a:lnTo>
                  <a:pt x="22676" y="0"/>
                </a:lnTo>
                <a:lnTo>
                  <a:pt x="22676" y="21600"/>
                </a:lnTo>
                <a:lnTo>
                  <a:pt x="0" y="21600"/>
                </a:lnTo>
                <a:close/>
              </a:path>
              <a:path fill="lightenLess" w="22676" h="21600">
                <a:moveTo>
                  <a:pt x="0" y="0"/>
                </a:moveTo>
                <a:lnTo>
                  <a:pt x="22676" y="0"/>
                </a:lnTo>
                <a:lnTo>
                  <a:pt x="21276" y="1400"/>
                </a:lnTo>
                <a:lnTo>
                  <a:pt x="1400" y="1400"/>
                </a:lnTo>
                <a:close/>
              </a:path>
              <a:path fill="darken" w="22676" h="21600">
                <a:moveTo>
                  <a:pt x="22676" y="0"/>
                </a:moveTo>
                <a:lnTo>
                  <a:pt x="22676" y="21600"/>
                </a:lnTo>
                <a:lnTo>
                  <a:pt x="21276" y="20200"/>
                </a:lnTo>
                <a:lnTo>
                  <a:pt x="21276" y="1400"/>
                </a:lnTo>
                <a:close/>
              </a:path>
              <a:path fill="darkenLess" w="22676" h="21600">
                <a:moveTo>
                  <a:pt x="22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76" y="20200"/>
                </a:lnTo>
                <a:close/>
              </a:path>
              <a:path fill="lighten" w="22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76" h="21600">
                <a:moveTo>
                  <a:pt x="11338" y="3837"/>
                </a:moveTo>
                <a:lnTo>
                  <a:pt x="13914" y="6448"/>
                </a:lnTo>
                <a:lnTo>
                  <a:pt x="13914" y="4707"/>
                </a:lnTo>
                <a:lnTo>
                  <a:pt x="15690" y="4707"/>
                </a:lnTo>
                <a:lnTo>
                  <a:pt x="15690" y="8224"/>
                </a:lnTo>
                <a:lnTo>
                  <a:pt x="18301" y="10800"/>
                </a:lnTo>
                <a:lnTo>
                  <a:pt x="16647" y="10800"/>
                </a:lnTo>
                <a:lnTo>
                  <a:pt x="16647" y="17989"/>
                </a:lnTo>
                <a:lnTo>
                  <a:pt x="6029" y="17989"/>
                </a:lnTo>
                <a:lnTo>
                  <a:pt x="6029" y="10800"/>
                </a:lnTo>
                <a:lnTo>
                  <a:pt x="4375" y="10800"/>
                </a:lnTo>
                <a:close/>
              </a:path>
              <a:path fill="darkenLess" w="22676" h="21600">
                <a:moveTo>
                  <a:pt x="13914" y="6448"/>
                </a:moveTo>
                <a:lnTo>
                  <a:pt x="13914" y="4707"/>
                </a:lnTo>
                <a:lnTo>
                  <a:pt x="15690" y="4707"/>
                </a:lnTo>
                <a:lnTo>
                  <a:pt x="15690" y="8224"/>
                </a:lnTo>
                <a:close/>
              </a:path>
              <a:path fill="darkenLess" w="22676" h="21600">
                <a:moveTo>
                  <a:pt x="10415" y="14299"/>
                </a:moveTo>
                <a:lnTo>
                  <a:pt x="12260" y="14299"/>
                </a:lnTo>
                <a:lnTo>
                  <a:pt x="12260" y="17989"/>
                </a:lnTo>
                <a:lnTo>
                  <a:pt x="16647" y="17989"/>
                </a:lnTo>
                <a:lnTo>
                  <a:pt x="16647" y="10800"/>
                </a:lnTo>
                <a:lnTo>
                  <a:pt x="6029" y="10800"/>
                </a:lnTo>
                <a:lnTo>
                  <a:pt x="6029" y="17989"/>
                </a:lnTo>
                <a:lnTo>
                  <a:pt x="10415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7c1302"/>
                </a:solidFill>
                <a:latin typeface="Arial"/>
              </a:rPr>
              <a:t>Речь Посполитая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1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1. Как называлось государство, которое вмешивалось в дела России в Смутное время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2556000" y="2492280"/>
            <a:ext cx="4537080" cy="355464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7c1302"/>
                </a:solidFill>
                <a:latin typeface="Arial"/>
              </a:rPr>
              <a:t>Прокопий Петрович Ляпунов </a:t>
            </a:r>
            <a:br>
              <a:rPr sz="3900"/>
            </a:b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1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2. Кто возглавил первое ополчение 1611 года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2916360" y="1844640"/>
            <a:ext cx="3111480" cy="414180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Arial"/>
              </a:rPr>
              <a:t>Ополчение во главе с Мининым и Пожарским взяло Китай-город. </a:t>
            </a:r>
            <a:br>
              <a:rPr sz="3500"/>
            </a:br>
            <a:endParaRPr b="1" lang="en-US" sz="35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1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3. Какое историческое событие произошло 4 ноября (22 октября по старому стилю) 1612 года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2268360" y="2565360"/>
            <a:ext cx="4473720" cy="365436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Иван Осипович Сусанин </a:t>
            </a:r>
            <a:br>
              <a:rPr sz="3900"/>
            </a:b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4. Как звали национального героя того времени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Скотти М.И. Иван Сусанин. 1851 г."/>
          <p:cNvPicPr/>
          <p:nvPr/>
        </p:nvPicPr>
        <p:blipFill>
          <a:blip r:embed="rId1"/>
          <a:stretch/>
        </p:blipFill>
        <p:spPr>
          <a:xfrm>
            <a:off x="2411280" y="1844640"/>
            <a:ext cx="4475160" cy="437040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Борис Годунов 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5. Кто стал царём Российского государства после Ивана Грозног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771640" y="1557360"/>
            <a:ext cx="3421080" cy="481320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258920" y="5516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33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Лжедмитрия II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6. Кого из претендентов на Московский трон называли "тушинским вором"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2556000" y="1773360"/>
            <a:ext cx="3362040" cy="436860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6057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Arial"/>
              </a:rPr>
              <a:t>Казанский собор на Красной площади в Москве. </a:t>
            </a:r>
            <a:br>
              <a:rPr sz="3500"/>
            </a:br>
            <a:endParaRPr b="1" lang="en-US" sz="35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Arial"/>
              </a:rPr>
              <a:t>7. </a:t>
            </a: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В благодарность за помощь и заступничество князь Пожарский на свои средства построил в 20-х годах XVII века деревянный собор во имя Казанской иконы Божией Матери. О каком Храме идёт речь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2060640"/>
            <a:ext cx="5040360" cy="393228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С воцарением Михаила Романова.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8. С каким событием связано окончание Смутного времени на Руси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5832360" cy="394668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7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7470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7c1302"/>
                </a:solidFill>
                <a:latin typeface="Arial"/>
              </a:rPr>
              <a:t>В 1649 году </a:t>
            </a:r>
            <a:br>
              <a:rPr sz="9600"/>
            </a:br>
            <a:endParaRPr b="1" lang="en-US" sz="9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Arial"/>
              </a:rPr>
              <a:t>9. </a:t>
            </a: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В каком году впервые было установлено Празднование в честь Казанской иконы Пресвятой Богородицы 4 ноября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8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День народного единства.</a:t>
            </a:r>
            <a:br>
              <a:rPr sz="3900"/>
            </a:b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. Как называется государственный праздник, который мы отмечаем 4 ноября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1908000" y="1557360"/>
            <a:ext cx="4392720" cy="4338720"/>
          </a:xfrm>
          <a:prstGeom prst="rect">
            <a:avLst/>
          </a:prstGeom>
          <a:ln w="76320">
            <a:solidFill>
              <a:srgbClr val="5f5f5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10" name="">
            <a:hlinkClick r:id="rId2" action="ppaction://hlinksldjump"/>
          </p:cNvPr>
          <p:cNvSpPr/>
          <p:nvPr/>
        </p:nvSpPr>
        <p:spPr>
          <a:xfrm>
            <a:off x="7885080" y="587700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8" y="7493"/>
                </a:moveTo>
                <a:lnTo>
                  <a:pt x="8636" y="7493"/>
                </a:lnTo>
                <a:lnTo>
                  <a:pt x="8636" y="12828"/>
                </a:lnTo>
                <a:cubicBezTo>
                  <a:pt x="8636" y="13751"/>
                  <a:pt x="9437" y="14482"/>
                  <a:pt x="10472" y="14482"/>
                </a:cubicBezTo>
                <a:lnTo>
                  <a:pt x="12135" y="14482"/>
                </a:lnTo>
                <a:cubicBezTo>
                  <a:pt x="13171" y="14482"/>
                  <a:pt x="13971" y="13751"/>
                  <a:pt x="13971" y="12828"/>
                </a:cubicBezTo>
                <a:lnTo>
                  <a:pt x="13971" y="7493"/>
                </a:lnTo>
                <a:lnTo>
                  <a:pt x="12135" y="7493"/>
                </a:lnTo>
                <a:lnTo>
                  <a:pt x="15642" y="3985"/>
                </a:lnTo>
                <a:lnTo>
                  <a:pt x="19315" y="7493"/>
                </a:lnTo>
                <a:lnTo>
                  <a:pt x="17479" y="7493"/>
                </a:lnTo>
                <a:lnTo>
                  <a:pt x="17479" y="12828"/>
                </a:lnTo>
                <a:cubicBezTo>
                  <a:pt x="17479" y="15596"/>
                  <a:pt x="14903" y="18155"/>
                  <a:pt x="12135" y="18155"/>
                </a:cubicBezTo>
                <a:lnTo>
                  <a:pt x="10472" y="18155"/>
                </a:lnTo>
                <a:cubicBezTo>
                  <a:pt x="7705" y="18155"/>
                  <a:pt x="5128" y="15596"/>
                  <a:pt x="5128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4173480" cy="590400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5148360" y="2852640"/>
            <a:ext cx="3313080" cy="1440000"/>
          </a:xfrm>
          <a:custGeom>
            <a:avLst/>
            <a:gdLst>
              <a:gd name="textAreaLeft" fmla="*/ 93240 w 3313080"/>
              <a:gd name="textAreaRight" fmla="*/ 3219840 w 3313080"/>
              <a:gd name="textAreaTop" fmla="*/ 93240 h 1440000"/>
              <a:gd name="textAreaBottom" fmla="*/ 1346760 h 1440000"/>
            </a:gdLst>
            <a:ahLst/>
            <a:rect l="textAreaLeft" t="textAreaTop" r="textAreaRight" b="textAreaBottom"/>
            <a:pathLst>
              <a:path w="49689" h="21600">
                <a:moveTo>
                  <a:pt x="0" y="0"/>
                </a:moveTo>
                <a:lnTo>
                  <a:pt x="49689" y="0"/>
                </a:lnTo>
                <a:lnTo>
                  <a:pt x="49689" y="21600"/>
                </a:lnTo>
                <a:lnTo>
                  <a:pt x="0" y="21600"/>
                </a:lnTo>
                <a:close/>
              </a:path>
              <a:path fill="lightenLess" w="49689" h="21600">
                <a:moveTo>
                  <a:pt x="0" y="0"/>
                </a:moveTo>
                <a:lnTo>
                  <a:pt x="49689" y="0"/>
                </a:lnTo>
                <a:lnTo>
                  <a:pt x="48289" y="1400"/>
                </a:lnTo>
                <a:lnTo>
                  <a:pt x="1400" y="1400"/>
                </a:lnTo>
                <a:close/>
              </a:path>
              <a:path fill="darken" w="49689" h="21600">
                <a:moveTo>
                  <a:pt x="49689" y="0"/>
                </a:moveTo>
                <a:lnTo>
                  <a:pt x="49689" y="21600"/>
                </a:lnTo>
                <a:lnTo>
                  <a:pt x="48289" y="20200"/>
                </a:lnTo>
                <a:lnTo>
                  <a:pt x="48289" y="1400"/>
                </a:lnTo>
                <a:close/>
              </a:path>
              <a:path fill="darkenLess" w="49689" h="21600">
                <a:moveTo>
                  <a:pt x="496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89" y="20200"/>
                </a:lnTo>
                <a:close/>
              </a:path>
              <a:path fill="lighten" w="496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2600">
            <a:solidFill>
              <a:srgbClr val="993300"/>
            </a:solidFill>
            <a:miter/>
          </a:ln>
          <a:effectLst>
            <a:outerShdw dist="107932" dir="18900000" blurRad="0" rotWithShape="0">
              <a:srgbClr val="cc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С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АЗД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7c1302"/>
                </a:solidFill>
                <a:latin typeface="Arial"/>
              </a:rPr>
              <a:t>Иван</a:t>
            </a:r>
            <a:r>
              <a:rPr b="1" lang="en-US" sz="3500" spc="-1" strike="noStrike">
                <a:solidFill>
                  <a:srgbClr val="7c1302"/>
                </a:solidFill>
                <a:latin typeface="Arial"/>
              </a:rPr>
              <a:t> IV Васильевич </a:t>
            </a:r>
            <a:r>
              <a:rPr b="0" lang="en-US" sz="3500" spc="-1" strike="noStrike">
                <a:solidFill>
                  <a:srgbClr val="7c1302"/>
                </a:solidFill>
                <a:latin typeface="Arial"/>
              </a:rPr>
              <a:t>Грозный</a:t>
            </a:r>
            <a:r>
              <a:rPr b="1" lang="en-US" sz="3500" spc="-1" strike="noStrike">
                <a:solidFill>
                  <a:srgbClr val="7c1302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7c1302"/>
                </a:solidFill>
                <a:latin typeface="Arial"/>
              </a:rPr>
              <a:t>(25.08.1530-18.03.1584)</a:t>
            </a:r>
            <a:r>
              <a:rPr b="1" lang="en-US" sz="3500" spc="-1" strike="noStrike">
                <a:solidFill>
                  <a:srgbClr val="7c1302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700360" y="1557360"/>
            <a:ext cx="3521160" cy="482436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-1764720" y="551664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8080"/>
                </a:solidFill>
                <a:uFillTx/>
                <a:latin typeface="Arial"/>
                <a:hlinkClick r:id="rId2"/>
              </a:rPr>
              <a:t>http: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Arial"/>
              </a:rPr>
              <a:t>Царь </a:t>
            </a:r>
            <a:br>
              <a:rPr sz="3500"/>
            </a:br>
            <a:r>
              <a:rPr b="0" lang="en-US" sz="3500" spc="-1" strike="noStrike">
                <a:solidFill>
                  <a:srgbClr val="7c1302"/>
                </a:solidFill>
                <a:latin typeface="Arial"/>
              </a:rPr>
              <a:t>Борис</a:t>
            </a:r>
            <a:r>
              <a:rPr b="1" lang="en-US" sz="3500" spc="-1" strike="noStrike">
                <a:solidFill>
                  <a:srgbClr val="7c1302"/>
                </a:solidFill>
                <a:latin typeface="Arial"/>
              </a:rPr>
              <a:t> Фёдорович </a:t>
            </a:r>
            <a:r>
              <a:rPr b="0" lang="en-US" sz="3500" spc="-1" strike="noStrike">
                <a:solidFill>
                  <a:srgbClr val="7c1302"/>
                </a:solidFill>
                <a:latin typeface="Arial"/>
              </a:rPr>
              <a:t>Годунов</a:t>
            </a:r>
            <a:r>
              <a:rPr b="1" lang="en-US" sz="3500" spc="-1" strike="noStrike">
                <a:solidFill>
                  <a:srgbClr val="7c1302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771640" y="1557360"/>
            <a:ext cx="3421080" cy="481320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74" name=""/>
          <p:cNvSpPr/>
          <p:nvPr/>
        </p:nvSpPr>
        <p:spPr>
          <a:xfrm>
            <a:off x="2050920" y="587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6697440" cy="531792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77" name=""/>
          <p:cNvSpPr/>
          <p:nvPr/>
        </p:nvSpPr>
        <p:spPr>
          <a:xfrm>
            <a:off x="176364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Лжедмитрий I 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050920" y="1557360"/>
            <a:ext cx="4687920" cy="46879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55640" y="587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4T12:01:32Z</dcterms:created>
  <dc:creator>Елена</dc:creator>
  <dc:description/>
  <dc:language>en-US</dc:language>
  <cp:lastModifiedBy>User</cp:lastModifiedBy>
  <dcterms:modified xsi:type="dcterms:W3CDTF">2015-02-03T14:16:18Z</dcterms:modified>
  <cp:revision>133</cp:revision>
  <dc:subject/>
  <dc:title>День народного единства</dc:title>
</cp:coreProperties>
</file>