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B0C-132D-4914-ADA0-E6734BEF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8C7-8238-4468-BF38-E15A9D4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B6A-1132-4631-9AFC-A913A7F0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B8B-0638-4ABB-B93B-0825D8B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8A6-AA7D-4B09-8216-C5656BFD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0708-4301-4935-9BFA-05F068F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E00-ECC9-498F-9208-1283173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FFF5-0CC7-4244-8875-4844A1F0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7C8D-A8F5-4AA4-958F-E4C1E0AA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DC7B-E3B7-4849-AE9B-C3A02F67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5F14-0A63-4B94-924B-EB012D0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CCB-C899-49CA-B8BC-5FA0C0B4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D99B-825C-4B36-B8FB-CBCDFA2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4E8-2B83-4B89-AE4E-76EE2CE4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65DD-E586-4BB1-B034-657B32ED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3F01-2D92-4F29-9EB0-BE1F0700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AB4D-DCC9-4672-854C-5A646161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0CF6-C68B-4682-8BBA-038B30F4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5503-B3CA-43BF-9C4C-590A72C9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89945-2E89-4D03-A849-359D02BA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117A-5629-4C19-8D9E-07822D1C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B46F-3B8E-4595-86B3-8E36719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E2D-BD32-440A-B98A-3E8C3A4D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9ACD-A309-43EA-B794-44A653D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9C4F-99A3-4531-8706-2850831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B75D-5D9E-4F13-BAA3-B4FD351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F987-F66D-4939-B07D-5D416CC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BF8F-28CE-4329-96CE-B3A56CD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7E0E-7843-4932-93D1-6E44E0FB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D663-B0B3-4308-94CC-AF8BF16E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9F1F-544F-412E-84A2-575175A7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0694-4768-4BD6-9B03-F3A9CBA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93BE-AF4E-4D93-A5CD-45A05A5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A45-A89D-423B-B439-BF02A447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87D37-C2A4-4352-BC9D-E627B7A6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A9D6-C07D-41E1-AE81-86D47CD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BEE5-6F61-468A-B982-6223EC4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7B15-8CBF-4662-A659-7C8CB23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F295-8CF9-4F86-A14C-2487CA8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D2B6-0BBE-4A77-9170-52494CFB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9105-3A6E-4004-9142-6166EAA2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D562-58B2-4CBF-B081-494A08D7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F7FB-4050-4E9E-836C-D3F785E1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348F-F2A9-4623-9163-BE23C4DE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160-DF3C-4A97-9B31-D66C332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EE04-CF20-4B7D-8BE6-E156DB3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46FB-8AE7-4954-85AB-5C9C2168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40022-7D0E-4949-8CCC-47DBA820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C731C-119E-4DEB-9475-AACB8CBC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8F9B-2C78-49A0-99A9-2077F796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F95A-CA4A-4509-96AB-E56F0AD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0E51-2184-4DBE-92EB-DF33EF0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77E7-D4CB-451A-8C07-D032289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2721-407E-435A-A4A0-5B93233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10B91-ECEE-4BD1-A2B2-E6560BB7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E5F-07E0-4239-8889-392C483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DE24-3FBD-4F6C-A792-3675169C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2CC18-275F-4CD8-BA48-8F344135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5BB2-FD69-4349-8CC8-C48B760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167C-B080-43E1-91F9-A98C1A1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65D6-6E07-4ECA-AF6D-F31BA7B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B3807-80F5-49D8-A8F3-0BB37C5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432B-3157-4112-9BBD-ECFCA9A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C2A1-4D18-4D46-BADE-28522CF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2836-D49C-46F7-ADE3-BACAACC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BDB4E-8DA0-4598-9F9F-42926DB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8CA-FAF4-4CDD-B97C-A5892F8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2625-665F-4792-9C84-091E940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F336-5CF7-4BA5-8AF0-5FDB7331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E9E0-411F-4407-89E8-11610C66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B4A6-0576-49DC-85C1-8C69B5D0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1D31A-F5C0-4E03-A722-8EFB52B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9338-1719-4CE3-82C3-798ED40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5FBC-F1CF-409E-8E49-91E605D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4AC9-2920-4A0B-8B15-32806E6A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941D-A2DB-456E-B048-B41620AB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135D-652A-4772-8768-78A6B25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7E6-DF48-4F57-9409-046B50F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07FA-221C-4CC4-BC00-6647B0D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39B0-8413-4C4B-AEE4-B0655FA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403B-4A6D-498A-A28E-9820AC60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7349-7FF2-475C-B865-8BC45CCD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85C59-BC99-4FC7-89A1-474C3342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E37-F446-4276-9216-AF72B0C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7C2-52A6-47A1-995D-9FA377D8656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9716-0C96-46D9-ABCD-8CB9ED45F0E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E3D-D5AE-4763-965F-EC0045DDC63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FAA3-4D23-4659-8DE2-DED106D22F3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D1A2-FDC1-45FC-907D-83568D900C9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216-A55E-4EA7-B90D-EF44ADE1FBE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B927-90E2-4C64-B46A-37D76894F4C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369" name="Picture 6" descr="G:\Деньги рисунки\10009530.jpg"/>
          <p:cNvPicPr/>
          <p:nvPr/>
        </p:nvPicPr>
        <p:blipFill>
          <a:blip r:embed="rId2"/>
          <a:stretch/>
        </p:blipFill>
        <p:spPr>
          <a:xfrm>
            <a:off x="0" y="0"/>
            <a:ext cx="3146400" cy="25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G:\Деньги рисунки\336745983.jpg"/>
          <p:cNvPicPr/>
          <p:nvPr/>
        </p:nvPicPr>
        <p:blipFill>
          <a:blip r:embed="rId3"/>
          <a:stretch/>
        </p:blipFill>
        <p:spPr>
          <a:xfrm>
            <a:off x="6929280" y="0"/>
            <a:ext cx="2214720" cy="3027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G:\Деньги рисунки\Alex-2.jpg"/>
          <p:cNvPicPr/>
          <p:nvPr/>
        </p:nvPicPr>
        <p:blipFill>
          <a:blip r:embed="rId4"/>
          <a:stretch/>
        </p:blipFill>
        <p:spPr>
          <a:xfrm>
            <a:off x="3429000" y="0"/>
            <a:ext cx="2979720" cy="300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G:\Деньги рисунки\any2fbimgloader26.jpg"/>
          <p:cNvPicPr/>
          <p:nvPr/>
        </p:nvPicPr>
        <p:blipFill>
          <a:blip r:embed="rId5"/>
          <a:stretch/>
        </p:blipFill>
        <p:spPr>
          <a:xfrm>
            <a:off x="4714920" y="3143160"/>
            <a:ext cx="3143160" cy="145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G:\Деньги рисунки\s85fr.jpg"/>
          <p:cNvPicPr/>
          <p:nvPr/>
        </p:nvPicPr>
        <p:blipFill>
          <a:blip r:embed="rId6"/>
          <a:stretch/>
        </p:blipFill>
        <p:spPr>
          <a:xfrm>
            <a:off x="0" y="2786040"/>
            <a:ext cx="3357720" cy="407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G:\Деньги рисунки\PeruP100c-10Soles-1972-donatedth_f.jpg"/>
          <p:cNvPicPr/>
          <p:nvPr/>
        </p:nvPicPr>
        <p:blipFill>
          <a:blip r:embed="rId7"/>
          <a:stretch/>
        </p:blipFill>
        <p:spPr>
          <a:xfrm>
            <a:off x="3714840" y="4821120"/>
            <a:ext cx="52149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07920" y="1420920"/>
            <a:ext cx="7785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78588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еньги – это, пожалуй, одно из наиболее великих изобретений человеческой мысли. Между тем, на самом деле большинство из вас знает о денежном мире крайне мало.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и де Мопассан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Corbel"/>
              </a:rPr>
              <a:t>Деньги – особый товар который принимается всеми  в обмен  на любые  другие  товары или услуги.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дене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07920" y="1274760"/>
            <a:ext cx="7785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войства денег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Портатив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Однород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табильн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Узнаваемы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Экономика"/>
          <p:cNvPicPr/>
          <p:nvPr/>
        </p:nvPicPr>
        <p:blipFill>
          <a:blip r:embed="rId1"/>
          <a:stretch/>
        </p:blipFill>
        <p:spPr>
          <a:xfrm>
            <a:off x="4656240" y="1571760"/>
            <a:ext cx="40384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a_AlbionicTitulCmTw"/>
              </a:rPr>
              <a:t>Функции денег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22480" y="2266920"/>
            <a:ext cx="74880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Мера стоимост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а платеж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о обращ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Средство накопле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539640" y="620640"/>
            <a:ext cx="81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узнал сегодня на уроке…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ресным показалось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лезным было …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не трудно было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понял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справился с заданиями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Я выполнил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араграф 10, практику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olas"/>
              </a:rPr>
              <a:t>IV. </a:t>
            </a:r>
            <a:r>
              <a:rPr b="0" lang="ru-RU" sz="4400" spc="-1" strike="noStrike">
                <a:solidFill>
                  <a:srgbClr val="ffffff"/>
                </a:solidFill>
                <a:latin typeface="Consolas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51:40Z</dcterms:created>
  <dc:creator>Рифинат</dc:creator>
  <dc:description/>
  <dc:language>en-US</dc:language>
  <cp:lastModifiedBy>Владелец</cp:lastModifiedBy>
  <dcterms:modified xsi:type="dcterms:W3CDTF">2014-10-27T17:50:33Z</dcterms:modified>
  <cp:revision>11</cp:revision>
  <dc:subject/>
  <dc:title>Деньги</dc:title>
</cp:coreProperties>
</file>