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2FB5-C824-4E7B-8134-51F8525E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1CA-81D2-40DF-8A87-EC1CC333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E544-AE1B-4FD2-8EE4-A939C2CC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E8F9-53E2-47C9-A015-481A8617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0135-A146-4054-8245-2F38461E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8A6A-E726-4CC9-BD65-64F13237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8E14-4698-476A-9D4C-46629D57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A17F-4767-4827-8D8D-F7E5CC49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4B88-3EF2-44AF-B704-2B58AF4E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C10F-D18D-431F-A2AC-622DCBA2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4CD7-685E-4269-9DA7-5F8E2EDC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60D-1988-4FB2-9C30-6B60A9B0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C150-52ED-454F-A4CB-028C5FC7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5996-E6B4-4A90-81DB-2B1B997B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FF1B-A21C-418F-A03E-BFAC5327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B470-A53E-485D-B2B5-185D11E2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5AE9-6519-4D35-900B-199C051D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84563-4F58-4659-AF26-581A855B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6A458-D603-4B3E-BD6B-E9DC182D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56065-C7B2-4342-A766-7897BDEE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528EE-8DD1-4FB3-A8F2-65F07790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EE7D2-2E4E-4778-A55C-8030D51D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C79-9B3A-4360-9D5C-718DD89B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308F6-D599-4589-BD02-51CD82FF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515EF-E451-4577-97F8-FAB63469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6CF57-A817-4F7A-A0F1-301B6331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F318A-1922-4050-9FDB-FF13D03E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264B6-78A5-447E-AB67-A5E87D4C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7442E-113E-43A4-9716-C9B448B2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EB69A-F62C-4DCE-BB52-EE437BBB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59C3B-7C9C-48C4-A2B8-71C26C4A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28A9D-5993-4CEC-B74C-6BECF40C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2C6EB-A32D-4393-B58C-9D566D9E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497C-8308-49B5-A7BD-324B6847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A29C1-B54D-4FEA-8B1B-34A307B1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12177-9B38-497E-980A-32E16BD2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CBFA5-0E06-4EF0-9BD6-63196EDD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C94DF-2751-43E0-97D4-B8B86D9C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35971-9E52-46F2-A33F-8B76617E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80410-7D58-4887-A254-9EE1E3FF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B1427-94A2-4471-BBC0-5ECFB99C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636C9-FB4C-40D3-84DA-32DFEA15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EF2AE-CE01-48F9-BFAE-7E377AF0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83C5A-1157-4E33-BF86-600EC42B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C83E-0AE3-4456-A3BB-2E90468D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04A04-CC32-44B5-BECD-61686A3B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983E5-8172-4068-BC14-EF6CC40E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88D22-2C0A-4AA2-A23E-C5E86E7F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61DC9-96F4-4E87-A9F3-2C2D502B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EE912-6C6B-4AB4-8A7A-BF547404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95FFB-EB6E-4CF5-BAEA-7F4856F1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8134F-4930-4D64-BCBA-26676DCE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8A76D-3C5E-4906-BC85-A505476A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299A6-9523-46DC-A15F-9B77D277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7D35E-E973-4638-8B9F-6DD12F73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BBD4-AB16-4995-ABE1-51B37614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4D533-0E32-496E-A1FC-31428D68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AC45A-595F-4B42-A2C3-A6C0CB1A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5E107-4213-419E-8C3D-00230A7E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7A441-47FA-4FB2-B6F3-D72567E0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A72D3-D503-46BA-BC1C-B8B88D2D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B19B4-8D93-48D5-B880-F7A7A852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2D64E-198A-436E-AC52-7580449C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BD89F-B260-4FAE-918C-908C9DFC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8CF72-1EA8-46D5-84EB-B7AA6C19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E8732-9D23-44AD-AB54-94AD550F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E353-84BB-46CB-AEA7-DF738B9C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3146E-781D-4E8E-A05F-D31991FF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3C07F-D2EE-4E76-ACCE-9A2BB47A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7EE48-1260-4522-A813-4DB7720B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B015B-78DA-4597-AB4C-F232CDDB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49FE5-5340-4B11-B49B-1DC88E59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28A64-E268-485D-864C-931898F9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4B0DB-FF91-4DBA-97A5-E2F794D2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1C607-62C8-45EE-8D1A-B81D5918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DACBE-3C14-4D73-8E01-F57D77C3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A8C8C-97F9-4DA3-9067-7E971739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2CC-3F83-4DE1-ABF6-81AED6F1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A3698-93AC-4B6C-A3B5-26C5793F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5F099-D8B5-4352-8C5C-8DCEE8A2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E302E-794D-4293-9EB9-AD1EFE49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F659D-E711-4131-AFC7-1093162E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4314D-5938-460A-BBC2-96AB4F56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214E-2403-4619-8CEA-3E1FC0EC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642E-0BED-41CC-92C6-B1BCE9098B6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D5C5-3699-48DE-AC6B-D967B1F1686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520A-C19D-4285-B043-2B2B7C28D01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7624-96E3-4680-ACCE-9C5B78652C6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4AA6-2C3C-4DAF-8400-B9822AA25F2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E58A-0EA3-4345-B789-EB63DDA30BB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3B61-C913-4AD6-B628-30F3E4142CD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369" name="Picture 6" descr="G:\Деньги рисунки\10009530.jpg"/>
          <p:cNvPicPr/>
          <p:nvPr/>
        </p:nvPicPr>
        <p:blipFill>
          <a:blip r:embed="rId2"/>
          <a:stretch/>
        </p:blipFill>
        <p:spPr>
          <a:xfrm>
            <a:off x="0" y="0"/>
            <a:ext cx="3146400" cy="25002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G:\Деньги рисунки\336745983.jpg"/>
          <p:cNvPicPr/>
          <p:nvPr/>
        </p:nvPicPr>
        <p:blipFill>
          <a:blip r:embed="rId3"/>
          <a:stretch/>
        </p:blipFill>
        <p:spPr>
          <a:xfrm>
            <a:off x="6929280" y="0"/>
            <a:ext cx="2214720" cy="3027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G:\Деньги рисунки\Alex-2.jpg"/>
          <p:cNvPicPr/>
          <p:nvPr/>
        </p:nvPicPr>
        <p:blipFill>
          <a:blip r:embed="rId4"/>
          <a:stretch/>
        </p:blipFill>
        <p:spPr>
          <a:xfrm>
            <a:off x="3429000" y="0"/>
            <a:ext cx="2979720" cy="3000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9" descr="G:\Деньги рисунки\any2fbimgloader26.jpg"/>
          <p:cNvPicPr/>
          <p:nvPr/>
        </p:nvPicPr>
        <p:blipFill>
          <a:blip r:embed="rId5"/>
          <a:stretch/>
        </p:blipFill>
        <p:spPr>
          <a:xfrm>
            <a:off x="4714920" y="3143160"/>
            <a:ext cx="3143160" cy="1457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G:\Деньги рисунки\s85fr.jpg"/>
          <p:cNvPicPr/>
          <p:nvPr/>
        </p:nvPicPr>
        <p:blipFill>
          <a:blip r:embed="rId6"/>
          <a:stretch/>
        </p:blipFill>
        <p:spPr>
          <a:xfrm>
            <a:off x="0" y="2786040"/>
            <a:ext cx="3357720" cy="40719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1" descr="G:\Деньги рисунки\PeruP100c-10Soles-1972-donatedth_f.jpg"/>
          <p:cNvPicPr/>
          <p:nvPr/>
        </p:nvPicPr>
        <p:blipFill>
          <a:blip r:embed="rId7"/>
          <a:stretch/>
        </p:blipFill>
        <p:spPr>
          <a:xfrm>
            <a:off x="3714840" y="4821120"/>
            <a:ext cx="521496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9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376" name="Заголовок 1" descr=""/>
          <p:cNvPicPr/>
          <p:nvPr/>
        </p:nvPicPr>
        <p:blipFill>
          <a:blip r:embed="rId2"/>
          <a:stretch/>
        </p:blipFill>
        <p:spPr>
          <a:xfrm>
            <a:off x="907920" y="1420920"/>
            <a:ext cx="77853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785880"/>
            <a:ext cx="7772400" cy="55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Деньги – это, пожалуй, одно из наиболее великих изобретений человеческой мысли. Между тем, на самом деле большинство из вас знает о денежном мире крайне мало.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Ги де Мопассан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4800" spc="-1" strike="noStrike">
                <a:solidFill>
                  <a:srgbClr val="ffffff"/>
                </a:solidFill>
                <a:latin typeface="Corbel"/>
              </a:rPr>
              <a:t>Деньги – особый товар который принимается всеми  в обмен  на любые  другие  товары или услуги.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иды денег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2" name="Содержимое 3" descr=""/>
          <p:cNvPicPr/>
          <p:nvPr/>
        </p:nvPicPr>
        <p:blipFill>
          <a:blip r:embed="rId1"/>
          <a:stretch/>
        </p:blipFill>
        <p:spPr>
          <a:xfrm>
            <a:off x="907920" y="1274760"/>
            <a:ext cx="77853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1eeff"/>
                </a:solidFill>
                <a:latin typeface="Consolas"/>
              </a:rPr>
              <a:t>Свойства денег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orbel"/>
              </a:rPr>
              <a:t>Портативны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orbel"/>
              </a:rPr>
              <a:t>Однородны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orbel"/>
              </a:rPr>
              <a:t>Стабильны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orbel"/>
              </a:rPr>
              <a:t>Узнаваемы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5" name="Picture 4" descr="Экономика"/>
          <p:cNvPicPr/>
          <p:nvPr/>
        </p:nvPicPr>
        <p:blipFill>
          <a:blip r:embed="rId1"/>
          <a:stretch/>
        </p:blipFill>
        <p:spPr>
          <a:xfrm>
            <a:off x="4656240" y="1571760"/>
            <a:ext cx="4038480" cy="47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1eeff"/>
                </a:solidFill>
                <a:latin typeface="a_AlbionicTitulCmTw"/>
              </a:rPr>
              <a:t>Функции денег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122480" y="2266920"/>
            <a:ext cx="7488000" cy="38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orbel"/>
              </a:rPr>
              <a:t>Мера стоимости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orbel"/>
              </a:rPr>
              <a:t>Средства платежа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orbel"/>
              </a:rPr>
              <a:t>Средство обращения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orbel"/>
              </a:rPr>
              <a:t>Средство накопления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Прямоугольник 3"/>
          <p:cNvSpPr/>
          <p:nvPr/>
        </p:nvSpPr>
        <p:spPr>
          <a:xfrm>
            <a:off x="539640" y="620640"/>
            <a:ext cx="81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Я узнал сегодня на уроке…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нтересным показалось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лезным было ….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не трудно было…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Я понял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Я справился с заданиями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Я выполнил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араграф 10, практикум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olas"/>
              </a:rPr>
              <a:t>IV. </a:t>
            </a:r>
            <a:r>
              <a:rPr b="0" lang="ru-RU" sz="4400" spc="-1" strike="noStrike">
                <a:solidFill>
                  <a:srgbClr val="ffffff"/>
                </a:solidFill>
                <a:latin typeface="Consolas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7:51:40Z</dcterms:created>
  <dc:creator>Рифинат</dc:creator>
  <dc:description/>
  <dc:language>en-US</dc:language>
  <cp:lastModifiedBy>Владелец</cp:lastModifiedBy>
  <dcterms:modified xsi:type="dcterms:W3CDTF">2014-10-27T17:50:33Z</dcterms:modified>
  <cp:revision>11</cp:revision>
  <dc:subject/>
  <dc:title>Деньги</dc:title>
</cp:coreProperties>
</file>