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19A1-32B3-4610-B7A2-BC394410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2295-993F-4A40-93B8-00E0D7BA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B3F5-C5BD-4609-B016-A5D74006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F679-E7DD-4B56-ACB2-1AD9D714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B28-8C27-4221-AE84-610B1063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F76B-738C-4A96-A2CE-34CA1E4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0AA-89FC-4DD2-BA86-2B946C3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89C-ABAB-4F97-B2A0-0118D767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0FB4-F134-4661-A334-3165D6C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E221-643B-4A8C-9294-3CDF1F92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DD67-0AA0-4088-A3DE-985E8796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F60E-37CC-4EA8-ABF0-57DFF337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478-ADC9-48D1-87AD-CB026E3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989-CFB8-45AB-93AB-803136E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333-D7E6-4F50-A48E-74BB856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72AA-5E1A-4DE8-B347-31A561BD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31E-F4C7-42FD-887F-28C9ACB6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9EA8-105F-4E0D-9B0D-E7FEDA34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A1CA-ECBF-49C1-909F-530EA75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83AF-7768-4F1F-A52F-DC734EC5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A0DF-AE61-4941-B2BD-64417C1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A4EB-2804-442F-A769-BCE8A77A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38B8-B975-4666-90DB-FAF5EA3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BC3C-94FA-4242-9D48-744A1758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ABFB-FB3F-4AE0-B91C-277E4CE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D6B3-EC68-4CB5-8C06-2240784A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36A2-5067-4594-B497-91BD821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A96E-AAA1-44D9-B1C7-BF84CE65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9A88-2B47-45FC-AD25-C17263B7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A80B-EB3C-4C99-B64E-0D0E71FB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CA01-5B13-4228-8925-282992E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7B3D-107A-4CA3-A72A-A374737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FE2-FD63-407F-B2B6-EB1661C6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CE05-B5BA-4862-A558-2E12379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CC76-298D-4E90-8FB1-4E81991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63B4-3DC5-4579-B315-CE7510C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219C-93B9-496E-A640-0DAF19E2A2F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F97E-CD24-4D06-9032-4C145597A7A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C88-E9C6-4C84-8C5F-62C046A4C5D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280" y="1268280"/>
            <a:ext cx="388908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716360" y="3598560"/>
            <a:ext cx="367200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тудент группы ПБ-1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Логинов Роман Александрович      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1" name="Picture 4" descr="11-8-2"/>
          <p:cNvPicPr/>
          <p:nvPr/>
        </p:nvPicPr>
        <p:blipFill>
          <a:blip r:embed="rId1"/>
          <a:stretch/>
        </p:blipFill>
        <p:spPr>
          <a:xfrm>
            <a:off x="179280" y="2997360"/>
            <a:ext cx="4437000" cy="266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2" name="Прямоугольник 5"/>
          <p:cNvSpPr/>
          <p:nvPr/>
        </p:nvSpPr>
        <p:spPr>
          <a:xfrm>
            <a:off x="900000" y="11592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ФГБОУ СПО МО «Волоколамский колледж права, экономики и безопасности»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28440" y="634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242064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8532720" y="5589720"/>
            <a:ext cx="57636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2A8-F1A0-4644-8512-6F051F5F8BE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792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з-за неосознанного желания узнать наше происхождение всех нас живо интересуют люди, которые могут служить мостом, переброшенным через непреодолимую пропасть между животными и людьми…»            </a:t>
            </a:r>
            <a:br>
              <a:rPr sz="2000"/>
            </a:br>
            <a:r>
              <a:rPr b="1" i="1" lang="ru-RU" sz="2000" spc="-1" strike="noStrike">
                <a:solidFill>
                  <a:srgbClr val="675e47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4920" y="4365360"/>
            <a:ext cx="439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сследователями собран огромный материал о нескольких десятках «диких детей», выросших среди животных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реди них встречаются «дети-леопарды», «дети-обезьянки», «дети-газели», «дети-волки»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55640" y="4437000"/>
            <a:ext cx="403236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ервый «мальчик-волк» был обнаружен в 1344 г. в Гессене (Германия).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До 4-х лет он жил в норе, питался сырой пищей и находился под защитой волков.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Номер слайда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4CD6-1714-4414-AB74-0F48637A837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8" name="Picture 7" descr="412447_20020416124623"/>
          <p:cNvPicPr/>
          <p:nvPr/>
        </p:nvPicPr>
        <p:blipFill>
          <a:blip r:embed="rId1"/>
          <a:stretch/>
        </p:blipFill>
        <p:spPr>
          <a:xfrm>
            <a:off x="658800" y="2133720"/>
            <a:ext cx="297504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5005440" y="1987560"/>
            <a:ext cx="20844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859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изучения «детей Маугли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484280"/>
            <a:ext cx="446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«Дикие дети» породили  вопросы  о том, что составляет человеческую природу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Наделён ли человек признаками человека от рождения, или приобретает их в результате общения с себе подобными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Какова роль врождённого и приобретённого в развитии человека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4005000"/>
            <a:ext cx="2737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факт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«Дикие дети» доказывают, что человек обладает гораздо большими возможностями к приспособлению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997A-A94A-4763-87A7-771CF6A08EA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4" name="Picture 7" descr="412449_20020416124623"/>
          <p:cNvPicPr/>
          <p:nvPr/>
        </p:nvPicPr>
        <p:blipFill>
          <a:blip r:embed="rId1"/>
          <a:stretch/>
        </p:blipFill>
        <p:spPr>
          <a:xfrm>
            <a:off x="4716360" y="1557360"/>
            <a:ext cx="3384720" cy="19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360" y="115920"/>
            <a:ext cx="525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они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?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108000" y="980640"/>
            <a:ext cx="6192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Люди, лишенные человеческого общества, дети, без вести пропавшие многие годы назад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Животные фактически спасли им жизнь, обучая их своим повадкам и навыкам выживани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7" name="Picture 12" descr="412448_20020416124623"/>
          <p:cNvPicPr/>
          <p:nvPr/>
        </p:nvPicPr>
        <p:blipFill>
          <a:blip r:embed="rId1"/>
          <a:stretch/>
        </p:blipFill>
        <p:spPr>
          <a:xfrm>
            <a:off x="5292720" y="2637000"/>
            <a:ext cx="295128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8" name=""/>
          <p:cNvSpPr txBox="1"/>
          <p:nvPr/>
        </p:nvSpPr>
        <p:spPr>
          <a:xfrm>
            <a:off x="-108360" y="2420640"/>
            <a:ext cx="52196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Камбодже обнаружена девушка, пропавшая 19 лет назад в возрасте 8 лет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одной из африканских стран стая обезьян приютила десятилетнего мальчика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08000" y="4653000"/>
            <a:ext cx="439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факт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дети, воспитанные животными страдают заболеванием 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дром Маугли"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Номер слайда 8"/>
          <p:cNvSpPr/>
          <p:nvPr/>
        </p:nvSpPr>
        <p:spPr>
          <a:xfrm>
            <a:off x="8532720" y="5589720"/>
            <a:ext cx="57636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3FB7-73FC-4357-946A-B58D1AE2664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6920" y="333360"/>
            <a:ext cx="802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гляд на проблему с научной точки зрения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628640"/>
            <a:ext cx="706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 мнению кандидата психологических наук, преподавателя кафедры "Специальной и клинической психологии" Галины Алексеевны Паниной  "синдромом Маугли" называют совокупность синдромов, которые демонстрирует ребенок, выросший вне социальной среды. Природой, генами в человеке заложены некоторые признаки, которые должны быть выражены в развитии, а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 социума личность развиться не может</a:t>
            </a:r>
            <a:r>
              <a:rPr b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C70-883A-447F-BAB8-431E04F3886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59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«синдрома Маугли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-"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нарушение речи или неумение говорить, неспособность к прямохождению, десоциализация, отсутствие навыков пользования столовыми приборами, боязнь людей;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+»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отменное здоровье и более устойчивый иммунитет, чем у людей, живущих в обществе. Возможность  долгое время оставаться обнажёнными в холодную и дождливую погоду, легко доставать руками раскалённые угли из костра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сихологи отмечают то, что человек, который провел среди животных достаточно долгое время, начинает себя идентифицировать с «собратьями»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Например,  восемнадцатилетняя девочка, которую воспитывали собаки, научившись говорить, по-прежнему настаивала, что она - собака.  Впрочем, в данном случае имеют место уже психические отклонения, которые также неизбежны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F834-409A-49DA-ABBD-159D2DF88D2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0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можно ли восстановление человека?</a:t>
            </a:r>
            <a:r>
              <a:rPr b="1" i="1" lang="ru-RU" sz="3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560" y="1268280"/>
            <a:ext cx="777708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Однозначного ответа на этот вопрос нет. Все индивидуально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Шансы стать нормальным человеком у «детей Маугли» зависят  от генетически заложенных качеств, от периода и длительности пребывания вне социума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процессе развития человека есть возрастная граница, порог, в который закладывается та или иная функция. Например, умение говорить, навыки прямохождения. Кроме того, существует и переходный период, в среднем, 12-13 лет. До этого возраста мозг ребенка достаточно пластичен, а к 12-13 годам мозг человека набирает интеллектуальный потенциал. Несмотря на то, что и в течение дальнейшей жизни происходит развитие, основное закладывается именно к подростковому возрасту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Если у человека не сформированы какие-либо из  функций, то позже восполнить их практически невозможно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D16-E06B-4CEB-A262-EB23AB3C255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10920" y="274320"/>
            <a:ext cx="37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5640" y="1773000"/>
            <a:ext cx="352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естры, отобранные у стаи волков, умерли. Младшая - практически сразу, а старшая - спустя несколько лет, так и не научившись говори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сле 12-13 летнего возраста неразвитого человека возможно только «надрессировать» или, в некоторых случаях, минимально адаптировать к социальной среде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Номер слайда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FA6C-95FB-42FA-8EC7-5489B41A210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61800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93560" y="124920"/>
            <a:ext cx="57704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Маугли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и нас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18" descr="is"/>
          <p:cNvPicPr/>
          <p:nvPr/>
        </p:nvPicPr>
        <p:blipFill>
          <a:blip r:embed="rId1"/>
          <a:stretch/>
        </p:blipFill>
        <p:spPr>
          <a:xfrm rot="21234600">
            <a:off x="4930920" y="3879720"/>
            <a:ext cx="187308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08000" y="1557360"/>
            <a:ext cx="4175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подмосковном городе Подольск был обнаружен семилетний ребенок, страдающий «синдромом Маугли», хотя  проживал в квартире со своей матерью. Фактически, воспитывала его собака. Витя Козловцев в совершенстве владел всеми собачьими повадками. Он прекрасно бегал на четвереньках, лаял, лакал из миски и уютно сворачивался калачиком на коврике... После того как мальчика нашли - совершенно случайно - его мать лишили родительских прав. Самого Витю передали в "Дом милосердия" Лилит и Александра Гореловых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Номер слайда 6"/>
          <p:cNvSpPr/>
          <p:nvPr/>
        </p:nvSpPr>
        <p:spPr>
          <a:xfrm>
            <a:off x="8532720" y="5589720"/>
            <a:ext cx="503280" cy="47628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AC02-BC62-4D06-A9D8-17C4D2CFED4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68" name="Picture 19" descr=""/>
          <p:cNvPicPr/>
          <p:nvPr/>
        </p:nvPicPr>
        <p:blipFill>
          <a:blip r:embed="rId2"/>
          <a:stretch/>
        </p:blipFill>
        <p:spPr>
          <a:xfrm rot="306600">
            <a:off x="4716000" y="1341000"/>
            <a:ext cx="2951280" cy="221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3:11:34Z</dcterms:created>
  <dc:creator>Комп</dc:creator>
  <dc:description/>
  <dc:language>en-US</dc:language>
  <cp:lastModifiedBy>Алексей Пастухов</cp:lastModifiedBy>
  <dcterms:modified xsi:type="dcterms:W3CDTF">2015-02-03T14:26:02Z</dcterms:modified>
  <cp:revision>34</cp:revision>
  <dc:subject/>
  <dc:title>“Дети маугли”</dc:title>
</cp:coreProperties>
</file>