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18C7-70FB-4978-8879-F24DD5E4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2E8C-E108-4E19-A270-C3060975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8392-4D08-4DCB-8F0D-18587106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7F6E-93E3-47B8-8E2E-25F742A3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F2E2-2942-4763-8097-7FC117BE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96A0-61C1-4CE2-B091-B221421D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BA4C-EDBB-4FC4-B371-AC19450D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4457-816C-44CA-AAB6-F5FAC644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C127-87BD-435C-BFC9-4E392911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20AB-779D-4EB1-83D4-8D9E8DD4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7279-B14A-487A-8A44-6275A069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DDAD-AE14-4152-8544-71A27713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CFF6-32B3-4531-8B9E-D1E66933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7775-73A8-47A5-82BC-E7692F31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A0B5-099A-42D1-87A1-8F18C161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F8D6-1C56-43AC-B0D5-E0DD9DB3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4FB2-D95F-46EE-84B4-1159E67A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A15D1-DF17-4993-85F3-A908650F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E4499-C64B-4ACA-BE55-B39CE6E0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53EB-F758-47B7-9F9B-6347A667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239A0-8EEA-41F2-822F-6D70773F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816D-E883-437A-B7CA-3564BD79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24BF-91E4-4956-878A-0876A08D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F434-59C7-4947-915A-2D322860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5636-7018-4598-901F-477B349E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940F2-1219-408A-AE0A-DC628FED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D48B8-1AA5-46EA-9FED-84330384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8AE59-7ECC-4039-94B2-26F07D10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D80E2-12BC-4CF2-B7C1-0CE88788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010ED-8A05-41FC-B8A2-83BF7F10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9BB2-5239-48BE-8065-AD6A2070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F2E5-9F47-422A-B79A-D74AD767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5759-1E4F-4854-8809-FD7B9073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2F25-54E0-4CE7-8D26-C3A4A4B4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2C69-9262-4169-B87E-24A82855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7405-BC3E-43F8-A0A3-B5330398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70D1-E79C-4F2E-A084-5F6875F6AF6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77560" y="6269760"/>
            <a:ext cx="2084040" cy="42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7E59-35AF-4B96-9027-6C3625382A2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77560" y="6269760"/>
            <a:ext cx="2084040" cy="42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62F7-E527-4F06-94FC-3A06EE8CCB6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95280" y="1268280"/>
            <a:ext cx="388908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Маугли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”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716360" y="3598560"/>
            <a:ext cx="367200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Автор: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Студент группы ПБ-11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Логинов Роман Александрович      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8d8c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1" name="Picture 4" descr="11-8-2"/>
          <p:cNvPicPr/>
          <p:nvPr/>
        </p:nvPicPr>
        <p:blipFill>
          <a:blip r:embed="rId1"/>
          <a:stretch/>
        </p:blipFill>
        <p:spPr>
          <a:xfrm>
            <a:off x="179280" y="2997360"/>
            <a:ext cx="4437000" cy="266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2" name="Прямоугольник 5"/>
          <p:cNvSpPr/>
          <p:nvPr/>
        </p:nvSpPr>
        <p:spPr>
          <a:xfrm>
            <a:off x="900000" y="11592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ФГБОУ СПО МО «Волоколамский колледж права, экономики и безопасности»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28440" y="63403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2b20"/>
                </a:solidFill>
                <a:latin typeface="Arial"/>
              </a:rPr>
              <a:t>2014 год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000" y="242064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0" name="Номер слайда 4"/>
          <p:cNvSpPr/>
          <p:nvPr/>
        </p:nvSpPr>
        <p:spPr>
          <a:xfrm>
            <a:off x="8532720" y="5589720"/>
            <a:ext cx="576360" cy="47628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E339-D318-4C38-A01A-3358E9FD9F2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7921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з-за неосознанного желания узнать наше происхождение всех нас живо интересуют люди, которые могут служить мостом, переброшенным через непреодолимую пропасть между животными и людьми…»            </a:t>
            </a:r>
            <a:br>
              <a:rPr sz="2000"/>
            </a:br>
            <a:r>
              <a:rPr b="1" i="1" lang="ru-RU" sz="2000" spc="-1" strike="noStrike">
                <a:solidFill>
                  <a:srgbClr val="675e47"/>
                </a:solidFill>
                <a:latin typeface="Tahom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4920" y="4365360"/>
            <a:ext cx="439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сследователями собран огромный материал о нескольких десятках «диких детей», выросших среди животных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реди них встречаются «дети-леопарды», «дети-обезьянки», «дети-газели», «дети-волки»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355640" y="4437000"/>
            <a:ext cx="403236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ервый «мальчик-волк» был обнаружен в 1344 г. в Гессене (Германия). 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До 4-х лет он жил в норе, питался сырой пищей и находился под защитой волков. 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Номер слайда 6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93C4-8B51-4F8B-8CBE-B9EA2D02149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8" name="Picture 7" descr="412447_20020416124623"/>
          <p:cNvPicPr/>
          <p:nvPr/>
        </p:nvPicPr>
        <p:blipFill>
          <a:blip r:embed="rId1"/>
          <a:stretch/>
        </p:blipFill>
        <p:spPr>
          <a:xfrm>
            <a:off x="658800" y="2133720"/>
            <a:ext cx="2975040" cy="1871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5005440" y="1987560"/>
            <a:ext cx="208440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859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чение изучения «детей Маугли»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8000" y="1484280"/>
            <a:ext cx="446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«Дикие дети» породили  вопросы  о том, что составляет человеческую природу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Наделён ли человек признаками человека от рождения, или приобретает их в результате общения с себе подобными?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Какова роль врождённого и приобретённого в развитии человека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2920" y="4005000"/>
            <a:ext cx="2737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факт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«Дикие дети» доказывают, что человек обладает гораздо большими возможностями к приспособлению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Номер слайда 6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FAFC-B4B2-4615-99EE-74F7A04AB5B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44" name="Picture 7" descr="412449_20020416124623"/>
          <p:cNvPicPr/>
          <p:nvPr/>
        </p:nvPicPr>
        <p:blipFill>
          <a:blip r:embed="rId1"/>
          <a:stretch/>
        </p:blipFill>
        <p:spPr>
          <a:xfrm>
            <a:off x="4716360" y="1557360"/>
            <a:ext cx="3384720" cy="192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92360" y="115920"/>
            <a:ext cx="525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они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Маугли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”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?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108000" y="980640"/>
            <a:ext cx="6192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Люди, лишенные человеческого общества, дети, без вести пропавшие многие годы назад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Животные фактически спасли им жизнь, обучая их своим повадкам и навыкам выживани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7" name="Picture 12" descr="412448_20020416124623"/>
          <p:cNvPicPr/>
          <p:nvPr/>
        </p:nvPicPr>
        <p:blipFill>
          <a:blip r:embed="rId1"/>
          <a:stretch/>
        </p:blipFill>
        <p:spPr>
          <a:xfrm>
            <a:off x="5292720" y="2637000"/>
            <a:ext cx="2951280" cy="2952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8" name=""/>
          <p:cNvSpPr txBox="1"/>
          <p:nvPr/>
        </p:nvSpPr>
        <p:spPr>
          <a:xfrm>
            <a:off x="-108360" y="2420640"/>
            <a:ext cx="52196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Камбодже обнаружена девушка, пропавшая 19 лет назад в возрасте 8 лет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одной из африканских стран стая обезьян приютила десятилетнего мальчика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108000" y="4653000"/>
            <a:ext cx="4392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факт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дети, воспитанные животными страдают заболеванием –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дром Маугли"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0" name="Номер слайда 8"/>
          <p:cNvSpPr/>
          <p:nvPr/>
        </p:nvSpPr>
        <p:spPr>
          <a:xfrm>
            <a:off x="8532720" y="5589720"/>
            <a:ext cx="576360" cy="47628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E3F1-DF79-4819-9C3C-ED6C22E33A9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6920" y="333360"/>
            <a:ext cx="802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гляд на проблему с научной точки зрения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9640" y="1628640"/>
            <a:ext cx="7067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 мнению кандидата психологических наук, преподавателя кафедры "Специальной и клинической психологии" Галины Алексеевны Паниной  "синдромом Маугли" называют совокупность синдромов, которые демонстрирует ребенок, выросший вне социальной среды. Природой, генами в человеке заложены некоторые признаки, которые должны быть выражены в развитии, а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 социума личность развиться не может</a:t>
            </a:r>
            <a:r>
              <a:rPr b="1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Номер слайда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7432-0DEA-4DE7-8CAF-F6F8C725AD9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74680"/>
            <a:ext cx="5977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знаки «синдрома Маугли»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341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-" </a:t>
            </a: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нарушение речи или неумение говорить, неспособность к прямохождению, десоциализация, отсутствие навыков пользования столовыми приборами, боязнь людей;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+»</a:t>
            </a: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отменное здоровье и более устойчивый иммунитет, чем у людей, живущих в обществе. Возможность  долгое время оставаться обнажёнными в холодную и дождливую погоду, легко доставать руками раскалённые угли из костра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сихологи отмечают то, что человек, который провел среди животных достаточно долгое время, начинает себя идентифицировать с «собратьями»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Например,  восемнадцатилетняя девочка, которую воспитывали собаки, научившись говорить, по-прежнему настаивала, что она - собака.  Впрочем, в данном случае имеют место уже психические отклонения, которые также неизбежны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Номер слайда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F288-2303-4F13-8A70-1A2593DF203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06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можно ли восстановление человека?</a:t>
            </a:r>
            <a:r>
              <a:rPr b="1" i="1" lang="ru-RU" sz="3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560" y="1268280"/>
            <a:ext cx="7777080" cy="540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Однозначного ответа на этот вопрос нет. Все индивидуально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Шансы стать нормальным человеком у «детей Маугли» зависят  от генетически заложенных качеств, от периода и длительности пребывания вне социума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процессе развития человека есть возрастная граница, порог, в который закладывается та или иная функция. Например, умение говорить, навыки прямохождения. Кроме того, существует и переходный период, в среднем, 12-13 лет. До этого возраста мозг ребенка достаточно пластичен, а к 12-13 годам мозг человека набирает интеллектуальный потенциал. Несмотря на то, что и в течение дальнейшей жизни происходит развитие, основное закладывается именно к подростковому возрасту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Если у человека не сформированы какие-либо из  функций, то позже восполнить их практически невозможно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3BC8-0DC2-4AB0-8920-449ACC63C19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10920" y="274320"/>
            <a:ext cx="37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55640" y="1773000"/>
            <a:ext cx="352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естры, отобранные у стаи волков, умерли. Младшая - практически сразу, а старшая - спустя несколько лет, так и не научившись говори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сле 12-13 летнего возраста неразвитого человека возможно только «надрессировать» или, в некоторых случаях, минимально адаптировать к социальной среде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Номер слайда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65A3-27D7-4527-9387-5958BB89B97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618000" cy="48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93560" y="124920"/>
            <a:ext cx="577044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Маугли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”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и нас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5" name="Picture 18" descr="is"/>
          <p:cNvPicPr/>
          <p:nvPr/>
        </p:nvPicPr>
        <p:blipFill>
          <a:blip r:embed="rId1"/>
          <a:stretch/>
        </p:blipFill>
        <p:spPr>
          <a:xfrm rot="21234600">
            <a:off x="4930920" y="3879720"/>
            <a:ext cx="1873080" cy="279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108000" y="1557360"/>
            <a:ext cx="4175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подмосковном городе Подольск был обнаружен семилетний ребенок, страдающий «синдромом Маугли», хотя  проживал в квартире со своей матерью. Фактически, воспитывала его собака. Витя Козловцев в совершенстве владел всеми собачьими повадками. Он прекрасно бегал на четвереньках, лаял, лакал из миски и уютно сворачивался калачиком на коврике... После того как мальчика нашли - совершенно случайно - его мать лишили родительских прав. Самого Витю передали в "Дом милосердия" Лилит и Александра Гореловых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Номер слайда 6"/>
          <p:cNvSpPr/>
          <p:nvPr/>
        </p:nvSpPr>
        <p:spPr>
          <a:xfrm>
            <a:off x="8532720" y="5589720"/>
            <a:ext cx="503280" cy="47628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1873-80E1-42B7-BECB-E9A258353E4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68" name="Picture 19" descr=""/>
          <p:cNvPicPr/>
          <p:nvPr/>
        </p:nvPicPr>
        <p:blipFill>
          <a:blip r:embed="rId2"/>
          <a:stretch/>
        </p:blipFill>
        <p:spPr>
          <a:xfrm rot="306600">
            <a:off x="4716000" y="1341000"/>
            <a:ext cx="2951280" cy="221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3:11:34Z</dcterms:created>
  <dc:creator>Комп</dc:creator>
  <dc:description/>
  <dc:language>en-US</dc:language>
  <cp:lastModifiedBy>Алексей Пастухов</cp:lastModifiedBy>
  <dcterms:modified xsi:type="dcterms:W3CDTF">2015-02-03T14:26:02Z</dcterms:modified>
  <cp:revision>34</cp:revision>
  <dc:subject/>
  <dc:title>“Дети маугли”</dc:title>
</cp:coreProperties>
</file>