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017-112F-400F-A06B-AB2AC91D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288-304A-4CF8-8E24-A3BA4F0E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DFA-474F-435D-BE42-39F5BE85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4A0-6D33-4FFD-84DF-A1FAB8C1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C0B3-0A4E-4C55-A8CE-5F085977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BF5A-1498-44DC-B84B-01A71ADC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6310-45C8-4A1C-B7D7-A2812C0F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2F79-6C14-4A18-8CD2-7D23469F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B105-ADD5-40DD-9653-6326D265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2586-EE60-4380-91A0-57DE2B50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EA77-93C5-44F0-B56B-89BE55C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C5C-F038-426C-AADF-E2A7992E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FA97-2763-49A8-B513-876B72AE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B4CA-5850-4832-9CCC-359DD770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7CB2-44B8-4E7E-89DA-B4ED08E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0F8E-33AF-45BB-9299-419C31AC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1A7E-13AA-4F1E-B32A-9A9B9F7A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BDA6A-11AE-41AF-927E-E260C8AF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C3B5F-CE0D-4545-97A1-FFAD1FE2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FF737-3DF1-43C6-A8CB-BBDFB88B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5F332-C31B-48F5-9623-CF2008B3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136B9-67DB-4135-88A1-CD0F7C22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8FD-27CC-4C59-B5F9-6BC9760B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CA4EB-5660-46D7-B587-058D5723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43C9D-F8F6-4232-AB57-7063B4B0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2BC3F-EA75-4A87-AF1F-821B1413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AFEC2-11B2-4DFE-924D-9ED7D8C3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71F37-F613-47B3-8C0A-C8CC4450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CCFD5-9126-4194-9DBA-BEF44D71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D02F9-F40C-47AA-8E9B-215E2F38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8F7D7-05C4-4E75-8827-9BA9B47E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26AAD-B1C9-4440-820A-B8FCE225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0886-9594-4434-A446-A1AC2CD1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799-9CEB-4580-8BDA-B2B83173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DF8D-BAF3-438A-B612-05EAFE6F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D128F-D6E4-4F61-A7BD-B0AEFE8A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377F-DA3A-4438-8255-E62E7264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3942B-F774-4D54-819C-F7E4CF7A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E0DD8-3071-4A71-9CDB-6511D46D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95BD1-3332-4360-B204-0AE7CB6C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C1D4-5C4F-4C15-A158-C26EAB38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2CDCF-4BDC-42F0-B683-37517672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869A-9BEB-478D-8DB6-B2894A3D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63261-CE30-40E3-81EF-6AAC1DD7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043-5179-4E90-AD1C-276D4F00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E3524-9091-45DF-B45B-BF5E6A99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176EB-E6DB-4E42-A10B-4A55D4E8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715DC-0994-4D92-80AC-6EA1EB39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5D62E-C8A8-419F-B2E4-A0DCD6A3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FBC30-C35F-4845-B3C2-A583673F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CB32B-8186-43D3-AAFC-B97A9F94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72B52-997C-4508-87C7-9D96C523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BAEB3-46D1-44CE-99D3-33ABCFE6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39AAF-FE4A-4B91-92E8-1261D224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01F95-20A6-4E51-8D50-D586778F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C12-050A-4876-864C-6F2294EC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107E2-8181-46DF-99F0-67F03A1D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AD92B-562F-445B-B6BB-136F5D02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9A16E-6C79-4479-ADA0-B776BA59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A6A66-8824-4D00-8A8D-DCBE59A3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3AC81-5A2A-43FB-9C47-F6452129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92F28-FF2E-424E-B403-3AB54708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FEAE8-F152-4C62-AC2C-162AF330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F5135-9560-44B8-A6F9-4966868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B69D5-144A-43B5-B5F5-BE512B23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F558D-D757-4BD3-8668-291AD64B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3B5-C98D-4F7B-A34C-C5A69BB0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19034-5B97-4250-A7C2-482326B8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0E340-6537-4213-AD32-FC480EB1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F9A0E-694B-421B-BEB3-596E6C84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C20-055A-4DBD-9319-154EFEE4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C51-928A-4907-93F6-C9766028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45F7-54BE-4A61-BAC4-7B91A5FD3B9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46AE-0C83-4B1B-AD3D-73892C22FD8E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A56B-5CEB-45A9-911F-9C17DF3B11B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1E5E-0B7E-4058-BA5B-CF99D9B12B0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5C0D-422B-4B07-942F-2AAD11C0315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41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2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2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2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2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42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2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2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grpSp>
            <p:nvGrpSpPr>
              <p:cNvPr id="42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2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  <p:sp>
              <p:nvSpPr>
                <p:cNvPr id="43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Baskerville Old Face"/>
                  </a:endParaRPr>
                </a:p>
              </p:txBody>
            </p:sp>
          </p:grpSp>
          <p:sp>
            <p:nvSpPr>
              <p:cNvPr id="43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43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  <p:sp>
            <p:nvSpPr>
              <p:cNvPr id="43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askerville Old Face"/>
                </a:endParaRPr>
              </a:p>
            </p:txBody>
          </p:sp>
        </p:grpSp>
        <p:sp>
          <p:nvSpPr>
            <p:cNvPr id="435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37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38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39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0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1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2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3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4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5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6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7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8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49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0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1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2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3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4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5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456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45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6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7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1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15BA-05D4-488F-8436-D59FAA7404FA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0560" y="2266920"/>
            <a:ext cx="6553080" cy="208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askerville Old Face"/>
              </a:rPr>
              <a:t>ТЕМА УРОКА: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Baskerville Old Face"/>
              </a:rPr>
              <a:t>Действия с обыкновенными дробями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4427640" y="53211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65840" cy="8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00a4"/>
                </a:solidFill>
                <a:latin typeface="Times New Roman"/>
              </a:rPr>
              <a:t>Проверка зад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684360" y="1052640"/>
          <a:ext cx="6402240" cy="3779640"/>
        </p:xfrm>
        <a:graphic>
          <a:graphicData uri="http://schemas.openxmlformats.org/drawingml/2006/table">
            <a:tbl>
              <a:tblPr/>
              <a:tblGrid>
                <a:gridCol w="2133360"/>
                <a:gridCol w="2135160"/>
                <a:gridCol w="2133720"/>
              </a:tblGrid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3"/>
              <p:cNvSpPr txBox="1"/>
              <p:nvPr/>
            </p:nvSpPr>
            <p:spPr>
              <a:xfrm>
                <a:off x="1547640" y="1197000"/>
                <a:ext cx="393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25"/>
              <p:cNvSpPr txBox="1"/>
              <p:nvPr/>
            </p:nvSpPr>
            <p:spPr>
              <a:xfrm>
                <a:off x="3780000" y="1268280"/>
                <a:ext cx="525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7"/>
              <p:cNvSpPr txBox="1"/>
              <p:nvPr/>
            </p:nvSpPr>
            <p:spPr>
              <a:xfrm>
                <a:off x="3851280" y="249228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29"/>
              <p:cNvSpPr txBox="1"/>
              <p:nvPr/>
            </p:nvSpPr>
            <p:spPr>
              <a:xfrm>
                <a:off x="5940360" y="2421000"/>
                <a:ext cx="590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31"/>
              <p:cNvSpPr txBox="1"/>
              <p:nvPr/>
            </p:nvSpPr>
            <p:spPr>
              <a:xfrm>
                <a:off x="6012000" y="371628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33"/>
              <p:cNvSpPr txBox="1"/>
              <p:nvPr/>
            </p:nvSpPr>
            <p:spPr>
              <a:xfrm>
                <a:off x="1835280" y="3789360"/>
                <a:ext cx="309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Rectangle 34"/>
          <p:cNvSpPr/>
          <p:nvPr/>
        </p:nvSpPr>
        <p:spPr>
          <a:xfrm>
            <a:off x="1908000" y="5254560"/>
            <a:ext cx="597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Нет ошибок , одна ошибка -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« 5 »,</a:t>
            </a: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2 ошибка –   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« 4 »,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3, 4 ошибки –  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« 3 »,</a:t>
            </a: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Более  -        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не оценен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179280" y="404640"/>
            <a:ext cx="7632720" cy="11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ookman Old Style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315756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468360" y="2195640"/>
            <a:ext cx="4730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b00a4"/>
                </a:solidFill>
                <a:latin typeface="Arial"/>
                <a:ea typeface="Times New Roman"/>
              </a:rPr>
              <a:t>Хоккеисты команды «Енисей» выехали на сборы и отдых. Отдохнуть решили   на базе  города Шарыпово. Спортсменов разместили следующим образом: 5/9 в четырехместных домиках, 1/6 в двухместных, а 15 человек в трехместных домиках. Сколько спортсменов прибыло?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72" name="Picture 8" descr="1"/>
          <p:cNvPicPr/>
          <p:nvPr/>
        </p:nvPicPr>
        <p:blipFill>
          <a:blip r:embed="rId1"/>
          <a:stretch/>
        </p:blipFill>
        <p:spPr>
          <a:xfrm>
            <a:off x="5724360" y="1916280"/>
            <a:ext cx="2016360" cy="1546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2"/>
          <p:cNvPicPr/>
          <p:nvPr/>
        </p:nvPicPr>
        <p:blipFill>
          <a:blip r:embed="rId2"/>
          <a:stretch/>
        </p:blipFill>
        <p:spPr>
          <a:xfrm>
            <a:off x="5292720" y="4653000"/>
            <a:ext cx="215892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395280" y="907920"/>
            <a:ext cx="7632720" cy="11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ookman Old Style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971640" y="3068640"/>
            <a:ext cx="7632720" cy="11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ookman Old Style"/>
              </a:rPr>
              <a:t>Итоги урока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32000" y="2781360"/>
            <a:ext cx="6400800" cy="136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ЕМ СПАСИБО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 УРОК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352728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Девиз урока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415880" y="2133720"/>
            <a:ext cx="597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askerville Old Face"/>
              </a:rPr>
              <a:t>Нам дроби всякие нужны,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askerville Old Face"/>
              </a:rPr>
              <a:t>Нам дроби всякие важны.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askerville Old Face"/>
              </a:rPr>
              <a:t>Усердно изучайте их,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askerville Old Face"/>
              </a:rPr>
              <a:t>И к вам придет удача.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4"/>
          <p:cNvSpPr/>
          <p:nvPr/>
        </p:nvSpPr>
        <p:spPr>
          <a:xfrm>
            <a:off x="468360" y="462240"/>
            <a:ext cx="77040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тизировать знания и умения по теме: “Действия с обыкновенными дробями”;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ть вычислительные навыки;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вивать интерес к предмету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репить знания о действиях с обыкновенными дробями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ррекция мыслительных процессов на основе упражнений;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ть внимание, память, речь, интерес к математике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устойчивого интереса к социально – экономическому и географическому положению Красноярского края, его развитию и современному состоянию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230328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00bc"/>
                </a:solidFill>
                <a:latin typeface="Baskerville Old Face"/>
              </a:rPr>
              <a:t>Цели: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395280" y="2637000"/>
            <a:ext cx="230364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00bc"/>
                </a:solidFill>
                <a:latin typeface="Baskerville Old Face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6798960" cy="21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ookman Old Style"/>
              </a:rPr>
              <a:t>УСТНАЯ РАБОТА С СИГНАЛЬНЫМИ КАРТОЧКАМ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Text Box 33"/>
          <p:cNvSpPr/>
          <p:nvPr/>
        </p:nvSpPr>
        <p:spPr>
          <a:xfrm>
            <a:off x="2771640" y="4005360"/>
            <a:ext cx="54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Times New Roman"/>
              </a:rPr>
              <a:t>Красный  сигнал  -   д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00bc"/>
                </a:solidFill>
                <a:latin typeface="Times New Roman"/>
              </a:rPr>
              <a:t>Синий сигнал - нет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0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99640" y="1844640"/>
            <a:ext cx="6799320" cy="21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Звуковой  математический диктант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38920" cy="11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Проверка зад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258920" y="1413000"/>
          <a:ext cx="5329080" cy="5040360"/>
        </p:xfrm>
        <a:graphic>
          <a:graphicData uri="http://schemas.openxmlformats.org/drawingml/2006/table">
            <a:tbl>
              <a:tblPr/>
              <a:tblGrid>
                <a:gridCol w="2701800"/>
                <a:gridCol w="262728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100bc"/>
                          </a:solidFill>
                          <a:latin typeface="Comic Sans MS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100bc"/>
                          </a:solidFill>
                          <a:latin typeface="Comic Sans MS"/>
                        </a:rPr>
                        <a:t>2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14" name="Object 70"/>
              <p:cNvSpPr txBox="1"/>
              <p:nvPr/>
            </p:nvSpPr>
            <p:spPr>
              <a:xfrm>
                <a:off x="2270160" y="2205000"/>
                <a:ext cx="361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5" name="Rectangle 6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6" name="Rectangle 6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67"/>
              <p:cNvSpPr txBox="1"/>
              <p:nvPr/>
            </p:nvSpPr>
            <p:spPr>
              <a:xfrm>
                <a:off x="4788000" y="2349360"/>
                <a:ext cx="64764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Rectangle 78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77"/>
              <p:cNvSpPr txBox="1"/>
              <p:nvPr/>
            </p:nvSpPr>
            <p:spPr>
              <a:xfrm>
                <a:off x="2124000" y="3141720"/>
                <a:ext cx="4618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Rectangle 8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79"/>
              <p:cNvSpPr txBox="1"/>
              <p:nvPr/>
            </p:nvSpPr>
            <p:spPr>
              <a:xfrm>
                <a:off x="4788000" y="3284640"/>
                <a:ext cx="792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Rectangle 8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81"/>
              <p:cNvSpPr txBox="1"/>
              <p:nvPr/>
            </p:nvSpPr>
            <p:spPr>
              <a:xfrm>
                <a:off x="2124000" y="4076640"/>
                <a:ext cx="506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Rectangle 8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83"/>
              <p:cNvSpPr txBox="1"/>
              <p:nvPr/>
            </p:nvSpPr>
            <p:spPr>
              <a:xfrm>
                <a:off x="4932360" y="4005360"/>
                <a:ext cx="403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Rectangle 8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85"/>
              <p:cNvSpPr txBox="1"/>
              <p:nvPr/>
            </p:nvSpPr>
            <p:spPr>
              <a:xfrm>
                <a:off x="2124000" y="4941720"/>
                <a:ext cx="7207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Rectangle 8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87"/>
              <p:cNvSpPr txBox="1"/>
              <p:nvPr/>
            </p:nvSpPr>
            <p:spPr>
              <a:xfrm>
                <a:off x="4859280" y="4797360"/>
                <a:ext cx="482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Rectangle 9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89"/>
              <p:cNvSpPr txBox="1"/>
              <p:nvPr/>
            </p:nvSpPr>
            <p:spPr>
              <a:xfrm>
                <a:off x="2124000" y="5734080"/>
                <a:ext cx="71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Rectangle 9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92"/>
              <p:cNvSpPr txBox="1"/>
              <p:nvPr/>
            </p:nvSpPr>
            <p:spPr>
              <a:xfrm>
                <a:off x="4932360" y="5734080"/>
                <a:ext cx="422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Text Box 94"/>
          <p:cNvSpPr/>
          <p:nvPr/>
        </p:nvSpPr>
        <p:spPr>
          <a:xfrm>
            <a:off x="7020000" y="3284640"/>
            <a:ext cx="165564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Нет ошибок  -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« 5 »,</a:t>
            </a: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1 ошибка –   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« 4 »,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2 ошибки –  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« 3 »,</a:t>
            </a: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00bc"/>
                </a:solidFill>
                <a:latin typeface="Baskerville Old Face"/>
              </a:rPr>
              <a:t>более -          </a:t>
            </a:r>
            <a:r>
              <a:rPr b="1" lang="ru-RU" sz="1800" spc="-1" strike="noStrike">
                <a:solidFill>
                  <a:srgbClr val="3e3d2d"/>
                </a:solidFill>
                <a:latin typeface="Baskerville Old Face"/>
              </a:rPr>
              <a:t>не оценен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676728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Работа с карточками </a:t>
            </a:r>
            <a:br>
              <a:rPr sz="4000"/>
            </a:b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«Найди ошибку»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684360" y="2349360"/>
            <a:ext cx="6840360" cy="93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Найди пару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37" name="Rectangle 11"/>
          <p:cNvSpPr/>
          <p:nvPr/>
        </p:nvSpPr>
        <p:spPr>
          <a:xfrm>
            <a:off x="1332000" y="3789360"/>
            <a:ext cx="66960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4c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00bc"/>
                </a:solidFill>
                <a:latin typeface="Baskerville Old Face"/>
              </a:rPr>
              <a:t>Работа у доски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00a4"/>
                </a:solidFill>
                <a:latin typeface="Times New Roman"/>
              </a:rPr>
              <a:t>Проверка памят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332000" y="2205000"/>
          <a:ext cx="6402240" cy="3600360"/>
        </p:xfrm>
        <a:graphic>
          <a:graphicData uri="http://schemas.openxmlformats.org/drawingml/2006/table">
            <a:tbl>
              <a:tblPr/>
              <a:tblGrid>
                <a:gridCol w="2133360"/>
                <a:gridCol w="2135520"/>
                <a:gridCol w="213336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Rectangle 19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191"/>
              <p:cNvSpPr txBox="1"/>
              <p:nvPr/>
            </p:nvSpPr>
            <p:spPr>
              <a:xfrm>
                <a:off x="2195640" y="2276640"/>
                <a:ext cx="393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Rectangle 19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193"/>
              <p:cNvSpPr txBox="1"/>
              <p:nvPr/>
            </p:nvSpPr>
            <p:spPr>
              <a:xfrm>
                <a:off x="4140360" y="2276640"/>
                <a:ext cx="525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4" name="Rectangle 19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195"/>
              <p:cNvSpPr txBox="1"/>
              <p:nvPr/>
            </p:nvSpPr>
            <p:spPr>
              <a:xfrm>
                <a:off x="4284720" y="342900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6" name="Rectangle 19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197"/>
              <p:cNvSpPr txBox="1"/>
              <p:nvPr/>
            </p:nvSpPr>
            <p:spPr>
              <a:xfrm>
                <a:off x="6372360" y="3357720"/>
                <a:ext cx="590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8" name="Rectangle 20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199"/>
              <p:cNvSpPr txBox="1"/>
              <p:nvPr/>
            </p:nvSpPr>
            <p:spPr>
              <a:xfrm>
                <a:off x="6443640" y="472428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Rectangle 20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201"/>
              <p:cNvSpPr txBox="1"/>
              <p:nvPr/>
            </p:nvSpPr>
            <p:spPr>
              <a:xfrm>
                <a:off x="2340000" y="4869000"/>
                <a:ext cx="309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2" name="Text Box 204"/>
          <p:cNvSpPr/>
          <p:nvPr/>
        </p:nvSpPr>
        <p:spPr>
          <a:xfrm>
            <a:off x="1692360" y="609300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826920" y="1844640"/>
            <a:ext cx="687096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b00a4"/>
                </a:solidFill>
                <a:latin typeface="Times New Roman"/>
              </a:rPr>
              <a:t>Восстановите таблицу</a:t>
            </a:r>
            <a:endParaRPr b="0" lang="en-US" sz="5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08:31:55Z</dcterms:created>
  <dc:creator>Оля</dc:creator>
  <dc:description/>
  <dc:language>en-US</dc:language>
  <cp:lastModifiedBy>user</cp:lastModifiedBy>
  <dcterms:modified xsi:type="dcterms:W3CDTF">2015-02-03T13:54:38Z</dcterms:modified>
  <cp:revision>25</cp:revision>
  <dc:subject/>
  <dc:title>ТЕМА УРОКА: Действия с обыкновенными дробями</dc:title>
</cp:coreProperties>
</file>