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863D-FE79-4591-B19F-6FD840FE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9B4E-FC94-443A-8CE6-E166ACDC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AB8D-BF5A-447E-AE14-04AA36A3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FD54-2F46-47E4-AAC6-F9B47B3E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B916-B346-4F00-9998-86D4122D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9206-A61B-440C-9134-374C8664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7CD1-43F3-4A5B-A45E-73916B8E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1EAE-37E9-45D0-B2DE-CBCC16EF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4596-8A4C-4436-BEAA-8DF2263C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565A-010C-48F6-9A92-565C5ABF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F0A8-42EB-4521-8FAB-36AF2046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D35C-1FE1-4B49-B09A-4305C31F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55DB-D739-4A20-921B-5946D502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7A98-7D38-48EC-A1C5-D94705EC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D94F-D3DF-48C3-9469-B078C7FB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5998-374F-4B3A-B4CA-9B646E2A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23DA-AB79-4754-9911-F9270693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D6B46-0958-49C6-A97F-B800AFB2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CAE392-8BF6-4CB5-B7DE-94EFC6DC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A35972-909A-4AF4-BA8D-C119BD62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A90146-B611-41F0-A5B3-C333B1FF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8940E1-DC7E-4AA1-8173-AB200735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F39D-9087-4879-AE9C-87A4C98D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65E634-0167-4371-AACC-9A3DC1B0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F80F26-9FA1-4D07-A5B7-0615B34C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9BDAF-48D6-4F93-8BC2-55879A22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A8BAD8-334B-4AF6-B186-3282FD85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A471AC-A790-4C6C-982E-6702F0EE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ABB2F2-FE9C-4EA1-8F3B-C8179C6A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B256D-3353-468F-BFA1-4E52D08A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2D5B3-646D-432E-9748-6993B58C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C2853-C9F3-4DD9-9046-A110C984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5010A-A837-4F25-8747-0F80CE8B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E390-5426-4896-990B-EE3F67D9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87D90-E48E-4608-A1A5-DC21FB40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D90D3-B2F3-4BB6-9A5E-FE038280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B8517-35CA-4A75-98D5-CF936A71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65023-0DF9-48E3-BEC5-28A2A6B7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80096-DE2E-47CD-9411-E3E5830F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86F47-FA51-495D-92C0-398B6064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7F09E-516C-423F-A37B-24E27EFC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E0FA7-77CE-4D22-BC4C-B33136412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F02B2-9174-467E-9C52-7DEC784F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8DA30-0877-48B3-A2D8-7ECD09F9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6093-7C5D-43B9-9E38-01E63825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A2639-8C0E-421F-96F8-C6974CA4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75557-F94B-491D-9386-45966D1E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BFDB2-489E-4E92-881E-CD3C6D76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41451-B722-4345-8A8A-0FF4E2D0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DE448-E2E6-4C36-AA63-3E2B0B22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4BBA7-106B-4FF5-A4F4-A7C4B2AD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71559-41F8-4F9E-8F3F-A6811280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C67CC-4426-4EFF-A917-526CF54D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CBB29-EF58-4448-90FD-ECA7CEA4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6C3F2-3111-44DD-B854-E8CFE767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4C80-65F0-4701-9389-B38D3583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68239-50EC-460A-B644-CADC93ED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72432-3DFF-4B3B-8858-15F57657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A8C01-788E-4D5E-BB46-3AEACEBF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DABC4-4012-4C62-BAD6-8DB189FC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D9E90-0DD9-42AA-B0A1-5F252490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21072-DDFB-4668-A256-4888C30B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776FB-C51E-4F7B-A4EC-8C50BA9D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D708E-857A-40A8-A18F-C464329A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39272-EB6C-4510-A98B-0B251BFE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63E0D-0E04-434E-8823-775B49C5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3CCE-3EDD-4011-BE80-BD4586BE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A02FA-2FC4-4BCE-8057-5C6CED99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7A693-0054-493E-BABA-2E8B0927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C969B-A194-422E-B5B7-7EB622E7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BE96-A817-440B-872A-DC8CFD21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F8DE-0770-487C-812D-16C5FC58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F1B8-3BDF-4FF9-A70B-78ABB01017DE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6F6C-24E3-43F0-9591-709C8835D9CC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AB41-549F-4F13-8AC7-866686E68A6A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16B1-E31D-42FC-99D2-2FD3FFF438CA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33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3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34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34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4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34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34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sp>
            <p:nvSpPr>
              <p:cNvPr id="34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35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35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</p:grpSp>
        <p:sp>
          <p:nvSpPr>
            <p:cNvPr id="352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53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54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55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56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57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58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59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60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61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62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63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64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65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66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67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68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69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70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71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72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73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sp>
        <p:nvSpPr>
          <p:cNvPr id="37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3A3A-4BD0-406E-A47F-1D1192838727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419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420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421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422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423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grpSp>
            <p:nvGrpSpPr>
              <p:cNvPr id="424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425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426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427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grpSp>
            <p:nvGrpSpPr>
              <p:cNvPr id="428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429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430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431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sp>
            <p:nvSpPr>
              <p:cNvPr id="432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433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434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</p:grpSp>
        <p:sp>
          <p:nvSpPr>
            <p:cNvPr id="435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36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37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38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39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40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41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42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43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44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45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46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47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48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49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50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51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52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53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54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55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56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sp>
        <p:nvSpPr>
          <p:cNvPr id="457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58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59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16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17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1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8A94-C3A8-4C59-B944-1BD38D4D0E87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50560" y="2266920"/>
            <a:ext cx="6553080" cy="208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4c600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askerville Old Face"/>
              </a:rPr>
              <a:t>ТЕМА УРОКА: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Baskerville Old Face"/>
              </a:rPr>
              <a:t>Действия с обыкновенными дробями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2" name="Text Box 9"/>
          <p:cNvSpPr/>
          <p:nvPr/>
        </p:nvSpPr>
        <p:spPr>
          <a:xfrm>
            <a:off x="4427640" y="53211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65840" cy="82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4c6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b00a4"/>
                </a:solidFill>
                <a:latin typeface="Times New Roman"/>
              </a:rPr>
              <a:t>Проверка задани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684360" y="1052640"/>
          <a:ext cx="6402240" cy="3779640"/>
        </p:xfrm>
        <a:graphic>
          <a:graphicData uri="http://schemas.openxmlformats.org/drawingml/2006/table">
            <a:tbl>
              <a:tblPr/>
              <a:tblGrid>
                <a:gridCol w="2133360"/>
                <a:gridCol w="2135160"/>
                <a:gridCol w="2133720"/>
              </a:tblGrid>
              <a:tr h="12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6" name="Rectangle 2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23"/>
              <p:cNvSpPr txBox="1"/>
              <p:nvPr/>
            </p:nvSpPr>
            <p:spPr>
              <a:xfrm>
                <a:off x="1547640" y="1197000"/>
                <a:ext cx="3938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8" name="Rectangle 2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25"/>
              <p:cNvSpPr txBox="1"/>
              <p:nvPr/>
            </p:nvSpPr>
            <p:spPr>
              <a:xfrm>
                <a:off x="3780000" y="1268280"/>
                <a:ext cx="5252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0" name="Rectangle 2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27"/>
              <p:cNvSpPr txBox="1"/>
              <p:nvPr/>
            </p:nvSpPr>
            <p:spPr>
              <a:xfrm>
                <a:off x="3851280" y="2492280"/>
                <a:ext cx="365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2" name="Rectangle 2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Object 29"/>
              <p:cNvSpPr txBox="1"/>
              <p:nvPr/>
            </p:nvSpPr>
            <p:spPr>
              <a:xfrm>
                <a:off x="5940360" y="2421000"/>
                <a:ext cx="590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4" name="Rectangle 3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31"/>
              <p:cNvSpPr txBox="1"/>
              <p:nvPr/>
            </p:nvSpPr>
            <p:spPr>
              <a:xfrm>
                <a:off x="6012000" y="3716280"/>
                <a:ext cx="365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6" name="Rectangle 3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33"/>
              <p:cNvSpPr txBox="1"/>
              <p:nvPr/>
            </p:nvSpPr>
            <p:spPr>
              <a:xfrm>
                <a:off x="1835280" y="3789360"/>
                <a:ext cx="3096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8" name="Rectangle 34"/>
          <p:cNvSpPr/>
          <p:nvPr/>
        </p:nvSpPr>
        <p:spPr>
          <a:xfrm>
            <a:off x="1908000" y="5254560"/>
            <a:ext cx="5977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00bc"/>
                </a:solidFill>
                <a:latin typeface="Baskerville Old Face"/>
              </a:rPr>
              <a:t>Нет ошибок , одна ошибка -  </a:t>
            </a:r>
            <a:r>
              <a:rPr b="1" lang="ru-RU" sz="1800" spc="-1" strike="noStrike">
                <a:solidFill>
                  <a:srgbClr val="3e3d2d"/>
                </a:solidFill>
                <a:latin typeface="Baskerville Old Face"/>
              </a:rPr>
              <a:t>« 5 »,</a:t>
            </a:r>
            <a:r>
              <a:rPr b="1" lang="ru-RU" sz="1800" spc="-1" strike="noStrike">
                <a:solidFill>
                  <a:srgbClr val="3100bc"/>
                </a:solidFill>
                <a:latin typeface="Baskerville Old Fa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00bc"/>
                </a:solidFill>
                <a:latin typeface="Baskerville Old Face"/>
              </a:rPr>
              <a:t>2 ошибка –     </a:t>
            </a:r>
            <a:r>
              <a:rPr b="1" lang="ru-RU" sz="1800" spc="-1" strike="noStrike">
                <a:solidFill>
                  <a:srgbClr val="3e3d2d"/>
                </a:solidFill>
                <a:latin typeface="Baskerville Old Face"/>
              </a:rPr>
              <a:t>« 4 »,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00bc"/>
                </a:solidFill>
                <a:latin typeface="Baskerville Old Face"/>
              </a:rPr>
              <a:t>3, 4 ошибки –    </a:t>
            </a:r>
            <a:r>
              <a:rPr b="1" lang="ru-RU" sz="1800" spc="-1" strike="noStrike">
                <a:solidFill>
                  <a:srgbClr val="3e3d2d"/>
                </a:solidFill>
                <a:latin typeface="Baskerville Old Face"/>
              </a:rPr>
              <a:t>« 3 »,</a:t>
            </a:r>
            <a:r>
              <a:rPr b="1" lang="ru-RU" sz="1800" spc="-1" strike="noStrike">
                <a:solidFill>
                  <a:srgbClr val="3100bc"/>
                </a:solidFill>
                <a:latin typeface="Baskerville Old Fa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00bc"/>
                </a:solidFill>
                <a:latin typeface="Baskerville Old Face"/>
              </a:rPr>
              <a:t>Более  -          </a:t>
            </a:r>
            <a:r>
              <a:rPr b="1" lang="ru-RU" sz="1800" spc="-1" strike="noStrike">
                <a:solidFill>
                  <a:srgbClr val="3e3d2d"/>
                </a:solidFill>
                <a:latin typeface="Baskerville Old Face"/>
              </a:rPr>
              <a:t>не оценен.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4"/>
          <p:cNvSpPr/>
          <p:nvPr/>
        </p:nvSpPr>
        <p:spPr>
          <a:xfrm>
            <a:off x="179280" y="404640"/>
            <a:ext cx="7632720" cy="115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4c6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00bc"/>
                </a:solidFill>
                <a:latin typeface="Bookman Old Style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-315756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71" name="Rectangle 7"/>
          <p:cNvSpPr/>
          <p:nvPr/>
        </p:nvSpPr>
        <p:spPr>
          <a:xfrm>
            <a:off x="468360" y="2195640"/>
            <a:ext cx="4730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b00a4"/>
                </a:solidFill>
                <a:latin typeface="Arial"/>
                <a:ea typeface="Times New Roman"/>
              </a:rPr>
              <a:t>Хоккеисты команды «Енисей» выехали на сборы и отдых. Отдохнуть решили   на базе  города Шарыпово. Спортсменов разместили следующим образом: 5/9 в четырехместных домиках, 1/6 в двухместных, а 15 человек в трехместных домиках. Сколько спортсменов прибыло?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572" name="Picture 8" descr="1"/>
          <p:cNvPicPr/>
          <p:nvPr/>
        </p:nvPicPr>
        <p:blipFill>
          <a:blip r:embed="rId1"/>
          <a:stretch/>
        </p:blipFill>
        <p:spPr>
          <a:xfrm>
            <a:off x="5724360" y="1916280"/>
            <a:ext cx="2016360" cy="15462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" descr="2"/>
          <p:cNvPicPr/>
          <p:nvPr/>
        </p:nvPicPr>
        <p:blipFill>
          <a:blip r:embed="rId2"/>
          <a:stretch/>
        </p:blipFill>
        <p:spPr>
          <a:xfrm>
            <a:off x="5292720" y="4653000"/>
            <a:ext cx="2158920" cy="14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4"/>
          <p:cNvSpPr/>
          <p:nvPr/>
        </p:nvSpPr>
        <p:spPr>
          <a:xfrm>
            <a:off x="395280" y="907920"/>
            <a:ext cx="7632720" cy="115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4c6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00bc"/>
                </a:solidFill>
                <a:latin typeface="Bookman Old Style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971640" y="3068640"/>
            <a:ext cx="7632720" cy="115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4c6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00bc"/>
                </a:solidFill>
                <a:latin typeface="Bookman Old Style"/>
              </a:rPr>
              <a:t>Итоги урока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332000" y="2781360"/>
            <a:ext cx="6400800" cy="136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4c600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СЕМ СПАСИБО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 УРОК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352728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4c600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00bc"/>
                </a:solidFill>
                <a:latin typeface="Baskerville Old Face"/>
              </a:rPr>
              <a:t>Девиз урока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1415880" y="2133720"/>
            <a:ext cx="5977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askerville Old Face"/>
              </a:rPr>
              <a:t>Нам дроби всякие нужны,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askerville Old Face"/>
              </a:rPr>
              <a:t>Нам дроби всякие важны.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askerville Old Face"/>
              </a:rPr>
              <a:t>Усердно изучайте их,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askerville Old Face"/>
              </a:rPr>
              <a:t>И к вам придет удача.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4"/>
          <p:cNvSpPr/>
          <p:nvPr/>
        </p:nvSpPr>
        <p:spPr>
          <a:xfrm>
            <a:off x="468360" y="462240"/>
            <a:ext cx="770400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тизировать знания и умения по теме: “Действия с обыкновенными дробями”;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вать вычислительные навыки;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вивать интерес к предмету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крепить знания о действиях с обыкновенными дробями;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ррекция мыслительных процессов на основе упражнений;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вать внимание, память, речь, интерес к математике;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ование устойчивого интереса к социально – экономическому и географическому положению Красноярского края, его развитию и современному состоянию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2303280" cy="71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4c600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00bc"/>
                </a:solidFill>
                <a:latin typeface="Baskerville Old Face"/>
              </a:rPr>
              <a:t>Цели: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395280" y="2637000"/>
            <a:ext cx="230364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4c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00bc"/>
                </a:solidFill>
                <a:latin typeface="Baskerville Old Face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6798960" cy="21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4c600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00bc"/>
                </a:solidFill>
                <a:latin typeface="Bookman Old Style"/>
              </a:rPr>
              <a:t>УСТНАЯ РАБОТА С СИГНАЛЬНЫМИ КАРТОЧКАМ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9" name="Text Box 33"/>
          <p:cNvSpPr/>
          <p:nvPr/>
        </p:nvSpPr>
        <p:spPr>
          <a:xfrm>
            <a:off x="2771640" y="4005360"/>
            <a:ext cx="547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e3d2d"/>
                </a:solidFill>
                <a:latin typeface="Times New Roman"/>
              </a:rPr>
              <a:t>Красный  сигнал  -   д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00bc"/>
                </a:solidFill>
                <a:latin typeface="Times New Roman"/>
              </a:rPr>
              <a:t>Синий сигнал - нет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0" name="Object 1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99640" y="1844640"/>
            <a:ext cx="6799320" cy="21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4c600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00bc"/>
                </a:solidFill>
                <a:latin typeface="Baskerville Old Face"/>
              </a:rPr>
              <a:t>Звуковой  математический диктант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38920" cy="11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4c600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00bc"/>
                </a:solidFill>
                <a:latin typeface="Baskerville Old Face"/>
              </a:rPr>
              <a:t>Проверка задани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258920" y="1413000"/>
          <a:ext cx="5329080" cy="5040360"/>
        </p:xfrm>
        <a:graphic>
          <a:graphicData uri="http://schemas.openxmlformats.org/drawingml/2006/table">
            <a:tbl>
              <a:tblPr/>
              <a:tblGrid>
                <a:gridCol w="2701800"/>
                <a:gridCol w="2627280"/>
              </a:tblGrid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100bc"/>
                          </a:solidFill>
                          <a:latin typeface="Comic Sans MS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100bc"/>
                          </a:solidFill>
                          <a:latin typeface="Comic Sans MS"/>
                        </a:rPr>
                        <a:t>2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14" name="Object 70"/>
              <p:cNvSpPr txBox="1"/>
              <p:nvPr/>
            </p:nvSpPr>
            <p:spPr>
              <a:xfrm>
                <a:off x="2270160" y="2205000"/>
                <a:ext cx="3618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5" name="Rectangle 6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16" name="Rectangle 6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67"/>
              <p:cNvSpPr txBox="1"/>
              <p:nvPr/>
            </p:nvSpPr>
            <p:spPr>
              <a:xfrm>
                <a:off x="4788000" y="2349360"/>
                <a:ext cx="64764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,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Rectangle 78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77"/>
              <p:cNvSpPr txBox="1"/>
              <p:nvPr/>
            </p:nvSpPr>
            <p:spPr>
              <a:xfrm>
                <a:off x="2124000" y="3141720"/>
                <a:ext cx="4618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0" name="Rectangle 8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79"/>
              <p:cNvSpPr txBox="1"/>
              <p:nvPr/>
            </p:nvSpPr>
            <p:spPr>
              <a:xfrm>
                <a:off x="4788000" y="3284640"/>
                <a:ext cx="792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Rectangle 8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81"/>
              <p:cNvSpPr txBox="1"/>
              <p:nvPr/>
            </p:nvSpPr>
            <p:spPr>
              <a:xfrm>
                <a:off x="2124000" y="4076640"/>
                <a:ext cx="5065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4" name="Rectangle 8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83"/>
              <p:cNvSpPr txBox="1"/>
              <p:nvPr/>
            </p:nvSpPr>
            <p:spPr>
              <a:xfrm>
                <a:off x="4932360" y="4005360"/>
                <a:ext cx="4032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6" name="Rectangle 8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Object 85"/>
              <p:cNvSpPr txBox="1"/>
              <p:nvPr/>
            </p:nvSpPr>
            <p:spPr>
              <a:xfrm>
                <a:off x="2124000" y="4941720"/>
                <a:ext cx="7207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8" name="Rectangle 8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Object 87"/>
              <p:cNvSpPr txBox="1"/>
              <p:nvPr/>
            </p:nvSpPr>
            <p:spPr>
              <a:xfrm>
                <a:off x="4859280" y="4797360"/>
                <a:ext cx="4827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0" name="Rectangle 9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Object 89"/>
              <p:cNvSpPr txBox="1"/>
              <p:nvPr/>
            </p:nvSpPr>
            <p:spPr>
              <a:xfrm>
                <a:off x="2124000" y="5734080"/>
                <a:ext cx="7192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2" name="Rectangle 9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92"/>
              <p:cNvSpPr txBox="1"/>
              <p:nvPr/>
            </p:nvSpPr>
            <p:spPr>
              <a:xfrm>
                <a:off x="4932360" y="5734080"/>
                <a:ext cx="4222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4" name="Text Box 94"/>
          <p:cNvSpPr/>
          <p:nvPr/>
        </p:nvSpPr>
        <p:spPr>
          <a:xfrm>
            <a:off x="7020000" y="3284640"/>
            <a:ext cx="165564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00bc"/>
                </a:solidFill>
                <a:latin typeface="Baskerville Old Face"/>
              </a:rPr>
              <a:t>Нет ошибок  -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Baskerville Old Face"/>
              </a:rPr>
              <a:t>« 5 »,</a:t>
            </a:r>
            <a:r>
              <a:rPr b="1" lang="ru-RU" sz="1800" spc="-1" strike="noStrike">
                <a:solidFill>
                  <a:srgbClr val="3100bc"/>
                </a:solidFill>
                <a:latin typeface="Baskerville Old Fa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00bc"/>
                </a:solidFill>
                <a:latin typeface="Baskerville Old Face"/>
              </a:rPr>
              <a:t>1 ошибка –     </a:t>
            </a:r>
            <a:r>
              <a:rPr b="1" lang="ru-RU" sz="1800" spc="-1" strike="noStrike">
                <a:solidFill>
                  <a:srgbClr val="3e3d2d"/>
                </a:solidFill>
                <a:latin typeface="Baskerville Old Face"/>
              </a:rPr>
              <a:t>« 4 »,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00bc"/>
                </a:solidFill>
                <a:latin typeface="Baskerville Old Face"/>
              </a:rPr>
              <a:t>2 ошибки –    </a:t>
            </a:r>
            <a:r>
              <a:rPr b="1" lang="ru-RU" sz="1800" spc="-1" strike="noStrike">
                <a:solidFill>
                  <a:srgbClr val="3e3d2d"/>
                </a:solidFill>
                <a:latin typeface="Baskerville Old Face"/>
              </a:rPr>
              <a:t>« 3 »,</a:t>
            </a:r>
            <a:r>
              <a:rPr b="1" lang="ru-RU" sz="1800" spc="-1" strike="noStrike">
                <a:solidFill>
                  <a:srgbClr val="3100bc"/>
                </a:solidFill>
                <a:latin typeface="Baskerville Old Fa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00bc"/>
                </a:solidFill>
                <a:latin typeface="Baskerville Old Face"/>
              </a:rPr>
              <a:t>более -          </a:t>
            </a:r>
            <a:r>
              <a:rPr b="1" lang="ru-RU" sz="1800" spc="-1" strike="noStrike">
                <a:solidFill>
                  <a:srgbClr val="3e3d2d"/>
                </a:solidFill>
                <a:latin typeface="Baskerville Old Face"/>
              </a:rPr>
              <a:t>не оценен.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6767280" cy="158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4c600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00bc"/>
                </a:solidFill>
                <a:latin typeface="Baskerville Old Face"/>
              </a:rPr>
              <a:t>Работа с карточками </a:t>
            </a:r>
            <a:br>
              <a:rPr sz="4000"/>
            </a:br>
            <a:r>
              <a:rPr b="1" lang="ru-RU" sz="4000" spc="-1" strike="noStrike">
                <a:solidFill>
                  <a:srgbClr val="3100bc"/>
                </a:solidFill>
                <a:latin typeface="Baskerville Old Face"/>
              </a:rPr>
              <a:t>«Найди ошибку»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684360" y="2349360"/>
            <a:ext cx="6840360" cy="93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4c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00bc"/>
                </a:solidFill>
                <a:latin typeface="Baskerville Old Face"/>
              </a:rPr>
              <a:t>Найди пару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37" name="Rectangle 11"/>
          <p:cNvSpPr/>
          <p:nvPr/>
        </p:nvSpPr>
        <p:spPr>
          <a:xfrm>
            <a:off x="1332000" y="3789360"/>
            <a:ext cx="6696000" cy="144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4c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00bc"/>
                </a:solidFill>
                <a:latin typeface="Baskerville Old Face"/>
              </a:rPr>
              <a:t>Работа у доски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4c6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b00a4"/>
                </a:solidFill>
                <a:latin typeface="Times New Roman"/>
              </a:rPr>
              <a:t>Проверка памят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1332000" y="2205000"/>
          <a:ext cx="6402240" cy="3600360"/>
        </p:xfrm>
        <a:graphic>
          <a:graphicData uri="http://schemas.openxmlformats.org/drawingml/2006/table">
            <a:tbl>
              <a:tblPr/>
              <a:tblGrid>
                <a:gridCol w="2133360"/>
                <a:gridCol w="2135520"/>
                <a:gridCol w="213336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0" name="Rectangle 19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191"/>
              <p:cNvSpPr txBox="1"/>
              <p:nvPr/>
            </p:nvSpPr>
            <p:spPr>
              <a:xfrm>
                <a:off x="2195640" y="2276640"/>
                <a:ext cx="3934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2" name="Rectangle 19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193"/>
              <p:cNvSpPr txBox="1"/>
              <p:nvPr/>
            </p:nvSpPr>
            <p:spPr>
              <a:xfrm>
                <a:off x="4140360" y="2276640"/>
                <a:ext cx="5252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4" name="Rectangle 19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Object 195"/>
              <p:cNvSpPr txBox="1"/>
              <p:nvPr/>
            </p:nvSpPr>
            <p:spPr>
              <a:xfrm>
                <a:off x="4284720" y="3429000"/>
                <a:ext cx="365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6" name="Rectangle 19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197"/>
              <p:cNvSpPr txBox="1"/>
              <p:nvPr/>
            </p:nvSpPr>
            <p:spPr>
              <a:xfrm>
                <a:off x="6372360" y="3357720"/>
                <a:ext cx="5904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8" name="Rectangle 20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199"/>
              <p:cNvSpPr txBox="1"/>
              <p:nvPr/>
            </p:nvSpPr>
            <p:spPr>
              <a:xfrm>
                <a:off x="6443640" y="4724280"/>
                <a:ext cx="365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0" name="Rectangle 20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Object 201"/>
              <p:cNvSpPr txBox="1"/>
              <p:nvPr/>
            </p:nvSpPr>
            <p:spPr>
              <a:xfrm>
                <a:off x="2340000" y="4869000"/>
                <a:ext cx="3096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2" name="Text Box 204"/>
          <p:cNvSpPr/>
          <p:nvPr/>
        </p:nvSpPr>
        <p:spPr>
          <a:xfrm>
            <a:off x="1692360" y="609300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4"/>
          <p:cNvSpPr/>
          <p:nvPr/>
        </p:nvSpPr>
        <p:spPr>
          <a:xfrm>
            <a:off x="826920" y="1844640"/>
            <a:ext cx="6870960" cy="160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4c6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b00a4"/>
                </a:solidFill>
                <a:latin typeface="Times New Roman"/>
              </a:rPr>
              <a:t>Восстановите таблицу</a:t>
            </a:r>
            <a:endParaRPr b="0" lang="en-US" sz="5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08:31:55Z</dcterms:created>
  <dc:creator>Оля</dc:creator>
  <dc:description/>
  <dc:language>en-US</dc:language>
  <cp:lastModifiedBy>user</cp:lastModifiedBy>
  <dcterms:modified xsi:type="dcterms:W3CDTF">2015-02-03T13:54:38Z</dcterms:modified>
  <cp:revision>25</cp:revision>
  <dc:subject/>
  <dc:title>ТЕМА УРОКА: Действия с обыкновенными дробями</dc:title>
</cp:coreProperties>
</file>