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44B5-E591-490B-8367-F7EB2039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932C-E588-4CF8-8758-C6DC575B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F013B-B302-4FBA-ABDE-EDF3C4C9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DBA6F-FE79-4A40-91CD-54D77BC8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E219-E117-47AF-A946-6022C108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8282-F17E-4BDB-B120-CC1981B2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8125-6598-43C1-A815-B2D7A818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9BF2-C405-42F6-9F38-3426C98D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800A-13EA-497F-8539-3A269D75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F8A5-D7DA-420D-8EFF-0921FCA5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3F6D-333F-4E2F-9CA8-5AA36F5F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7A4C5-7AFA-4EB0-8F58-73746D5F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C4C5-3AB6-404E-BFB5-E2BDA411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9B58-4D79-418D-B64F-F2AFB6D1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EA7F-5A3A-49FD-B271-CA8D1072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1CB1-C691-40B8-A5BC-C1B03835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617D-1ADA-4947-9E0A-472AD0C4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7E6A-501D-47EF-9C0E-627252C7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07290-DECA-442D-856D-AA7FE7B9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6F8B5-6D9C-4B34-BD4F-87096B7F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9E0A0-E489-44C4-B746-40229B72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3860B-B432-4D34-AD12-20EFD6A6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60FA-85D3-462D-B66B-D9890414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33F4C-37F1-4981-820D-84D62586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CCC7-9A4D-41E0-BD0E-FDD1D8E085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F72B-EC0D-4027-89EA-32CC39C016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04920" y="228600"/>
            <a:ext cx="853416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Дорогами Хакасии</a:t>
            </a:r>
            <a:endParaRPr b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8120" y="2514600"/>
            <a:ext cx="57909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конкурс</a:t>
            </a:r>
            <a:endParaRPr b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виртуальных </a:t>
            </a:r>
            <a:endParaRPr b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экскурсий</a:t>
            </a:r>
            <a:endParaRPr b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304920" y="228600"/>
            <a:ext cx="853416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Дорогами Хакасии</a:t>
            </a:r>
            <a:endParaRPr b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8120" y="2514600"/>
            <a:ext cx="57909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конкурс</a:t>
            </a:r>
            <a:endParaRPr b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виртуальных </a:t>
            </a:r>
            <a:endParaRPr b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экскурсий</a:t>
            </a:r>
            <a:endParaRPr b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!</cp:lastModifiedBy>
  <dcterms:modified xsi:type="dcterms:W3CDTF">2013-10-24T04:37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