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1FAAC-06B4-4A98-8268-A3B29F79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E6A86-D219-4BFF-A742-FECFD8B9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AB606-B6DD-4F49-9ECD-71BDF8ED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A64CA-4C73-4279-8862-F2FF9607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785E-8CF5-41AB-9792-BA88B425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48BB-B83D-4904-822E-90E78304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BB2B-E839-4CA9-A1F9-7980F918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2F12-1150-4B48-B43E-95428F84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562F-8BAF-477C-9CDD-E5BF88E4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E6F2-3E8E-4F74-94BF-C37B18AD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C018-E3D7-4334-99DA-1F5B24E0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7DDF4-E076-48C7-ACDA-4011872E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7D38-11B3-492A-A8A1-91578669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52F0-3E11-4976-8A0F-246228FD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73A4-EADB-4E78-AC93-1C969CB0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3112-BD8E-42BB-8E28-B5BB4893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CE06-F7C1-4E26-BCF7-B2F479B6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DA54D-0C24-4CD8-8C66-22584445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AFAD-041D-4799-B847-40ADB956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24739-193B-4CFA-A331-3CBC6777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7DCF-DAF4-4BE3-8D5C-F5575092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FBF92-969F-44A0-8FF1-9C653CCE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60C42-721C-49DF-AF28-15AD9713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53224-5CC0-4D70-8193-9EBDC103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B7A6-54BA-48E3-9417-677B7B61D3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488A-2BB5-4D67-BD4C-12E96E0C76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304920" y="228600"/>
            <a:ext cx="853416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Дорогами Хакасии</a:t>
            </a:r>
            <a:endParaRPr b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8120" y="2514600"/>
            <a:ext cx="579096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конкурс</a:t>
            </a:r>
            <a:endParaRPr b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виртуальных </a:t>
            </a:r>
            <a:endParaRPr b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экскурсий</a:t>
            </a:r>
            <a:endParaRPr b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304920" y="228600"/>
            <a:ext cx="853416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Дорогами Хакасии</a:t>
            </a:r>
            <a:endParaRPr b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8120" y="2514600"/>
            <a:ext cx="579096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конкурс</a:t>
            </a:r>
            <a:endParaRPr b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виртуальных </a:t>
            </a:r>
            <a:endParaRPr b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экскурсий</a:t>
            </a:r>
            <a:endParaRPr b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!</cp:lastModifiedBy>
  <dcterms:modified xsi:type="dcterms:W3CDTF">2013-10-24T04:37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