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7.wmf" ContentType="image/x-wmf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jpeg" ContentType="image/jpeg"/>
  <Override PartName="/ppt/media/image7.gif" ContentType="image/gif"/>
  <Override PartName="/ppt/media/image18.wmf" ContentType="image/x-wmf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B82-3693-4F75-81A1-FC828B6A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FB5-6495-44AF-A9CF-49EC50C6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3DD-F124-4F4F-987C-76778EE4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145-E60C-46C1-81B7-11DE775F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3F99-A34C-4836-AE29-0079C6CD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9D5C-CF9F-4263-A70F-813B070D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F2D8-CB65-4436-867D-F0653D08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B4A8-01A4-4C4A-8845-A719D9F8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FDAA-69C1-4624-9436-33768DB0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C855-E0AA-431A-803B-0C209B57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FDF9-49FB-49C1-9AC6-2554E9C1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002-C058-421C-90EC-5E37C299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9642-D88F-4E5D-81C7-3D5BD986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E8D9-0DF3-4D12-A7BE-71B6C672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747E-0860-4165-B87B-993B6D02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C9C3-FD56-4F6B-8A78-EB424944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E22E-3F40-49BE-ABD4-DD607C1D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8E75C-6EE0-4DB4-B54A-7EB6F4CA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DAA62-930E-4377-B907-C4C0CFDC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4B6BF-3A52-4DB2-B654-DCD938CA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1DFC5-190D-4C3F-B720-5C08183C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84EB8-E68A-475E-8A73-EDC4940C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FA9A-B535-4335-9881-33B737D5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67550-5E2B-4798-AC37-92BA82DE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77360-A91F-4AA2-A186-FFDDCC33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27A0-4B0F-4CC4-8D92-4F2CF255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A85CA-2B9D-4E60-8100-D411C5DF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44986-EB7A-4842-A3DC-AA907C22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1E2A5-7308-4661-BD51-236B0E10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DE4DF-A11B-4EED-89FF-253D3FB2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8FDB8-9C59-4052-B366-3047EDE2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ACD30-D72A-4BB8-8832-81664E4F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E9A4E-8C59-4715-9BDA-82E06AE1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58AE-FA60-4466-81C8-500DB793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28149-A848-45C9-8351-C2C5BA05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AA6CC-03E5-4A1F-8656-9A4A362A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1DCD4-9639-4A4E-B2F7-5B571937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735A2-C844-4733-A87B-9EA33E9F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449EF-EB97-4FFF-85BA-45987F12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6B086-53EA-47B0-8E56-FEE3E67D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911E1-1308-4A17-91E1-F18D7A06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016A1-B2D7-40FD-A2FE-7B2DF4EB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192EA-98DD-4197-9D92-D9533008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4AA8E-E4BB-43A2-B040-5CBC6787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8B3-18D0-41DD-BDC4-ABA1492A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6B76A-746F-41F6-BD95-C166E2B1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72DBA-9865-49BD-B9EF-3B0E6F74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212A0-133A-4556-AA4E-95B16B8D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08B80-9057-42A5-9B14-31E449C0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D4599-EDBF-4300-AECD-7A34C16B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46B3B-CFAA-41C3-A927-7BDB021A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D99B2-A7D7-4633-A29C-E940C5E2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15944-F4BD-4A7A-AF29-0FBFEDA0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1ED45-2745-413C-A0FA-3658D0B8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8ACB6-3484-49C9-8109-6E17427E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128-0C44-450A-91DF-411B1F73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E6D76-1B60-4CEF-BA93-35BE3716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C97E-2CD9-49E0-8CD2-F66393E8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D48-EEA5-478E-A5D8-5DC1D6BE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5F8-37B7-4791-85E1-E1F96D63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BCB5-DDA0-4359-9E93-959D5CBCEFC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5642-D089-4387-B5A0-FD54B710260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FA4B-4554-45D4-8165-5E8F0FBAABD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33BC-C599-4E64-89B8-7D4CE801118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924B-60CA-4239-A985-779333CF402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900igr.net/" TargetMode="External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4600" y="552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Единицы длины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39640" y="26370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9766f"/>
                </a:solidFill>
                <a:latin typeface="Arial"/>
                <a:ea typeface="Arial"/>
              </a:rPr>
              <a:t>5 класс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9766f"/>
                </a:solidFill>
                <a:latin typeface="Arial"/>
                <a:ea typeface="Arial"/>
              </a:rPr>
              <a:t>математик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1"/>
          <p:cNvPicPr/>
          <p:nvPr/>
        </p:nvPicPr>
        <p:blipFill>
          <a:blip r:embed="rId1"/>
          <a:stretch/>
        </p:blipFill>
        <p:spPr>
          <a:xfrm>
            <a:off x="611280" y="4083120"/>
            <a:ext cx="1714320" cy="15620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223" name="Picture 6" descr="3"/>
          <p:cNvPicPr/>
          <p:nvPr/>
        </p:nvPicPr>
        <p:blipFill>
          <a:blip r:embed="rId2"/>
          <a:stretch/>
        </p:blipFill>
        <p:spPr>
          <a:xfrm>
            <a:off x="6504120" y="2625840"/>
            <a:ext cx="1714320" cy="14572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224" name="Picture 7" descr="2"/>
          <p:cNvPicPr/>
          <p:nvPr/>
        </p:nvPicPr>
        <p:blipFill>
          <a:blip r:embed="rId3"/>
          <a:stretch/>
        </p:blipFill>
        <p:spPr>
          <a:xfrm>
            <a:off x="3708360" y="4869000"/>
            <a:ext cx="1714680" cy="15714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225" name="Скругленный прямоугольник 6">
            <a:hlinkClick r:id="rId4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усские меры длин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шин – мера, возникшая при торговле с народами Востока. Название единицы происходит от персидского слова «арш», что значит локо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ажень – единица длины равная 3 аршинам. Кроме сажени, на Руси употреблялась косая сажень (2,48 м) и маховая (1,76 м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arshin"/>
          <p:cNvPicPr/>
          <p:nvPr/>
        </p:nvPicPr>
        <p:blipFill>
          <a:blip r:embed="rId1"/>
          <a:stretch/>
        </p:blipFill>
        <p:spPr>
          <a:xfrm>
            <a:off x="1228680" y="4653000"/>
            <a:ext cx="2232000" cy="1871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2"/>
          <a:stretch/>
        </p:blipFill>
        <p:spPr>
          <a:xfrm>
            <a:off x="3492360" y="4083120"/>
            <a:ext cx="38880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рста – в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VIII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ке окончательно определилась как единица длины, равная 500 сажений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,07 км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ле указа Петра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русская система мер длины пополнилась новыми английскими единицами. Это было удобно для развития связей, в первую очередь торговых, с другими государствами. Вот эти единицы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 миля = 7 верст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7,47 км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 фут = 12 дюйм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 дюйм = 10 линий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,54 см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 линия = 10 точек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,54 мм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5" descr="4"/>
          <p:cNvPicPr/>
          <p:nvPr/>
        </p:nvPicPr>
        <p:blipFill>
          <a:blip r:embed="rId1"/>
          <a:stretch/>
        </p:blipFill>
        <p:spPr>
          <a:xfrm>
            <a:off x="5580000" y="4508640"/>
            <a:ext cx="857160" cy="11142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13-01"/>
          <p:cNvPicPr/>
          <p:nvPr/>
        </p:nvPicPr>
        <p:blipFill>
          <a:blip r:embed="rId2"/>
          <a:stretch/>
        </p:blipFill>
        <p:spPr>
          <a:xfrm>
            <a:off x="6877080" y="4149720"/>
            <a:ext cx="162864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Кто выше Мальчик с пальчик или Дюймовочка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28760" y="246816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ота Мальчика с пальчик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4,44 с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ота Дюймовочк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2,54 с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льчик с пальчик выше Дюймовоч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" descr="j0232732"/>
          <p:cNvPicPr/>
          <p:nvPr/>
        </p:nvPicPr>
        <p:blipFill>
          <a:blip r:embed="rId1"/>
          <a:stretch/>
        </p:blipFill>
        <p:spPr>
          <a:xfrm>
            <a:off x="2627280" y="4653000"/>
            <a:ext cx="1330200" cy="1763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j0232429"/>
          <p:cNvPicPr/>
          <p:nvPr/>
        </p:nvPicPr>
        <p:blipFill>
          <a:blip r:embed="rId2"/>
          <a:stretch/>
        </p:blipFill>
        <p:spPr>
          <a:xfrm>
            <a:off x="7858080" y="2060640"/>
            <a:ext cx="12859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Arial"/>
                <a:ea typeface="Arial"/>
              </a:rPr>
              <a:t>Из истории единиц длины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52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240" indent="4683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вые единицы измерения длины были не очень точными. В качестве измерительных инструментов использовались чаще всего шаг, человеческая рука или нога. Эти измерительные «приборы» были удобны тем, что они у человека всегда били при себ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40" indent="4683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разных людей эти величины разные, поэтому каждый может судить , на сколько точны были эти единицы дли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Arial"/>
                <a:ea typeface="Arial"/>
              </a:rPr>
              <a:t>Из истории единиц длины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5280" y="2468520"/>
            <a:ext cx="8229600" cy="268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звание единицы дины «миля» дошли до наших дн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морском деле единицы измерения расстояний служит морская миля. В Великобритании и США, кроме того, употребляется и сухопутная мил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5" descr="j0354420"/>
          <p:cNvPicPr/>
          <p:nvPr/>
        </p:nvPicPr>
        <p:blipFill>
          <a:blip r:embed="rId1"/>
          <a:stretch/>
        </p:blipFill>
        <p:spPr>
          <a:xfrm>
            <a:off x="5651640" y="4842000"/>
            <a:ext cx="1800000" cy="1581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j0433488"/>
          <p:cNvPicPr/>
          <p:nvPr/>
        </p:nvPicPr>
        <p:blipFill>
          <a:blip r:embed="rId2"/>
          <a:stretch/>
        </p:blipFill>
        <p:spPr>
          <a:xfrm flipH="1">
            <a:off x="2484360" y="5157720"/>
            <a:ext cx="15112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Arial"/>
                <a:ea typeface="Arial"/>
              </a:rPr>
              <a:t>Из истории единиц длины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9528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быту для измерения продаваемой ткани, длины меча или копья, размеров различных предметов были необходимы другие единицы. Самой распространенной единицей был локоть – расстояние  от локтя до конца среднего пальца. Среди более мелких единиц можно назвать ладонь – ширину кисти руки. Еще меньшей единицей был дюйм. Первоначально за дюйм принимали верхний сустав большого пальца. Многие народы употребляли фут – длину ступни ноги челове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Verdana"/>
              </a:rPr>
              <a:t>Из истории единиц длины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5280" y="278136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окти, ступни, ширина ладоней, суставы пальцев у разных людей различны. Поэтому в каждом городе, княжестве или графстве правители издавали указы, предписывающие каким локтем или дюймом должны пользоваться их подданны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ак например, в раздробленной на мелкие государства Германии 17 века насчитывалось до 40 различных футов и локтей и 24 различные мил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Verdana"/>
              </a:rPr>
              <a:t>Из истории единиц длины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528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дному из преданий, английский король Генрих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1101 году ввел единицу длины ярд, которая была равна расстоянию от кончика его носа до конца пальцев вытянутой ру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другому преданию, за ярд была принята длина меча этого корол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перь ярд является самой обиходной английской единицей дли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усские меры длин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000" y="21333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реди русских мер длины древнейшими являются локоть и сажень. Первое упоминание сажени встречается в летописи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I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ве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dlina2"/>
          <p:cNvPicPr/>
          <p:nvPr/>
        </p:nvPicPr>
        <p:blipFill>
          <a:blip r:embed="rId1"/>
          <a:srcRect l="0" t="0" r="0" b="2825"/>
          <a:stretch/>
        </p:blipFill>
        <p:spPr>
          <a:xfrm>
            <a:off x="4356000" y="4076640"/>
            <a:ext cx="4546800" cy="2362320"/>
          </a:xfrm>
          <a:prstGeom prst="rect">
            <a:avLst/>
          </a:prstGeom>
          <a:ln w="28440">
            <a:solidFill>
              <a:srgbClr val="f07f09"/>
            </a:solidFill>
            <a:miter/>
          </a:ln>
        </p:spPr>
      </p:pic>
      <p:pic>
        <p:nvPicPr>
          <p:cNvPr id="241" name="Picture 6" descr="sajen"/>
          <p:cNvPicPr/>
          <p:nvPr/>
        </p:nvPicPr>
        <p:blipFill>
          <a:blip r:embed="rId2"/>
          <a:stretch/>
        </p:blipFill>
        <p:spPr>
          <a:xfrm>
            <a:off x="250920" y="4365720"/>
            <a:ext cx="3960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усские меры длин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8360" y="2349360"/>
            <a:ext cx="8229600" cy="1710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ршок – единица, равная двум верхним суставам указательного пальц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 вершок = ¼ пяди = 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/16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ршина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4,44 см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3"/>
          <p:cNvPicPr/>
          <p:nvPr/>
        </p:nvPicPr>
        <p:blipFill>
          <a:blip r:embed="rId1"/>
          <a:stretch/>
        </p:blipFill>
        <p:spPr>
          <a:xfrm>
            <a:off x="3348000" y="476280"/>
            <a:ext cx="22320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усские меры длин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ядь (четверть) – расстояние между концами большого и указательного пальцев, растянутых в плоск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 пядь = ¼ аршина (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17, 78 см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4608720" cy="2678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RUKA"/>
          <p:cNvPicPr/>
          <p:nvPr/>
        </p:nvPicPr>
        <p:blipFill>
          <a:blip r:embed="rId2"/>
          <a:stretch/>
        </p:blipFill>
        <p:spPr>
          <a:xfrm>
            <a:off x="5683320" y="4148280"/>
            <a:ext cx="25905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1:11:47Z</dcterms:created>
  <dc:creator>Your User Name</dc:creator>
  <dc:description/>
  <dc:language>en-US</dc:language>
  <cp:lastModifiedBy>user</cp:lastModifiedBy>
  <dcterms:modified xsi:type="dcterms:W3CDTF">2015-02-03T13:47:16Z</dcterms:modified>
  <cp:revision>24</cp:revision>
  <dc:subject/>
  <dc:title>Из истории единиц длины</dc:title>
</cp:coreProperties>
</file>