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jpeg" ContentType="image/jpeg"/>
  <Override PartName="/ppt/media/image7.gif" ContentType="image/gif"/>
  <Override PartName="/ppt/media/image18.wmf" ContentType="image/x-wmf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869-2E0C-4254-80B1-73A8C6E8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2DF-91D7-4776-A834-A131035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B21-3DC6-4AEA-94F5-0EBB556C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1AC-E81B-4713-86C4-A70A4B3A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DE3-F674-4868-AD23-61C42741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9D27-E971-4D33-A456-8CE1130E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3239-82AE-4479-97C7-F2FC1D7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E824-6E5A-4AC7-9335-633544E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3EBB-B0F6-493E-AC41-DD0E299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4133-53E9-4FE7-8A43-AA146B2B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7CA-6512-4ED1-9FE2-A52C7D6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097-B50B-4BAE-A270-4323EDE8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8F40-5C27-4C98-84BA-72A21EF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EBA-3C96-4250-AE0E-871CC2E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717C-B890-474E-8CD3-388F037E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F9D0-2DFB-4E5E-A455-2E54B002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A51C-2CA2-4624-9A5C-6575F362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F46A-5D5F-47FD-A00A-55D3555B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4F7C-E0A3-4934-AB19-7F0D853F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3BF6-315A-4FEE-B56A-6699959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24E1-C0A3-486F-84D7-88F3DAB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EC90-E046-4447-AB44-2717F4BC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E4B-C2ED-4F1C-958C-9F7ED0CF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85B0-198A-4504-99ED-BF7AB09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7675-5B56-40EB-80CB-41AFE0FC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2C62-F566-45C4-8CF5-DA186D5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C9D3-C642-4E14-8C85-9C3F140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C39F-A808-4032-8680-653FF77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E42F-B51C-4440-9D20-56E7C6EC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1D2C-78C4-4D5D-8DC4-3F26D596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A883-C914-464F-A872-F2B13FC7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434E-94B5-4E34-946C-75602F27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DDB14-7091-4B0F-A8CB-D14A92F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31F-043D-4F57-B6D0-57A96AE0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DEAA-0E40-49AE-A34E-6D66A251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E3988-E129-4CB2-8928-B159763D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AD5A-37E7-4F61-9C91-BA7B49D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2400-9D6C-485C-8519-B812E89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7C40-40B3-42E5-A938-4783B94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7AE8-0CB4-437B-906F-B864190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8A48-85FF-443D-955B-68C0845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3C0E-523B-408D-A1F6-48AB4B2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B7E4-DA8B-4B99-A8AC-EF3F2130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470A-6A8A-4B25-81CE-155FF526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109-8B2A-42B7-9E92-A39A8C7E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A516-7E70-43CF-BA7D-203B9ED3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1301-3895-49D3-9CA0-CED9267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997F-6920-43CA-9C9B-E5E1AD4F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CEFA-FF72-4B46-B669-649B94CE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E82B-3ADB-4267-B1E8-04183423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081AC-FCCE-4A94-A7F4-189AC0D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8EF1A-6650-4CFA-8A47-5B6573E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7BC4-02B0-41D4-A722-594681B0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5155-CDD1-4735-A98A-955B2021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B87C-F393-42EE-8904-1E2F92D4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4E1-83BB-4483-8964-DF4DAD6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30D33-FC86-44B4-AE12-7B063AF5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552-FA2E-4ACD-A129-C6B3533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D76-80F0-443A-9E85-E962EAD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8EE-439B-4546-998A-D781D86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9233-F68B-4540-85A8-F09C28A953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86B-0DAE-4BDF-902D-1D5B4D9D5A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3DE-655F-4A8C-B2BE-0976039B2F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FF22-BFFC-42B1-A8DE-CD11645DC3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30B-E4EE-4B09-B881-A8B3DC203A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600" y="552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диницы длины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9766f"/>
                </a:solidFill>
                <a:latin typeface="Arial"/>
                <a:ea typeface="Arial"/>
              </a:rPr>
              <a:t>5 класс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9766f"/>
                </a:solidFill>
                <a:latin typeface="Arial"/>
                <a:ea typeface="Arial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1"/>
          <p:cNvPicPr/>
          <p:nvPr/>
        </p:nvPicPr>
        <p:blipFill>
          <a:blip r:embed="rId1"/>
          <a:stretch/>
        </p:blipFill>
        <p:spPr>
          <a:xfrm>
            <a:off x="611280" y="4083120"/>
            <a:ext cx="1714320" cy="15620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223" name="Picture 6" descr="3"/>
          <p:cNvPicPr/>
          <p:nvPr/>
        </p:nvPicPr>
        <p:blipFill>
          <a:blip r:embed="rId2"/>
          <a:stretch/>
        </p:blipFill>
        <p:spPr>
          <a:xfrm>
            <a:off x="6504120" y="2625840"/>
            <a:ext cx="1714320" cy="1457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224" name="Picture 7" descr="2"/>
          <p:cNvPicPr/>
          <p:nvPr/>
        </p:nvPicPr>
        <p:blipFill>
          <a:blip r:embed="rId3"/>
          <a:stretch/>
        </p:blipFill>
        <p:spPr>
          <a:xfrm>
            <a:off x="3708360" y="4869000"/>
            <a:ext cx="1714680" cy="1571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225" name="Скругленный прямоугольник 6">
            <a:hlinkClick r:id="rId4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шин – мера, возникшая при торговле с народами Востока. Название единицы происходит от персидского слова «арш», что значит локо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жень – единица длины равная 3 аршинам. Кроме сажени, на Руси употреблялась косая сажень (2,48 м) и маховая (1,76 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arshin"/>
          <p:cNvPicPr/>
          <p:nvPr/>
        </p:nvPicPr>
        <p:blipFill>
          <a:blip r:embed="rId1"/>
          <a:stretch/>
        </p:blipFill>
        <p:spPr>
          <a:xfrm>
            <a:off x="1228680" y="465300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3492360" y="4083120"/>
            <a:ext cx="3888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ста – в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VIII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ке окончательно определилась как единица длины, равная 500 сажен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,07 к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указа Петра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русская система мер длины пополнилась новыми английскими единицами. Это было удобно для развития связей, в первую очередь торговых, с другими государствами. Вот эти единиц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миля = 7 верст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7,47 к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фут = 12 дюйм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дюйм = 10 лин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,54 с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линия = 10 точек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,54 м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5" descr="4"/>
          <p:cNvPicPr/>
          <p:nvPr/>
        </p:nvPicPr>
        <p:blipFill>
          <a:blip r:embed="rId1"/>
          <a:stretch/>
        </p:blipFill>
        <p:spPr>
          <a:xfrm>
            <a:off x="5580000" y="4508640"/>
            <a:ext cx="857160" cy="1114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3-01"/>
          <p:cNvPicPr/>
          <p:nvPr/>
        </p:nvPicPr>
        <p:blipFill>
          <a:blip r:embed="rId2"/>
          <a:stretch/>
        </p:blipFill>
        <p:spPr>
          <a:xfrm>
            <a:off x="6877080" y="4149720"/>
            <a:ext cx="1628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то выше Мальчик с пальчик или Дюймовочк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28760" y="246816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та Мальчика с пальчик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4,44 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та Дюймовочк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2,54 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ьчик с пальчик выше Дюймов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j0232732"/>
          <p:cNvPicPr/>
          <p:nvPr/>
        </p:nvPicPr>
        <p:blipFill>
          <a:blip r:embed="rId1"/>
          <a:stretch/>
        </p:blipFill>
        <p:spPr>
          <a:xfrm>
            <a:off x="2627280" y="4653000"/>
            <a:ext cx="1330200" cy="176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j0232429"/>
          <p:cNvPicPr/>
          <p:nvPr/>
        </p:nvPicPr>
        <p:blipFill>
          <a:blip r:embed="rId2"/>
          <a:stretch/>
        </p:blipFill>
        <p:spPr>
          <a:xfrm>
            <a:off x="7858080" y="2060640"/>
            <a:ext cx="12859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240" indent="468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ые единицы измерения длины были не очень точными. В качестве измерительных инструментов использовались чаще всего шаг, человеческая рука или нога. Эти измерительные «приборы» были удобны тем, что они у человека всегда били при с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40" indent="468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разных людей эти величины разные, поэтому каждый может судить , на сколько точны были эти единицы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246852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единицы дины «миля» дошли до наших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орском деле единицы измерения расстояний служит морская миля. В Великобритании и США, кроме того, употребляется и сухопутная ми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j0354420"/>
          <p:cNvPicPr/>
          <p:nvPr/>
        </p:nvPicPr>
        <p:blipFill>
          <a:blip r:embed="rId1"/>
          <a:stretch/>
        </p:blipFill>
        <p:spPr>
          <a:xfrm>
            <a:off x="5651640" y="4842000"/>
            <a:ext cx="1800000" cy="158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j0433488"/>
          <p:cNvPicPr/>
          <p:nvPr/>
        </p:nvPicPr>
        <p:blipFill>
          <a:blip r:embed="rId2"/>
          <a:stretch/>
        </p:blipFill>
        <p:spPr>
          <a:xfrm flipH="1">
            <a:off x="2484360" y="5157720"/>
            <a:ext cx="1511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быту для измерения продаваемой ткани, длины меча или копья, размеров различных предметов были необходимы другие единицы. Самой распространенной единицей был локоть – расстояние  от локтя до конца среднего пальца. Среди более мелких единиц можно назвать ладонь – ширину кисти руки. Еще меньшей единицей был дюйм. Первоначально за дюйм принимали верхний сустав большого пальца. Многие народы употребляли фут – длину ступни ноги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Verdana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27813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окти, ступни, ширина ладоней, суставы пальцев у разных людей различны. Поэтому в каждом городе, княжестве или графстве правители издавали указы, предписывающие каким локтем или дюймом должны пользоваться их подданны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ак например, в раздробленной на мелкие государства Германии 17 века насчитывалось до 40 различных футов и локтей и 24 различные ми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Verdana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дному из преданий, английский король Генри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1101 году ввел единицу длины ярд, которая была равна расстоянию от кончика его носа до конца пальцев вытянутой ру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другому преданию, за ярд была принята длина меча этого ко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ярд является самой обиходной английской единицей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21333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реди русских мер длины древнейшими являются локоть и сажень. Первое упоминание сажени встречается в летописи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dlina2"/>
          <p:cNvPicPr/>
          <p:nvPr/>
        </p:nvPicPr>
        <p:blipFill>
          <a:blip r:embed="rId1"/>
          <a:srcRect l="0" t="0" r="0" b="2825"/>
          <a:stretch/>
        </p:blipFill>
        <p:spPr>
          <a:xfrm>
            <a:off x="4356000" y="4076640"/>
            <a:ext cx="4546800" cy="2362320"/>
          </a:xfrm>
          <a:prstGeom prst="rect">
            <a:avLst/>
          </a:prstGeom>
          <a:ln w="28440">
            <a:solidFill>
              <a:srgbClr val="f07f09"/>
            </a:solidFill>
            <a:miter/>
          </a:ln>
        </p:spPr>
      </p:pic>
      <p:pic>
        <p:nvPicPr>
          <p:cNvPr id="241" name="Picture 6" descr="sajen"/>
          <p:cNvPicPr/>
          <p:nvPr/>
        </p:nvPicPr>
        <p:blipFill>
          <a:blip r:embed="rId2"/>
          <a:stretch/>
        </p:blipFill>
        <p:spPr>
          <a:xfrm>
            <a:off x="250920" y="4365720"/>
            <a:ext cx="396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2349360"/>
            <a:ext cx="8229600" cy="1710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шок – единица, равная двум верхним суставам указательного паль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вершок = ¼ пяди = 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/16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ршина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,44 с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3"/>
          <p:cNvPicPr/>
          <p:nvPr/>
        </p:nvPicPr>
        <p:blipFill>
          <a:blip r:embed="rId1"/>
          <a:stretch/>
        </p:blipFill>
        <p:spPr>
          <a:xfrm>
            <a:off x="3348000" y="476280"/>
            <a:ext cx="2232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дь (четверть) – расстояние между концами большого и указательного пальцев, растянутых в плоск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пядь = ¼ аршина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17, 78 с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4608720" cy="2678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RUKA"/>
          <p:cNvPicPr/>
          <p:nvPr/>
        </p:nvPicPr>
        <p:blipFill>
          <a:blip r:embed="rId2"/>
          <a:stretch/>
        </p:blipFill>
        <p:spPr>
          <a:xfrm>
            <a:off x="5683320" y="4148280"/>
            <a:ext cx="25905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1:11:47Z</dcterms:created>
  <dc:creator>Your User Name</dc:creator>
  <dc:description/>
  <dc:language>en-US</dc:language>
  <cp:lastModifiedBy>user</cp:lastModifiedBy>
  <dcterms:modified xsi:type="dcterms:W3CDTF">2015-02-03T13:47:16Z</dcterms:modified>
  <cp:revision>24</cp:revision>
  <dc:subject/>
  <dc:title>Из истории единиц длины</dc:title>
</cp:coreProperties>
</file>