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6.png" ContentType="image/png"/>
  <Override PartName="/ppt/media/image11.png" ContentType="image/png"/>
  <Override PartName="/ppt/media/image5.gif" ContentType="image/gif"/>
  <Override PartName="/ppt/media/image33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2.jpeg" ContentType="image/jpeg"/>
  <Override PartName="/ppt/media/image34.png" ContentType="image/png"/>
  <Override PartName="/ppt/media/image9.wmf" ContentType="image/x-wmf"/>
  <Override PartName="/ppt/media/image10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13.jpeg" ContentType="image/jpeg"/>
  <Override PartName="/ppt/media/image18.gif" ContentType="image/gif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8.gif" ContentType="image/gif"/>
  <Override PartName="/ppt/media/image4.wmf" ContentType="image/x-wmf"/>
  <Override PartName="/ppt/media/image16.jpeg" ContentType="image/jpeg"/>
  <Override PartName="/ppt/media/image17.jpeg" ContentType="image/jpeg"/>
  <Override PartName="/ppt/media/image19.png" ContentType="image/png"/>
  <Override PartName="/ppt/media/image20.jpeg" ContentType="image/jpeg"/>
  <Override PartName="/ppt/media/image2.wmf" ContentType="image/x-wm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A6AFE-1BD2-4DCD-A583-DF295B29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BBC4B-1FEF-43FE-8400-644597B8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34549-2C7D-4656-839A-D9930FF9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981BE-F8BF-4E3C-B23C-177260EB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FA12-A4C2-4257-84A8-1476494B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F24F-1663-4834-94D8-5D6CF612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14B7-F104-4772-A472-48D8E48A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610A-5B6A-4A29-952E-B7DF0AF8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3503-421D-46B3-95E5-CB140563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F18F-D91A-42B0-8F1A-A5F26818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2391-3DB7-44C5-840C-1EE229D1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9CCC9-E9DB-4E73-ACED-41EE376F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8C4F-3898-469A-908F-835A56F1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2645-6724-4415-B996-476FBDC6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59B6-C2C0-444D-AD56-AC9B7F72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28B4-C2E8-4E5B-8DF8-2245360D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0038-0A1E-4E3C-A64A-66B22867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F15E8-79AC-4E87-9950-5765418F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B84A5-0066-462E-8171-A4113FE6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D39CA-0137-4F04-9BD4-098FB832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42EB1-18DF-4879-91E4-A1112563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0EF5E-5138-41B7-9D8A-D529342E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23C2D-3401-4837-9945-7B640D3E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D261-20F4-42F7-9CB0-0A25155F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7A59-DD06-4E00-822F-1C7AD062FD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/>
              <a:ahLst/>
              <a:rect l="l" t="t" r="r" b="b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/>
              <a:ahLst/>
              <a:rect l="l" t="t" r="r" b="b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/>
              <a:ahLst/>
              <a:rect l="l" t="t" r="r" b="b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/>
              <a:ahLst/>
              <a:rect l="l" t="t" r="r" b="b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/>
              <a:ahLst/>
              <a:rect l="l" t="t" r="r" b="b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/>
              <a:ahLst/>
              <a:rect l="l" t="t" r="r" b="b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/>
              <a:ahLst/>
              <a:rect l="l" t="t" r="r" b="b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/>
              <a:ahLst/>
              <a:rect l="l" t="t" r="r" b="b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/>
              <a:ahLst/>
              <a:rect l="l" t="t" r="r" b="b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/>
              <a:ahLst/>
              <a:rect l="l" t="t" r="r" b="b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/>
              <a:ahLst/>
              <a:rect l="l" t="t" r="r" b="b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/>
              <a:ahLst/>
              <a:rect l="l" t="t" r="r" b="b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/>
              <a:ahLst/>
              <a:rect l="l" t="t" r="r" b="b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9320"/>
            <a:ext cx="7314840" cy="4571280"/>
            <a:chOff x="914760" y="1219320"/>
            <a:chExt cx="731484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14560" y="1219320"/>
              <a:ext cx="864360" cy="4548600"/>
              <a:chOff x="1114560" y="1219320"/>
              <a:chExt cx="86436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1456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9428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905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789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8200"/>
              <a:ext cx="7314840" cy="4098960"/>
              <a:chOff x="914760" y="1438200"/>
              <a:chExt cx="7314840" cy="409896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8200"/>
                <a:ext cx="7296840" cy="820440"/>
                <a:chOff x="914760" y="1438200"/>
                <a:chExt cx="729684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820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89640" y="171288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7160" y="198396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520" y="2258640"/>
                  <a:ext cx="72212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2400" y="2521440"/>
                <a:ext cx="7297200" cy="820440"/>
                <a:chOff x="932400" y="2521440"/>
                <a:chExt cx="729720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2400" y="252144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5840" y="2795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2640" y="306684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440" y="334188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31680"/>
                <a:ext cx="7296840" cy="820440"/>
                <a:chOff x="914760" y="3631680"/>
                <a:chExt cx="729684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3168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89640" y="390528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7160" y="417708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520" y="4452120"/>
                  <a:ext cx="72212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2400" y="4713120"/>
                <a:ext cx="7297200" cy="824040"/>
                <a:chOff x="932400" y="4713120"/>
                <a:chExt cx="7297200" cy="82404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2400" y="47131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5840" y="498744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2640" y="526248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440" y="55371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83840" y="1243080"/>
              <a:ext cx="864360" cy="4547520"/>
              <a:chOff x="2283840" y="1243080"/>
              <a:chExt cx="86436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838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635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5984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482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69320" y="1243080"/>
              <a:ext cx="864360" cy="4547520"/>
              <a:chOff x="3469320" y="1243080"/>
              <a:chExt cx="86436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693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476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453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336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54800" y="1243080"/>
              <a:ext cx="864360" cy="4547520"/>
              <a:chOff x="4654800" y="1243080"/>
              <a:chExt cx="86436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548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330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282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191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91320" y="1243080"/>
              <a:ext cx="862560" cy="4547520"/>
              <a:chOff x="5791320" y="1243080"/>
              <a:chExt cx="86256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913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681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6444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53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50520" y="1243080"/>
              <a:ext cx="864360" cy="4547520"/>
              <a:chOff x="6950520" y="1243080"/>
              <a:chExt cx="86436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505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288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240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14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B05C-4544-475D-9BD8-2BDBD839FE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«Наш кабинет»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(экология учебных помещени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411444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Авторы работы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ицы 4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Ш № 10 п. Каме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рбатова Екатерина, Оздоева Зал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Руководитель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злицкая И.В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5"/>
          <p:cNvSpPr/>
          <p:nvPr/>
        </p:nvSpPr>
        <p:spPr>
          <a:xfrm>
            <a:off x="304920" y="228600"/>
            <a:ext cx="853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ИНИСТЕРСТВО ОБРАЗОВАНИЯ РОССИЙСКОЙ ФЕДЕРАЦ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УНИЦИПАЛЬНОЕ ОБРАЗОВАТЕЛЬНОЕ УЧРЕЖДЕ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«СРЕДНЯЯ ОБЩЕОБРАЗОВАТЕЛЬНАЯ ШКОЛА № 10 П. КАМЕНСКИЙ»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зучение соответствия параметров рабочего    стола и стула росту учеников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4" descr="2а.JPG"/>
          <p:cNvPicPr/>
          <p:nvPr/>
        </p:nvPicPr>
        <p:blipFill>
          <a:blip r:embed="rId1"/>
          <a:stretch/>
        </p:blipFill>
        <p:spPr>
          <a:xfrm>
            <a:off x="1600200" y="1219320"/>
            <a:ext cx="603396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1143000" y="5257800"/>
          <a:ext cx="7391520" cy="1219320"/>
        </p:xfrm>
        <a:graphic>
          <a:graphicData uri="http://schemas.openxmlformats.org/drawingml/2006/table">
            <a:tbl>
              <a:tblPr/>
              <a:tblGrid>
                <a:gridCol w="1911240"/>
                <a:gridCol w="3090960"/>
                <a:gridCol w="2389320"/>
              </a:tblGrid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ро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та ст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 пола, в м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та сту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 пола, в м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 – 145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0 – 160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учение соответствия параметров рабочего    стола и стула росту учеников класс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Содержимое 3" descr="7.JPG"/>
          <p:cNvPicPr/>
          <p:nvPr/>
        </p:nvPicPr>
        <p:blipFill>
          <a:blip r:embed="rId1"/>
          <a:stretch/>
        </p:blipFill>
        <p:spPr>
          <a:xfrm>
            <a:off x="990720" y="1371600"/>
            <a:ext cx="4190760" cy="3192480"/>
          </a:xfrm>
          <a:prstGeom prst="rect">
            <a:avLst/>
          </a:prstGeom>
          <a:ln w="0">
            <a:noFill/>
          </a:ln>
        </p:spPr>
      </p:pic>
      <p:pic>
        <p:nvPicPr>
          <p:cNvPr id="194" name="Содержимое 3" descr="11.JPG"/>
          <p:cNvPicPr/>
          <p:nvPr/>
        </p:nvPicPr>
        <p:blipFill>
          <a:blip r:embed="rId2"/>
          <a:stretch/>
        </p:blipFill>
        <p:spPr>
          <a:xfrm>
            <a:off x="5767560" y="1346040"/>
            <a:ext cx="2734920" cy="3530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6"/>
          <p:cNvSpPr/>
          <p:nvPr/>
        </p:nvSpPr>
        <p:spPr>
          <a:xfrm>
            <a:off x="990720" y="45720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Вывод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Имеющаяся в классе мебель соответствует росту учеников класса, каждый обучающийся обеспечен удобным местом за столом в соответствии с состоянием зрения и слух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Нужно обратиться к администрации школы и завхозу с просьбой: нанести на мебель маркировку в соответствии с требованиями СанП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ценка теплового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 воздушного реж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N:\анимация+картинки\анимашки от Мар\буквы стрелки\polos\line013.gif"/>
          <p:cNvPicPr/>
          <p:nvPr/>
        </p:nvPicPr>
        <p:blipFill>
          <a:blip r:embed="rId1"/>
          <a:stretch/>
        </p:blipFill>
        <p:spPr>
          <a:xfrm rot="16200000">
            <a:off x="6617520" y="1916640"/>
            <a:ext cx="3504960" cy="7383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>
            <a:off x="609480" y="1532880"/>
            <a:ext cx="72392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ы: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ка теплового режима подтверждает, что температура в классе весной чуть ниже  гигиенической нормы, которая  составляет  18-2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дминистрации школы необходимо обратить внимание на ремонт отопительной системы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N:\картинки\0f32bd9346b0.png"/>
          <p:cNvPicPr/>
          <p:nvPr/>
        </p:nvPicPr>
        <p:blipFill>
          <a:blip r:embed="rId2"/>
          <a:stretch/>
        </p:blipFill>
        <p:spPr>
          <a:xfrm>
            <a:off x="1523880" y="3735360"/>
            <a:ext cx="2773440" cy="28098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7"/>
          <p:cNvSpPr/>
          <p:nvPr/>
        </p:nvSpPr>
        <p:spPr>
          <a:xfrm>
            <a:off x="5334120" y="441972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V = 19.2 куб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ри н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= 5 – 6 куб. 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ценка воздушного режим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Содержимое 3" descr="А-1.jpg"/>
          <p:cNvPicPr/>
          <p:nvPr/>
        </p:nvPicPr>
        <p:blipFill>
          <a:blip r:embed="rId1"/>
          <a:stretch/>
        </p:blipFill>
        <p:spPr>
          <a:xfrm>
            <a:off x="4343400" y="1103400"/>
            <a:ext cx="4403880" cy="53607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4" descr="А-2.jpg"/>
          <p:cNvPicPr/>
          <p:nvPr/>
        </p:nvPicPr>
        <p:blipFill>
          <a:blip r:embed="rId2"/>
          <a:stretch/>
        </p:blipFill>
        <p:spPr>
          <a:xfrm>
            <a:off x="4343400" y="1143000"/>
            <a:ext cx="4343400" cy="53341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А-3.jpg"/>
          <p:cNvPicPr/>
          <p:nvPr/>
        </p:nvPicPr>
        <p:blipFill>
          <a:blip r:embed="rId3"/>
          <a:stretch/>
        </p:blipFill>
        <p:spPr>
          <a:xfrm>
            <a:off x="4343400" y="1143000"/>
            <a:ext cx="4343400" cy="53341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7"/>
          <p:cNvSpPr/>
          <p:nvPr/>
        </p:nvSpPr>
        <p:spPr>
          <a:xfrm>
            <a:off x="838080" y="1997640"/>
            <a:ext cx="2819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: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помещения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объё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ъём возду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ученика соответствуют нормам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нализ качества озеленения клас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Содержимое 3" descr="1а.JPG"/>
          <p:cNvPicPr/>
          <p:nvPr/>
        </p:nvPicPr>
        <p:blipFill>
          <a:blip r:embed="rId1"/>
          <a:stretch/>
        </p:blipFill>
        <p:spPr>
          <a:xfrm>
            <a:off x="304920" y="1143000"/>
            <a:ext cx="6033960" cy="45259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Пеперомия.JPG"/>
          <p:cNvPicPr/>
          <p:nvPr/>
        </p:nvPicPr>
        <p:blipFill>
          <a:blip r:embed="rId2"/>
          <a:stretch/>
        </p:blipFill>
        <p:spPr>
          <a:xfrm>
            <a:off x="6781680" y="914400"/>
            <a:ext cx="2111400" cy="23972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Плющ.JPG"/>
          <p:cNvPicPr/>
          <p:nvPr/>
        </p:nvPicPr>
        <p:blipFill>
          <a:blip r:embed="rId3"/>
          <a:stretch/>
        </p:blipFill>
        <p:spPr>
          <a:xfrm>
            <a:off x="3657600" y="4114800"/>
            <a:ext cx="2394000" cy="25178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6" descr="Хлорофитум.JPG"/>
          <p:cNvPicPr/>
          <p:nvPr/>
        </p:nvPicPr>
        <p:blipFill>
          <a:blip r:embed="rId4"/>
          <a:stretch/>
        </p:blipFill>
        <p:spPr>
          <a:xfrm>
            <a:off x="304920" y="1143000"/>
            <a:ext cx="2514600" cy="33526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6324480" y="3367800"/>
            <a:ext cx="2819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84% растений  в нашем классе обладают полезными свойствами, следует убрать из кабинета такие растения, как диффенбахия и молочай, так как они могут вызвать аллерг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арактеристика  инсоля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одержимое 3" descr="3.JPG"/>
          <p:cNvPicPr/>
          <p:nvPr/>
        </p:nvPicPr>
        <p:blipFill>
          <a:blip r:embed="rId1"/>
          <a:stretch/>
        </p:blipFill>
        <p:spPr>
          <a:xfrm>
            <a:off x="533520" y="1066680"/>
            <a:ext cx="5384520" cy="3429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6172200" y="1318320"/>
            <a:ext cx="2743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инсоляции в нашем кабинете достаточное, режим инсоляции  - от  умеренного  в  зимнее  время  до максимального весной-осен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4648320"/>
          <a:ext cx="5638680" cy="1858680"/>
        </p:xfrm>
        <a:graphic>
          <a:graphicData uri="http://schemas.openxmlformats.org/drawingml/2006/table">
            <a:tbl>
              <a:tblPr/>
              <a:tblGrid>
                <a:gridCol w="1574640"/>
                <a:gridCol w="1362240"/>
                <a:gridCol w="1066680"/>
                <a:gridCol w="1635120"/>
              </a:tblGrid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оляционный реж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иентация по сторонам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инсо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нт инсолируемой площади пом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ксим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В; Ю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-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;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-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 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м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; С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нее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нее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ветовой режим  класс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4" descr="5.JPG"/>
          <p:cNvPicPr/>
          <p:nvPr/>
        </p:nvPicPr>
        <p:blipFill>
          <a:blip r:embed="rId1"/>
          <a:stretch/>
        </p:blipFill>
        <p:spPr>
          <a:xfrm>
            <a:off x="1523880" y="1143000"/>
            <a:ext cx="5791320" cy="42894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"/>
          <p:cNvSpPr/>
          <p:nvPr/>
        </p:nvSpPr>
        <p:spPr>
          <a:xfrm>
            <a:off x="1219320" y="5567040"/>
            <a:ext cx="761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ы: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 в классе соответствует санитарно-гигиеническим нормам. 2. Иногда необходимо  более оперативно заменять перегоревшие ламп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3"/>
          <p:cNvPicPr/>
          <p:nvPr/>
        </p:nvPicPr>
        <p:blipFill>
          <a:blip r:embed="rId2"/>
          <a:stretch/>
        </p:blipFill>
        <p:spPr>
          <a:xfrm>
            <a:off x="1523880" y="1219320"/>
            <a:ext cx="5867640" cy="4267080"/>
          </a:xfrm>
          <a:prstGeom prst="rect">
            <a:avLst/>
          </a:prstGeom>
          <a:ln w="0">
            <a:noFill/>
          </a:ln>
        </p:spPr>
      </p:pic>
      <p:pic>
        <p:nvPicPr>
          <p:cNvPr id="220" name="Содержимое 3" descr="9.JPG"/>
          <p:cNvPicPr/>
          <p:nvPr/>
        </p:nvPicPr>
        <p:blipFill>
          <a:blip r:embed="rId3"/>
          <a:stretch/>
        </p:blipFill>
        <p:spPr>
          <a:xfrm>
            <a:off x="1447920" y="1143000"/>
            <a:ext cx="594360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араметры среды классной ком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 основном соответству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требованиям и нормам СанП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2" descr="2а.JPG"/>
          <p:cNvPicPr/>
          <p:nvPr/>
        </p:nvPicPr>
        <p:blipFill>
          <a:blip r:embed="rId1"/>
          <a:stretch/>
        </p:blipFill>
        <p:spPr>
          <a:xfrm>
            <a:off x="1447920" y="1676520"/>
            <a:ext cx="6629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пуски по болезни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в днях на 1 человека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Диаграмма 5"/>
          <p:cNvGraphicFramePr/>
          <p:nvPr/>
        </p:nvGraphicFramePr>
        <p:xfrm>
          <a:off x="939960" y="1625760"/>
          <a:ext cx="7873920" cy="49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25760"/>
                    <a:ext cx="787392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"/>
          <p:cNvSpPr/>
          <p:nvPr/>
        </p:nvSpPr>
        <p:spPr>
          <a:xfrm>
            <a:off x="0" y="36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вень заболеваем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0" y="36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Диаграмма 5"/>
          <p:cNvGraphicFramePr/>
          <p:nvPr/>
        </p:nvGraphicFramePr>
        <p:xfrm>
          <a:off x="863640" y="1015920"/>
          <a:ext cx="8026200" cy="55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015920"/>
                    <a:ext cx="802620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Результаты анкетиров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Диаграмма 1"/>
          <p:cNvGraphicFramePr/>
          <p:nvPr/>
        </p:nvGraphicFramePr>
        <p:xfrm>
          <a:off x="685800" y="1219320"/>
          <a:ext cx="815328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81532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90720" y="304920"/>
            <a:ext cx="76960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бы были вы крас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бы не были плаксивы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б в руках любое дел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ружно спорилось, горело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бы громче пелись пес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жить чтоб было интересней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жно сильным быть, здоров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ти истины не но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Documents and Settings\Iren.IRINA\Мои документы\Наша работа-1\Изображения\Доска.gif"/>
          <p:cNvPicPr/>
          <p:nvPr/>
        </p:nvPicPr>
        <p:blipFill>
          <a:blip r:embed="rId1"/>
          <a:stretch/>
        </p:blipFill>
        <p:spPr>
          <a:xfrm>
            <a:off x="5257800" y="4545000"/>
            <a:ext cx="38862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5"/>
          <p:cNvSpPr/>
          <p:nvPr/>
        </p:nvSpPr>
        <p:spPr>
          <a:xfrm>
            <a:off x="137160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Диаграмма 2"/>
          <p:cNvGraphicFramePr/>
          <p:nvPr/>
        </p:nvGraphicFramePr>
        <p:xfrm>
          <a:off x="762120" y="1219320"/>
          <a:ext cx="8076960" cy="53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807696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Предмет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анитарно-эпидемиологические правила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анПиН 2.4.2.1178-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игиенические треб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условиям об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образовательных учреждения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ъект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 4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 10 п. Каме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ель работы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ь соответствие параметров среды классной комнаты гигиеническим требованиям и нормам СанП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анитарно-эпидемиологические правила и нормати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делить факторы, характеризующие параметры среды классной комн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льзуясь простейшими методиками, оценить показатели факторов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утем сравнения с нормами СанПиН установить их соответствие гигиеническим требованиям и нор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работать рекомендации для учеников класса, администрации школы по поддержанию и созданию здоровьесберегающих условий в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метить дальнейшие перспективы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6934320" y="1600200"/>
            <a:ext cx="19414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 классной комнате всё будет соответствовать санитарным нормам, мы меньше будем боле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сохраним своё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дети"/>
          <p:cNvPicPr/>
          <p:nvPr/>
        </p:nvPicPr>
        <p:blipFill>
          <a:blip r:embed="rId1"/>
          <a:stretch/>
        </p:blipFill>
        <p:spPr>
          <a:xfrm>
            <a:off x="304920" y="4191120"/>
            <a:ext cx="2278080" cy="24494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2133720" y="2514600"/>
            <a:ext cx="67053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акторы, характеризующие парамет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реды классной ком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езная площадь помещения и его оформ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тветствие размеров мебели росту уче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пловой режим поме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кторы воздушно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етовой режим поме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Методы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990360"/>
            <a:ext cx="38862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из научной литературы и Интернет-ресур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ения и  опыты;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кетирова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ение, анализ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4" descr="8.JPG"/>
          <p:cNvPicPr/>
          <p:nvPr/>
        </p:nvPicPr>
        <p:blipFill>
          <a:blip r:embed="rId1"/>
          <a:stretch/>
        </p:blipFill>
        <p:spPr>
          <a:xfrm>
            <a:off x="4343400" y="32004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:\Documents and Settings\Iren.IRINA\Мои документы\Наша работа-1\Изображения\Книги.gif"/>
          <p:cNvPicPr/>
          <p:nvPr/>
        </p:nvPicPr>
        <p:blipFill>
          <a:blip r:embed="rId2"/>
          <a:stretch/>
        </p:blipFill>
        <p:spPr>
          <a:xfrm>
            <a:off x="6019920" y="1143000"/>
            <a:ext cx="14428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Полезная площадь каби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Содержимое 3" descr="6.JPG"/>
          <p:cNvPicPr/>
          <p:nvPr/>
        </p:nvPicPr>
        <p:blipFill>
          <a:blip r:embed="rId1"/>
          <a:stretch/>
        </p:blipFill>
        <p:spPr>
          <a:xfrm>
            <a:off x="380880" y="2766960"/>
            <a:ext cx="4038840" cy="38926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4648320" y="321012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щадь помещения на одного учащегося соответствует санитарно-гигиеническим нормам, тем более что нас в классе всего 8 уче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990720"/>
          <a:ext cx="8458200" cy="1682640"/>
        </p:xfrm>
        <a:graphic>
          <a:graphicData uri="http://schemas.openxmlformats.org/drawingml/2006/table">
            <a:tbl>
              <a:tblPr/>
              <a:tblGrid>
                <a:gridCol w="1233360"/>
                <a:gridCol w="1094040"/>
                <a:gridCol w="950760"/>
                <a:gridCol w="951120"/>
                <a:gridCol w="1404720"/>
                <a:gridCol w="1571760"/>
                <a:gridCol w="1252440"/>
              </a:tblGrid>
              <a:tr h="559800">
                <a:tc rowSpan="2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юдей в кабине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/пла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ы  поме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м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счёте на 1 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вели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008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м  55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3  кв.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  кв.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  кв.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утренняя отделка помещения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и оборудование классной ком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4" descr="5.JPG"/>
          <p:cNvPicPr/>
          <p:nvPr/>
        </p:nvPicPr>
        <p:blipFill>
          <a:blip r:embed="rId1"/>
          <a:stretch/>
        </p:blipFill>
        <p:spPr>
          <a:xfrm>
            <a:off x="685800" y="1600200"/>
            <a:ext cx="5181480" cy="45259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6019920" y="1851480"/>
            <a:ext cx="2971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отделка и оформление помещения соответствуют норм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бель в классе расставл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ребованиям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борудова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м поме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8" descr="3б.JPG"/>
          <p:cNvPicPr/>
          <p:nvPr/>
        </p:nvPicPr>
        <p:blipFill>
          <a:blip r:embed="rId2"/>
          <a:stretch/>
        </p:blipFill>
        <p:spPr>
          <a:xfrm>
            <a:off x="685800" y="1600200"/>
            <a:ext cx="5257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Ирина Козлицкая Ирина</cp:lastModifiedBy>
  <dcterms:modified xsi:type="dcterms:W3CDTF">2015-02-03T12:33:18Z</dcterms:modified>
  <cp:revision>34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