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6.png" ContentType="image/png"/>
  <Override PartName="/ppt/media/image11.png" ContentType="image/png"/>
  <Override PartName="/ppt/media/image5.gif" ContentType="image/gif"/>
  <Override PartName="/ppt/media/image33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2.jpeg" ContentType="image/jpeg"/>
  <Override PartName="/ppt/media/image34.png" ContentType="image/png"/>
  <Override PartName="/ppt/media/image9.wmf" ContentType="image/x-wmf"/>
  <Override PartName="/ppt/media/image10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13.jpeg" ContentType="image/jpeg"/>
  <Override PartName="/ppt/media/image18.gif" ContentType="image/gif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8.gif" ContentType="image/gif"/>
  <Override PartName="/ppt/media/image4.wmf" ContentType="image/x-wmf"/>
  <Override PartName="/ppt/media/image16.jpeg" ContentType="image/jpeg"/>
  <Override PartName="/ppt/media/image17.jpeg" ContentType="image/jpeg"/>
  <Override PartName="/ppt/media/image19.png" ContentType="image/png"/>
  <Override PartName="/ppt/media/image20.jpeg" ContentType="image/jpeg"/>
  <Override PartName="/ppt/media/image2.wmf" ContentType="image/x-wm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6048-2007-46F3-8FFF-2D981416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70E32-7ECE-4E51-AA8A-79F754EB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EC6BD-E403-43D9-AB86-DE98AEAB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664FC-FA84-42D1-BA01-4EF994EE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5BC0-0B14-46E2-B4C9-117F2C81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708F-BCC2-466E-AA9A-90925F41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584C-ECF6-40BD-A1EF-BA499C8C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B129-DB95-4AB0-8878-658426C7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8819-78C9-403D-86E0-210DF5D4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98FD-A3E0-4DA5-98A6-930B60ED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686C-0DAA-440D-B1EA-2255C8BF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505B-A22D-4C6F-9FCE-6AF7EE4C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A9EA-C494-450E-B42D-88360F73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C02A-3DBB-41B2-8485-77134695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0E36-187D-4EB0-B707-36FB1531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4D48-E275-4A43-99E9-0F7694F6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863A-C84E-461C-BA66-CC877611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BD9E-BBFA-4F6A-BFA6-B5BC5F67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42082-42A4-4595-A905-AAD815E1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03BD0-BE6D-4ED2-A17D-1B3D9914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8B75-49A3-44D8-8304-D89B45B3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54D1-60C2-4CAC-8297-820A0D41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4756E-C312-49A8-A36A-E79E04B6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EF1B2-2B43-4E4B-9644-247E159D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C0E1-B0C8-4BD2-B8D5-6135905125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/>
              <a:ahLst/>
              <a:rect l="l" t="t" r="r" b="b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/>
              <a:ahLst/>
              <a:rect l="l" t="t" r="r" b="b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/>
              <a:ahLst/>
              <a:rect l="l" t="t" r="r" b="b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/>
              <a:ahLst/>
              <a:rect l="l" t="t" r="r" b="b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/>
              <a:ahLst/>
              <a:rect l="l" t="t" r="r" b="b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/>
              <a:ahLst/>
              <a:rect l="l" t="t" r="r" b="b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/>
              <a:ahLst/>
              <a:rect l="l" t="t" r="r" b="b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/>
              <a:ahLst/>
              <a:rect l="l" t="t" r="r" b="b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/>
              <a:ahLst/>
              <a:rect l="l" t="t" r="r" b="b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/>
              <a:ahLst/>
              <a:rect l="l" t="t" r="r" b="b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/>
              <a:ahLst/>
              <a:rect l="l" t="t" r="r" b="b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/>
              <a:ahLst/>
              <a:rect l="l" t="t" r="r" b="b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/>
              <a:ahLst/>
              <a:rect l="l" t="t" r="r" b="b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9320"/>
            <a:ext cx="7314840" cy="4571280"/>
            <a:chOff x="91476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4560" y="1219320"/>
              <a:ext cx="864360" cy="4548600"/>
              <a:chOff x="1114560" y="1219320"/>
              <a:chExt cx="86436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456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9428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905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7892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8200"/>
              <a:ext cx="7314840" cy="4098960"/>
              <a:chOff x="914760" y="1438200"/>
              <a:chExt cx="7314840" cy="409896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8200"/>
                <a:ext cx="7296840" cy="820440"/>
                <a:chOff x="914760" y="1438200"/>
                <a:chExt cx="729684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820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89640" y="171288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7160" y="198396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520" y="2258640"/>
                  <a:ext cx="72212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2400" y="2521440"/>
                <a:ext cx="7297200" cy="820440"/>
                <a:chOff x="932400" y="2521440"/>
                <a:chExt cx="729720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2400" y="25214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5840" y="2795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2640" y="30668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440" y="33418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31680"/>
                <a:ext cx="7296840" cy="820440"/>
                <a:chOff x="914760" y="3631680"/>
                <a:chExt cx="729684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3168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89640" y="390528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7160" y="417708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520" y="4452120"/>
                  <a:ext cx="72212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2400" y="4713120"/>
                <a:ext cx="7297200" cy="824040"/>
                <a:chOff x="932400" y="4713120"/>
                <a:chExt cx="7297200" cy="82404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2400" y="47131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5840" y="49874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2640" y="52624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440" y="55371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83840" y="1243080"/>
              <a:ext cx="864360" cy="4547520"/>
              <a:chOff x="2283840" y="1243080"/>
              <a:chExt cx="86436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838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635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5984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482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69320" y="1243080"/>
              <a:ext cx="864360" cy="4547520"/>
              <a:chOff x="3469320" y="1243080"/>
              <a:chExt cx="86436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693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476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453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336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54800" y="1243080"/>
              <a:ext cx="864360" cy="4547520"/>
              <a:chOff x="4654800" y="1243080"/>
              <a:chExt cx="86436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548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330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282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191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91320" y="1243080"/>
              <a:ext cx="862560" cy="4547520"/>
              <a:chOff x="5791320" y="1243080"/>
              <a:chExt cx="86256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913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681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6444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53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50520" y="1243080"/>
              <a:ext cx="864360" cy="4547520"/>
              <a:chOff x="6950520" y="1243080"/>
              <a:chExt cx="86436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505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288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240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14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0925-29F1-4E6D-8DD4-2015B6AC59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«Наш кабинет»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(экология учебных помещени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41144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Авторы работы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ицы 4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Ш № 10 п. Каме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рбатова Екатерина, Оздоева Зал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Руководитель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злицкая И.В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5"/>
          <p:cNvSpPr/>
          <p:nvPr/>
        </p:nvSpPr>
        <p:spPr>
          <a:xfrm>
            <a:off x="304920" y="228600"/>
            <a:ext cx="853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ИНИСТЕРСТВО ОБРАЗОВАНИЯ РОССИЙСКОЙ ФЕДЕРАЦ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УНИЦИПАЛЬНОЕ ОБРАЗОВАТЕЛЬНОЕ УЧРЕЖДЕ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«СРЕДНЯЯ ОБЩЕОБРАЗОВАТЕЛЬНАЯ ШКОЛА № 10 П. КАМЕНСКИЙ»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зучение соответствия параметров рабочего    стола и стула росту учеников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4" descr="2а.JPG"/>
          <p:cNvPicPr/>
          <p:nvPr/>
        </p:nvPicPr>
        <p:blipFill>
          <a:blip r:embed="rId1"/>
          <a:stretch/>
        </p:blipFill>
        <p:spPr>
          <a:xfrm>
            <a:off x="1600200" y="1219320"/>
            <a:ext cx="603396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1143000" y="5257800"/>
          <a:ext cx="7391520" cy="1219320"/>
        </p:xfrm>
        <a:graphic>
          <a:graphicData uri="http://schemas.openxmlformats.org/drawingml/2006/table">
            <a:tbl>
              <a:tblPr/>
              <a:tblGrid>
                <a:gridCol w="1911240"/>
                <a:gridCol w="3090960"/>
                <a:gridCol w="2389320"/>
              </a:tblGrid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ро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та ст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 пола, в м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та сту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 пола, в м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 – 145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0 – 160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учение соответствия параметров рабочего    стола и стула росту учеников класс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Содержимое 3" descr="7.JPG"/>
          <p:cNvPicPr/>
          <p:nvPr/>
        </p:nvPicPr>
        <p:blipFill>
          <a:blip r:embed="rId1"/>
          <a:stretch/>
        </p:blipFill>
        <p:spPr>
          <a:xfrm>
            <a:off x="990720" y="1371600"/>
            <a:ext cx="4190760" cy="3192480"/>
          </a:xfrm>
          <a:prstGeom prst="rect">
            <a:avLst/>
          </a:prstGeom>
          <a:ln w="0">
            <a:noFill/>
          </a:ln>
        </p:spPr>
      </p:pic>
      <p:pic>
        <p:nvPicPr>
          <p:cNvPr id="194" name="Содержимое 3" descr="11.JPG"/>
          <p:cNvPicPr/>
          <p:nvPr/>
        </p:nvPicPr>
        <p:blipFill>
          <a:blip r:embed="rId2"/>
          <a:stretch/>
        </p:blipFill>
        <p:spPr>
          <a:xfrm>
            <a:off x="5767560" y="1346040"/>
            <a:ext cx="2734920" cy="3530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6"/>
          <p:cNvSpPr/>
          <p:nvPr/>
        </p:nvSpPr>
        <p:spPr>
          <a:xfrm>
            <a:off x="990720" y="45720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Вывод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Имеющаяся в классе мебель соответствует росту учеников класса, каждый обучающийся обеспечен удобным местом за столом в соответствии с состоянием зрения и слух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Нужно обратиться к администрации школы и завхозу с просьбой: нанести на мебель маркировку в соответствии с требованиями СанП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ценка теплового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 воздушного реж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N:\анимация+картинки\анимашки от Мар\буквы стрелки\polos\line013.gif"/>
          <p:cNvPicPr/>
          <p:nvPr/>
        </p:nvPicPr>
        <p:blipFill>
          <a:blip r:embed="rId1"/>
          <a:stretch/>
        </p:blipFill>
        <p:spPr>
          <a:xfrm rot="16200000">
            <a:off x="6617520" y="1916640"/>
            <a:ext cx="3504960" cy="7383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609480" y="1532880"/>
            <a:ext cx="72392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ы: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ка теплового режима подтверждает, что температура в классе весной чуть ниже  гигиенической нормы, которая  составляет  18-2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дминистрации школы необходимо обратить внимание на ремонт отопительной системы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N:\картинки\0f32bd9346b0.png"/>
          <p:cNvPicPr/>
          <p:nvPr/>
        </p:nvPicPr>
        <p:blipFill>
          <a:blip r:embed="rId2"/>
          <a:stretch/>
        </p:blipFill>
        <p:spPr>
          <a:xfrm>
            <a:off x="1523880" y="3735360"/>
            <a:ext cx="2773440" cy="28098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7"/>
          <p:cNvSpPr/>
          <p:nvPr/>
        </p:nvSpPr>
        <p:spPr>
          <a:xfrm>
            <a:off x="5334120" y="441972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V = 19.2 куб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ри н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= 5 – 6 куб. 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ценка воздушного режи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одержимое 3" descr="А-1.jpg"/>
          <p:cNvPicPr/>
          <p:nvPr/>
        </p:nvPicPr>
        <p:blipFill>
          <a:blip r:embed="rId1"/>
          <a:stretch/>
        </p:blipFill>
        <p:spPr>
          <a:xfrm>
            <a:off x="4343400" y="1103400"/>
            <a:ext cx="4403880" cy="53607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4" descr="А-2.jpg"/>
          <p:cNvPicPr/>
          <p:nvPr/>
        </p:nvPicPr>
        <p:blipFill>
          <a:blip r:embed="rId2"/>
          <a:stretch/>
        </p:blipFill>
        <p:spPr>
          <a:xfrm>
            <a:off x="4343400" y="1143000"/>
            <a:ext cx="4343400" cy="53341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А-3.jpg"/>
          <p:cNvPicPr/>
          <p:nvPr/>
        </p:nvPicPr>
        <p:blipFill>
          <a:blip r:embed="rId3"/>
          <a:stretch/>
        </p:blipFill>
        <p:spPr>
          <a:xfrm>
            <a:off x="4343400" y="1143000"/>
            <a:ext cx="4343400" cy="53341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838080" y="1997640"/>
            <a:ext cx="2819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: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помещения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объё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ъём возд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ученика соответствуют нормам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нализ качества озеленения клас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Содержимое 3" descr="1а.JPG"/>
          <p:cNvPicPr/>
          <p:nvPr/>
        </p:nvPicPr>
        <p:blipFill>
          <a:blip r:embed="rId1"/>
          <a:stretch/>
        </p:blipFill>
        <p:spPr>
          <a:xfrm>
            <a:off x="304920" y="1143000"/>
            <a:ext cx="6033960" cy="45259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Пеперомия.JPG"/>
          <p:cNvPicPr/>
          <p:nvPr/>
        </p:nvPicPr>
        <p:blipFill>
          <a:blip r:embed="rId2"/>
          <a:stretch/>
        </p:blipFill>
        <p:spPr>
          <a:xfrm>
            <a:off x="6781680" y="914400"/>
            <a:ext cx="2111400" cy="23972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Плющ.JPG"/>
          <p:cNvPicPr/>
          <p:nvPr/>
        </p:nvPicPr>
        <p:blipFill>
          <a:blip r:embed="rId3"/>
          <a:stretch/>
        </p:blipFill>
        <p:spPr>
          <a:xfrm>
            <a:off x="3657600" y="4114800"/>
            <a:ext cx="2394000" cy="25178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6" descr="Хлорофитум.JPG"/>
          <p:cNvPicPr/>
          <p:nvPr/>
        </p:nvPicPr>
        <p:blipFill>
          <a:blip r:embed="rId4"/>
          <a:stretch/>
        </p:blipFill>
        <p:spPr>
          <a:xfrm>
            <a:off x="304920" y="1143000"/>
            <a:ext cx="2514600" cy="33526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6324480" y="3367800"/>
            <a:ext cx="2819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84% растений  в нашем классе обладают полезными свойствами, следует убрать из кабинета такие растения, как диффенбахия и молочай, так как они могут вызвать аллерг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арактеристика  инсоля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одержимое 3" descr="3.JPG"/>
          <p:cNvPicPr/>
          <p:nvPr/>
        </p:nvPicPr>
        <p:blipFill>
          <a:blip r:embed="rId1"/>
          <a:stretch/>
        </p:blipFill>
        <p:spPr>
          <a:xfrm>
            <a:off x="533520" y="1066680"/>
            <a:ext cx="5384520" cy="3429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6172200" y="1318320"/>
            <a:ext cx="2743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инсоляции в нашем кабинете достаточное, режим инсоляции  - от  умеренного  в  зимнее  время  до максимального весной-осе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4648320"/>
          <a:ext cx="5638680" cy="1858680"/>
        </p:xfrm>
        <a:graphic>
          <a:graphicData uri="http://schemas.openxmlformats.org/drawingml/2006/table">
            <a:tbl>
              <a:tblPr/>
              <a:tblGrid>
                <a:gridCol w="1574640"/>
                <a:gridCol w="1362240"/>
                <a:gridCol w="1066680"/>
                <a:gridCol w="1635120"/>
              </a:tblGrid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оляционный реж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иентация по сторонам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инсоля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нт инсолируемой площади пом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ксим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В; Ю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-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;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-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м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; С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нее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нее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ветовой режим  класс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4" descr="5.JPG"/>
          <p:cNvPicPr/>
          <p:nvPr/>
        </p:nvPicPr>
        <p:blipFill>
          <a:blip r:embed="rId1"/>
          <a:stretch/>
        </p:blipFill>
        <p:spPr>
          <a:xfrm>
            <a:off x="1523880" y="1143000"/>
            <a:ext cx="5791320" cy="42894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"/>
          <p:cNvSpPr/>
          <p:nvPr/>
        </p:nvSpPr>
        <p:spPr>
          <a:xfrm>
            <a:off x="1219320" y="556704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ы: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 в классе соответствует санитарно-гигиеническим нормам. 2. Иногда необходимо  более оперативно заменять перегоревшие ламп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3"/>
          <p:cNvPicPr/>
          <p:nvPr/>
        </p:nvPicPr>
        <p:blipFill>
          <a:blip r:embed="rId2"/>
          <a:stretch/>
        </p:blipFill>
        <p:spPr>
          <a:xfrm>
            <a:off x="1523880" y="1219320"/>
            <a:ext cx="5867640" cy="4267080"/>
          </a:xfrm>
          <a:prstGeom prst="rect">
            <a:avLst/>
          </a:prstGeom>
          <a:ln w="0">
            <a:noFill/>
          </a:ln>
        </p:spPr>
      </p:pic>
      <p:pic>
        <p:nvPicPr>
          <p:cNvPr id="220" name="Содержимое 3" descr="9.JPG"/>
          <p:cNvPicPr/>
          <p:nvPr/>
        </p:nvPicPr>
        <p:blipFill>
          <a:blip r:embed="rId3"/>
          <a:stretch/>
        </p:blipFill>
        <p:spPr>
          <a:xfrm>
            <a:off x="1447920" y="1143000"/>
            <a:ext cx="594360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араметры среды классной ком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 основном соответству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требованиям и нормам СанП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2" descr="2а.JPG"/>
          <p:cNvPicPr/>
          <p:nvPr/>
        </p:nvPicPr>
        <p:blipFill>
          <a:blip r:embed="rId1"/>
          <a:stretch/>
        </p:blipFill>
        <p:spPr>
          <a:xfrm>
            <a:off x="1447920" y="1676520"/>
            <a:ext cx="6629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пуски по болезни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в днях на 1 человека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Диаграмма 5"/>
          <p:cNvGraphicFramePr/>
          <p:nvPr/>
        </p:nvGraphicFramePr>
        <p:xfrm>
          <a:off x="939960" y="1625760"/>
          <a:ext cx="7873920" cy="49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25760"/>
                    <a:ext cx="787392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"/>
          <p:cNvSpPr/>
          <p:nvPr/>
        </p:nvSpPr>
        <p:spPr>
          <a:xfrm>
            <a:off x="0" y="36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вень заболеваем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0" y="36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Диаграмма 5"/>
          <p:cNvGraphicFramePr/>
          <p:nvPr/>
        </p:nvGraphicFramePr>
        <p:xfrm>
          <a:off x="863640" y="1015920"/>
          <a:ext cx="8026200" cy="55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015920"/>
                    <a:ext cx="802620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Результаты анкетиров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Диаграмма 1"/>
          <p:cNvGraphicFramePr/>
          <p:nvPr/>
        </p:nvGraphicFramePr>
        <p:xfrm>
          <a:off x="685800" y="1219320"/>
          <a:ext cx="815328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81532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90720" y="304920"/>
            <a:ext cx="76960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бы были вы крас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бы не были плаксивы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б в руках любое дел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ружно спорилось, горело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бы громче пелись пес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жить чтоб было интересней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жно сильным быть, здоров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ти истины не но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Documents and Settings\Iren.IRINA\Мои документы\Наша работа-1\Изображения\Доска.gif"/>
          <p:cNvPicPr/>
          <p:nvPr/>
        </p:nvPicPr>
        <p:blipFill>
          <a:blip r:embed="rId1"/>
          <a:stretch/>
        </p:blipFill>
        <p:spPr>
          <a:xfrm>
            <a:off x="5257800" y="4545000"/>
            <a:ext cx="38862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5"/>
          <p:cNvSpPr/>
          <p:nvPr/>
        </p:nvSpPr>
        <p:spPr>
          <a:xfrm>
            <a:off x="137160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Диаграмма 2"/>
          <p:cNvGraphicFramePr/>
          <p:nvPr/>
        </p:nvGraphicFramePr>
        <p:xfrm>
          <a:off x="762120" y="1219320"/>
          <a:ext cx="8076960" cy="53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807696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Предмет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анитарно-эпидемиологические правила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анПиН 2.4.2.1178-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игиенические треб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словиям об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образовательных учреждения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ъект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 4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 10 п. Каме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ель работы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ь соответствие параметров среды классной комнаты гигиеническим требованиям и нормам СанП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анитарно-эпидемиологические правила и нормати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делить факторы, характеризующие параметры среды классной комн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льзуясь простейшими методиками, оценить показатели факторов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утем сравнения с нормами СанПиН установить их соответствие гигиеническим требованиям и нор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работать рекомендации для учеников класса, администрации школы по поддержанию и созданию здоровьесберегающих условий в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метить дальнейшие перспективы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6934320" y="1600200"/>
            <a:ext cx="19414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 классной комнате всё будет соответствовать санитарным нормам, мы меньше будем боле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сохраним своё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дети"/>
          <p:cNvPicPr/>
          <p:nvPr/>
        </p:nvPicPr>
        <p:blipFill>
          <a:blip r:embed="rId1"/>
          <a:stretch/>
        </p:blipFill>
        <p:spPr>
          <a:xfrm>
            <a:off x="304920" y="4191120"/>
            <a:ext cx="2278080" cy="24494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2133720" y="2514600"/>
            <a:ext cx="67053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акторы, характеризующие парамет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реды классной ком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езная площадь помещения и его оформ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тветствие размеров мебели росту уче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пловой режим поме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кторы воздушно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етовой режим поме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Методы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990360"/>
            <a:ext cx="38862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 научной литературы и Интернет-ресур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ения и  опыты;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кетирова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ение, анализ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4" descr="8.JPG"/>
          <p:cNvPicPr/>
          <p:nvPr/>
        </p:nvPicPr>
        <p:blipFill>
          <a:blip r:embed="rId1"/>
          <a:stretch/>
        </p:blipFill>
        <p:spPr>
          <a:xfrm>
            <a:off x="4343400" y="32004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:\Documents and Settings\Iren.IRINA\Мои документы\Наша работа-1\Изображения\Книги.gif"/>
          <p:cNvPicPr/>
          <p:nvPr/>
        </p:nvPicPr>
        <p:blipFill>
          <a:blip r:embed="rId2"/>
          <a:stretch/>
        </p:blipFill>
        <p:spPr>
          <a:xfrm>
            <a:off x="6019920" y="1143000"/>
            <a:ext cx="14428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Полезная площадь каби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Содержимое 3" descr="6.JPG"/>
          <p:cNvPicPr/>
          <p:nvPr/>
        </p:nvPicPr>
        <p:blipFill>
          <a:blip r:embed="rId1"/>
          <a:stretch/>
        </p:blipFill>
        <p:spPr>
          <a:xfrm>
            <a:off x="380880" y="2766960"/>
            <a:ext cx="4038840" cy="38926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4648320" y="321012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щадь помещения на одного учащегося соответствует санитарно-гигиеническим нормам, тем более что нас в классе всего 8 уче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990720"/>
          <a:ext cx="8458200" cy="1682640"/>
        </p:xfrm>
        <a:graphic>
          <a:graphicData uri="http://schemas.openxmlformats.org/drawingml/2006/table">
            <a:tbl>
              <a:tblPr/>
              <a:tblGrid>
                <a:gridCol w="1233360"/>
                <a:gridCol w="1094040"/>
                <a:gridCol w="950760"/>
                <a:gridCol w="951120"/>
                <a:gridCol w="1404720"/>
                <a:gridCol w="1571760"/>
                <a:gridCol w="1252440"/>
              </a:tblGrid>
              <a:tr h="559800">
                <a:tc rowSpan="2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юдей в кабине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/пла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ы  поме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счёте на 1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вели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008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м  55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3  кв.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  кв.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  кв.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утренняя отделка помещения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и оборудование классной ком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4" descr="5.JPG"/>
          <p:cNvPicPr/>
          <p:nvPr/>
        </p:nvPicPr>
        <p:blipFill>
          <a:blip r:embed="rId1"/>
          <a:stretch/>
        </p:blipFill>
        <p:spPr>
          <a:xfrm>
            <a:off x="685800" y="1600200"/>
            <a:ext cx="5181480" cy="45259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6019920" y="1851480"/>
            <a:ext cx="2971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отделка и оформление помещения соответствуют норм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бель в классе расставл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ребованиям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борудова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м поме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8" descr="3б.JPG"/>
          <p:cNvPicPr/>
          <p:nvPr/>
        </p:nvPicPr>
        <p:blipFill>
          <a:blip r:embed="rId2"/>
          <a:stretch/>
        </p:blipFill>
        <p:spPr>
          <a:xfrm>
            <a:off x="685800" y="1600200"/>
            <a:ext cx="5257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Ирина Козлицкая Ирина</cp:lastModifiedBy>
  <dcterms:modified xsi:type="dcterms:W3CDTF">2015-02-03T12:33:18Z</dcterms:modified>
  <cp:revision>34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