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4E8-EA5B-4C80-92C5-DE6B865E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450-443A-4EAC-A0A7-74F87224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E10-67D9-449D-85CA-459F824E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2D4-B6FF-4328-91C7-1EB2E2AE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63F7-390D-4763-8644-46261A90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20DD-E9B2-4DF0-BE01-30041355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4FA5-D635-4721-B066-FE042B6F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9843-6496-4EF0-AABC-38F705B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3702-FD57-4FD8-AA9B-138D2B1F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6646-FB9E-40FF-9A4F-CAC79B88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123A-62B9-4CCD-93BC-F271D61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737-7C4E-426C-AE47-CA78BB24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466D-67E8-4CF2-AA3A-4BD5690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8759-48A1-435C-8F7A-D27349C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9D19-1B3B-4A56-B245-093C84DD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4009-C708-4C63-A865-A4673A83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187F-235F-4509-AB3B-EDB4DB1D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8F7-F0C4-41EE-8787-FF7CD3EC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D21-7506-44AB-A04E-18FADF20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24F-227C-45DF-99FD-DD8A5F06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34C-536B-4A5B-8A0E-D532E03B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54B-73AD-4A82-AD8A-B80CC45A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A20-7B9A-423B-9435-DB4F211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FEE-64B1-49A0-BD4D-BCA54BA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8758-6DD7-4726-9899-B64517B54D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518B-8F1F-4986-A539-9E73815277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3300"/>
                </a:solidFill>
                <a:latin typeface="Garamond"/>
              </a:rPr>
              <a:t>Этиология нарушений речи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013360"/>
            <a:ext cx="73771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-логопед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.С. Кули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м образом, при оценке рол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кзогенно-органическ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фактора в возникновении речевых расстройств и детском возрасте необходимо учитывать: время, характер и локализацию повреждения, особенности нервной системы ребёнка. А также степень сформированности речевой функции в момент повреждения моз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следственно-дегенеративные заболе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рвной системы обусловлены изменениями генетической информации. В их основе лежат генные мут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ие речевые нарушения наблюдаются и пр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енилкетонур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наследственном заболевании, обусловленном нарушением обмена фенилаланина, и других наследственных заболеваниях обм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эти нарушения рассматриваются как синдромы в структуре наследственно-обменных заболеваний нервн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иологические факторы сложны и полиморфны, наиболее часто встречаются сочетание наследственной предрасположенности, неблагоприятного окружения и повреждения или нарушения созревания мозга под влиянием различных неблагоприятных факто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Garamond"/>
              </a:rPr>
              <a:t>Этиология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Термин этиолог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греческий, обозначает учение о причинах (этио – причина, логос – наука, учени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Garamond"/>
              </a:rPr>
              <a:t>Этиология нарушений речи по М. Е Хватцеву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причины речевых нарушений разделены на внешние(экзогенные) и внутренние(эндогенные), подчёркнуто их взаимодейств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ются: органические (анатомо-физиологические, морфологические), функциональные (психогенные), социально-психологические и психоневрологические при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д причиной нарушения речи понимают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воздействие на организм внешнего или внутреннего вредоносного фактора или их взаимодействия, которые определяют специфику речевого расстройства и без которых последнее не может возникну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у для изучения этиологии речевых расстройств составляют эволюционно-динамический подход и принцип диалектического единства биологического и социального в процессе формирования психики. В этом аспекте развитие речевой деятельности ребёнка определяется степенью зрелости его центральной нервной системы и в значительной степени зависит от особенностей ребёнка с внешним ми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Garamond"/>
              </a:rPr>
              <a:t>Критические периоды в развитии речевой функции.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й (1-2года жизн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уются предпосылки речи, начинается речевое развитие, складываются основы коммуникативного поведения и движущей её силой становится потребность в общении. Происходит интенсивное развитие корковых речевых зон, в частности зоны Брока(критический возраст ребёнка 14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[18 месяцев). Любые неблагоприятные факторы, могут сказаться на развитии ребён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торой(3 года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этот период может возникнуть заикание, мутизм, отставание речевого развития. Ребёнок отказывается от речевого общения, появляется реакция протеста на завышенные к нему требования взрослых. Это связано с переходом от ситуативной речи к контекстной, появляется рассогласованность в работе ЦН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тий (6-7 лет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чало развития письменной речи. Возрастает нагрузка на ЦНС ребё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предъявлении повышенных требований могут происходить«срывы» нервной деятельности с возникновением заик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ические периоды -      предрасполагающие условия, они имеют  самостоятельное значение и сочетаются с другими неблагоприятными факторами  – генетическими. Общей ослабленностью ребёнка, дисфункцией со стороны нервной сист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aramond"/>
              </a:rPr>
              <a:t>Экзогенно-органические факторы</a:t>
            </a:r>
            <a:br>
              <a:rPr sz="2800"/>
            </a:b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Garamond"/>
              </a:rPr>
              <a:t>Различные неблагоприятные воздействия (инфекции, травмы, интоксикации) на ЦНС ребёнка и на его организм в целом.</a:t>
            </a:r>
            <a:endParaRPr b="0" lang="en-US" sz="2400" spc="-1" strike="noStrike">
              <a:solidFill>
                <a:srgbClr val="cc3300"/>
              </a:solidFill>
              <a:latin typeface="Garamond"/>
            </a:endParaRPr>
          </a:p>
        </p:txBody>
      </p:sp>
      <p:grpSp>
        <p:nvGrpSpPr>
          <p:cNvPr id="101" name="Organization Chart 11"/>
          <p:cNvGrpSpPr/>
          <p:nvPr/>
        </p:nvGrpSpPr>
        <p:grpSpPr>
          <a:xfrm>
            <a:off x="468360" y="1628640"/>
            <a:ext cx="8208720" cy="4462920"/>
            <a:chOff x="468360" y="1628640"/>
            <a:chExt cx="8208720" cy="446292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722200" y="226332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2"/>
            </p:cNvCxnSpPr>
            <p:nvPr/>
          </p:nvCxnSpPr>
          <p:spPr>
            <a:xfrm flipV="1" rot="16200000">
              <a:off x="4658040" y="332748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0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3595320" y="332856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4" idx="2"/>
            </p:cNvCxnSpPr>
            <p:nvPr/>
          </p:nvCxnSpPr>
          <p:spPr>
            <a:xfrm flipH="1" flipV="1" rot="5400000">
              <a:off x="2530080" y="226332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660840" y="162864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Экзогенно-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органические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фактор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468360" y="430632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Внутриутробная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патолог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(пренатальная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>
              <a:off x="2596320" y="430632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Повреждение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при родах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(натальная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5"/>
            <p:cNvSpPr/>
            <p:nvPr/>
          </p:nvSpPr>
          <p:spPr>
            <a:xfrm>
              <a:off x="4724640" y="430632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Воздействие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азличных вредных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факторов посл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ожд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(постнатальная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_s1036"/>
            <p:cNvSpPr/>
            <p:nvPr/>
          </p:nvSpPr>
          <p:spPr>
            <a:xfrm>
              <a:off x="6852960" y="430632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Сочетание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пренатальной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натальной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патологи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(перинатальная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паталогия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Garamond"/>
              </a:rPr>
              <a:t>Перинатальная паталогия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сфиксия и родовая трав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ичерепные кровоизлия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речевые зоны \ зоны речедвигательного механизма речи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рушения коркового генез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алалия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\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вукопроизносительной стороны реч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дизартри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иологии речевых нарушений у детей определённую роль может играт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мунологическая несовместимость крови матери и плода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прямой билирубин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токсичное в-во для ЦНС выделяющееся из эритроцитов)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рушения звукопроизносительной стороны речи в сочетании с нарушениями слу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Garamond"/>
              </a:rPr>
              <a:t>Пренатальная паталогия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иутробные поражения мозг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более тяжёлые речевые наруш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детей с аномалиями и пороками развития мозга часто наблюдаются множественные дизамбриогенетические стигмы в виде асимметрии черепа, аномалии нёба, дефекты развития верхней челюсти, аплазия нижней челюсти, микрогнатия, прогна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открытая ринолал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я внутриутробного развития плода – эмбрионопатии, могут возникать в связи с вирусными заболеваниями, приемов лекарственных препаратов, ионизирующей радиацией, вибрацией, алкоголизмом и курением во время берем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7:35:16Z</dcterms:created>
  <dc:creator>Vostretsov</dc:creator>
  <dc:description/>
  <dc:language>en-US</dc:language>
  <cp:lastModifiedBy>Бук</cp:lastModifiedBy>
  <dcterms:modified xsi:type="dcterms:W3CDTF">2014-11-01T18:57:00Z</dcterms:modified>
  <cp:revision>5</cp:revision>
  <dc:subject/>
  <dc:title>Этиология нарушений речи</dc:title>
</cp:coreProperties>
</file>