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7F0-D214-4A49-AAA9-7172DE8E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CE8-3E14-48CB-BCAE-255514BC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A1C-3D71-4BD0-9226-330E2729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5C2-8E2A-49BB-9404-D20CE8B9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56CA-8244-42AE-A7BA-E6615AFD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5382-5222-45BF-8342-85132F76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7216-11F1-4004-A574-705CFF87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9A81-A359-4BE0-8FC6-7E3DCCC4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2918-78D2-4065-9A99-1F370C36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9DA9-DEC3-4751-B1F4-AE1F4FDB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F114-89C8-4AC7-B545-BAE9447A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28A-69EC-4160-A83B-A4C72764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F610-0E36-4485-B582-BE54C1F0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05E1-0943-4FDC-8564-7598335B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21B4-8908-4004-BCC9-8251F461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0785-A9A5-4C89-8FAA-62FD371A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7A3C-E7BB-4A5D-90D7-7E2EED45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8C3-A299-4E6C-94AD-D7AB1824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CE0-CEC4-4985-8A81-615FA5D9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419-0841-40B7-A504-37E9D99F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362-CDF5-454E-B287-F70880FE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7DD-482F-4395-BF2A-4CDCFB87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27A-0567-4B50-B7FF-BA9978EC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3A3-1F00-4259-B584-2E17C02B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89AC-2011-404B-88A9-9884EB6D90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EFC5-9AA2-406B-A879-9C861EC060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cc3300"/>
                </a:solidFill>
                <a:latin typeface="Garamond"/>
              </a:rPr>
              <a:t>Этиология нарушений речи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5013360"/>
            <a:ext cx="73771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-логопед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.С. Кули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м образом, при оценке роли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кзогенно-органическ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фактора в возникновении речевых расстройств и детском возрасте необходимо учитывать: время, характер и локализацию повреждения, особенности нервной системы ребёнка. А также степень сформированности речевой функции в момент повреждения мозг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следственно-дегенеративные заболе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нервной системы обусловлены изменениями генетической информации. В их основе лежат генные мут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ецифические речевые нарушения наблюдаются и при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енилкетонури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наследственном заболевании, обусловленном нарушением обмена фенилаланина, и других наследственных заболеваниях обме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эти нарушения рассматриваются как синдромы в структуре наследственно-обменных заболеваний нервной сист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иологические факторы сложны и полиморфны, наиболее часто встречаются сочетание наследственной предрасположенности, неблагоприятного окружения и повреждения или нарушения созревания мозга под влиянием различных неблагоприятных факто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Garamond"/>
              </a:rPr>
              <a:t>Этиология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Термин этиолог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греческий, обозначает учение о причинах (этио – причина, логос – наука, учение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Garamond"/>
              </a:rPr>
              <a:t>Этиология нарушений речи по М. Е Хватцеву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причины речевых нарушений разделены на внешние(экзогенные) и внутренние(эндогенные), подчёркнуто их взаимодейств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ются: органические (анатомо-физиологические, морфологические), функциональные (психогенные), социально-психологические и психоневрологические прич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д причиной нарушения речи понимают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воздействие на организм внешнего или внутреннего вредоносного фактора или их взаимодействия, которые определяют специфику речевого расстройства и без которых последнее не может возникну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у для изучения этиологии речевых расстройств составляют эволюционно-динамический подход и принцип диалектического единства биологического и социального в процессе формирования психики. В этом аспекте развитие речевой деятельности ребёнка определяется степенью зрелости его центральной нервной системы и в значительной степени зависит от особенностей ребёнка с внешним мир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Garamond"/>
              </a:rPr>
              <a:t>Критические периоды в развитии речевой функции.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вый (1-2года жизни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рмируются предпосылки речи, начинается речевое развитие, складываются основы коммуникативного поведения и движущей её силой становится потребность в общении. Происходит интенсивное развитие корковых речевых зон, в частности зоны Брока(критический возраст ребёнка 14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ࠠ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[18 месяцев). Любые неблагоприятные факторы, могут сказаться на развитии ребён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торой(3 года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этот период может возникнуть заикание, мутизм, отставание речевого развития. Ребёнок отказывается от речевого общения, появляется реакция протеста на завышенные к нему требования взрослых. Это связано с переходом от ситуативной речи к контекстной, появляется рассогласованность в работе ЦН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тий (6-7 лет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чало развития письменной речи. Возрастает нагрузка на ЦНС ребёнк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предъявлении повышенных требований могут происходить«срывы» нервной деятельности с возникновением заик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ические периоды -      предрасполагающие условия, они имеют  самостоятельное значение и сочетаются с другими неблагоприятными факторами  – генетическими. Общей ослабленностью ребёнка, дисфункцией со стороны нервной сист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Garamond"/>
              </a:rPr>
              <a:t>Экзогенно-органические факторы</a:t>
            </a:r>
            <a:br>
              <a:rPr sz="2800"/>
            </a:b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Garamond"/>
              </a:rPr>
              <a:t>Различные неблагоприятные воздействия (инфекции, травмы, интоксикации) на ЦНС ребёнка и на его организм в целом.</a:t>
            </a:r>
            <a:endParaRPr b="0" lang="en-US" sz="2400" spc="-1" strike="noStrike">
              <a:solidFill>
                <a:srgbClr val="cc3300"/>
              </a:solidFill>
              <a:latin typeface="Garamond"/>
            </a:endParaRPr>
          </a:p>
        </p:txBody>
      </p:sp>
      <p:grpSp>
        <p:nvGrpSpPr>
          <p:cNvPr id="101" name="Organization Chart 11"/>
          <p:cNvGrpSpPr/>
          <p:nvPr/>
        </p:nvGrpSpPr>
        <p:grpSpPr>
          <a:xfrm>
            <a:off x="468360" y="1628640"/>
            <a:ext cx="8208720" cy="4462920"/>
            <a:chOff x="468360" y="1628640"/>
            <a:chExt cx="8208720" cy="4462920"/>
          </a:xfrm>
        </p:grpSpPr>
        <p:cxnSp>
          <p:nvCxnSpPr>
            <p:cNvPr id="102" name="_s1028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722200" y="2263320"/>
              <a:ext cx="893160" cy="3192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29"/>
            <p:cNvCxnSpPr>
              <a:stCxn id="106" idx="0"/>
              <a:endCxn id="104" idx="2"/>
            </p:cNvCxnSpPr>
            <p:nvPr/>
          </p:nvCxnSpPr>
          <p:spPr>
            <a:xfrm flipV="1" rot="16200000">
              <a:off x="4658040" y="3327480"/>
              <a:ext cx="893160" cy="1064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0"/>
            <p:cNvCxnSpPr>
              <a:stCxn id="108" idx="0"/>
              <a:endCxn id="104" idx="2"/>
            </p:cNvCxnSpPr>
            <p:nvPr/>
          </p:nvCxnSpPr>
          <p:spPr>
            <a:xfrm flipH="1" flipV="1" rot="5400000">
              <a:off x="3595320" y="3328560"/>
              <a:ext cx="893160" cy="10623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1"/>
            <p:cNvCxnSpPr>
              <a:stCxn id="110" idx="0"/>
              <a:endCxn id="104" idx="2"/>
            </p:cNvCxnSpPr>
            <p:nvPr/>
          </p:nvCxnSpPr>
          <p:spPr>
            <a:xfrm flipH="1" flipV="1" rot="5400000">
              <a:off x="2530080" y="2263320"/>
              <a:ext cx="893160" cy="31932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3660840" y="1628640"/>
              <a:ext cx="1824120" cy="17852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Экзогенно-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органические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фактор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468360" y="4306320"/>
              <a:ext cx="1824120" cy="17852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Внутриутробная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патолог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(пренатальная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>
              <a:off x="2596320" y="4306320"/>
              <a:ext cx="1824120" cy="17852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Повреждение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при родах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(натальная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_s1035"/>
            <p:cNvSpPr/>
            <p:nvPr/>
          </p:nvSpPr>
          <p:spPr>
            <a:xfrm>
              <a:off x="4724640" y="4306320"/>
              <a:ext cx="1824120" cy="17852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Воздействие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различных вредных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факторов посл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рожде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(постнатальная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_s1036"/>
            <p:cNvSpPr/>
            <p:nvPr/>
          </p:nvSpPr>
          <p:spPr>
            <a:xfrm>
              <a:off x="6852960" y="4306320"/>
              <a:ext cx="1824120" cy="17852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Сочетание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пренатальной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и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натальной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патологи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(перинатальная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паталогия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Garamond"/>
              </a:rPr>
              <a:t>Перинатальная паталогия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сфиксия и родовая трав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ичерепные кровоизлия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(речевые зоны \ зоны речедвигательного механизма речи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рушения коркового генез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(алалия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\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вукопроизносительной стороны реч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дизартрия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этиологии речевых нарушений у детей определённую роль может играть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ммунологическая несовместимость крови матери и плода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прямой билирубин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токсичное в-во для ЦНС выделяющееся из эритроцитов)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рушения звукопроизносительной стороны речи в сочетании с нарушениями слух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Garamond"/>
              </a:rPr>
              <a:t>Пренатальная паталогия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иутробные поражения мозг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иболее тяжёлые речевые наруш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детей с аномалиями и пороками развития мозга часто наблюдаются множественные дизамбриогенетические стигмы в виде асимметрии черепа, аномалии нёба, дефекты развития верхней челюсти, аплазия нижней челюсти, микрогнатия, прогна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: открытая ринолал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ушения внутриутробного развития плода – эмбрионопатии, могут возникать в связи с вирусными заболеваниями, приемов лекарственных препаратов, ионизирующей радиацией, вибрацией, алкоголизмом и курением во время беремен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7:35:16Z</dcterms:created>
  <dc:creator>Vostretsov</dc:creator>
  <dc:description/>
  <dc:language>en-US</dc:language>
  <cp:lastModifiedBy>Бук</cp:lastModifiedBy>
  <dcterms:modified xsi:type="dcterms:W3CDTF">2014-11-01T18:57:00Z</dcterms:modified>
  <cp:revision>5</cp:revision>
  <dc:subject/>
  <dc:title>Этиология нарушений речи</dc:title>
</cp:coreProperties>
</file>