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53A-ED7D-4310-BCDD-1C2BE0B8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A26-882D-4608-9A37-A894532F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604-2DA1-4F12-B710-FE8B6006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417-5C6D-486B-A448-D7797893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63DC-532B-47F0-A1E8-D5296F84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D283-6F0E-414B-A201-15CEAD42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FE80-60ED-4706-ADE0-5FF68A30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79AA-1E3C-4247-B6A1-21E7E6AC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34E3-C5CC-4890-950C-5EE91CD4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EACD-75D4-45B5-A312-2B355605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A9DB-A24B-4483-94E4-A9F8FF78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47F-99EA-4DD7-ABF3-15EB6DFE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0F50-509A-4D2D-81D6-0E85A73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B4F9-F587-4EDC-B18C-A4F0A35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2E85-4BEE-465B-A9F2-0D7D6C21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9B6B-2874-4740-92CF-E5B87A3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0765-E290-4E3D-AEC9-39B03565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5C7-A924-409D-95A9-A1EFA1F7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5C2-1D77-4424-84FB-D320233A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10D-812C-4459-92D1-E50E49C6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C5E-C48A-4E6A-96ED-7D55ED73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E35-C402-4DEC-B41E-0CB5479F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59F-9F94-4382-A09E-2354509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67E-45A9-4A53-813A-2F52C707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A97B-7C38-4EEB-82B8-A8A8886F3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0417-8CDB-41EA-B1AD-1E2FF307F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b7"/>
                </a:solidFill>
                <a:uFillTx/>
                <a:latin typeface="Comic Sans MS"/>
              </a:rPr>
              <a:t>А у нас – всё просто класс, посмотрите – ка на нас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343040" y="41148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итель – логопед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челинцева Ольга Рафаэль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480" y="24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А иголки у Ёжика тоже из прищепок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380880" y="1523880"/>
            <a:ext cx="4496040" cy="305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4283" t="0" r="0" b="9528"/>
          <a:stretch/>
        </p:blipFill>
        <p:spPr>
          <a:xfrm>
            <a:off x="4343400" y="3352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Тренируем пальчики – развиваем речь!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4267080" y="1523880"/>
            <a:ext cx="4267440" cy="2895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0" t="0" r="0" b="9528"/>
          <a:stretch/>
        </p:blipFill>
        <p:spPr>
          <a:xfrm>
            <a:off x="609480" y="3352680"/>
            <a:ext cx="4267440" cy="28958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Вот так мы работаем язычкам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4724280" y="1981080"/>
            <a:ext cx="4267440" cy="2895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51793" t="0" r="0" b="9528"/>
          <a:stretch/>
        </p:blipFill>
        <p:spPr>
          <a:xfrm>
            <a:off x="3352680" y="3809880"/>
            <a:ext cx="2057400" cy="2895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0" b="9528"/>
          <a:stretch/>
        </p:blipFill>
        <p:spPr>
          <a:xfrm>
            <a:off x="304920" y="190512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А что бы Вы, дорогие родители, могли посмотреть как мы всё это делаем, приглашаем к нам на занятия в любое для Вас удобное время!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3000"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71800" y="2262240"/>
            <a:ext cx="5000400" cy="23335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Литература используемая при создании презентац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Захарова О. Прописи для дошкольников. Большие и маленькие буквы. – ООО «Юниверс Пресс»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Яковлева С.В. Узнаю буквы – 1,2. – М.: ТЦ Сфера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Comic Sans MS"/>
              </a:rPr>
              <a:t>Начался новый учебный год в нашей коррекционной группе. Кто-то посещает группу уже второй год, кто-то пришёл впервые. Но все детки уже сдружились и каждый день заканчивается новыми впечатлениями и новыми открытиям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9528" r="0" b="11901"/>
          <a:stretch/>
        </p:blipFill>
        <p:spPr>
          <a:xfrm>
            <a:off x="609480" y="1981080"/>
            <a:ext cx="3810240" cy="2246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0" b="14286"/>
          <a:stretch/>
        </p:blipFill>
        <p:spPr>
          <a:xfrm>
            <a:off x="2895480" y="4343400"/>
            <a:ext cx="358164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5357" t="0" r="14283" b="16670"/>
          <a:stretch/>
        </p:blipFill>
        <p:spPr>
          <a:xfrm>
            <a:off x="5334120" y="1905120"/>
            <a:ext cx="3047760" cy="23698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Comic Sans MS"/>
              </a:rPr>
              <a:t>Каждый день мы чем-нибудь занимаемся: в понедельник – математикой, логопедическими занятиями и физкультурой, а после тихого часа у нас проводится коррекционный час по теме, которую мы будем повторять в течение всей недели, например, сейчас у нас тема: «Осень. Деревья и кустарники». Так же на коррекционном часе мы развиваем графические навыки для этого детям раздаются различные картинки для штриховки, обводки и раскрашивания. Например, вот такие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3124080"/>
            <a:ext cx="800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ни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Раскрась тучки, дорисуй дож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941" t="8248" r="8816" b="75327"/>
          <a:stretch/>
        </p:blipFill>
        <p:spPr>
          <a:xfrm>
            <a:off x="1371600" y="3657600"/>
            <a:ext cx="7162920" cy="2763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Comic Sans MS"/>
              </a:rPr>
              <a:t>Во вторник проводится окружающий мир, музыкальное занятие и лепка.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Comic Sans MS"/>
              </a:rPr>
              <a:t>В среду занимаемся физкультурой, математикой и обучаемся грамоте – изучаем звуки и буквы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5791320"/>
            <a:ext cx="800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ыставка результатов нашей работы. В этот день мы со старшей группой изучали букву и звук А, а с подготовительной группой уже повторяли букву и звук 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Comic Sans MS"/>
              </a:rPr>
              <a:t>А это мы уже выучили звук и букву У. Пальчиками поработали, смастерили букву из фасоли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0" b="6063"/>
          <a:stretch/>
        </p:blipFill>
        <p:spPr>
          <a:xfrm>
            <a:off x="2895480" y="4343400"/>
            <a:ext cx="335304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Comic Sans MS"/>
              </a:rPr>
              <a:t>И уже умеем записывать буквы в тетрадь!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95680" y="32004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ffffb7"/>
                </a:solidFill>
                <a:latin typeface="Comic Sans MS"/>
              </a:rPr>
              <a:t>А в среду, после тихого часа у нас опять коррекционный час, где ребята с воспитателем повторяют букву и звук изученные с логопедом утром. А так же по заданию логопеда выполняют штриховку или обводку. Например, вот такую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дание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Обведи. Назови, что получило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1743" t="10700" r="40565" b="77247"/>
          <a:stretch/>
        </p:blipFill>
        <p:spPr>
          <a:xfrm>
            <a:off x="609480" y="2743200"/>
            <a:ext cx="7848720" cy="2616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5120" cy="23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ffffb7"/>
                </a:solidFill>
                <a:latin typeface="Comic Sans MS"/>
              </a:rPr>
              <a:t>В четверг у нас развитие речи, занятие с психологом, музыкальное занятие, а после тихого часа рисование.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Comic Sans MS"/>
              </a:rPr>
              <a:t>     В пятницу – развитие связной речи, художественная литература, конструирование (аппликация). 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Comic Sans MS"/>
              </a:rPr>
              <a:t>А так же каждый день проводятся индивидуальные занятия с логопедом, на которых мы учимся правильно произносить звуки, развиваем мелкую и общую  моторику, учимся слышать и слушать и много чем ещё интересным занимаемся!</a:t>
            </a: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2362320" y="3048120"/>
            <a:ext cx="5029200" cy="3411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1523880" y="16002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Comic Sans MS"/>
              </a:rPr>
              <a:t>Мастерим солнышко из колобка, делая лучики из прищепок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3000"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0-20T08:54:3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