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05C-EF5C-4985-BF41-C3096B41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477-5830-4B59-9658-5447B203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9A5-4686-4692-9AD1-5E66E980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F65-538E-4BA2-9342-3F94E92D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BBA5-50D5-44EC-BAA6-5DBACEFC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47E0-5711-44F2-BC9C-C0E168DA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5DC4-8FCC-4AB8-B5E7-9BBE58DD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F1BB-A289-4914-BE47-27AD69D4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7EED-7F9E-4E93-95E7-FA62942F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B859-82EC-4C93-8621-64181DD2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54D5-EB6C-4793-8D2F-5117628A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B3EF-8A28-4B10-AE8B-E8979A30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46FD-08A7-450E-8FE6-3D5D6FB1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8CB0-DB42-4772-87CE-7A3C126A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9FFB-7A75-461B-90BD-74478DCF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408B-EF3D-4578-A1EE-AECEE101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B64D-1AD5-4F34-A552-EB04B647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05C-D6B5-4DF1-B32A-9F1A8DFE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2F2-D709-437A-8892-6E70BE90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55F-B2FD-40FA-9B06-0A45637C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3D8-F6B1-4342-BAAE-E6D5AA4E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73C-2F93-43B3-9251-53A99393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640-42D2-4AFA-89A1-82F31756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0B5-E673-454D-94EE-0A1AA521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D0D1-2F89-4A7B-BFF8-16D14EF71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E919-43AB-408A-9A3E-CB01145FE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b7"/>
                </a:solidFill>
                <a:uFillTx/>
                <a:latin typeface="Comic Sans MS"/>
              </a:rPr>
              <a:t>А у нас – всё просто класс, посмотрите – ка на нас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343040" y="411480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читель – логопед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челинцева Ольга Рафаэлье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480" y="24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Comic Sans MS"/>
              </a:rPr>
              <a:t>А иголки у Ёжика тоже из прищепок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0" b="9528"/>
          <a:stretch/>
        </p:blipFill>
        <p:spPr>
          <a:xfrm>
            <a:off x="380880" y="1523880"/>
            <a:ext cx="4496040" cy="3051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14283" t="0" r="0" b="9528"/>
          <a:stretch/>
        </p:blipFill>
        <p:spPr>
          <a:xfrm>
            <a:off x="4343400" y="3352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Comic Sans MS"/>
              </a:rPr>
              <a:t>Тренируем пальчики – развиваем речь!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9528"/>
          <a:stretch/>
        </p:blipFill>
        <p:spPr>
          <a:xfrm>
            <a:off x="4267080" y="1523880"/>
            <a:ext cx="4267440" cy="2895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0" t="0" r="0" b="9528"/>
          <a:stretch/>
        </p:blipFill>
        <p:spPr>
          <a:xfrm>
            <a:off x="609480" y="3352680"/>
            <a:ext cx="4267440" cy="289584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Comic Sans MS"/>
              </a:rPr>
              <a:t>Вот так мы работаем язычками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9528"/>
          <a:stretch/>
        </p:blipFill>
        <p:spPr>
          <a:xfrm>
            <a:off x="4724280" y="1981080"/>
            <a:ext cx="4267440" cy="2895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51793" t="0" r="0" b="9528"/>
          <a:stretch/>
        </p:blipFill>
        <p:spPr>
          <a:xfrm>
            <a:off x="3352680" y="3809880"/>
            <a:ext cx="2057400" cy="2895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0" r="0" b="9528"/>
          <a:stretch/>
        </p:blipFill>
        <p:spPr>
          <a:xfrm>
            <a:off x="304920" y="1905120"/>
            <a:ext cx="4267080" cy="28954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Comic Sans MS"/>
              </a:rPr>
              <a:t>А что бы Вы, дорогие родители, могли посмотреть как мы всё это делаем, приглашаем к нам на занятия в любое для Вас удобное время!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3000">
    <p:wheel spokes="8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71800" y="2262240"/>
            <a:ext cx="5000400" cy="23335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Comic Sans MS"/>
              </a:rPr>
              <a:t>Литература используемая при создании презентаци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Захарова О. Прописи для дошкольников. Большие и маленькие буквы. – ООО «Юниверс Пресс»,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Яковлева С.В. Узнаю буквы – 1,2. – М.: ТЦ Сфера,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Comic Sans MS"/>
              </a:rPr>
              <a:t>Начался новый учебный год в нашей коррекционной группе. Кто-то посещает группу уже второй год, кто-то пришёл впервые. Но все детки уже сдружились и каждый день заканчивается новыми впечатлениями и новыми открытиями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9528" r="0" b="11901"/>
          <a:stretch/>
        </p:blipFill>
        <p:spPr>
          <a:xfrm>
            <a:off x="609480" y="1981080"/>
            <a:ext cx="3810240" cy="2246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0" t="0" r="0" b="14286"/>
          <a:stretch/>
        </p:blipFill>
        <p:spPr>
          <a:xfrm>
            <a:off x="2895480" y="4343400"/>
            <a:ext cx="3581640" cy="2301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5357" t="0" r="14283" b="16670"/>
          <a:stretch/>
        </p:blipFill>
        <p:spPr>
          <a:xfrm>
            <a:off x="5334120" y="1905120"/>
            <a:ext cx="3047760" cy="23698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Comic Sans MS"/>
              </a:rPr>
              <a:t>Каждый день мы чем-нибудь занимаемся: в понедельник – математикой, логопедическими занятиями и физкультурой, а после тихого часа у нас проводится коррекционный час по теме, которую мы будем повторять в течение всей недели, например, сейчас у нас тема: «Осень. Деревья и кустарники». Так же на коррекционном часе мы развиваем графические навыки для этого детям раздаются различные картинки для штриховки, обводки и раскрашивания. Например, вот такие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3124080"/>
            <a:ext cx="800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ние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Раскрась тучки, дорисуй дожд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941" t="8248" r="8816" b="75327"/>
          <a:stretch/>
        </p:blipFill>
        <p:spPr>
          <a:xfrm>
            <a:off x="1371600" y="3657600"/>
            <a:ext cx="7162920" cy="27637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Comic Sans MS"/>
              </a:rPr>
              <a:t>Во вторник проводится окружающий мир, музыкальное занятие и лепка.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Comic Sans MS"/>
              </a:rPr>
              <a:t>В среду занимаемся физкультурой, математикой и обучаемся грамоте – изучаем звуки и буквы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5791320"/>
            <a:ext cx="800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ыставка результатов нашей работы. В этот день мы со старшей группой изучали букву и звук А, а с подготовительной группой уже повторяли букву и звук 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Comic Sans MS"/>
              </a:rPr>
              <a:t>А это мы уже выучили звук и букву У. Пальчиками поработали, смастерили букву из фасоли.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0" t="0" r="0" b="6063"/>
          <a:stretch/>
        </p:blipFill>
        <p:spPr>
          <a:xfrm>
            <a:off x="2895480" y="4343400"/>
            <a:ext cx="3353040" cy="23623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Comic Sans MS"/>
              </a:rPr>
              <a:t>И уже умеем записывать буквы в тетрадь!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95680" y="32004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ffffb7"/>
                </a:solidFill>
                <a:latin typeface="Comic Sans MS"/>
              </a:rPr>
              <a:t>А в среду, после тихого часа у нас опять коррекционный час, где ребята с воспитателем повторяют букву и звук изученные с логопедом утром. А так же по заданию логопеда выполняют штриховку или обводку. Например, вот такую.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Задание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Обведи. Назови, что получилос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21743" t="10700" r="40565" b="77247"/>
          <a:stretch/>
        </p:blipFill>
        <p:spPr>
          <a:xfrm>
            <a:off x="609480" y="2743200"/>
            <a:ext cx="7848720" cy="26161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5120" cy="23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ffffb7"/>
                </a:solidFill>
                <a:latin typeface="Comic Sans MS"/>
              </a:rPr>
              <a:t>В четверг у нас развитие речи, занятие с психологом, музыкальное занятие, а после тихого часа рисование.</a:t>
            </a:r>
            <a:br>
              <a:rPr sz="1800"/>
            </a:br>
            <a:r>
              <a:rPr b="1" lang="en-US" sz="1800" spc="-1" strike="noStrike">
                <a:solidFill>
                  <a:srgbClr val="ffffb7"/>
                </a:solidFill>
                <a:latin typeface="Comic Sans MS"/>
              </a:rPr>
              <a:t>     В пятницу – развитие связной речи, художественная литература, конструирование (аппликация). </a:t>
            </a:r>
            <a:br>
              <a:rPr sz="1800"/>
            </a:br>
            <a:r>
              <a:rPr b="1" lang="en-US" sz="1800" spc="-1" strike="noStrike">
                <a:solidFill>
                  <a:srgbClr val="ffffb7"/>
                </a:solidFill>
                <a:latin typeface="Comic Sans MS"/>
              </a:rPr>
              <a:t>А так же каждый день проводятся индивидуальные занятия с логопедом, на которых мы учимся правильно произносить звуки, развиваем мелкую и общую  моторику, учимся слышать и слушать и много чем ещё интересным занимаемся!</a:t>
            </a: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9528"/>
          <a:stretch/>
        </p:blipFill>
        <p:spPr>
          <a:xfrm>
            <a:off x="2362320" y="3048120"/>
            <a:ext cx="5029200" cy="34113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heel spokes="8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0" r="0" b="9528"/>
          <a:stretch/>
        </p:blipFill>
        <p:spPr>
          <a:xfrm>
            <a:off x="1523880" y="160020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Comic Sans MS"/>
              </a:rPr>
              <a:t>Мастерим солнышко из колобка, делая лучики из прищепок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3000">
    <p:wheel spokes="8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0-20T08:54:3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