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C46-F476-4988-B8A3-8E252584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A90-2A0A-402E-84F1-30E9DD33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AF2-2516-4829-B01D-B4594797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616-9458-4528-AD6D-5D3CD69B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A617-A502-44EB-89CE-0C46336A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693E-9EAC-488B-8CE0-28004766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2B2F-5E1B-44FD-83B6-550D4281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6A7E-02F9-4182-92A2-576339D5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C945-28A2-4654-BD80-B4A5A249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993B-CE85-4175-B64C-DDC77E85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ECFE-69DC-4182-8998-DDF9A83A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117-ECD4-4E3A-9891-944C1273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7273-AC3C-42F1-AE7A-69F220F9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7B77-1A5E-4FB5-8AB4-140F5C91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AC20-E22A-4150-9019-38FF04A1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9B99-557C-4735-9F0C-C62607F0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942B-8F62-4144-BD90-C7A167BD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0A6-F745-4CEA-8E15-67D0224E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A44-294A-47AA-A094-9C9F74A6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DC0-D67B-4230-9BCC-D15EFA77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96F-114F-48D3-864A-3F7D219C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C7C-C71F-4E87-82B4-6629E1A2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E1C-1C78-4905-8F35-6C97EAC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7A7-DCF2-4BEB-B52C-BD92C8E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FEE3-A308-4961-B96F-8D57073277B9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934C-0FE1-45A5-81A1-217EA2C7265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63640" y="1989000"/>
            <a:ext cx="7056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«Фразеологизмы. 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Источники фразеологизмов. 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Фразеологические словари».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248000" cy="30099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3176640" cy="45928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708360" y="3716280"/>
            <a:ext cx="5111640" cy="28497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708360" y="61657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«Витать в облаках»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1655640" cy="1409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2376720" cy="177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4221000"/>
            <a:ext cx="1511280" cy="147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643280" y="5084640"/>
            <a:ext cx="1800360" cy="1055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56000" y="429264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. . . . . . . . . . . . . . . . .  . . . . . . . . . .  . .     . . . . . . . . . 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995640" y="2505240"/>
            <a:ext cx="168588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012000" y="1268280"/>
            <a:ext cx="1596960" cy="814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3995640" y="2205000"/>
            <a:ext cx="2233800" cy="2511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2781360"/>
            <a:ext cx="12970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692360" y="2492280"/>
          <a:ext cx="6983280" cy="2591640"/>
        </p:xfrm>
        <a:graphic>
          <a:graphicData uri="http://schemas.openxmlformats.org/drawingml/2006/table">
            <a:tbl>
              <a:tblPr/>
              <a:tblGrid>
                <a:gridCol w="2328840"/>
                <a:gridCol w="2325600"/>
                <a:gridCol w="2328840"/>
              </a:tblGrid>
              <a:tr h="11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Хочу  узнать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знал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70160" y="907920"/>
            <a:ext cx="1077840" cy="129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27640" y="1125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???</a:t>
            </a:r>
            <a:endParaRPr b="0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98100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Times New Roman"/>
              </a:rPr>
              <a:t>!!!</a:t>
            </a:r>
            <a:endParaRPr b="0" lang="en-US" sz="8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24000" y="83664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981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Фразеология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 – это наука, которая изучает фразеологизмы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2852640"/>
            <a:ext cx="71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Фразеологизмы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это устойчивые несвободные сочетания слов, которые не создаются в процессе общения, а воспроизводятся в готовом виде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68360" y="1844640"/>
            <a:ext cx="65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как в воду глядет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– предвидеть;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кот наплакал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– мало;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бить баклуши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– бездельничать;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Ловить рыбу в мутной вод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– извлекать выгоду из чьих-либо затруднений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2600" y="549360"/>
            <a:ext cx="65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95640" y="2637000"/>
            <a:ext cx="6553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Товарищ твой просит украдкой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Ответы списать из тетрадки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Не надо, ведь этим ты другу,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Окажешь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медвежью услугу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197000"/>
            <a:ext cx="43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92360" y="2637000"/>
            <a:ext cx="74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тертый калач – стреляный воробей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непочатый край – раз-два и обчелся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пустить петуха – пустить петуха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1268280"/>
            <a:ext cx="18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476280"/>
          <a:ext cx="9144000" cy="6462720"/>
        </p:xfrm>
        <a:graphic>
          <a:graphicData uri="http://schemas.openxmlformats.org/drawingml/2006/table">
            <a:tbl>
              <a:tblPr/>
              <a:tblGrid>
                <a:gridCol w="3049560"/>
                <a:gridCol w="3044880"/>
                <a:gridCol w="30495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Хочу  узнать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знал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. Фразеология – это наука, которая изучает фразеологизмы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. Фразеологизмы – это устойчивые несвободные сочетания слов, которые не создаются в процессе общения, а воспроизводятся в готовом виде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. Лексическое значение фразеологизма близко лексическому значению одного слова, поэтому его часто можно заменить  одним словом или целым выражением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. Фразеологизм может иметь синонимы и антонимы, иногда – омонимы. 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99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Каковы источники или откуда приходят фразеологизмы в нашу речь?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99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.  Научиться использовать фразеологизмы в своей речи.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3.  Научиться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ользоваться фразеологическим словарем.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05080" cy="43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95640" y="-171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???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-17136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!!!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08200" y="143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00000" y="1484280"/>
            <a:ext cx="7775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крываем новые знания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666000" y="170280"/>
            <a:ext cx="7815600" cy="6514560"/>
            <a:chOff x="666000" y="170280"/>
            <a:chExt cx="7815600" cy="6514560"/>
          </a:xfrm>
        </p:grpSpPr>
        <p:sp>
          <p:nvSpPr>
            <p:cNvPr id="114" name="_s26643"/>
            <p:cNvSpPr/>
            <p:nvPr/>
          </p:nvSpPr>
          <p:spPr>
            <a:xfrm flipH="1" flipV="1">
              <a:off x="2687400" y="2612520"/>
              <a:ext cx="946440" cy="4100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5" name="_s26642"/>
            <p:cNvSpPr/>
            <p:nvPr/>
          </p:nvSpPr>
          <p:spPr>
            <a:xfrm>
              <a:off x="666000" y="1393920"/>
              <a:ext cx="217188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Пословицы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и поговорки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" name="_s26641"/>
            <p:cNvSpPr/>
            <p:nvPr/>
          </p:nvSpPr>
          <p:spPr>
            <a:xfrm flipH="1">
              <a:off x="2690280" y="3834360"/>
              <a:ext cx="946440" cy="4100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" name="_s26640"/>
            <p:cNvSpPr/>
            <p:nvPr/>
          </p:nvSpPr>
          <p:spPr>
            <a:xfrm>
              <a:off x="668880" y="3836520"/>
              <a:ext cx="217188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Свободные 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словосочетания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" name="_s26639"/>
            <p:cNvSpPr/>
            <p:nvPr/>
          </p:nvSpPr>
          <p:spPr>
            <a:xfrm>
              <a:off x="4574880" y="4237560"/>
              <a:ext cx="0" cy="8204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9" name="_s26638"/>
            <p:cNvSpPr/>
            <p:nvPr/>
          </p:nvSpPr>
          <p:spPr>
            <a:xfrm>
              <a:off x="3490920" y="5055480"/>
              <a:ext cx="2171880" cy="16293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Профессии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0" name="_s26637"/>
            <p:cNvSpPr/>
            <p:nvPr/>
          </p:nvSpPr>
          <p:spPr>
            <a:xfrm>
              <a:off x="5509440" y="3831840"/>
              <a:ext cx="946440" cy="4078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1" name="_s26636"/>
            <p:cNvSpPr/>
            <p:nvPr/>
          </p:nvSpPr>
          <p:spPr>
            <a:xfrm>
              <a:off x="6309000" y="3834360"/>
              <a:ext cx="217260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Библия 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и Евангелие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2" name="_s26635"/>
            <p:cNvSpPr/>
            <p:nvPr/>
          </p:nvSpPr>
          <p:spPr>
            <a:xfrm flipV="1">
              <a:off x="5509440" y="2610360"/>
              <a:ext cx="943560" cy="4100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" name="_s26634"/>
            <p:cNvSpPr/>
            <p:nvPr/>
          </p:nvSpPr>
          <p:spPr>
            <a:xfrm>
              <a:off x="6309000" y="1391760"/>
              <a:ext cx="217260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Древнегреческая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мифология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" name="_s26633"/>
            <p:cNvSpPr/>
            <p:nvPr/>
          </p:nvSpPr>
          <p:spPr>
            <a:xfrm flipV="1">
              <a:off x="4572000" y="1796760"/>
              <a:ext cx="0" cy="8182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" name="_s26632"/>
            <p:cNvSpPr/>
            <p:nvPr/>
          </p:nvSpPr>
          <p:spPr>
            <a:xfrm>
              <a:off x="3487320" y="170280"/>
              <a:ext cx="217188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Сказки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6" name="_s26631"/>
            <p:cNvSpPr/>
            <p:nvPr/>
          </p:nvSpPr>
          <p:spPr>
            <a:xfrm>
              <a:off x="3487320" y="2615400"/>
              <a:ext cx="217188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Источники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фразеологизмов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5:58:43Z</dcterms:created>
  <dc:creator>Ваня</dc:creator>
  <dc:description/>
  <dc:language>en-US</dc:language>
  <cp:lastModifiedBy>Ваня</cp:lastModifiedBy>
  <dcterms:modified xsi:type="dcterms:W3CDTF">2013-11-08T20:31:12Z</dcterms:modified>
  <cp:revision>2</cp:revision>
  <dc:subject/>
  <dc:title>Слайд 1</dc:title>
</cp:coreProperties>
</file>