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769-00A1-4517-86C2-323FF648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7AB-C1CE-4612-AA4F-1AD7C703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D45-DF20-4DF6-B33A-EC49EB8D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219-2576-477A-A94E-D55DBB5F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AF43-9FB5-4395-8932-79A4F403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22CE-9788-43DB-8E35-4A8D342A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8BD-14CE-4663-8983-F0162B6E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222C-E049-4C8B-A053-5E6E5D84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EDC9-4300-4D79-99B9-E57DE95D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4AA4-FA72-4EEA-ABE0-79634C4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051C-7CAC-4298-9950-132340BD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A91-D0F6-4AB2-8273-8E2A893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E0EB-2AAC-4BDB-8A88-B7595B45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C053-0ED6-4A32-9450-2B117DC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2AC7-08F6-42DB-932D-4393566E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C4D7-44A2-4488-816E-EA2669A3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86D4-4776-44F6-B533-EF44F7B7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2AB-0D2D-4064-8DD3-9B031237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99C-6A1C-42A5-B449-EB9B12C4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9FB-512B-4AAC-9B2E-ED09F69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ACB-0B72-40DC-8AC6-50384448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5DC-1131-4B8C-BB18-A884826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AFE-67B9-404D-85AA-30BDA502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C40-2F1B-4C86-B985-3B34537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022C-A15C-46E4-89D6-89CC785F804C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559E-80F3-4D39-853C-6867BEA7DB3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63640" y="1989000"/>
            <a:ext cx="7056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«Фразеологизмы. 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Источники фразеологизмов. 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Фразеологические словари»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248000" cy="30099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176640" cy="45928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708360" y="3716280"/>
            <a:ext cx="5111640" cy="28497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708360" y="61657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«Витать в облаках»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655640" cy="1409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2376720" cy="177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4221000"/>
            <a:ext cx="1511280" cy="147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643280" y="5084640"/>
            <a:ext cx="1800360" cy="1055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56000" y="429264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. . . . . . . . . . . . . . . . .  . . . . . . . . . .  . .     . . . . . . . . . 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995640" y="2505240"/>
            <a:ext cx="168588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012000" y="1268280"/>
            <a:ext cx="1596960" cy="814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3995640" y="2205000"/>
            <a:ext cx="2233800" cy="251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2781360"/>
            <a:ext cx="12970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692360" y="2492280"/>
          <a:ext cx="6983280" cy="2591640"/>
        </p:xfrm>
        <a:graphic>
          <a:graphicData uri="http://schemas.openxmlformats.org/drawingml/2006/table">
            <a:tbl>
              <a:tblPr/>
              <a:tblGrid>
                <a:gridCol w="2328840"/>
                <a:gridCol w="2325600"/>
                <a:gridCol w="2328840"/>
              </a:tblGrid>
              <a:tr h="11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Хочу  узнать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70160" y="907920"/>
            <a:ext cx="1077840" cy="129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27640" y="1125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???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98100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Times New Roman"/>
              </a:rPr>
              <a:t>!!!</a:t>
            </a:r>
            <a:endParaRPr b="0" lang="en-US" sz="8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24000" y="83664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981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Фразеология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 – это наука, которая изучает фразеологизмы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285264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Фразеологизмы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это устойчивые несвободные сочетания слов, которые не создаются в процессе общения, а воспроизводятся в готовом виде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68360" y="1844640"/>
            <a:ext cx="65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как в воду глядет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– предвидеть;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кот наплакал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– мало;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бить баклуши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– бездельничать;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Ловить рыбу в мутной во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– извлекать выгоду из чьих-либо затруднений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2600" y="549360"/>
            <a:ext cx="65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95640" y="2637000"/>
            <a:ext cx="6553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Товарищ твой просит украдкой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Ответы списать из тетрадки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Не надо, ведь этим ты другу,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Окажешь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медвежью услугу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197000"/>
            <a:ext cx="43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92360" y="2637000"/>
            <a:ext cx="74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тертый калач – стреляный воробей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непочатый край – раз-два и обчелся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пустить петуха – пустить петуха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1268280"/>
            <a:ext cx="18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476280"/>
          <a:ext cx="9144000" cy="6462720"/>
        </p:xfrm>
        <a:graphic>
          <a:graphicData uri="http://schemas.openxmlformats.org/drawingml/2006/table">
            <a:tbl>
              <a:tblPr/>
              <a:tblGrid>
                <a:gridCol w="3049560"/>
                <a:gridCol w="3044880"/>
                <a:gridCol w="30495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Хочу  узнать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. Фразеология – это наука, которая изучает фразеологизмы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. Фразеологизмы – это устойчивые несвободные сочетания слов, которые не создаются в процессе общения, а воспроизводятся в готовом виде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. Лексическое значение фразеологизма близко лексическому значению одного слова, поэтому его часто можно заменить  одним словом или целым выражением.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. Фразеологизм может иметь синонимы и антонимы, иногда – омонимы. 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99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Каковы источники или откуда приходят фразеологизмы в нашу речь?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99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.  Научиться использовать фразеологизмы в своей речи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3.  Научиться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пользоваться фразеологическим словарем.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05080" cy="43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95640" y="-171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???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-17136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!!!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08200" y="143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000" y="1484280"/>
            <a:ext cx="7775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рываем новые знания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666000" y="170280"/>
            <a:ext cx="7815600" cy="6514560"/>
            <a:chOff x="666000" y="170280"/>
            <a:chExt cx="7815600" cy="6514560"/>
          </a:xfrm>
        </p:grpSpPr>
        <p:sp>
          <p:nvSpPr>
            <p:cNvPr id="114" name="_s26643"/>
            <p:cNvSpPr/>
            <p:nvPr/>
          </p:nvSpPr>
          <p:spPr>
            <a:xfrm flipH="1" flipV="1">
              <a:off x="2687400" y="2612520"/>
              <a:ext cx="946440" cy="4100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5" name="_s26642"/>
            <p:cNvSpPr/>
            <p:nvPr/>
          </p:nvSpPr>
          <p:spPr>
            <a:xfrm>
              <a:off x="666000" y="1393920"/>
              <a:ext cx="217188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Пословицы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и поговорки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" name="_s26641"/>
            <p:cNvSpPr/>
            <p:nvPr/>
          </p:nvSpPr>
          <p:spPr>
            <a:xfrm flipH="1">
              <a:off x="2690280" y="3834360"/>
              <a:ext cx="946440" cy="4100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" name="_s26640"/>
            <p:cNvSpPr/>
            <p:nvPr/>
          </p:nvSpPr>
          <p:spPr>
            <a:xfrm>
              <a:off x="668880" y="3836520"/>
              <a:ext cx="217188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Свободные 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словосочетания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" name="_s26639"/>
            <p:cNvSpPr/>
            <p:nvPr/>
          </p:nvSpPr>
          <p:spPr>
            <a:xfrm>
              <a:off x="4574880" y="4237560"/>
              <a:ext cx="0" cy="8204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9" name="_s26638"/>
            <p:cNvSpPr/>
            <p:nvPr/>
          </p:nvSpPr>
          <p:spPr>
            <a:xfrm>
              <a:off x="3490920" y="5055480"/>
              <a:ext cx="2171880" cy="1629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Профессии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0" name="_s26637"/>
            <p:cNvSpPr/>
            <p:nvPr/>
          </p:nvSpPr>
          <p:spPr>
            <a:xfrm>
              <a:off x="5509440" y="3831840"/>
              <a:ext cx="946440" cy="4078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1" name="_s26636"/>
            <p:cNvSpPr/>
            <p:nvPr/>
          </p:nvSpPr>
          <p:spPr>
            <a:xfrm>
              <a:off x="6309000" y="3834360"/>
              <a:ext cx="217260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Библия 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и Евангелие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2" name="_s26635"/>
            <p:cNvSpPr/>
            <p:nvPr/>
          </p:nvSpPr>
          <p:spPr>
            <a:xfrm flipV="1">
              <a:off x="5509440" y="2610360"/>
              <a:ext cx="943560" cy="4100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" name="_s26634"/>
            <p:cNvSpPr/>
            <p:nvPr/>
          </p:nvSpPr>
          <p:spPr>
            <a:xfrm>
              <a:off x="6309000" y="1391760"/>
              <a:ext cx="217260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Древнегреческая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мифология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" name="_s26633"/>
            <p:cNvSpPr/>
            <p:nvPr/>
          </p:nvSpPr>
          <p:spPr>
            <a:xfrm flipV="1">
              <a:off x="4572000" y="1796760"/>
              <a:ext cx="0" cy="8182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" name="_s26632"/>
            <p:cNvSpPr/>
            <p:nvPr/>
          </p:nvSpPr>
          <p:spPr>
            <a:xfrm>
              <a:off x="3487320" y="170280"/>
              <a:ext cx="217188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66"/>
                  </a:solidFill>
                  <a:latin typeface="Times New Roman"/>
                </a:rPr>
                <a:t>Сказки</a:t>
              </a:r>
              <a:endParaRPr b="0" lang="en-US" sz="27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" name="_s26631"/>
            <p:cNvSpPr/>
            <p:nvPr/>
          </p:nvSpPr>
          <p:spPr>
            <a:xfrm>
              <a:off x="3487320" y="2615400"/>
              <a:ext cx="2171880" cy="1629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Источники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990000"/>
                  </a:solidFill>
                  <a:latin typeface="Times New Roman"/>
                </a:rPr>
                <a:t>фразеологизмов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5:58:43Z</dcterms:created>
  <dc:creator>Ваня</dc:creator>
  <dc:description/>
  <dc:language>en-US</dc:language>
  <cp:lastModifiedBy>Ваня</cp:lastModifiedBy>
  <dcterms:modified xsi:type="dcterms:W3CDTF">2013-11-08T20:31:12Z</dcterms:modified>
  <cp:revision>2</cp:revision>
  <dc:subject/>
  <dc:title>Слайд 1</dc:title>
</cp:coreProperties>
</file>